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4.gif" ContentType="image/gif"/>
  <Override PartName="/ppt/media/image6.jpeg" ContentType="image/jpeg"/>
  <Override PartName="/ppt/media/image7.gif" ContentType="image/gif"/>
  <Override PartName="/ppt/media/drumroll.wav" ContentType="audio/x-wav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F26D-695C-4AA2-A4A1-5DD02025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C0E-8ACA-4552-801F-DBECB46A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6F2-BB5F-4D70-BD46-6A200DDA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832-086D-4038-AB1B-47ADF5E5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0C0FE8-0E69-483B-B8AF-69838194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89C86-0F11-4086-8554-BFF5E875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28D97-22CC-47F6-BA9D-B3B9C0D4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27CFC-2B88-4836-82C2-45F9B630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10FB1B-5AAF-4ED3-A973-0151183A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E63D5-6F0C-4E62-8E37-7F1143ED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70021-241E-4171-81B5-A3CDA66C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8700-420C-4AB0-B648-1BADAB7B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9E31D-9FD2-4C6F-A889-D670D18F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05153-8B78-4BEA-AF07-DC3B0DC5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D624C-809A-4E93-B940-333513D3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F8207-744E-4A38-9577-066AA8E0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401B51-F1DE-48C3-B014-6F3EC048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7FF9-8177-426E-B679-DEC78C29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63F0-C8CB-4F63-82EF-FB4F9886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28A-E1FF-4B9D-ADB4-64C72554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10F-CCBB-4327-B4C5-5BDB2B78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66F-5118-49E1-BB17-A88B71A5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E9A3-600F-4AC8-9E62-0FB83F5B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2FE-A7F1-4CEB-A183-A8F060F6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50E1-BEC6-4665-A7CE-199E6B18FEF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F07D-D8E8-479F-95D2-3F5220336F3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n.rd.yahoo.com/home/imgsearch/topic/de/SIG=11pmmntmc/*http%3A//www.fzsf.net/home/014/tpq/FS014_1051671395.gif" TargetMode="External"/><Relationship Id="rId3" Type="http://schemas.openxmlformats.org/officeDocument/2006/relationships/image" Target="../media/image7.gif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ardsky.net/html/2001-5-11-5-46-45.html" TargetMode="External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252720" y="55440"/>
            <a:ext cx="9396360" cy="23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ahoma"/>
              </a:rPr>
              <a:t>母亲节主题班会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476244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364000" y="2421000"/>
            <a:ext cx="3456000" cy="3887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制作者： 张寅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0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母亲节寄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人的嘴唇所能发出的最甜美的字眼，就是母亲，最美好的呼唤，就是“妈妈”（纪伯伦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母爱是世间最伟大的力量 （米尔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孩子的嘴上和心中，母亲就是上帝。（英国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亲情在这世间，总是让生活充溢着一份份平平常常但却恒久的温暖，亲情是贯穿生命始终的。为此，我们祝福天底下每一位母亲—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221560" y="5054760"/>
            <a:ext cx="436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母亲节快乐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2400" y="5715000"/>
            <a:ext cx="11541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733920" y="380880"/>
            <a:ext cx="4876560" cy="365760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600"/>
                </a:solidFill>
                <a:latin typeface="Tahoma"/>
              </a:rPr>
              <a:t>母亲节的起源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古母亲节起源于希腊，古希腊人在这一天向希腊神话中的众神之母赫拉致敬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在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17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世纪中叶，母亲节流传到英国，英国人把封斋期的第四个星期天作为母亲节。在这一天里，出门在外的年轻人将回到家中，给他们的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母亲带上一些小礼物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72200" y="4724280"/>
            <a:ext cx="19000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600"/>
                </a:solidFill>
                <a:latin typeface="Tahoma"/>
              </a:rPr>
              <a:t>现代母亲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现代意义上的母亲节起源于美国，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manm·Jarvi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86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94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）发起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她终身未婚，一直陪伴在她母亲身边，在母亲于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905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去世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manm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悲痛欲绝，两年后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manm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和她的朋友开始写信给有影响的部长、商人、议员来寻求支持，以便让母亲节成为一个法定的节日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manm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认为子女经常忽视了对母亲的感情，她希望母亲节能够让人多想一想母亲为家庭所付出的一切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ahoma"/>
              </a:rPr>
              <a:t>第一个母亲节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第一个母亲节于</a:t>
            </a:r>
            <a:r>
              <a:rPr b="0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1908</a:t>
            </a:r>
            <a:r>
              <a:rPr b="0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年</a:t>
            </a:r>
            <a:r>
              <a:rPr b="0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月</a:t>
            </a:r>
            <a:r>
              <a:rPr b="0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10 </a:t>
            </a:r>
            <a:r>
              <a:rPr b="0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日在西弗吉尼亚和宾夕法尼亚州举行。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1913</a:t>
            </a:r>
            <a:r>
              <a:rPr b="0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年，美国国会通过了一份议案，将每年</a:t>
            </a:r>
            <a:r>
              <a:rPr b="0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5 </a:t>
            </a:r>
            <a:r>
              <a:rPr b="0" lang="zh-CN" sz="4000" spc="-1" strike="noStrike">
                <a:solidFill>
                  <a:srgbClr val="ffffff"/>
                </a:solidFill>
                <a:latin typeface="幼圆"/>
                <a:ea typeface="幼圆"/>
              </a:rPr>
              <a:t>月的第二个星期天作为法定的母亲节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ahoma"/>
              </a:rPr>
              <a:t>母亲之花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———</a:t>
            </a:r>
            <a:r>
              <a:rPr b="0" lang="zh-CN" sz="4400" spc="-1" strike="noStrike">
                <a:solidFill>
                  <a:srgbClr val="ff0000"/>
                </a:solidFill>
                <a:latin typeface="Tahoma"/>
              </a:rPr>
              <a:t>康乃馨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纤细青翠的花茎上，开出鲜艳美丽的花朵，花瓣紧凑而不易凋落，叶片秀长而不易卷曲，花朵雍容富丽，姿态高雅别致，色彩绚丽娇艳，更有那诱人的浓郁香气，甜醇幽雅，使人目迷心醉，这就是在母亲节赠给母亲的鲜花————康乃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fl-kangnaixin-3.jpg (9017 字节)"/>
          <p:cNvPicPr/>
          <p:nvPr/>
        </p:nvPicPr>
        <p:blipFill>
          <a:blip r:embed="rId2"/>
          <a:stretch/>
        </p:blipFill>
        <p:spPr>
          <a:xfrm>
            <a:off x="6172200" y="4191120"/>
            <a:ext cx="2370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来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１９３４年的５月，美国首次发行母亲节纪念邮票，邮票上一位慈祥的母亲，双手放在膝上，欣喜地看着前面的花瓶中一束鲜艳美丽的康乃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随着邮票的传播，在许多人的心目中把母亲节与康乃馨联系起来，康乃馨便成了象征母爱之花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人们把思念母亲、孝敬母亲的感情，寄托于康乃馨上，康乃馨也成为了赠送母亲不可缺少的珍贵礼品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　我国的母爱之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我国也有一种母亲之花，它就是萱草花。萱草是百合科多年生草本植物，根茎肉质，叶狭长，细长的枝顶端开出桔红或桔黄色的花，十分艳丽，它不仅供人观赏，花蕾叫金针，也可作蔬菜供人食用，在我国南北方广为栽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萱草.jpg (13162 字节)"/>
          <p:cNvPicPr/>
          <p:nvPr/>
        </p:nvPicPr>
        <p:blipFill>
          <a:blip r:embed="rId2"/>
          <a:stretch/>
        </p:blipFill>
        <p:spPr>
          <a:xfrm>
            <a:off x="5715000" y="4267080"/>
            <a:ext cx="33526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7214 L -0.33333 -0.33849 E">
                                      <p:cBhvr>
                                        <p:cTn id="15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9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古诗中母亲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远在《诗经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卫风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伯兮》里载： “焉得谖草，言树之背？”谖草就是萱草，古人又叫它忘忧草，背，北，指母亲住的北房。这句话的意思就是：我到那里弄到一支萱草，种在母亲堂前，让母亲乐而忘忧呢？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母亲住的屋子又叫萱堂，以萱草代替母爱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如孟郊的游子诗：“萱草生堂阶，游子行天涯；慈母依堂前，不见萱草花。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叶梦得的诗云：“白发萱堂上，孩儿更共怀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母亲（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mother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）的解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仔细想想，原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mother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一词是可以这样解释的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M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many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（很多）母亲给了孩子很多很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old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（衰老）母亲为孩子操心，白发已爬         上了她的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T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tears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 （眼泪）母亲为孩子流过不少泪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heart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（ 心  ）母亲有一颗慈祥温暖的心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E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eyes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（目光）母亲注视孩子的目光总是充满着爱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R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right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）（正确）从不欺骗孩子，教导我们去做正确的事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张益铭</cp:lastModifiedBy>
  <dcterms:modified xsi:type="dcterms:W3CDTF">2011-05-07T11:47:12Z</dcterms:modified>
  <cp:revision>6</cp:revision>
  <dc:subject/>
  <dc:title>母亲节主题班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