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477120" y="5562720"/>
            <a:ext cx="2447640" cy="1074600"/>
          </a:xfrm>
          <a:prstGeom prst="rect">
            <a:avLst/>
          </a:prstGeom>
          <a:ln w="0">
            <a:noFill/>
          </a:ln>
        </p:spPr>
      </p:pic>
      <p:pic>
        <p:nvPicPr>
          <p:cNvPr id="2" name="白色新华标" descr=""/>
          <p:cNvPicPr/>
          <p:nvPr/>
        </p:nvPicPr>
        <p:blipFill>
          <a:blip r:embed="rId4"/>
          <a:stretch/>
        </p:blipFill>
        <p:spPr>
          <a:xfrm>
            <a:off x="133200" y="133200"/>
            <a:ext cx="23623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53360" cy="6858000"/>
            <a:chOff x="0" y="0"/>
            <a:chExt cx="915336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53360" cy="6858000"/>
              <a:chOff x="0" y="0"/>
              <a:chExt cx="9153360" cy="6858000"/>
            </a:xfrm>
          </p:grpSpPr>
          <p:pic>
            <p:nvPicPr>
              <p:cNvPr id="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53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1295280"/>
                <a:ext cx="5372280" cy="178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" name="白色新华标" descr=""/>
            <p:cNvPicPr/>
            <p:nvPr/>
          </p:nvPicPr>
          <p:blipFill>
            <a:blip r:embed="rId4"/>
            <a:stretch/>
          </p:blipFill>
          <p:spPr>
            <a:xfrm>
              <a:off x="1981080" y="3505320"/>
              <a:ext cx="236232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176364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问你“你整天去哪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回答：我不想像你一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3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家具布置你的新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对朋友说她买的家具真糟糕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对怎样照顾小孩提出劝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对她说：妈，时代不同了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9295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打电话，说今天生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回答：妈，我很忙没时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常常患病，需要你的看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却为你的儿女在奔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43000" y="3200400"/>
            <a:ext cx="4572000" cy="3048120"/>
            <a:chOff x="1143000" y="3200400"/>
            <a:chExt cx="4572000" cy="30481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143000" y="3200400"/>
              <a:ext cx="2286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3429000" y="3200400"/>
              <a:ext cx="228600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09680" y="9889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终于有一天，她去世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突然你想起了所有从来没做过的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它们像榔头般痛击着你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411280"/>
            <a:ext cx="3962520" cy="306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05520" y="2411280"/>
            <a:ext cx="32194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72936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母亲仍健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么别忘了比以往任何时候都更深地爱着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她已经不幸永远离开了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么你必须记得，母爱才是天底下最无私的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3021120"/>
            <a:ext cx="3581280" cy="238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00600" y="3016080"/>
            <a:ext cx="3352680" cy="2387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8684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母亲"/>
          <p:cNvPicPr/>
          <p:nvPr/>
        </p:nvPicPr>
        <p:blipFill>
          <a:blip r:embed="rId2"/>
          <a:stretch/>
        </p:blipFill>
        <p:spPr>
          <a:xfrm>
            <a:off x="609480" y="2868480"/>
            <a:ext cx="3810240" cy="254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10951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其实为我们付出一生的母亲要求并不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想想她曾为我们做过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我们为她做过几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8632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母亲最大的愿望是我们平平安安、健健康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母亲最大的奢望是我们能有更多的时间看看她、陪陪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你不能说出：“妈妈，我爱你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说一句：“妈，你辛苦啦！节日快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你含蓄的无法吐露自己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带上家人去陪陪老人家，吃顿饭、唠唠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你忙得抽不出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认认真真干好你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妈妈放心也算是一种孝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257800" cy="3724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83664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不管妈妈在哪，她年龄多大，只要能听到我们的消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会笑的何不拢嘴，你还等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75000" cy="441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801000"/>
            <a:ext cx="4114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入学的新书包有人给你拿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雨中的花折伞有人给你打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爱吃的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三鲜馅有人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他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给你包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委屈的泪花有人给你擦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个人就是娘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个人就是妈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个人给了我生命，给我一个家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不管你走多远，无论你在干啥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到什么时候也离不开 咱的妈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身在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他乡住有人在牵挂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回到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家里边有人沏热茶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躺在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病床上有人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他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掉眼泪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露出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笑容时有人乐开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不管你多富有，无论你官多大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到什么时候也不能忘 咱的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阎维文  歌曲《母亲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624040" cy="3733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809880" y="3124080"/>
            <a:ext cx="2205000" cy="289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3454560" cy="2423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76520" y="685800"/>
            <a:ext cx="57909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让我们一起说：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妈妈，您辛苦啦！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祝您节日快乐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们会好好工作的！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您放心！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7621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母亲是谁？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25836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母亲像秋夜中的明月，在我孤独、无助时，她会陪伴我、支持我，给我充满信心。她一天到晚为了我而忙碌，不辞辛劳，无怨无悔，所以，在这一年一度的母亲节，我要说，妈妈感谢您！我爱您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冰心  《母亲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1161720"/>
            <a:ext cx="7391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老吾老以及人之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不仅仅是我们自己的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每一个母亲都是我们应当想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她们把一切奉献给了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自己却承担了各种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病痛、老去、意外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为人子女，我们在今天这样一个特殊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能为母亲们做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76240" y="14767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如果你不能保证今后每个月给妈妈一笔养老金，就为她存一份吉星高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如果你不想做一个拖累母亲的“啃老族”就为自己存一份吉星高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1019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各营业区可自行添加主推产品或典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76640" y="2403360"/>
            <a:ext cx="459072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看吉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52360" y="3429000"/>
            <a:ext cx="683748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你要让谁拥有吉星？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68440" y="1371600"/>
            <a:ext cx="620568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你要去拜访谁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1447920"/>
            <a:ext cx="8001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爱母亲就让她拥有吉星高照吧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让母亲放心就让全家吉星高照吧！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吉星高高照！护佑母亲！护佑全家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581280" cy="23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581640" cy="2381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0821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还未出生的时候，她承担你的重量，为你欣喜、呵护；而你作为报答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给了她前所未有的疼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喂你吃奶并给你洗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整晚的哭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514680" cy="27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759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怜爱的为你做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把一盘她做的菜扔在地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下彩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涂了满墙的抽象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83556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了漂亮的衣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穿着它到泥坑里玩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了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用球打破了邻居的玻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219480" cy="2571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08216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付了很多钱给你辅导钢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常常旷课并不去练习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陪你还有你的朋友们去看电影；而作为报答，你让她坐另一排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343320" cy="25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3733920" cy="2473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95976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建议你去把头发剪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说她不懂什么是现在的时髦发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付了你一个月的夏令营费用，而你却一整月没有打一个电话给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352680" cy="252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3352680" cy="2512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83556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下班回家想拥抱你一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转身进屋把门插上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在等一个重要的电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却抱着电话和你的朋友聊了一晚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5181480" cy="280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9882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8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为你高中毕业感动得流下眼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却跟朋友在外聚会到天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付了你的大学学费又送你到学校，你却要求她在远点下车怕同学看见笑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434340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5-11T08:02:4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