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94B-F457-44DB-8ABF-5BA69EF6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7B0-A184-4614-BA4F-9F1CF1DB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25E-EB4D-4DFE-8B23-38A97796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81C-EA06-4752-AD61-8F878114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3DB-E5A8-42BA-B0BF-5F365A0A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0BF2-D631-4BAA-AD54-B28AF0DB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E758-7EC1-4365-B715-96827D64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12A9-15E3-4D21-9F2E-8BED2150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C6EF-8EBB-429B-B1EB-1749ABB5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C9DC-40BC-4F7D-9075-66B90499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CAAB-2E60-4B2B-86C1-B0B919C8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30D-53BE-44C2-8691-B18199B0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1E34-5494-4EE3-9557-7082CA9D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EB2B-D200-4CE2-82F2-FA69D55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325-8C9C-4FDC-95DF-9F731A27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D816-5970-433D-8AF2-9075DE2C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6285-EB99-4CD0-9C7A-C68C76CF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3FD-2459-4EDD-920F-D2E38EC0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513-77F0-4FDA-9814-BB8FCDB9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D6E-74B3-40DB-90CE-541B3E7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D36-E72A-4171-A4F1-56675B44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7DE-9D3F-4A87-9FAC-0B5DA3DB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EB4-406A-40D7-BEE1-C9E4B23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74C-C0FE-4B6C-BE51-8F892D6C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6F1-7556-42BF-ACBF-EB70C917E5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8CA1-562D-41D9-9DEB-BD900ACC48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中式母爱   美式母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6"/>
          <p:cNvSpPr/>
          <p:nvPr/>
        </p:nvSpPr>
        <p:spPr>
          <a:xfrm>
            <a:off x="324000" y="189000"/>
            <a:ext cx="4392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  <a:ea typeface="隶书"/>
              </a:rPr>
              <a:t>对所</a:t>
            </a:r>
            <a:r>
              <a:rPr b="1" lang="zh-CN" sz="2800" spc="-1" strike="noStrike">
                <a:solidFill>
                  <a:srgbClr val="00b200"/>
                </a:solidFill>
                <a:latin typeface="Comic Sans MS"/>
                <a:ea typeface="隶书"/>
              </a:rPr>
              <a:t>生孩子的态度</a:t>
            </a:r>
            <a:r>
              <a:rPr b="1" lang="zh-CN" sz="2800" spc="-1" strike="noStrike">
                <a:solidFill>
                  <a:srgbClr val="00b200"/>
                </a:solidFill>
                <a:latin typeface="Comic Sans MS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隶书"/>
              </a:rPr>
              <a:t>美国的父母对孩子心存歉疚：我们没同你商量，就将你带到这世上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隶书"/>
              </a:rPr>
              <a:t>而中国的父母很骄傲地宣布：我们生养了你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3" descr="soft163_3144348392"/>
          <p:cNvPicPr/>
          <p:nvPr/>
        </p:nvPicPr>
        <p:blipFill>
          <a:blip r:embed="rId1"/>
          <a:stretch/>
        </p:blipFill>
        <p:spPr>
          <a:xfrm>
            <a:off x="611280" y="3213000"/>
            <a:ext cx="2332080" cy="175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2880"/>
          <p:cNvPicPr/>
          <p:nvPr/>
        </p:nvPicPr>
        <p:blipFill>
          <a:blip r:embed="rId2"/>
          <a:stretch/>
        </p:blipFill>
        <p:spPr>
          <a:xfrm>
            <a:off x="6372360" y="4076640"/>
            <a:ext cx="1689120" cy="2581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soft163_0145185001"/>
          <p:cNvPicPr/>
          <p:nvPr/>
        </p:nvPicPr>
        <p:blipFill>
          <a:blip r:embed="rId3"/>
          <a:stretch/>
        </p:blipFill>
        <p:spPr>
          <a:xfrm>
            <a:off x="6227640" y="836640"/>
            <a:ext cx="173844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soft163_465237116"/>
          <p:cNvPicPr/>
          <p:nvPr/>
        </p:nvPicPr>
        <p:blipFill>
          <a:blip r:embed="rId4"/>
          <a:stretch/>
        </p:blipFill>
        <p:spPr>
          <a:xfrm>
            <a:off x="3564000" y="2276640"/>
            <a:ext cx="216036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612800" y="1828800"/>
            <a:ext cx="6225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哺：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ǔ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喂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混淆：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  x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错杂、混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赡养：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  y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ǎ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特指子女对父母在物质上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生活上进行帮助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迂腐：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ū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f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ǔ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拘泥陈旧的准则，不适应新时代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羸弱：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ě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ruò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瘦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譬如：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比如 、比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74840" y="6015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生字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29564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请您思考：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本文使用了怎样的分析方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中式母爱和美式母爱有什么异同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作者的主张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67344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文章小结：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：本文使用的分析方法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：中式母爱和美式母爱的异同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3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：作者的主张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6" descr="rw44"/>
          <p:cNvPicPr/>
          <p:nvPr/>
        </p:nvPicPr>
        <p:blipFill>
          <a:blip r:embed="rId6"/>
          <a:stretch/>
        </p:blipFill>
        <p:spPr>
          <a:xfrm>
            <a:off x="4211640" y="3573360"/>
            <a:ext cx="4286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作者的主张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424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00b200"/>
                </a:solidFill>
                <a:latin typeface="Comic Sans MS"/>
              </a:rPr>
              <a:t>作为母爱，美式的也罢中式的也罢，都是无私的、伟大的，都体现一种公平。既然也是中国人，我当然是主张孝道的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8" descr="NewsMedia_146351"/>
          <p:cNvPicPr/>
          <p:nvPr/>
        </p:nvPicPr>
        <p:blipFill>
          <a:blip r:embed="rId2"/>
          <a:stretch/>
        </p:blipFill>
        <p:spPr>
          <a:xfrm>
            <a:off x="4643280" y="2924280"/>
            <a:ext cx="37720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通过比较分析说明中式母爱和美式母爱在母性本能上是相同的，都是无私的、伟大的。而在如何解决老弱带来的各种问题上，中美有差异：美国用社会方式；中国用家庭方式。由于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文化习惯不同，价值标准和是非界限也就不一样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NewsMedia_147897"/>
          <p:cNvPicPr/>
          <p:nvPr/>
        </p:nvPicPr>
        <p:blipFill>
          <a:blip r:embed="rId1"/>
          <a:stretch/>
        </p:blipFill>
        <p:spPr>
          <a:xfrm>
            <a:off x="684360" y="2997360"/>
            <a:ext cx="3771720" cy="2404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002-7p16-5"/>
          <p:cNvPicPr/>
          <p:nvPr/>
        </p:nvPicPr>
        <p:blipFill>
          <a:blip r:embed="rId2"/>
          <a:stretch/>
        </p:blipFill>
        <p:spPr>
          <a:xfrm>
            <a:off x="4716360" y="2492280"/>
            <a:ext cx="3613320" cy="3657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"/>
          <p:cNvSpPr/>
          <p:nvPr/>
        </p:nvSpPr>
        <p:spPr>
          <a:xfrm>
            <a:off x="2195640" y="333360"/>
            <a:ext cx="32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采用比较分析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fs-11"/>
          <p:cNvPicPr/>
          <p:nvPr/>
        </p:nvPicPr>
        <p:blipFill>
          <a:blip r:embed="rId1"/>
          <a:stretch/>
        </p:blipFill>
        <p:spPr>
          <a:xfrm>
            <a:off x="539640" y="3573360"/>
            <a:ext cx="3772080" cy="2629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中式母爱和美式母爱异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两者差异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：对待返哺的态度不同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：老年人赡养的方式不同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：对所生孩子态度也不同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71920" y="4797000"/>
            <a:ext cx="377172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共同点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都是无私、伟大的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都体现一种公平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1"/>
          <p:cNvPicPr/>
          <p:nvPr/>
        </p:nvPicPr>
        <p:blipFill>
          <a:blip r:embed="rId2"/>
          <a:stretch/>
        </p:blipFill>
        <p:spPr>
          <a:xfrm>
            <a:off x="5219640" y="1125360"/>
            <a:ext cx="279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2" descr="6"/>
          <p:cNvPicPr/>
          <p:nvPr/>
        </p:nvPicPr>
        <p:blipFill>
          <a:blip r:embed="rId1"/>
          <a:stretch/>
        </p:blipFill>
        <p:spPr>
          <a:xfrm>
            <a:off x="1380960" y="1828800"/>
            <a:ext cx="2381400" cy="3657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老年人赡养的方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16360" y="1773000"/>
            <a:ext cx="1873080" cy="453708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美国用社会的方式解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中国用家庭的方式解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8" descr="NewsMedia_146358"/>
          <p:cNvPicPr/>
          <p:nvPr/>
        </p:nvPicPr>
        <p:blipFill>
          <a:blip r:embed="rId2"/>
          <a:stretch/>
        </p:blipFill>
        <p:spPr>
          <a:xfrm>
            <a:off x="3276720" y="3429000"/>
            <a:ext cx="38098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对待返哺的态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1" descr="p11"/>
          <p:cNvPicPr/>
          <p:nvPr/>
        </p:nvPicPr>
        <p:blipFill>
          <a:blip r:embed="rId1"/>
          <a:stretch/>
        </p:blipFill>
        <p:spPr>
          <a:xfrm>
            <a:off x="3995640" y="1268280"/>
            <a:ext cx="1557360" cy="2328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NewsMedia_146352"/>
          <p:cNvPicPr/>
          <p:nvPr/>
        </p:nvPicPr>
        <p:blipFill>
          <a:blip r:embed="rId2"/>
          <a:stretch/>
        </p:blipFill>
        <p:spPr>
          <a:xfrm>
            <a:off x="1692360" y="3789360"/>
            <a:ext cx="3771720" cy="2575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美国的老人不要求，法律也不管你给不给父母生活费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中国的母亲对子女的不孝是愤怒的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17" descr="014"/>
          <p:cNvPicPr/>
          <p:nvPr/>
        </p:nvPicPr>
        <p:blipFill>
          <a:blip r:embed="rId3"/>
          <a:stretch/>
        </p:blipFill>
        <p:spPr>
          <a:xfrm>
            <a:off x="6012000" y="2060640"/>
            <a:ext cx="26510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7-03T02:14:30Z</dcterms:modified>
  <cp:revision>26</cp:revision>
  <dc:subject/>
  <dc:title>PowerPoint Presentation</dc:title>
</cp:coreProperties>
</file>