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D5E-6504-42EB-A134-44CC279A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0ED-C204-4E84-B5E4-16388CF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615-F871-4E43-86E8-6AE020DF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98C-2B83-4A4A-8A98-866B35C7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819-2D56-48D8-A8E7-47FE26A5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302-BB68-4522-9166-183888B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F90-5E65-42B7-8370-221F441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EFB-FF9E-4FE6-9658-3E5C5D2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024-C875-4ED2-BA97-ECA167C6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C8C-91E4-47D6-8038-4761AC0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851-D3D5-4577-97A6-3FDE5D6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F03-0BB3-412F-9CB7-EA6D6E7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066C-32C0-4194-AE0D-AAD66F2E14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D84A-EA31-4CFB-8363-8A5C151078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43" name="直接连接符 864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865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接连接符 866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867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868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869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870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直接连接符 871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接连接符 872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873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接连接符 874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接连接符 875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876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877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878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879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880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881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882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883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884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885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886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887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888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889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890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直接连接符 891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直接连接符 892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893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894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895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896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897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898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899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900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901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902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903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904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905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906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907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908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909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910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911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912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913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914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915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916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917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918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919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920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921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922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923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924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925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926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927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直接连接符 928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929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930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931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932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933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934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935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936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937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938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939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940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941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942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943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944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945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946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947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948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949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90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30" name="直接连接符 782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83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84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85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86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87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88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89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90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91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92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93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94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95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96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97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98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799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800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801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802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803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804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805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806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807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808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809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810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811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812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813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814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815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816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817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18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819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820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821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822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823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824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825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826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827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828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829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830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831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832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833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834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835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836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837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838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839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840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841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842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843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44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45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46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47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48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49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50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51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852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853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854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855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856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857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858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859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860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861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862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863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矩形 551"/>
          <p:cNvSpPr/>
          <p:nvPr/>
        </p:nvSpPr>
        <p:spPr>
          <a:xfrm>
            <a:off x="0" y="1928880"/>
            <a:ext cx="9144000" cy="292896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7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214" name="Group 17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15" name="Group 18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16" name="Group 25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17" name="Group 27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18" name="Group 3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19" name="Group 37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20" name="Group 37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21" name="Group 38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22" name="Group 38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23" name="Group 40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24" name="Group 48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25" name="Group 50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26" name="Group 57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27" name="Group 58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28" name="Group 5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229" name="Group 58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230" name="Group 61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231" name="Group 68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232" name="Group 69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233" name="Group 7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235728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e305c"/>
                </a:solidFill>
                <a:latin typeface="Vladimir Script"/>
              </a:rPr>
              <a:t>Happy Mother’s Da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 rot="21133800">
            <a:off x="3798360" y="4239360"/>
            <a:ext cx="3578400" cy="42876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4d21"/>
                </a:solidFill>
                <a:latin typeface="Arial"/>
              </a:rPr>
              <a:t>To the world's number one mom! </a:t>
            </a:r>
            <a:r>
              <a:rPr b="1" i="1" lang="en-US" sz="1800" spc="-1" strike="noStrike">
                <a:solidFill>
                  <a:srgbClr val="754d21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642960" y="60721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Calibri"/>
              </a:rPr>
              <a:t>Find more free PowerPoint templates on Acoolsof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4030-390F-47AF-8B7F-26CD2CC803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9" descr=""/>
          <p:cNvPicPr/>
          <p:nvPr/>
        </p:nvPicPr>
        <p:blipFill>
          <a:blip r:embed="rId2"/>
          <a:stretch/>
        </p:blipFill>
        <p:spPr>
          <a:xfrm>
            <a:off x="7858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1" descr=""/>
          <p:cNvPicPr/>
          <p:nvPr/>
        </p:nvPicPr>
        <p:blipFill>
          <a:blip r:embed="rId4"/>
          <a:stretch/>
        </p:blipFill>
        <p:spPr>
          <a:xfrm>
            <a:off x="23572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3" descr=""/>
          <p:cNvPicPr/>
          <p:nvPr/>
        </p:nvPicPr>
        <p:blipFill>
          <a:blip r:embed="rId6"/>
          <a:stretch/>
        </p:blipFill>
        <p:spPr>
          <a:xfrm>
            <a:off x="39290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5" descr=""/>
          <p:cNvPicPr/>
          <p:nvPr/>
        </p:nvPicPr>
        <p:blipFill>
          <a:blip r:embed="rId8"/>
          <a:stretch/>
        </p:blipFill>
        <p:spPr>
          <a:xfrm>
            <a:off x="55008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7" descr=""/>
          <p:cNvPicPr/>
          <p:nvPr/>
        </p:nvPicPr>
        <p:blipFill>
          <a:blip r:embed="rId10"/>
          <a:stretch/>
        </p:blipFill>
        <p:spPr>
          <a:xfrm>
            <a:off x="7072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8" descr=""/>
          <p:cNvPicPr/>
          <p:nvPr/>
        </p:nvPicPr>
        <p:blipFill>
          <a:blip r:embed="rId11"/>
          <a:stretch/>
        </p:blipFill>
        <p:spPr>
          <a:xfrm>
            <a:off x="78580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251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5" descr=""/>
          <p:cNvPicPr/>
          <p:nvPr/>
        </p:nvPicPr>
        <p:blipFill>
          <a:blip r:embed="rId13"/>
          <a:stretch/>
        </p:blipFill>
        <p:spPr>
          <a:xfrm>
            <a:off x="714240" y="428760"/>
            <a:ext cx="852480" cy="785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02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little things that I should have said and done to show my gratitude, but it is appreciated what you 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928800" y="3143160"/>
            <a:ext cx="2286000" cy="22860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1071720" y="3274920"/>
            <a:ext cx="2011320" cy="2011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1"/>
          <p:cNvSpPr/>
          <p:nvPr/>
        </p:nvSpPr>
        <p:spPr>
          <a:xfrm>
            <a:off x="3394080" y="3154320"/>
            <a:ext cx="2286000" cy="228600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3537000" y="3286080"/>
            <a:ext cx="2011320" cy="2011320"/>
          </a:xfrm>
          <a:prstGeom prst="rect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5857920" y="3154320"/>
            <a:ext cx="2286000" cy="2286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4"/>
          <p:cNvSpPr/>
          <p:nvPr/>
        </p:nvSpPr>
        <p:spPr>
          <a:xfrm>
            <a:off x="6000840" y="3286080"/>
            <a:ext cx="2011320" cy="2011320"/>
          </a:xfrm>
          <a:prstGeom prst="rect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62" name="Group 3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63" name="Group 10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64" name="Group 18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65" name="Group 25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66" name="Group 25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268" name="Group 3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269" name="直接连接符 105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106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107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108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09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110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111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112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113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114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115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116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117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118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119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120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121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122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123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124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125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126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127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128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129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130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131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132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接连接符 133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134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直接连接符 135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直接连接符 136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接连接符 137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138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接连接符 139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接连接符 140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141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142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143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144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145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146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147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148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149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150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151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152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53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154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155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156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157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158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159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160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161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62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63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64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65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66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67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168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169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70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直接连接符 171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接连接符 172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173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74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175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176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177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178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79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180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81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182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183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184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185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186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187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188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189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直接连接符 190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90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356" name="直接连接符 23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直接连接符 24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直接连接符 25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直接连接符 26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直接连接符 27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直接连接符 28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直接连接符 29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直接连接符 30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直接连接符 31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32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33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直接连接符 34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直接连接符 35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直接连接符 36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直接连接符 37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直接连接符 38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直接连接符 39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40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41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42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43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44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45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接连接符 46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接连接符 47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接连接符 48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49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50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51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52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接连接符 53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接连接符 54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55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56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接连接符 57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58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直接连接符 59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直接连接符 60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接连接符 61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接连接符 62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63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64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直接连接符 65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直接连接符 66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直接连接符 67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直接连接符 68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直接连接符 69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70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71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直接连接符 72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直接连接符 73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接连接符 74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75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76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77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78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79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0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1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2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3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4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5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86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87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88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89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90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91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接连接符 92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接连接符 93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接连接符 94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接连接符 95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接连接符 96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直接连接符 97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98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接连接符 99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100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01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102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103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104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9" descr=""/>
          <p:cNvPicPr/>
          <p:nvPr/>
        </p:nvPicPr>
        <p:blipFill>
          <a:blip r:embed="rId2"/>
          <a:stretch/>
        </p:blipFill>
        <p:spPr>
          <a:xfrm>
            <a:off x="7858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1" descr=""/>
          <p:cNvPicPr/>
          <p:nvPr/>
        </p:nvPicPr>
        <p:blipFill>
          <a:blip r:embed="rId4"/>
          <a:stretch/>
        </p:blipFill>
        <p:spPr>
          <a:xfrm>
            <a:off x="23572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3" descr=""/>
          <p:cNvPicPr/>
          <p:nvPr/>
        </p:nvPicPr>
        <p:blipFill>
          <a:blip r:embed="rId6"/>
          <a:stretch/>
        </p:blipFill>
        <p:spPr>
          <a:xfrm>
            <a:off x="39290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15" descr=""/>
          <p:cNvPicPr/>
          <p:nvPr/>
        </p:nvPicPr>
        <p:blipFill>
          <a:blip r:embed="rId8"/>
          <a:stretch/>
        </p:blipFill>
        <p:spPr>
          <a:xfrm>
            <a:off x="55008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7" descr=""/>
          <p:cNvPicPr/>
          <p:nvPr/>
        </p:nvPicPr>
        <p:blipFill>
          <a:blip r:embed="rId10"/>
          <a:stretch/>
        </p:blipFill>
        <p:spPr>
          <a:xfrm>
            <a:off x="7072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8" descr=""/>
          <p:cNvPicPr/>
          <p:nvPr/>
        </p:nvPicPr>
        <p:blipFill>
          <a:blip r:embed="rId11"/>
          <a:stretch/>
        </p:blipFill>
        <p:spPr>
          <a:xfrm>
            <a:off x="78580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451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06"/>
          <p:cNvSpPr/>
          <p:nvPr/>
        </p:nvSpPr>
        <p:spPr>
          <a:xfrm>
            <a:off x="0" y="2071800"/>
            <a:ext cx="9144000" cy="228600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8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54" name="Rectangle 1"/>
          <p:cNvSpPr/>
          <p:nvPr/>
        </p:nvSpPr>
        <p:spPr>
          <a:xfrm>
            <a:off x="3000240" y="3468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452103"/>
                </a:solidFill>
                <a:latin typeface="Verdana"/>
              </a:rPr>
              <a:t>You can find more free PowerPoint templates on</a:t>
            </a:r>
            <a:r>
              <a:rPr b="1" i="1" lang="en-US" sz="1600" spc="-1" strike="noStrike">
                <a:solidFill>
                  <a:srgbClr val="452103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标题 662"/>
          <p:cNvSpPr/>
          <p:nvPr/>
        </p:nvSpPr>
        <p:spPr>
          <a:xfrm>
            <a:off x="2143080" y="2428920"/>
            <a:ext cx="692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e305c"/>
                </a:solidFill>
                <a:latin typeface="Vladimir Script"/>
                <a:ea typeface="Calibri"/>
              </a:rPr>
              <a:t>Happy 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6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6:09:00Z</dcterms:created>
  <dc:creator>番茄花园</dc:creator>
  <dc:description/>
  <cp:keywords/>
  <dc:language>en-US</dc:language>
  <cp:lastModifiedBy>Administrator</cp:lastModifiedBy>
  <cp:lastPrinted>1899-12-30T00:00:00Z</cp:lastPrinted>
  <dcterms:modified xsi:type="dcterms:W3CDTF">2015-07-03T02:14:07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