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5.png" ContentType="image/png"/>
  <Override PartName="/ppt/media/image4.gif" ContentType="image/gif"/>
  <Override PartName="/ppt/media/image7.png" ContentType="image/png"/>
  <Override PartName="/ppt/media/image27.gif" ContentType="image/gif"/>
  <Override PartName="/ppt/media/image12.png" ContentType="image/png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9.jpeg" ContentType="image/jpeg"/>
  <Override PartName="/ppt/media/image8.gif" ContentType="image/gif"/>
  <Override PartName="/ppt/media/image13.gif" ContentType="image/gif"/>
  <Override PartName="/ppt/media/image30.png" ContentType="image/png"/>
  <Override PartName="/ppt/media/image1.jpeg" ContentType="image/jpeg"/>
  <Override PartName="/ppt/media/image10.png" ContentType="image/png"/>
  <Override PartName="/ppt/media/image31.jpeg" ContentType="image/jpeg"/>
  <Override PartName="/ppt/media/image14.gif" ContentType="image/gif"/>
  <Override PartName="/ppt/media/image15.png" ContentType="image/png"/>
  <Override PartName="/ppt/media/image17.jpeg" ContentType="image/jpeg"/>
  <Override PartName="/ppt/media/image16.png" ContentType="image/png"/>
  <Override PartName="/ppt/media/image23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2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32.jpeg" ContentType="image/jpe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88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864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8864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3300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3300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8864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8864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8864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33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49280" y="131400"/>
            <a:ext cx="82296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8864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33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8864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8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88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864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8864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3300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3300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8864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8864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88640"/>
            <a:ext cx="264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49280" y="131400"/>
            <a:ext cx="82296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8864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8864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33000"/>
            <a:ext cx="4015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88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9280" y="131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33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80880" indent="-188640">
              <a:spcBef>
                <a:spcPts val="1800"/>
              </a:spcBef>
              <a:buClr>
                <a:srgbClr val="2a79d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561960" indent="-179280">
              <a:spcBef>
                <a:spcPts val="1800"/>
              </a:spcBef>
              <a:buClr>
                <a:srgbClr val="2a79d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768240" indent="-204840">
              <a:spcBef>
                <a:spcPts val="1800"/>
              </a:spcBef>
              <a:buClr>
                <a:srgbClr val="2a79d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1050840" indent="-168120">
              <a:spcBef>
                <a:spcPts val="1800"/>
              </a:spcBef>
              <a:buClr>
                <a:srgbClr val="2a79d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1050840" indent="-16812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1050840" indent="-16812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hyperlink" Target="http://www.jyivf.net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303"/>
                </a:solidFill>
                <a:latin typeface="微软雅黑"/>
              </a:rPr>
              <a:t>Unit 3</a:t>
            </a: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64000" y="1341000"/>
            <a:ext cx="53640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微软雅黑"/>
              </a:rPr>
              <a:t>    </a:t>
            </a:r>
            <a:r>
              <a:rPr b="1" lang="en-US" sz="3600" spc="-1" strike="noStrike">
                <a:solidFill>
                  <a:srgbClr val="ff9933"/>
                </a:solidFill>
                <a:latin typeface="微软雅黑"/>
              </a:rPr>
              <a:t>My father is a teacher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788000" y="27082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Lesson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flipH="1" rot="10800000">
            <a:off x="5651640" y="3573360"/>
            <a:ext cx="3124080" cy="1447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189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</a:rPr>
              <a:t>人教新版五年级上册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38480" y="380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Here’ a picture of my family.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71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my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2133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/He is 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086600" y="838080"/>
            <a:ext cx="2057400" cy="2629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2629080" cy="262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33520" y="4038480"/>
            <a:ext cx="3352680" cy="2819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52480" y="3962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048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a happy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onsolidation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e girl _____the left is my sister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e boy _____the middle is me 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We look _____each other 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We ’re ______brothers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1916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303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24000" y="2590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303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0880" y="306864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303"/>
                </a:solidFill>
                <a:latin typeface="Times New Roman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36576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303"/>
                </a:solidFill>
                <a:latin typeface="Times New Roman"/>
              </a:rPr>
              <a:t>t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Home work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Words: father  mother brother sister.(2</a:t>
            </a:r>
            <a:r>
              <a:rPr b="0" lang="zh-CN" sz="2400" spc="-1" strike="noStrike">
                <a:solidFill>
                  <a:srgbClr val="ff0303"/>
                </a:solidFill>
                <a:latin typeface="微软雅黑"/>
              </a:rPr>
              <a:t>遍）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Phrases: </a:t>
            </a:r>
            <a:r>
              <a:rPr b="0" lang="zh-CN" sz="2400" spc="-1" strike="noStrike">
                <a:solidFill>
                  <a:srgbClr val="ff0303"/>
                </a:solidFill>
                <a:latin typeface="微软雅黑"/>
              </a:rPr>
              <a:t>（</a:t>
            </a: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2</a:t>
            </a:r>
            <a:r>
              <a:rPr b="0" lang="zh-CN" sz="2400" spc="-1" strike="noStrike">
                <a:solidFill>
                  <a:srgbClr val="ff0303"/>
                </a:solidFill>
                <a:latin typeface="微软雅黑"/>
              </a:rPr>
              <a:t>遍加翻译）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          </a:t>
            </a: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on the left . on the right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           </a:t>
            </a: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in the middle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Sentences: 1</a:t>
            </a:r>
            <a:r>
              <a:rPr b="0" lang="zh-CN" sz="2400" spc="-1" strike="noStrike">
                <a:solidFill>
                  <a:srgbClr val="ff0303"/>
                </a:solidFill>
                <a:latin typeface="微软雅黑"/>
              </a:rPr>
              <a:t>遍加翻译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                  </a:t>
            </a: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We look like each other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                   </a:t>
            </a: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We are a happy family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6526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jyivf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411280" y="1989000"/>
            <a:ext cx="5413680" cy="24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 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s is me .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My name is Tom .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4133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191120" y="533520"/>
            <a:ext cx="102852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22096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te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819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from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781680" y="4267080"/>
            <a:ext cx="2133720" cy="1219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3581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in Class Two.Grade 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04000" y="6308640"/>
            <a:ext cx="208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aeafae"/>
                </a:solidFill>
                <a:uFillTx/>
                <a:latin typeface="Times New Roman"/>
                <a:hlinkClick r:id="rId5"/>
              </a:rPr>
              <a:t>揭阳爱维艾夫医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0552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s is my mother.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4640" y="12193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67400" indent="-167400">
              <a:spcBef>
                <a:spcPts val="21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hat’s my mother?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73560" cy="3962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05320" y="1981080"/>
            <a:ext cx="1350720" cy="2667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952880" y="236232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28800" y="5105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’ s a </a:t>
            </a:r>
            <a:r>
              <a:rPr b="1" lang="en-US" sz="3600" spc="-1" strike="noStrike">
                <a:solidFill>
                  <a:srgbClr val="ff0303"/>
                </a:solidFill>
                <a:latin typeface="Times New Roman"/>
              </a:rPr>
              <a:t>tail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800600" y="836640"/>
            <a:ext cx="320760" cy="160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This is my father.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What’s my father?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971800" y="167652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3352680"/>
            <a:ext cx="3303720" cy="3505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0" y="5257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’s a </a:t>
            </a:r>
            <a:r>
              <a:rPr b="1" lang="en-US" sz="3600" spc="-1" strike="noStrike">
                <a:solidFill>
                  <a:srgbClr val="ff0303"/>
                </a:solidFill>
                <a:latin typeface="Times New Roman"/>
              </a:rPr>
              <a:t>teac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276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e girl </a:t>
            </a:r>
            <a:r>
              <a:rPr b="1" lang="en-US" sz="3200" spc="-1" strike="noStrike">
                <a:solidFill>
                  <a:srgbClr val="ff0303"/>
                </a:solidFill>
                <a:latin typeface="微软雅黑"/>
              </a:rPr>
              <a:t>on the left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 is my sisiter.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he ’s nine .She’s in Class One , Grade Three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2629080" cy="262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3196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1295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 name is Mar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324480" y="0"/>
            <a:ext cx="358164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72200" y="304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791320" y="-303120"/>
            <a:ext cx="2703240" cy="2894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781680" y="609480"/>
            <a:ext cx="2629080" cy="2629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4800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’s the boy </a:t>
            </a:r>
            <a:r>
              <a:rPr b="1" lang="en-US" sz="3200" spc="-1" strike="noStrike">
                <a:solidFill>
                  <a:srgbClr val="ff0303"/>
                </a:solidFill>
                <a:latin typeface="Times New Roman"/>
              </a:rPr>
              <a:t>on the r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  Is it 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304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304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33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4100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, It’s my brother. The boy </a:t>
            </a:r>
            <a:r>
              <a:rPr b="0" lang="en-US" sz="3200" spc="-1" strike="noStrike">
                <a:solidFill>
                  <a:srgbClr val="ff0303"/>
                </a:solidFill>
                <a:latin typeface="Times New Roman"/>
              </a:rPr>
              <a:t>in the midd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6308640"/>
            <a:ext cx="208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aeafae"/>
                </a:solidFill>
                <a:uFillTx/>
                <a:latin typeface="Times New Roman"/>
              </a:rPr>
              <a:t>揭阳试管婴儿医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038480" y="762120"/>
            <a:ext cx="5105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We </a:t>
            </a:r>
            <a:r>
              <a:rPr b="1" lang="en-US" sz="2400" spc="-1" strike="noStrike" u="sng">
                <a:solidFill>
                  <a:srgbClr val="ff0303"/>
                </a:solidFill>
                <a:uFillTx/>
                <a:latin typeface="微软雅黑"/>
              </a:rPr>
              <a:t>look like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 each other 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295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起来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3276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are </a:t>
            </a:r>
            <a:r>
              <a:rPr b="0" lang="en-US" sz="3600" spc="-1" strike="noStrike" u="sng">
                <a:solidFill>
                  <a:srgbClr val="ff0303"/>
                </a:solidFill>
                <a:uFillTx/>
                <a:latin typeface="Times New Roman"/>
              </a:rPr>
              <a:t>tw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rot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胞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0303"/>
                </a:solidFill>
                <a:latin typeface="Times New Roman"/>
              </a:rPr>
              <a:t>look 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y f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7209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19720" y="2438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lang="en-US" sz="2800" spc="-1" strike="noStrike">
                <a:solidFill>
                  <a:srgbClr val="ff0303"/>
                </a:solidFill>
                <a:latin typeface="Times New Roman"/>
              </a:rPr>
              <a:t>looks 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270360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477120" y="3048120"/>
            <a:ext cx="2361960" cy="2209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243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2701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We are a </a:t>
            </a:r>
            <a:r>
              <a:rPr b="1" lang="en-US" sz="3600" spc="-1" strike="noStrike">
                <a:solidFill>
                  <a:srgbClr val="ff0303"/>
                </a:solidFill>
                <a:latin typeface="微软雅黑"/>
              </a:rPr>
              <a:t>happy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 family.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2629080" cy="2629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3429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303"/>
                </a:solidFill>
                <a:latin typeface="Times New Roman"/>
              </a:rPr>
              <a:t>happy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3505320"/>
            <a:ext cx="12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幸福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乐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8305920" y="685800"/>
            <a:ext cx="83808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09480" y="380880"/>
            <a:ext cx="1752840" cy="201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303"/>
                </a:solidFill>
                <a:latin typeface="微软雅黑"/>
                <a:ea typeface="华文行楷"/>
              </a:rPr>
              <a:t>全家福</a:t>
            </a:r>
            <a:endParaRPr b="0" lang="en-US" sz="6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9760" y="5562360"/>
            <a:ext cx="1523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78920" indent="-178920">
              <a:lnSpc>
                <a:spcPct val="90000"/>
              </a:lnSpc>
              <a:spcBef>
                <a:spcPts val="2701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sister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17892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19320" y="762120"/>
            <a:ext cx="632448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62520" y="1447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533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762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nd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990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5715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6095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05440" y="6308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jyivf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My name is …….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I ’m  ten 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I’m a student in TianJinWanbo Boading School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I ’m in Class 1 ,Grade Five .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90440" indent="-190440">
              <a:spcBef>
                <a:spcPts val="18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微软雅黑"/>
              </a:rPr>
              <a:t>I ’m from …….(Tang gu. Tian Jin…..)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1828800" cy="3048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67480" y="4038480"/>
            <a:ext cx="16765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6:23:41Z</dcterms:created>
  <dc:creator>aaaxk.com</dc:creator>
  <dc:description>http://www.aaaxk.com</dc:description>
  <cp:keywords>免费课件、免费试题、免费教案、免费论文</cp:keywords>
  <dc:language>en-US</dc:language>
  <cp:lastModifiedBy>微软系统</cp:lastModifiedBy>
  <dcterms:modified xsi:type="dcterms:W3CDTF">2015-10-20T09:10:49Z</dcterms:modified>
  <cp:revision>3</cp:revision>
  <dc:subject>教师助手，学生帮手，家长朋友，三星学科</dc:subject>
  <dc:title>三星学科，教育第三方，3edu教育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aa06000000000001024120</vt:lpwstr>
  </property>
</Properties>
</file>