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8677-1781-454A-9820-C8DA4838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7B59-25A0-454D-83A2-BC6D969A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F23B-5506-4125-87DB-963AF8E5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768D-E87E-4933-BE85-8C5D8E43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1C8A-6475-459B-8ADE-014645AD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5D3E-F0D2-404B-82FF-B4873F69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84CB-1EDE-47E6-88B0-76CABE18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E319-5AAF-4DB4-843E-0859CF4D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0239-57BC-4D59-8703-63AF5312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CBC8-52AD-470C-9599-B6606C13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5962-BEEA-463C-9145-8835CFF6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AE0A-1EE6-4D8F-8FBE-B3FCB20E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72CD-F19B-4C4B-9496-C4127CE89B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6T13:08:56Z</dcterms:created>
  <dc:creator>MC SYSTEM</dc:creator>
  <dc:description/>
  <dc:language>en-US</dc:language>
  <cp:lastModifiedBy>MC SYSTEM</cp:lastModifiedBy>
  <dcterms:modified xsi:type="dcterms:W3CDTF">2014-09-06T13:11:29Z</dcterms:modified>
  <cp:revision>2</cp:revision>
  <dc:subject/>
  <dc:title>幻灯片 1</dc:title>
</cp:coreProperties>
</file>