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60A-88D4-4E0D-9502-21B764F2A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D938-89FF-49E8-A7C1-190748EB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7B522-7139-45C9-86FF-DA9524F9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D13F2C-2E3B-4149-8398-29188AFA0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DB50B-097D-431A-8C10-DCFB75C5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59300-E900-45F9-8EC3-DD72809F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D190D-129C-4973-8DED-9BF8D681A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D3380-794D-4A29-B187-9AFE5FB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48BB2-B0DD-48BC-9C43-47C98ACE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99008-155A-4568-844A-A9F721B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20969-3CC2-4D9E-B2A9-75FF506F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95B12A-E1F9-4D98-B754-3A3EE3260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1AD-2AC9-4F27-8A11-916DBC308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06E94-5A40-49F9-AEF4-DC7ED09CF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6A5DC4-233E-4D1A-A9FC-BD10706C5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E3E46-8003-48F6-BBAD-C307D3EC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28E20-F05C-4AD9-A775-B5EBE6A3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215D0-0391-4C7D-B589-FB9030DB3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29216-40D8-49D4-ACEA-FB535A0D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3AB515-3FFB-4CA5-9B05-889CB842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3D07B-FB96-4D99-A6AD-9B027464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3BF6C-802C-4A9A-8E60-C88EDC9D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ED1264-6D7E-4ABE-8AC4-80A57E5B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4A45-D22E-4DCA-86C8-C44D3809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150FD4-9096-4BA6-B0B7-F7850961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A8BB80-2D37-4F1F-83DB-19FBE86C4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BBC69-2B53-4D5C-86B4-DEE23DA9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464DC-D48E-45C0-A083-1EBECE1B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27261-352C-4D64-AA28-F19A4BEE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8A34CD-E25C-440B-BD4F-DF55CC56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9D4A1-AEFE-4591-96B7-9EEAF33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143C3-8AC6-4E0E-806C-EFEEF6D7C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4DA032-8E11-442B-BBE7-B65B4D27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590D9-91F1-4DD0-92D8-2FCE6250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27859-F099-43E5-98EB-AA28A14DF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B95C87-09E2-49AD-89E9-73F909F2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21068-1F0F-4533-96DD-771954B2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658F98-23F3-4A1B-840A-11CCA50C8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016DC0-8A4E-4D4C-B6FA-3401EB6A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F84835-5F36-4303-AE97-F018FF6FE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D8EEF6-069D-4290-9E8B-677596430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92D84-47CB-4818-B25F-53B64833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0245DB-52D2-4A72-B04E-B4B48B37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67B30-EEEB-4648-A7BE-6F4923F1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3881E-4E9F-4FD1-AE37-4F96AE3E3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685B-6D4F-4D6F-8D36-16FF3A8AB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D216-8C87-43B7-8A58-FA0C3FB7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85A6F-2BDC-459B-9455-48079E2A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2F0A4-2D11-4F48-95B6-E1BCFEE9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476943-DFD6-4F9B-98E1-E13918706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55148-9636-4145-BE9D-10304E75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481EF3-3553-4F8D-ABE4-02E879EB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6D200-F6EB-4DAD-B2A7-7B1E8254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5D4BF0-0A93-4B82-97F7-B5E834EB6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C4791-382E-4453-92CA-47B24752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86975-8D5C-4CA0-916B-DB254A49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7390-AF9C-4419-A0A2-4235C357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CCF5D-4E72-444D-B8B8-1BA6C2FB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32D304-D6C9-4599-8E2A-13722760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1BD20-179E-4449-8374-4F344300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AF05C-96B4-46A4-8897-41C57145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8BE16-7CEB-4529-8C3C-13E9CEAD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585AD4-BD6C-472F-AB22-7A709B169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13F21-F25A-4306-9FD5-D22698D0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C125C0-73B6-4681-875F-C2F5C9C76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7F9B0-158E-4FD8-9594-A2ED10B6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5B649A-0608-4BF2-9C21-E2B3FAD6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994E-0418-4233-9ED7-A315B3FDC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1E4828-22A0-4EE4-BC6A-67802EAD2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A60F5-E500-4E15-8CF2-B7D75746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BFBBA5-6645-462D-9FC5-BD9DBCBE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2D1F33-A4F9-4589-B691-3D12F425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7EF5FE-A4DD-4EE6-8C5D-C3A64FD2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D1B5D6-371F-48C5-A666-A4514A24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871631-1142-4CAA-BF46-587957F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5ED954-CDB1-49CB-B43D-DC9370B17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B47BB9-6D64-400F-9A9E-F08DE1CF2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8614-5B82-4D32-BDCC-EBD09AAC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4BAE-8381-4A29-857E-B7241746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0078-84B9-4529-8DCB-925ED8DC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68A-8D12-448D-8EB5-19DC214B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DBFF-C924-41DE-859E-828E5810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2B08-5EC7-4FF3-836E-298373866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501B-FADC-4AB7-97E0-54076208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2EBC-F8B4-4D56-AE03-528548718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62D6-0847-4F82-8F54-995D7F682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1EB3-CEE6-48A4-AF77-DCDA2B16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EDCE9-E760-4B74-923A-9183E98C2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D2B24-B31E-4BE4-9E97-13E45A9D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07ED7-27CF-4563-BD05-CEBC4CDA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D5FD-A9BF-4AB9-8D25-E33EC336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BAFB7-8397-4303-A672-FCD75057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B1ED2-0BE0-4664-A2D6-154E2CAB7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ACE42-BD32-4707-B121-6DCBFB01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42B4A-3991-452E-A43F-FDF84052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F6B58-921A-4DA1-94CD-19552B2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3AEA9-1050-4D2C-A682-FB18D7F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1B137-E2FC-495C-8FA4-E48B1FB9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BBB65-979F-493E-883E-C5C1F2E57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8E9F5-E26E-45C3-BBB1-FE4E830D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DB925-CC2F-4F6F-B0D3-086F881BC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572-9988-431F-8ECF-894A15CF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39344-7A89-483A-B3A8-B6717CA0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EC25F-1829-4C5B-A830-5262E5D6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32B62-4B00-4C5D-9224-78D69E18F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2414D-3CDB-44A0-814A-A7270657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56D12-1024-40CC-B8B9-DE4410FF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74AE7-5A26-4E5B-90EC-2793A491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A24CF-9090-41E4-8554-7A8BC79F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7A5E9-77CC-40E4-8C32-7F714ACB9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C22E7-B036-4ADE-9EAB-B344CC44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61D69-F13D-4053-9D8B-25A401B3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F416-F9A2-45FE-9DD5-3FC08B7A3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43919-157E-4078-A8E4-6D09F0E5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E26D9-7281-4019-B9EE-288FF5A9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7DD9D-8271-4291-95E3-11815305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8845C-81C7-4290-B2E3-46DBB381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D0BC7-31CB-4F3E-A3BB-A43AA952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5B298-7FFB-4A76-8008-A95E69C7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1BC19-3F20-4C12-B994-388E9204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B81E-2A8C-4488-91C0-725D9193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84739-96BE-4700-97A9-0B7628E7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CC614-CABC-49A6-87F7-578FDB7E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D51-8306-489F-B7AD-FDC49E63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6E4E1-4901-4664-A63F-0A85B8B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3A56-9014-4A0B-9725-5ACEC5F46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E34C8-2A4B-4E45-A8A2-E989B7AC4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11FD-8109-4222-B30B-462B960A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D1D6E-A25C-4FEF-91C0-B0C0CE44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CA3EB-C09F-4CDA-B64A-047F4638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23366-8E0E-40AC-B4C0-22C2464F9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DA2F1-9A3E-4BB8-9EDD-345D86B4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47258-3A5B-4F44-A8E7-66CBAB63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89D7F-D6CD-485E-86AD-EFB5FCB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1C4A5-9F4B-4C8D-AF95-CD20B3C9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F2E01-6D6E-4BFA-8B58-582C4D7D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0C3E6-163B-45A9-92B9-F69A47E6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27EB2B-B6EE-4206-B0A8-F9D0A1E6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32296-949C-4C5A-A92B-7CF650AE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D4F9F-2A5B-429B-8F52-5A49B763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55962A-FA20-4A5F-9153-6B35E4DC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3991A-047D-4F5E-AEA2-E4446051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EFBCC-9B2A-425F-A6E7-EBACED21F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54B81-29EB-45F7-8F81-A4DDAB316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A2082-530D-47F8-812A-0FF9FEF0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C37F-6FA2-4756-990A-CBEA5828F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3FB3CF-6E84-47BE-91BE-D7F6B091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E1CA3-A076-4ACA-A563-969A8B7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BB2EA-C824-4100-9D5F-E137CD98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2A604-85F0-4EB2-8237-9F75A375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002EB-CC53-4285-985C-9538EF38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323E5-53AC-4A43-A6B4-C91F4875A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0CD42-192F-459A-A2C7-A271EB2F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28CB3-9730-4B91-9055-E32B7215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14DE3-44FA-4C73-BC2F-A84B2A69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103C8-23D1-424B-97A3-A83FAD94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DFB2-F4A0-4C86-99CA-24BC5C2CE6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C95F-21A5-41BE-A295-C6B96BFACA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68D5-338F-41C7-B34B-67AD464BFF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09DB-201E-4B5E-AF9B-E52AD12581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34CF-BDA1-4BA8-B22D-77FD7BE7992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213-0F98-47BB-9E5D-C3707DDF7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7D41-BBB4-425D-BBC5-11746C83C1B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CA32-94EB-4E1C-BE16-7014BB8F64F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534C-F359-4027-8595-7BA7D5AC007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5185-5C16-438D-A29F-7A98488672B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229B-55CB-45B0-AC9A-F52D7EFD22B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6CAC-C335-46C5-8628-66598D5D08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C54-7861-4E65-A383-D22B75381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6AB3-76A0-4717-A626-AE9A985D675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9FE4-E765-42AB-BBB2-72242350BAB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B079-0993-4C13-9DBD-81F3149785D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0EF3-05C9-42AA-A806-920389AD4EFB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0C58-7ECA-4901-A8B0-8AAEF0F6C88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DE8E2-C3F3-4654-81AD-1CE836A121A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7175-8D49-43F3-823E-D5E45CC7FDB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ED38-29B1-442F-ADDD-F92F9821552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F6B1-974A-488C-A580-900AD7937C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F87E6-56DC-4B68-9FF3-D28B329D954D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B1D-6BC8-437D-99AF-FC0C5DA56F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779C-42C9-4689-9094-CFB0FEB071B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hyperlink" Target="http://www.yanyijingling.com/" TargetMode="External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4"/>
          <p:cNvSpPr/>
          <p:nvPr/>
        </p:nvSpPr>
        <p:spPr>
          <a:xfrm>
            <a:off x="17640" y="3691080"/>
            <a:ext cx="9126360" cy="865080"/>
          </a:xfrm>
          <a:prstGeom prst="rect">
            <a:avLst/>
          </a:prstGeom>
          <a:solidFill>
            <a:srgbClr val="d9d9d9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矩形 3"/>
          <p:cNvSpPr/>
          <p:nvPr/>
        </p:nvSpPr>
        <p:spPr>
          <a:xfrm>
            <a:off x="0" y="2058840"/>
            <a:ext cx="9144000" cy="237672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2" descr="http://xcb.njupt.edu.cn/picture/article/4/dc/0f/ee00742f47c4b34b08503f6a2c22/ebe38335-0d9d-4b4b-8e2c-8ace70c1c411.jpg"/>
          <p:cNvPicPr/>
          <p:nvPr/>
        </p:nvPicPr>
        <p:blipFill>
          <a:blip r:embed="rId1"/>
          <a:stretch/>
        </p:blipFill>
        <p:spPr>
          <a:xfrm>
            <a:off x="222120" y="250920"/>
            <a:ext cx="4421160" cy="11779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"/>
          <p:cNvPicPr/>
          <p:nvPr/>
        </p:nvPicPr>
        <p:blipFill>
          <a:blip r:embed="rId2"/>
          <a:stretch/>
        </p:blipFill>
        <p:spPr>
          <a:xfrm>
            <a:off x="353880" y="1573200"/>
            <a:ext cx="3541680" cy="2316240"/>
          </a:xfrm>
          <a:prstGeom prst="rect">
            <a:avLst/>
          </a:prstGeom>
          <a:ln w="0">
            <a:noFill/>
          </a:ln>
        </p:spPr>
      </p:pic>
      <p:sp>
        <p:nvSpPr>
          <p:cNvPr id="575" name="TextBox 6"/>
          <p:cNvSpPr/>
          <p:nvPr/>
        </p:nvSpPr>
        <p:spPr>
          <a:xfrm>
            <a:off x="4921560" y="2370240"/>
            <a:ext cx="3198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地铁列车中无线监测通信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Calibri"/>
              </a:rPr>
              <a:t>系统的研究与实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TextBox 7"/>
          <p:cNvSpPr/>
          <p:nvPr/>
        </p:nvSpPr>
        <p:spPr>
          <a:xfrm>
            <a:off x="6616800" y="47847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张  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TextBox 8"/>
          <p:cNvSpPr/>
          <p:nvPr/>
        </p:nvSpPr>
        <p:spPr>
          <a:xfrm>
            <a:off x="6566040" y="52452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李 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6249600" y="5680080"/>
            <a:ext cx="196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9"/>
          <p:cNvSpPr/>
          <p:nvPr/>
        </p:nvSpPr>
        <p:spPr>
          <a:xfrm>
            <a:off x="-4680" y="5127480"/>
            <a:ext cx="9144000" cy="1727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39320" cy="1191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8153280" y="119160"/>
            <a:ext cx="986040" cy="8586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7381800" y="981000"/>
            <a:ext cx="771480" cy="71280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7000920" y="64764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Rectangle 6"/>
          <p:cNvSpPr/>
          <p:nvPr/>
        </p:nvSpPr>
        <p:spPr>
          <a:xfrm>
            <a:off x="1160640" y="5127480"/>
            <a:ext cx="1801800" cy="1679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Text Box 7"/>
          <p:cNvSpPr/>
          <p:nvPr/>
        </p:nvSpPr>
        <p:spPr>
          <a:xfrm>
            <a:off x="1796760" y="540216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  <a:ea typeface="黑体"/>
              </a:rPr>
              <a:t>演绎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黑体"/>
              </a:rPr>
              <a:t>精灵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825480" y="1368360"/>
            <a:ext cx="380880" cy="333360"/>
          </a:xfrm>
          <a:prstGeom prst="rect">
            <a:avLst/>
          </a:prstGeom>
          <a:solidFill>
            <a:srgbClr val="00b0f0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Line 10"/>
          <p:cNvSpPr/>
          <p:nvPr/>
        </p:nvSpPr>
        <p:spPr>
          <a:xfrm>
            <a:off x="4897440" y="6103800"/>
            <a:ext cx="3355920" cy="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4929120" y="6118200"/>
            <a:ext cx="30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精品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1308960" y="14940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Line 14"/>
          <p:cNvSpPr/>
          <p:nvPr/>
        </p:nvSpPr>
        <p:spPr>
          <a:xfrm>
            <a:off x="1022400" y="127080"/>
            <a:ext cx="1440" cy="1388880"/>
          </a:xfrm>
          <a:prstGeom prst="line">
            <a:avLst/>
          </a:prstGeom>
          <a:ln w="4428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9" name="Picture 16" descr="QQ截图20141114154318"/>
          <p:cNvPicPr/>
          <p:nvPr/>
        </p:nvPicPr>
        <p:blipFill>
          <a:blip r:embed="rId1"/>
          <a:stretch/>
        </p:blipFill>
        <p:spPr>
          <a:xfrm>
            <a:off x="5765760" y="2006640"/>
            <a:ext cx="1905120" cy="191304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17" descr="u=540109111,3851301067&amp;fm=23&amp;gp=0"/>
          <p:cNvPicPr/>
          <p:nvPr/>
        </p:nvPicPr>
        <p:blipFill>
          <a:blip r:embed="rId2"/>
          <a:stretch/>
        </p:blipFill>
        <p:spPr>
          <a:xfrm>
            <a:off x="5013360" y="1996920"/>
            <a:ext cx="725400" cy="64296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18" descr="20111013231321476"/>
          <p:cNvPicPr/>
          <p:nvPr/>
        </p:nvPicPr>
        <p:blipFill>
          <a:blip r:embed="rId3"/>
          <a:stretch/>
        </p:blipFill>
        <p:spPr>
          <a:xfrm>
            <a:off x="-871560" y="9863280"/>
            <a:ext cx="88920" cy="8892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20" descr="20111013231321476"/>
          <p:cNvPicPr/>
          <p:nvPr/>
        </p:nvPicPr>
        <p:blipFill>
          <a:blip r:embed="rId4"/>
          <a:stretch/>
        </p:blipFill>
        <p:spPr>
          <a:xfrm>
            <a:off x="1301760" y="2063880"/>
            <a:ext cx="511200" cy="51264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22" descr="IMG_4287"/>
          <p:cNvPicPr/>
          <p:nvPr/>
        </p:nvPicPr>
        <p:blipFill>
          <a:blip r:embed="rId5"/>
          <a:stretch/>
        </p:blipFill>
        <p:spPr>
          <a:xfrm>
            <a:off x="1908000" y="2063880"/>
            <a:ext cx="1857600" cy="1847880"/>
          </a:xfrm>
          <a:prstGeom prst="rect">
            <a:avLst/>
          </a:prstGeom>
          <a:ln w="0">
            <a:noFill/>
          </a:ln>
        </p:spPr>
      </p:pic>
      <p:sp>
        <p:nvSpPr>
          <p:cNvPr id="704" name="Text Box 23"/>
          <p:cNvSpPr/>
          <p:nvPr/>
        </p:nvSpPr>
        <p:spPr>
          <a:xfrm>
            <a:off x="1730520" y="4343400"/>
            <a:ext cx="314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20214584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享交流群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: </a:t>
            </a:r>
            <a:r>
              <a:rPr b="1" lang="en-US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42220800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Text Box 24"/>
          <p:cNvSpPr/>
          <p:nvPr/>
        </p:nvSpPr>
        <p:spPr>
          <a:xfrm>
            <a:off x="5999400" y="4340160"/>
            <a:ext cx="215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微信公众号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: 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演绎精灵（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elf</a:t>
            </a:r>
            <a:r>
              <a:rPr b="1" lang="zh-CN" sz="1400" spc="-1" strike="noStrike">
                <a:solidFill>
                  <a:srgbClr val="00b0f0"/>
                </a:solidFill>
                <a:latin typeface="微软雅黑"/>
                <a:ea typeface="微软雅黑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Text Box 25"/>
          <p:cNvSpPr/>
          <p:nvPr/>
        </p:nvSpPr>
        <p:spPr>
          <a:xfrm>
            <a:off x="2119320" y="3902040"/>
            <a:ext cx="1538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选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分享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 Box 25"/>
          <p:cNvSpPr/>
          <p:nvPr/>
        </p:nvSpPr>
        <p:spPr>
          <a:xfrm>
            <a:off x="5923080" y="3887640"/>
            <a:ext cx="166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定期赠送精品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1"/>
          <p:cNvSpPr/>
          <p:nvPr/>
        </p:nvSpPr>
        <p:spPr>
          <a:xfrm>
            <a:off x="1301760" y="1368360"/>
            <a:ext cx="24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扫一扫，关注我们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4905360" y="5675400"/>
            <a:ext cx="346860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afafa"/>
                </a:solidFill>
                <a:uFillTx/>
                <a:latin typeface="Arial Black"/>
                <a:ea typeface="Arial Unicode MS"/>
                <a:hlinkClick r:id="rId6"/>
              </a:rPr>
              <a:t>http://www.yanyijingling.com</a:t>
            </a:r>
            <a:r>
              <a:rPr b="0" lang="zh-CN" sz="1600" spc="-1" strike="noStrike" u="sng">
                <a:solidFill>
                  <a:srgbClr val="fafafa"/>
                </a:solidFill>
                <a:uFillTx/>
                <a:latin typeface="Arial Black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矩形 2"/>
          <p:cNvSpPr/>
          <p:nvPr/>
        </p:nvSpPr>
        <p:spPr>
          <a:xfrm>
            <a:off x="0" y="11160"/>
            <a:ext cx="3059280" cy="68468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TextBox 3"/>
          <p:cNvSpPr/>
          <p:nvPr/>
        </p:nvSpPr>
        <p:spPr>
          <a:xfrm>
            <a:off x="1517040" y="15159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alibri"/>
              </a:rPr>
              <a:t>目录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Box 4"/>
          <p:cNvSpPr/>
          <p:nvPr/>
        </p:nvSpPr>
        <p:spPr>
          <a:xfrm>
            <a:off x="1355400" y="2630520"/>
            <a:ext cx="14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tenci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2" name=""/>
          <p:cNvGraphicFramePr/>
          <p:nvPr/>
        </p:nvGraphicFramePr>
        <p:xfrm>
          <a:off x="3635280" y="1461960"/>
          <a:ext cx="5184720" cy="3178440"/>
        </p:xfrm>
        <a:graphic>
          <a:graphicData uri="http://schemas.openxmlformats.org/drawingml/2006/table">
            <a:tbl>
              <a:tblPr/>
              <a:tblGrid>
                <a:gridCol w="647640"/>
                <a:gridCol w="453708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选题背景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设计理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12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仿真优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2760"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0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b0f0"/>
                          </a:solidFill>
                          <a:latin typeface="宋体"/>
                        </a:rPr>
                        <a:t>结论分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矩形 2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矩形 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1803240" y="1808280"/>
            <a:ext cx="1500480" cy="4316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TextBox 9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接连接符 10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Box 11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直接连接符 12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接连接符 13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4"/>
          <p:cNvSpPr/>
          <p:nvPr/>
        </p:nvSpPr>
        <p:spPr>
          <a:xfrm>
            <a:off x="2683080" y="17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背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fb6a07"/>
          </a:solidFill>
          <a:ln w="25560">
            <a:solidFill>
              <a:srgbClr val="fb6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535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选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直接连接符 15"/>
          <p:cNvSpPr/>
          <p:nvPr/>
        </p:nvSpPr>
        <p:spPr>
          <a:xfrm>
            <a:off x="1887480" y="4921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extBox 16"/>
          <p:cNvSpPr/>
          <p:nvPr/>
        </p:nvSpPr>
        <p:spPr>
          <a:xfrm>
            <a:off x="2831400" y="171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Calibri"/>
              </a:rPr>
              <a:t>发展方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TextBox 12"/>
          <p:cNvSpPr/>
          <p:nvPr/>
        </p:nvSpPr>
        <p:spPr>
          <a:xfrm>
            <a:off x="1227240" y="2990880"/>
            <a:ext cx="11127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技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TextBox 2"/>
          <p:cNvSpPr/>
          <p:nvPr/>
        </p:nvSpPr>
        <p:spPr>
          <a:xfrm>
            <a:off x="3378960" y="193500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高温超导体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HTS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低温共烧陶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extBox 5"/>
          <p:cNvSpPr/>
          <p:nvPr/>
        </p:nvSpPr>
        <p:spPr>
          <a:xfrm>
            <a:off x="2341440" y="422928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ADS HFSS CST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TextBox 4"/>
          <p:cNvSpPr/>
          <p:nvPr/>
        </p:nvSpPr>
        <p:spPr>
          <a:xfrm>
            <a:off x="3636000" y="2995560"/>
            <a:ext cx="332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片微波集成电路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MIC)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、微电子机械系统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TextBox 2"/>
          <p:cNvSpPr/>
          <p:nvPr/>
        </p:nvSpPr>
        <p:spPr>
          <a:xfrm>
            <a:off x="1416600" y="419112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1418760" y="1873080"/>
            <a:ext cx="729360" cy="459720"/>
          </a:xfrm>
          <a:prstGeom prst="rect">
            <a:avLst/>
          </a:prstGeom>
          <a:solidFill>
            <a:srgbClr val="fa6a09"/>
          </a:solidFill>
          <a:ln w="9360">
            <a:solidFill>
              <a:srgbClr val="fa6a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材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23"/>
          <p:cNvSpPr/>
          <p:nvPr/>
        </p:nvSpPr>
        <p:spPr>
          <a:xfrm>
            <a:off x="2340000" y="2541600"/>
            <a:ext cx="56880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接连接符 24"/>
          <p:cNvSpPr/>
          <p:nvPr/>
        </p:nvSpPr>
        <p:spPr>
          <a:xfrm>
            <a:off x="2446200" y="3549600"/>
            <a:ext cx="5473800" cy="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接连接符 25"/>
          <p:cNvSpPr/>
          <p:nvPr/>
        </p:nvSpPr>
        <p:spPr>
          <a:xfrm flipV="1">
            <a:off x="2446200" y="4653000"/>
            <a:ext cx="5488200" cy="30240"/>
          </a:xfrm>
          <a:prstGeom prst="line">
            <a:avLst/>
          </a:prstGeom>
          <a:ln w="12600">
            <a:solidFill>
              <a:srgbClr val="fa6a0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接连接符 5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流程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AutoShape 15"/>
          <p:cNvSpPr/>
          <p:nvPr/>
        </p:nvSpPr>
        <p:spPr>
          <a:xfrm>
            <a:off x="779400" y="1952640"/>
            <a:ext cx="351144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72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给定的指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确定滤波器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AutoShape 16"/>
          <p:cNvSpPr/>
          <p:nvPr/>
        </p:nvSpPr>
        <p:spPr>
          <a:xfrm>
            <a:off x="779400" y="1405080"/>
            <a:ext cx="35258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确定滤波器参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AutoShape 17"/>
          <p:cNvSpPr/>
          <p:nvPr/>
        </p:nvSpPr>
        <p:spPr>
          <a:xfrm>
            <a:off x="5278320" y="1952640"/>
            <a:ext cx="3241800" cy="16844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设计好低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转化为带通原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AutoShape 19"/>
          <p:cNvSpPr/>
          <p:nvPr/>
        </p:nvSpPr>
        <p:spPr>
          <a:xfrm>
            <a:off x="779400" y="4627440"/>
            <a:ext cx="351144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根据带通原型设计分布参数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华文细黑"/>
              </a:rPr>
              <a:t>利用微带线实现交指型滤波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AutoShape 22"/>
          <p:cNvSpPr/>
          <p:nvPr/>
        </p:nvSpPr>
        <p:spPr>
          <a:xfrm>
            <a:off x="4357800" y="2440080"/>
            <a:ext cx="920520" cy="649080"/>
          </a:xfrm>
          <a:prstGeom prst="rightArrow">
            <a:avLst>
              <a:gd name="adj1" fmla="val 50000"/>
              <a:gd name="adj2" fmla="val 30327"/>
            </a:avLst>
          </a:prstGeom>
          <a:solidFill>
            <a:srgbClr val="8bab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0" name="组合 18" descr=""/>
          <p:cNvPicPr/>
          <p:nvPr/>
        </p:nvPicPr>
        <p:blipFill>
          <a:blip r:embed="rId1"/>
          <a:stretch/>
        </p:blipFill>
        <p:spPr>
          <a:xfrm>
            <a:off x="5894280" y="4273560"/>
            <a:ext cx="1390680" cy="1359000"/>
          </a:xfrm>
          <a:prstGeom prst="rect">
            <a:avLst/>
          </a:prstGeom>
          <a:ln w="0">
            <a:noFill/>
          </a:ln>
        </p:spPr>
      </p:pic>
      <p:sp>
        <p:nvSpPr>
          <p:cNvPr id="621" name="AutoShape 16"/>
          <p:cNvSpPr/>
          <p:nvPr/>
        </p:nvSpPr>
        <p:spPr>
          <a:xfrm>
            <a:off x="5278320" y="1422360"/>
            <a:ext cx="324180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低通原型转变成带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AutoShape 16"/>
          <p:cNvSpPr/>
          <p:nvPr/>
        </p:nvSpPr>
        <p:spPr>
          <a:xfrm>
            <a:off x="793800" y="4038480"/>
            <a:ext cx="3511440" cy="422280"/>
          </a:xfrm>
          <a:prstGeom prst="roundRect">
            <a:avLst>
              <a:gd name="adj" fmla="val 5444"/>
            </a:avLst>
          </a:prstGeom>
          <a:solidFill>
            <a:srgbClr val="8bab00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转变成分布参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下箭头 6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1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632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3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4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接连接符 16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14"/>
          <p:cNvSpPr/>
          <p:nvPr/>
        </p:nvSpPr>
        <p:spPr>
          <a:xfrm>
            <a:off x="3862440" y="189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641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下箭头 4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646" name="矩形 7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8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9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矩形 10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11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矩形 12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接连接符 13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矩形 14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矩形 15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5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6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57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  <p:sp>
        <p:nvSpPr>
          <p:cNvPr id="658" name="矩形 18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19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8bab00"/>
          </a:solidFill>
          <a:ln w="25560">
            <a:solidFill>
              <a:srgbClr val="8b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TextBox 9"/>
          <p:cNvSpPr/>
          <p:nvPr/>
        </p:nvSpPr>
        <p:spPr>
          <a:xfrm>
            <a:off x="99720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直接连接符 21"/>
          <p:cNvSpPr/>
          <p:nvPr/>
        </p:nvSpPr>
        <p:spPr>
          <a:xfrm>
            <a:off x="2827440" y="46368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TextBox 14"/>
          <p:cNvSpPr/>
          <p:nvPr/>
        </p:nvSpPr>
        <p:spPr>
          <a:xfrm>
            <a:off x="4299480" y="189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矩形 1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矩形 2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直接连接符 5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8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图片 1" descr=""/>
          <p:cNvPicPr/>
          <p:nvPr/>
        </p:nvPicPr>
        <p:blipFill>
          <a:blip r:embed="rId1"/>
          <a:srcRect l="23125" t="23443" r="22988" b="0"/>
          <a:stretch/>
        </p:blipFill>
        <p:spPr>
          <a:xfrm>
            <a:off x="603360" y="1614600"/>
            <a:ext cx="4973400" cy="4335480"/>
          </a:xfrm>
          <a:prstGeom prst="rect">
            <a:avLst/>
          </a:prstGeom>
          <a:ln w="0">
            <a:noFill/>
          </a:ln>
        </p:spPr>
      </p:pic>
      <p:sp>
        <p:nvSpPr>
          <p:cNvPr id="670" name="矩形 2"/>
          <p:cNvSpPr/>
          <p:nvPr/>
        </p:nvSpPr>
        <p:spPr>
          <a:xfrm>
            <a:off x="5576760" y="1825560"/>
            <a:ext cx="100836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直接连接符 3"/>
          <p:cNvSpPr/>
          <p:nvPr/>
        </p:nvSpPr>
        <p:spPr>
          <a:xfrm>
            <a:off x="5576760" y="236520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2"/>
          <p:cNvSpPr/>
          <p:nvPr/>
        </p:nvSpPr>
        <p:spPr>
          <a:xfrm>
            <a:off x="6147720" y="2484360"/>
            <a:ext cx="171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在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椭圆 5"/>
          <p:cNvSpPr/>
          <p:nvPr/>
        </p:nvSpPr>
        <p:spPr>
          <a:xfrm>
            <a:off x="5803920" y="2538360"/>
            <a:ext cx="183960" cy="1857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椭圆 6"/>
          <p:cNvSpPr/>
          <p:nvPr/>
        </p:nvSpPr>
        <p:spPr>
          <a:xfrm>
            <a:off x="5803920" y="2927520"/>
            <a:ext cx="183960" cy="1854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椭圆 7"/>
          <p:cNvSpPr/>
          <p:nvPr/>
        </p:nvSpPr>
        <p:spPr>
          <a:xfrm>
            <a:off x="5803920" y="3317760"/>
            <a:ext cx="183960" cy="18432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TextBox 16"/>
          <p:cNvSpPr/>
          <p:nvPr/>
        </p:nvSpPr>
        <p:spPr>
          <a:xfrm>
            <a:off x="6180120" y="2835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TextBox 17"/>
          <p:cNvSpPr/>
          <p:nvPr/>
        </p:nvSpPr>
        <p:spPr>
          <a:xfrm>
            <a:off x="6148440" y="32259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直接连接符 10"/>
          <p:cNvSpPr/>
          <p:nvPr/>
        </p:nvSpPr>
        <p:spPr>
          <a:xfrm>
            <a:off x="5576760" y="4005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TextBox 19"/>
          <p:cNvSpPr/>
          <p:nvPr/>
        </p:nvSpPr>
        <p:spPr>
          <a:xfrm>
            <a:off x="5967360" y="4089240"/>
            <a:ext cx="1765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优化之后满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了指标，但由于原理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仿真和版图仿真采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是不同的算法，所以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图仿真时依然会出现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符合指标的情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TextBox 11"/>
          <p:cNvSpPr/>
          <p:nvPr/>
        </p:nvSpPr>
        <p:spPr>
          <a:xfrm>
            <a:off x="6005520" y="1908000"/>
            <a:ext cx="139212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之后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TextBox 20"/>
          <p:cNvSpPr/>
          <p:nvPr/>
        </p:nvSpPr>
        <p:spPr>
          <a:xfrm>
            <a:off x="5724360" y="3573360"/>
            <a:ext cx="1974960" cy="368280"/>
          </a:xfrm>
          <a:prstGeom prst="rect">
            <a:avLst/>
          </a:prstGeom>
          <a:solidFill>
            <a:srgbClr val="00b0f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 果 分 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14"/>
          <p:cNvSpPr/>
          <p:nvPr/>
        </p:nvSpPr>
        <p:spPr>
          <a:xfrm>
            <a:off x="0" y="0"/>
            <a:ext cx="9144000" cy="963720"/>
          </a:xfrm>
          <a:prstGeom prst="rect">
            <a:avLst/>
          </a:prstGeom>
          <a:solidFill>
            <a:srgbClr val="b3b3b3"/>
          </a:solidFill>
          <a:ln w="255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15"/>
          <p:cNvSpPr/>
          <p:nvPr/>
        </p:nvSpPr>
        <p:spPr>
          <a:xfrm>
            <a:off x="-11160" y="0"/>
            <a:ext cx="9155160" cy="741240"/>
          </a:xfrm>
          <a:prstGeom prst="rect">
            <a:avLst/>
          </a:prstGeom>
          <a:solidFill>
            <a:srgbClr val="00b0f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TextBox 9"/>
          <p:cNvSpPr/>
          <p:nvPr/>
        </p:nvSpPr>
        <p:spPr>
          <a:xfrm>
            <a:off x="1228320" y="47520"/>
            <a:ext cx="76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、仿真与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4207320" y="1396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直接连接符 18"/>
          <p:cNvSpPr/>
          <p:nvPr/>
        </p:nvSpPr>
        <p:spPr>
          <a:xfrm>
            <a:off x="3262320" y="371520"/>
            <a:ext cx="720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10:14:01Z</dcterms:created>
  <dc:creator>张奔</dc:creator>
  <dc:description/>
  <dc:language>en-US</dc:language>
  <cp:lastModifiedBy>Administrator</cp:lastModifiedBy>
  <dcterms:modified xsi:type="dcterms:W3CDTF">2015-03-03T06:26:56Z</dcterms:modified>
  <cp:revision>13</cp:revision>
  <dc:subject/>
  <dc:title>PowerPoint 演示文稿</dc:title>
</cp:coreProperties>
</file>