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7.jpeg" ContentType="image/jpeg"/>
  <Override PartName="/ppt/media/image10.jpeg" ContentType="image/jpeg"/>
  <Override PartName="/ppt/media/image17.jpeg" ContentType="image/jpeg"/>
  <Override PartName="/ppt/media/image13.jpeg" ContentType="image/jpeg"/>
  <Override PartName="/ppt/media/image1.jpeg" ContentType="image/jpeg"/>
  <Override PartName="/ppt/media/image16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909-FC97-44F6-B875-9F652A1D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178-E76B-4825-B84E-7AC0BC06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EA5-9F18-4C68-BFCA-768C83CF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CA0-F138-431C-A0D3-97862A7E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1F4-F592-4C24-9A87-897DDE31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60C-3AA9-40BD-9147-9C292744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BEF-A5DF-4EDD-A9C0-FF193B35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309-8028-476A-BABD-96027377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067-AA15-43ED-A15D-D2F02EB4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4CB-8730-4B14-B0F9-B0C2975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BA3-73D7-46AE-B46E-B89C5FD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412-CA63-4FC8-8B2E-C1E3197F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0336-00F0-4C30-95C9-853D6ACD1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en-US" sz="8000" spc="-1" strike="noStrike">
                <a:solidFill>
                  <a:srgbClr val="ff3300"/>
                </a:solidFill>
                <a:latin typeface="黑体"/>
                <a:ea typeface="黑体"/>
              </a:rPr>
              <a:t>8.</a:t>
            </a:r>
            <a:r>
              <a:rPr b="1" lang="zh-CN" sz="8000" spc="-1" strike="noStrike">
                <a:solidFill>
                  <a:srgbClr val="ff3300"/>
                </a:solidFill>
                <a:latin typeface="黑体"/>
                <a:ea typeface="黑体"/>
              </a:rPr>
              <a:t>难忘的一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541440" y="188640"/>
            <a:ext cx="28432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ff"/>
                </a:solidFill>
                <a:latin typeface="Times New Roman"/>
                <a:ea typeface="方正舒体"/>
              </a:rPr>
              <a:t>我会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5832360" cy="122400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    算  冒  览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55640" y="47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jì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suàn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mào    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ǎ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84360" y="30686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馆  紧  怦  握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11280" y="508464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容 普  奋  灿  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55640" y="2492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ɡuǎn     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jǐn  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pēnɡ    w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11280" y="4437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rónɡ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pǔ    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f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è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càn    l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2096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33ff"/>
                </a:solidFill>
                <a:latin typeface="Times New Roman"/>
                <a:ea typeface="方正舒体"/>
              </a:rPr>
              <a:t>我会认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147400"/>
            <a:ext cx="6129360" cy="359100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  算  冒  览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馆  紧  怦  握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容  普  奋  灿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2920" y="4106520"/>
            <a:ext cx="38149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背景17"/>
          <p:cNvPicPr/>
          <p:nvPr/>
        </p:nvPicPr>
        <p:blipFill>
          <a:blip r:embed="rId1"/>
          <a:stretch/>
        </p:blipFill>
        <p:spPr>
          <a:xfrm>
            <a:off x="0" y="0"/>
            <a:ext cx="9144000" cy="8109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3060720" y="404640"/>
            <a:ext cx="2519280" cy="2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7619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我会读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pic>
        <p:nvPicPr>
          <p:cNvPr id="71" name="Picture 4" descr="鼹鼠"/>
          <p:cNvPicPr/>
          <p:nvPr/>
        </p:nvPicPr>
        <p:blipFill>
          <a:blip r:embed="rId2"/>
          <a:stretch/>
        </p:blipFill>
        <p:spPr>
          <a:xfrm>
            <a:off x="7238880" y="3886200"/>
            <a:ext cx="137160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00000" y="1700280"/>
            <a:ext cx="80647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计算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机    表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展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览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怦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慈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     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操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笑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起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灿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肩负    责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143000" y="142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思考：分别用        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划出描写我心情和邓爷爷的句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3"/>
          <p:cNvSpPr/>
          <p:nvPr/>
        </p:nvSpPr>
        <p:spPr>
          <a:xfrm>
            <a:off x="4929120" y="171468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曲线连接符 8"/>
          <p:cNvCxnSpPr/>
          <p:nvPr/>
        </p:nvCxnSpPr>
        <p:spPr>
          <a:xfrm>
            <a:off x="7072200" y="1785600"/>
            <a:ext cx="1501200" cy="14364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S001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84360" y="1844640"/>
            <a:ext cx="806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时    及格     身体    身边   仔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次   一次    计算    计时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怦怦地   礼节   敬礼   加法  更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天早晨，我冒着严寒，快步走到工业展览馆。想到马上就要见到邓爷爷，我又紧张又激动，心怦怦地跳个不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>
            <a:hlinkClick r:id="rId2" action="ppaction://hlinksldjump"/>
          </p:cNvPr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>
            <a:hlinkClick r:id="rId3" action="ppaction://hlinksldjump"/>
          </p:cNvPr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>
            <a:hlinkClick r:id="rId4" action="ppaction://hlinksldjump"/>
          </p:cNvPr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">
            <a:hlinkClick r:id="rId5" action="ppaction://hlinksldjump"/>
          </p:cNvPr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天早晨，我冒着严寒，快步走到工业展览馆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想到马上就要见到邓爷爷，我又紧张又激动，心怦怦地跳个不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>
            <a:hlinkClick r:id="rId2" action="ppaction://hlinksldjump"/>
          </p:cNvPr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>
            <a:hlinkClick r:id="rId3" action="ppaction://hlinksldjump"/>
          </p:cNvPr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>
            <a:hlinkClick r:id="rId4" action="ppaction://hlinksldjump"/>
          </p:cNvPr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>
            <a:hlinkClick r:id="rId5" action="ppaction://hlinksldjump"/>
          </p:cNvPr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天早晨，我冒着严寒，快步走到工业展览馆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想到马上就要见到邓爷爷，我又紧张又激动，心怦怦地跳个不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>
            <a:hlinkClick r:id="rId2" action="ppaction://hlinksldjump"/>
          </p:cNvPr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邓爷爷来啦！他带着慈祥的微笑向我走来。我连忙敬了个队礼，说：“邓爷爷，您好！”邓爷爷高兴地点点头，紧紧地握住我的手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看着邓爷爷和蔼可亲的样子，我紧张的心情一下子平静了下来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>
            <a:hlinkClick r:id="rId3" action="ppaction://hlinksldjump"/>
          </p:cNvPr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>
            <a:hlinkClick r:id="rId4" action="ppaction://hlinksldjump"/>
          </p:cNvPr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>
            <a:hlinkClick r:id="rId5" action="ppaction://hlinksldjump"/>
          </p:cNvPr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天早晨，我冒着严寒，快步走到工业展览馆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想到马上就要见到邓爷爷，我又紧张又激动，心怦怦地跳个不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>
            <a:hlinkClick r:id="rId2" action="ppaction://hlinksldjump"/>
          </p:cNvPr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邓爷爷来啦！他带着慈祥的微笑向我走来。我连忙敬了个队礼，说：“邓爷爷，您好！”邓爷爷高兴地点点头，紧紧地握住我的手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看着邓爷爷和蔼可亲的样子，我紧张的心情一下子平静了下来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>
            <a:hlinkClick r:id="rId3" action="ppaction://hlinksldjump"/>
          </p:cNvPr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始表演了。我沉着地操纵着计算机，顺利地打出各种各样的图形来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>
            <a:hlinkClick r:id="rId4" action="ppaction://hlinksldjump"/>
          </p:cNvPr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>
            <a:hlinkClick r:id="rId5" action="ppaction://hlinksldjump"/>
          </p:cNvPr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967120" y="1687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0314-2"/>
          <p:cNvPicPr/>
          <p:nvPr/>
        </p:nvPicPr>
        <p:blipFill>
          <a:blip r:embed="rId1"/>
          <a:srcRect l="8268" t="0" r="4328" b="0"/>
          <a:stretch/>
        </p:blipFill>
        <p:spPr>
          <a:xfrm>
            <a:off x="250920" y="517680"/>
            <a:ext cx="8893080" cy="634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小学语文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天早晨，我冒着严寒，快步走到工业展览馆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想到马上就要见到邓爷爷，我又紧张又激动，心怦怦地跳个不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邓爷爷来啦！他带着慈祥的微笑向我走来。我连忙敬了个队礼，说：“邓爷爷，您好！”邓爷爷高兴地点点头，紧紧地握住我的手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看着邓爷爷和蔼可亲的样子，我紧张的心情一下子平静了下来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始表演了。我沉着地操纵着计算机，顺利地打出各种各样的图形来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离开展览馆，我兴奋地走在回家的路上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/>
          <p:cNvSpPr/>
          <p:nvPr/>
        </p:nvSpPr>
        <p:spPr>
          <a:xfrm>
            <a:off x="80773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829400" y="4287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带着慈祥的微笑向我走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1571760" y="3013200"/>
            <a:ext cx="70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邓爷爷高兴地点点头，紧紧地握住了我的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3"/>
          <p:cNvSpPr/>
          <p:nvPr/>
        </p:nvSpPr>
        <p:spPr>
          <a:xfrm>
            <a:off x="80773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928800" y="2214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邓爷爷仔细地看了我的表演，脸上露出了满意的笑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85800" y="1219320"/>
            <a:ext cx="7924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演过后，邓爷爷还亲切地问了我的年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邓爷爷听了，赞许地再一次和我握手，并对身边的人说：“计算机的普及要从娃娃抓起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80773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1441440" cy="1366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755640" y="692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03280" y="242100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3708360" y="2565360"/>
            <a:ext cx="1440000" cy="1360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808440" y="2492280"/>
            <a:ext cx="12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4"/>
          <a:stretch/>
        </p:blipFill>
        <p:spPr>
          <a:xfrm>
            <a:off x="6084720" y="2565360"/>
            <a:ext cx="14400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5"/>
          <a:stretch/>
        </p:blipFill>
        <p:spPr>
          <a:xfrm>
            <a:off x="1258920" y="4437000"/>
            <a:ext cx="1440000" cy="1360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6172200" y="2492280"/>
            <a:ext cx="12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403280" y="436572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6"/>
          <a:stretch/>
        </p:blipFill>
        <p:spPr>
          <a:xfrm>
            <a:off x="3836880" y="4438800"/>
            <a:ext cx="14400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3"/>
          <p:cNvSpPr/>
          <p:nvPr/>
        </p:nvSpPr>
        <p:spPr>
          <a:xfrm>
            <a:off x="3924360" y="4365720"/>
            <a:ext cx="12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次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u=4126160177,1025765466&amp;gp=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304920" y="228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词语超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04920" y="1432080"/>
            <a:ext cx="868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算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划   妙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诡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术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心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口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犯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险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失  假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饱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游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浏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饭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张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急   赶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加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然心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u=4126160177,1025765466&amp;gp=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04920" y="914400"/>
            <a:ext cx="807696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手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笔   把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紧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量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内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宽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及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遍   勤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发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斗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烂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然一新  金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灿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真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漫  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破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137808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284720" y="2208240"/>
            <a:ext cx="4788000" cy="3385800"/>
          </a:xfrm>
          <a:prstGeom prst="rect">
            <a:avLst/>
          </a:prstGeom>
          <a:solidFill>
            <a:srgbClr val="ccffcc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地 仔细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切地 紧紧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利地 兴奋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许地 沉着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4920" y="2208240"/>
            <a:ext cx="4033800" cy="338580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握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 展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览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怦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492360" y="260280"/>
            <a:ext cx="1656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会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292720" y="0"/>
            <a:ext cx="158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读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u=4126160177,1025765466&amp;gp=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609480" y="4572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会说句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5800" y="16765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兴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仔细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亲切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紧紧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顺利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兴奋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赞许地   沉着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895480" y="3733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干什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天早晨，我冒着严寒，快步走到工业展览馆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想到马上就要见到邓爷爷，我又紧张又激动，心怦怦地跳个不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邓爷爷来啦！他带着慈祥的微笑向我走来。我连忙敬了个队礼，说：“邓爷爷，您好！”邓爷爷高兴地点点头，紧紧地握住我的手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看着邓爷爷和蔼可亲的样子，我紧张的心情一下子平静了下来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离开展览馆，我兴奋地走在回家的路上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2920" y="4106520"/>
            <a:ext cx="38149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邓小平"/>
          <p:cNvPicPr/>
          <p:nvPr/>
        </p:nvPicPr>
        <p:blipFill>
          <a:blip r:embed="rId1"/>
          <a:stretch/>
        </p:blipFill>
        <p:spPr>
          <a:xfrm>
            <a:off x="1446120" y="0"/>
            <a:ext cx="6438960" cy="588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2698920" y="6048360"/>
            <a:ext cx="367344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邓小平爷爷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1441440" cy="1366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755640" y="692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403280" y="242100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外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3708360" y="2565360"/>
            <a:ext cx="1440000" cy="1360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3808440" y="2492280"/>
            <a:ext cx="12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计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084720" y="2565360"/>
            <a:ext cx="1440000" cy="1360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5"/>
          <a:stretch/>
        </p:blipFill>
        <p:spPr>
          <a:xfrm>
            <a:off x="1258920" y="4437000"/>
            <a:ext cx="1440000" cy="136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172200" y="2492280"/>
            <a:ext cx="12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403280" y="436572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6"/>
          <a:stretch/>
        </p:blipFill>
        <p:spPr>
          <a:xfrm>
            <a:off x="3836880" y="4438800"/>
            <a:ext cx="1440000" cy="1360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3"/>
          <p:cNvSpPr/>
          <p:nvPr/>
        </p:nvSpPr>
        <p:spPr>
          <a:xfrm>
            <a:off x="3924360" y="4365720"/>
            <a:ext cx="12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楷体_GB2312"/>
              </a:rPr>
              <a:t>加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邓小平开会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>
            <a:hlinkClick r:id="rId2" action="ppaction://hlinksldjump"/>
          </p:cNvPr>
          <p:cNvSpPr/>
          <p:nvPr/>
        </p:nvSpPr>
        <p:spPr>
          <a:xfrm>
            <a:off x="815328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邓小平政协"/>
          <p:cNvPicPr/>
          <p:nvPr/>
        </p:nvPicPr>
        <p:blipFill>
          <a:blip r:embed="rId1"/>
          <a:stretch/>
        </p:blipFill>
        <p:spPr>
          <a:xfrm>
            <a:off x="1143000" y="1004760"/>
            <a:ext cx="6858000" cy="48466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>
            <a:hlinkClick r:id="rId2" action="ppaction://hlinksldjump"/>
          </p:cNvPr>
          <p:cNvSpPr/>
          <p:nvPr/>
        </p:nvSpPr>
        <p:spPr>
          <a:xfrm>
            <a:off x="80773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邓小平人民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8262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3">
            <a:hlinkClick r:id="rId2" action="ppaction://hlinksldjump"/>
          </p:cNvPr>
          <p:cNvSpPr/>
          <p:nvPr/>
        </p:nvSpPr>
        <p:spPr>
          <a:xfrm>
            <a:off x="822960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733_100142"/>
          <p:cNvPicPr/>
          <p:nvPr/>
        </p:nvPicPr>
        <p:blipFill>
          <a:blip r:embed="rId1"/>
          <a:stretch/>
        </p:blipFill>
        <p:spPr>
          <a:xfrm>
            <a:off x="762120" y="914400"/>
            <a:ext cx="785808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邓小平会见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>
            <a:hlinkClick r:id="rId2" action="ppaction://hlinksldjump"/>
          </p:cNvPr>
          <p:cNvSpPr/>
          <p:nvPr/>
        </p:nvSpPr>
        <p:spPr>
          <a:xfrm>
            <a:off x="80773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难忘历史"/>
          <p:cNvPicPr/>
          <p:nvPr/>
        </p:nvPicPr>
        <p:blipFill>
          <a:blip r:embed="rId1"/>
          <a:stretch/>
        </p:blipFill>
        <p:spPr>
          <a:xfrm>
            <a:off x="1397160" y="131436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">
            <a:hlinkClick r:id="rId2" action="ppaction://hlinksldjump"/>
          </p:cNvPr>
          <p:cNvSpPr/>
          <p:nvPr/>
        </p:nvSpPr>
        <p:spPr>
          <a:xfrm>
            <a:off x="80773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09:34:49Z</dcterms:created>
  <dc:creator>张堂栋</dc:creator>
  <dc:description/>
  <dc:language>en-US</dc:language>
  <cp:lastModifiedBy>User</cp:lastModifiedBy>
  <dcterms:modified xsi:type="dcterms:W3CDTF">2011-09-27T06:47:59Z</dcterms:modified>
  <cp:revision>77</cp:revision>
  <dc:subject/>
  <dc:title>PowerPoint 演示文稿</dc:title>
</cp:coreProperties>
</file>