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1123920" y="121932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123920" y="384624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112392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7260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123920" y="384624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72600" y="384624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1123920" y="121932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97120" y="121932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70320" y="121932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123920" y="384624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97120" y="384624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70320" y="384624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1123920" y="1219320"/>
            <a:ext cx="73152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1123920" y="1219320"/>
            <a:ext cx="7315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1123920" y="121932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72600" y="121932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7240" y="19080"/>
            <a:ext cx="86868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112392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72600" y="121932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123920" y="384624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1123920" y="1219320"/>
            <a:ext cx="73152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1123920" y="121932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7260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72600" y="384624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112392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7260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123920" y="384624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1123920" y="121932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123920" y="384624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112392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7260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123920" y="384624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72600" y="384624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1123920" y="121932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97120" y="121932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70320" y="121932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123920" y="384624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97120" y="384624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70320" y="3846240"/>
            <a:ext cx="235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1123920" y="1219320"/>
            <a:ext cx="73152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1123920" y="121932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72600" y="121932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7240" y="19080"/>
            <a:ext cx="86868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112392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72600" y="121932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123920" y="384624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1123920" y="1219320"/>
            <a:ext cx="35697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7260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72600" y="384624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240" y="-134280"/>
            <a:ext cx="86868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112392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72600" y="1219320"/>
            <a:ext cx="35697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123920" y="3846240"/>
            <a:ext cx="73152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240" y="19080"/>
            <a:ext cx="8686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1123920" y="1219320"/>
            <a:ext cx="7315200" cy="502920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800600" y="2905200"/>
            <a:ext cx="403848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rPr>
              <a:t>Click to edit the title text format</a:t>
            </a:r>
            <a:endParaRPr b="0" lang="en-US" sz="4000" spc="-1" strike="noStrike">
              <a:solidFill>
                <a:srgbClr val="4d4d4d"/>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rPr>
              <a:t>Click to edit the outline text format</a:t>
            </a:r>
            <a:endParaRPr b="0" lang="en-US" sz="2400" spc="-1" strike="noStrike">
              <a:solidFill>
                <a:srgbClr val="4d4d4d"/>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Microsoft Sans Serif"/>
              </a:rPr>
              <a:t>Second Outline Level</a:t>
            </a:r>
            <a:endParaRPr b="0" lang="en-US" sz="2800" spc="-1" strike="noStrike">
              <a:solidFill>
                <a:srgbClr val="4d4d4d"/>
              </a:solidFill>
              <a:latin typeface="Microsoft Sans Serif"/>
            </a:endParaRPr>
          </a:p>
          <a:p>
            <a:pPr lvl="2" marL="914400" algn="ctr">
              <a:spcBef>
                <a:spcPts val="601"/>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rPr>
              <a:t>Third Outline Level</a:t>
            </a:r>
            <a:endParaRPr b="0" lang="en-US" sz="2400" spc="-1" strike="noStrike">
              <a:solidFill>
                <a:srgbClr val="4d4d4d"/>
              </a:solidFill>
              <a:latin typeface="Microsoft Sans Serif"/>
            </a:endParaRPr>
          </a:p>
          <a:p>
            <a:pPr lvl="3" marL="1371600" algn="ctr">
              <a:spcBef>
                <a:spcPts val="499"/>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1828800" algn="ctr">
              <a:spcBef>
                <a:spcPts val="499"/>
              </a:spcBef>
              <a:buClr>
                <a:srgbClr val="4d4d4d"/>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4800600" y="3962160"/>
            <a:ext cx="4038480" cy="6858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ea typeface="宋体"/>
              </a:rPr>
              <a:t>Company name</a:t>
            </a:r>
            <a:endParaRPr b="0" lang="en-US" sz="2400" spc="-1" strike="noStrike">
              <a:solidFill>
                <a:srgbClr val="4d4d4d"/>
              </a:solidFill>
              <a:latin typeface="Microsoft Sans Serif"/>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
        <p:nvSpPr>
          <p:cNvPr id="77" name="PlaceHolder 2"/>
          <p:cNvSpPr>
            <a:spLocks noGrp="1"/>
          </p:cNvSpPr>
          <p:nvPr>
            <p:ph type="title"/>
          </p:nvPr>
        </p:nvSpPr>
        <p:spPr>
          <a:xfrm>
            <a:off x="4800600" y="2905200"/>
            <a:ext cx="403848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Name of presentation</a:t>
            </a:r>
            <a:endParaRPr b="0" lang="en-US" sz="4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1428840" y="1956960"/>
            <a:ext cx="6705360" cy="386892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p:txBody>
      </p:sp>
      <p:sp>
        <p:nvSpPr>
          <p:cNvPr id="79" name="PlaceHolder 2"/>
          <p:cNvSpPr>
            <a:spLocks noGrp="1"/>
          </p:cNvSpPr>
          <p:nvPr>
            <p:ph type="title"/>
          </p:nvPr>
        </p:nvSpPr>
        <p:spPr>
          <a:xfrm>
            <a:off x="57240" y="19080"/>
            <a:ext cx="86868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Slide master</a:t>
            </a:r>
            <a:endParaRPr b="0" lang="en-US" sz="4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1080" y="53352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81" name="PlaceHolder 2"/>
          <p:cNvSpPr>
            <a:spLocks noGrp="1"/>
          </p:cNvSpPr>
          <p:nvPr>
            <p:ph/>
          </p:nvPr>
        </p:nvSpPr>
        <p:spPr>
          <a:xfrm>
            <a:off x="1981080" y="17524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33:49Z</dcterms:created>
  <dc:creator>pc</dc:creator>
  <dc:description/>
  <dc:language>en-US</dc:language>
  <cp:lastModifiedBy>pc</cp:lastModifiedBy>
  <cp:lastPrinted>1899-12-30T00:00:00Z</cp:lastPrinted>
  <dcterms:modified xsi:type="dcterms:W3CDTF">2012-03-28T12:40:29Z</dcterms:modified>
  <cp:revision>1</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