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A91AFE-62BA-4B9E-A1E7-B8496D95E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0CF923-6BCF-403A-8FC0-467D3DBDF64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851-0675-40B6-8309-13B16B84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81D-6958-43F6-9638-9BE42881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719-4552-4F60-AE69-A7CEE7BF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33A-2A91-45CD-A7EF-9226BE95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52C-35E6-4794-901F-52FEB680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E1A-60B8-4349-8E43-348EBEB2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ADD-DD10-46C6-83AF-E4192606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0D6-ADC9-4CBF-B674-23F2C128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0E1-9D34-4175-AFE4-E06B77C4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73E-0C12-48CA-9E62-939DA52C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2F4E-D85D-4FAA-8F3B-EEE63D0B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F5C-0586-4BC0-936B-6B61BA7D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 hidden="1"/>
          <p:cNvSpPr/>
          <p:nvPr/>
        </p:nvSpPr>
        <p:spPr>
          <a:xfrm>
            <a:off x="0" y="1436040"/>
            <a:ext cx="9143640" cy="4536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outerShdw algn="tl" blurRad="31680" dir="5400000" dist="10080" rotWithShape="0">
              <a:srgbClr val="000000">
                <a:alpha val="60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" name="矩形 6" hidden="1"/>
          <p:cNvSpPr/>
          <p:nvPr/>
        </p:nvSpPr>
        <p:spPr>
          <a:xfrm>
            <a:off x="0" y="0"/>
            <a:ext cx="9143640" cy="143352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477120"/>
            <a:ext cx="2133360" cy="27396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2640600" y="6477120"/>
            <a:ext cx="5507280" cy="273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204400" y="6477120"/>
            <a:ext cx="73368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41B420-1D56-412B-A794-0ADBB686359E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矩形 4"/>
          <p:cNvSpPr/>
          <p:nvPr/>
        </p:nvSpPr>
        <p:spPr>
          <a:xfrm>
            <a:off x="0" y="1052640"/>
            <a:ext cx="9143640" cy="45360"/>
          </a:xfrm>
          <a:prstGeom prst="rect">
            <a:avLst/>
          </a:prstGeom>
          <a:solidFill>
            <a:schemeClr val="tx1">
              <a:lumMod val="75000"/>
              <a:alpha val="5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" name="TextBox 5"/>
          <p:cNvSpPr/>
          <p:nvPr/>
        </p:nvSpPr>
        <p:spPr>
          <a:xfrm>
            <a:off x="53964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首 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Box 6"/>
          <p:cNvSpPr/>
          <p:nvPr/>
        </p:nvSpPr>
        <p:spPr>
          <a:xfrm>
            <a:off x="1950840" y="512640"/>
            <a:ext cx="86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成 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Box 7"/>
          <p:cNvSpPr/>
          <p:nvPr/>
        </p:nvSpPr>
        <p:spPr>
          <a:xfrm>
            <a:off x="3434400" y="512640"/>
            <a:ext cx="93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启 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Box 8"/>
          <p:cNvSpPr/>
          <p:nvPr/>
        </p:nvSpPr>
        <p:spPr>
          <a:xfrm>
            <a:off x="498960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理 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Box 9"/>
          <p:cNvSpPr/>
          <p:nvPr/>
        </p:nvSpPr>
        <p:spPr>
          <a:xfrm>
            <a:off x="640116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温 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TextBox 10"/>
          <p:cNvSpPr/>
          <p:nvPr/>
        </p:nvSpPr>
        <p:spPr>
          <a:xfrm>
            <a:off x="781236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迷 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.xml"/><Relationship Id="rId3" Type="http://schemas.openxmlformats.org/officeDocument/2006/relationships/audio" Target="file:///E:/MUSIC/mondo%20bongo.mp3" TargetMode="External"/><Relationship Id="rId4" Type="http://schemas.microsoft.com/office/2007/relationships/media" Target="file:///E:/MUSIC/mondo%20bongo.mp3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8" descr="胶片滚动效果.gif"/>
          <p:cNvPicPr/>
          <p:nvPr/>
        </p:nvPicPr>
        <p:blipFill>
          <a:blip r:embed="rId1"/>
          <a:stretch/>
        </p:blipFill>
        <p:spPr>
          <a:xfrm>
            <a:off x="-540720" y="1124640"/>
            <a:ext cx="11085120" cy="5733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950840" y="512640"/>
            <a:ext cx="86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 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434400" y="512640"/>
            <a:ext cx="93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启 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98960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 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40116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温 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781236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迷 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动作按钮: 前进或下一项 8">
            <a:hlinkClick r:id="rId2" action="ppaction://hlinksldjump"/>
          </p:cNvPr>
          <p:cNvSpPr/>
          <p:nvPr/>
        </p:nvSpPr>
        <p:spPr>
          <a:xfrm>
            <a:off x="539640" y="476640"/>
            <a:ext cx="791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3" name="动作按钮: 前进或下一项 9"/>
          <p:cNvSpPr/>
          <p:nvPr/>
        </p:nvSpPr>
        <p:spPr>
          <a:xfrm>
            <a:off x="197964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4" name="动作按钮: 前进或下一项 10"/>
          <p:cNvSpPr/>
          <p:nvPr/>
        </p:nvSpPr>
        <p:spPr>
          <a:xfrm>
            <a:off x="3420000" y="476640"/>
            <a:ext cx="935640" cy="503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5" name="动作按钮: 前进或下一项 11"/>
          <p:cNvSpPr/>
          <p:nvPr/>
        </p:nvSpPr>
        <p:spPr>
          <a:xfrm>
            <a:off x="493200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6" name="动作按钮: 前进或下一项 12"/>
          <p:cNvSpPr/>
          <p:nvPr/>
        </p:nvSpPr>
        <p:spPr>
          <a:xfrm>
            <a:off x="637236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7" name="动作按钮: 前进或下一项 13"/>
          <p:cNvSpPr/>
          <p:nvPr/>
        </p:nvSpPr>
        <p:spPr>
          <a:xfrm>
            <a:off x="774036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8" name="动作按钮: 前进或下一项 14"/>
          <p:cNvSpPr/>
          <p:nvPr/>
        </p:nvSpPr>
        <p:spPr>
          <a:xfrm>
            <a:off x="539640" y="476640"/>
            <a:ext cx="791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771640" y="6858000"/>
            <a:ext cx="424800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那些与青春有关的影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d9d9d9"/>
                </a:solidFill>
                <a:latin typeface="Corbel"/>
                <a:ea typeface="微软雅黑"/>
              </a:rPr>
              <a:t>有些记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d9d9d9"/>
                </a:solidFill>
                <a:latin typeface="Corbel"/>
                <a:ea typeface="微软雅黑"/>
              </a:rPr>
              <a:t>伴随着我们成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d9d9d9"/>
                </a:solidFill>
                <a:latin typeface="Corbel"/>
                <a:ea typeface="微软雅黑"/>
              </a:rPr>
              <a:t>定格为美丽的画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d9d9d9"/>
                </a:solidFill>
                <a:latin typeface="Corbel"/>
                <a:ea typeface="微软雅黑"/>
              </a:rPr>
              <a:t>深烙在心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d9d9d9"/>
                </a:solidFill>
                <a:latin typeface="Corbel"/>
                <a:ea typeface="微软雅黑"/>
              </a:rPr>
              <a:t>在静寂的午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d9d9d9"/>
                </a:solidFill>
                <a:latin typeface="Corbel"/>
                <a:ea typeface="微软雅黑"/>
              </a:rPr>
              <a:t>散发着永远的芬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d9d9d9"/>
                </a:solidFill>
                <a:latin typeface="Corbel"/>
                <a:ea typeface="微软雅黑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d9d9d9"/>
                </a:solidFill>
                <a:latin typeface="Corbel"/>
                <a:ea typeface="微软雅黑"/>
              </a:rPr>
              <a:t>情窦初开的灼热与启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d9d9d9"/>
                </a:solidFill>
                <a:latin typeface="Corbel"/>
                <a:ea typeface="微软雅黑"/>
              </a:rPr>
              <a:t>亲情的温暖与感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d9d9d9"/>
                </a:solidFill>
                <a:latin typeface="Corbel"/>
                <a:ea typeface="微软雅黑"/>
              </a:rPr>
              <a:t>理想的坚守与放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d9d9d9"/>
                </a:solidFill>
                <a:latin typeface="Corbel"/>
                <a:ea typeface="微软雅黑"/>
              </a:rPr>
              <a:t>前途的渺茫与迷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d9d9d9"/>
                </a:solidFill>
                <a:latin typeface="Corbel"/>
                <a:ea typeface="微软雅黑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67640" y="5733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88067E-007 L -0.004 -0.73612 E">
                                      <p:cBhvr>
                                        <p:cTn id="6" dur="10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e6508eef4fd89aadce1b3ec5.jpg"/>
          <p:cNvPicPr/>
          <p:nvPr/>
        </p:nvPicPr>
        <p:blipFill>
          <a:blip r:embed="rId1"/>
          <a:stretch/>
        </p:blipFill>
        <p:spPr>
          <a:xfrm>
            <a:off x="3132000" y="1124640"/>
            <a:ext cx="3132000" cy="57330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" descr="p579729551.jpg"/>
          <p:cNvPicPr/>
          <p:nvPr/>
        </p:nvPicPr>
        <p:blipFill>
          <a:blip r:embed="rId2"/>
          <a:srcRect l="0" t="0" r="0" b="7162"/>
          <a:stretch/>
        </p:blipFill>
        <p:spPr>
          <a:xfrm>
            <a:off x="6293880" y="1124640"/>
            <a:ext cx="2849760" cy="57330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" descr="p578993182.jpg"/>
          <p:cNvPicPr/>
          <p:nvPr/>
        </p:nvPicPr>
        <p:blipFill>
          <a:blip r:embed="rId3"/>
          <a:srcRect l="0" t="0" r="0" b="7162"/>
          <a:stretch/>
        </p:blipFill>
        <p:spPr>
          <a:xfrm>
            <a:off x="0" y="1124640"/>
            <a:ext cx="3111120" cy="5733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53964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 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3434400" y="512640"/>
            <a:ext cx="93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启 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498960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 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40116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温 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781236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迷 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781236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迷 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动作按钮: 前进或下一项 13">
            <a:hlinkClick r:id="rId4" action="ppaction://hlinksldjump"/>
          </p:cNvPr>
          <p:cNvSpPr/>
          <p:nvPr/>
        </p:nvSpPr>
        <p:spPr>
          <a:xfrm>
            <a:off x="539640" y="476640"/>
            <a:ext cx="791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81" name="动作按钮: 前进或下一项 14">
            <a:hlinkClick r:id="rId5" action="ppaction://hlinksldjump"/>
          </p:cNvPr>
          <p:cNvSpPr/>
          <p:nvPr/>
        </p:nvSpPr>
        <p:spPr>
          <a:xfrm>
            <a:off x="3420000" y="476640"/>
            <a:ext cx="935640" cy="503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82" name="动作按钮: 前进或下一项 15">
            <a:hlinkClick r:id="rId6" action="ppaction://hlinksldjump"/>
          </p:cNvPr>
          <p:cNvSpPr/>
          <p:nvPr/>
        </p:nvSpPr>
        <p:spPr>
          <a:xfrm>
            <a:off x="493200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83" name="动作按钮: 前进或下一项 16">
            <a:hlinkClick r:id="rId7" action="ppaction://hlinksldjump"/>
          </p:cNvPr>
          <p:cNvSpPr/>
          <p:nvPr/>
        </p:nvSpPr>
        <p:spPr>
          <a:xfrm>
            <a:off x="637236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84" name="动作按钮: 前进或下一项 17">
            <a:hlinkClick r:id="rId8" action="ppaction://hlinksldjump"/>
          </p:cNvPr>
          <p:cNvSpPr/>
          <p:nvPr/>
        </p:nvSpPr>
        <p:spPr>
          <a:xfrm>
            <a:off x="197964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" descr="movie-malena-poster-mask.jpg"/>
          <p:cNvPicPr/>
          <p:nvPr/>
        </p:nvPicPr>
        <p:blipFill>
          <a:blip r:embed="rId1"/>
          <a:stretch/>
        </p:blipFill>
        <p:spPr>
          <a:xfrm>
            <a:off x="0" y="1124640"/>
            <a:ext cx="3923640" cy="5733000"/>
          </a:xfrm>
          <a:prstGeom prst="rect">
            <a:avLst/>
          </a:prstGeom>
          <a:ln w="0">
            <a:noFill/>
          </a:ln>
        </p:spPr>
      </p:pic>
      <p:sp>
        <p:nvSpPr>
          <p:cNvPr id="86" name="矩形 14"/>
          <p:cNvSpPr/>
          <p:nvPr/>
        </p:nvSpPr>
        <p:spPr>
          <a:xfrm>
            <a:off x="0" y="1052640"/>
            <a:ext cx="9143640" cy="45360"/>
          </a:xfrm>
          <a:prstGeom prst="rect">
            <a:avLst/>
          </a:prstGeom>
          <a:solidFill>
            <a:schemeClr val="tx1">
              <a:lumMod val="75000"/>
              <a:alpha val="5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pic>
        <p:nvPicPr>
          <p:cNvPr id="87" name="图片 4" descr="q2BtXebSOa_1148434730.jpg"/>
          <p:cNvPicPr/>
          <p:nvPr/>
        </p:nvPicPr>
        <p:blipFill>
          <a:blip r:embed="rId2"/>
          <a:stretch/>
        </p:blipFill>
        <p:spPr>
          <a:xfrm>
            <a:off x="4962600" y="1124640"/>
            <a:ext cx="4181040" cy="5733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4016880" y="1917000"/>
            <a:ext cx="738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西 西 里 的 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美 丽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传 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53964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 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950840" y="512640"/>
            <a:ext cx="86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 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498960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 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640116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温 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781236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迷 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781236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迷 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动作按钮: 前进或下一项 15">
            <a:hlinkClick r:id="rId3" action="ppaction://hlinksldjump"/>
          </p:cNvPr>
          <p:cNvSpPr/>
          <p:nvPr/>
        </p:nvSpPr>
        <p:spPr>
          <a:xfrm>
            <a:off x="539640" y="476640"/>
            <a:ext cx="791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96" name="动作按钮: 前进或下一项 16">
            <a:hlinkClick r:id="rId4" action="ppaction://hlinksldjump"/>
          </p:cNvPr>
          <p:cNvSpPr/>
          <p:nvPr/>
        </p:nvSpPr>
        <p:spPr>
          <a:xfrm>
            <a:off x="3420000" y="476640"/>
            <a:ext cx="935640" cy="503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97" name="动作按钮: 前进或下一项 17">
            <a:hlinkClick r:id="rId5" action="ppaction://hlinksldjump"/>
          </p:cNvPr>
          <p:cNvSpPr/>
          <p:nvPr/>
        </p:nvSpPr>
        <p:spPr>
          <a:xfrm>
            <a:off x="493200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98" name="动作按钮: 前进或下一项 18">
            <a:hlinkClick r:id="rId6" action="ppaction://hlinksldjump"/>
          </p:cNvPr>
          <p:cNvSpPr/>
          <p:nvPr/>
        </p:nvSpPr>
        <p:spPr>
          <a:xfrm>
            <a:off x="637236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99" name="动作按钮: 前进或下一项 19">
            <a:hlinkClick r:id="rId7" action="ppaction://hlinksldjump"/>
          </p:cNvPr>
          <p:cNvSpPr/>
          <p:nvPr/>
        </p:nvSpPr>
        <p:spPr>
          <a:xfrm>
            <a:off x="1979640" y="476640"/>
            <a:ext cx="791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5fb320db769f7c0fd1164e20.jpg"/>
          <p:cNvPicPr/>
          <p:nvPr/>
        </p:nvPicPr>
        <p:blipFill>
          <a:blip r:embed="rId1"/>
          <a:stretch/>
        </p:blipFill>
        <p:spPr>
          <a:xfrm>
            <a:off x="1043640" y="1142280"/>
            <a:ext cx="4067640" cy="57153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" descr="p507948872.jpg"/>
          <p:cNvPicPr/>
          <p:nvPr/>
        </p:nvPicPr>
        <p:blipFill>
          <a:blip r:embed="rId2"/>
          <a:stretch/>
        </p:blipFill>
        <p:spPr>
          <a:xfrm>
            <a:off x="5162400" y="1143000"/>
            <a:ext cx="3981240" cy="57146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79640" y="1989000"/>
            <a:ext cx="73836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97" strike="noStrike">
                <a:solidFill>
                  <a:srgbClr val="ff0000"/>
                </a:solidFill>
                <a:latin typeface="微软雅黑"/>
                <a:ea typeface="微软雅黑"/>
              </a:rPr>
              <a:t>十 七 岁 </a:t>
            </a:r>
            <a:r>
              <a:rPr b="1" lang="zh-CN" sz="2800" spc="97" strike="noStrike">
                <a:solidFill>
                  <a:srgbClr val="ffffff"/>
                </a:solidFill>
                <a:latin typeface="微软雅黑"/>
                <a:ea typeface="微软雅黑"/>
              </a:rPr>
              <a:t>的 单 车</a:t>
            </a:r>
            <a:r>
              <a:rPr b="1" lang="zh-CN" sz="1800" spc="-1" strike="noStrike">
                <a:solidFill>
                  <a:srgbClr val="ffffff"/>
                </a:solidFill>
                <a:latin typeface="Corbel"/>
                <a:ea typeface="微软雅黑"/>
              </a:rPr>
              <a:t>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3964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 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950840" y="512640"/>
            <a:ext cx="86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 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3434400" y="512640"/>
            <a:ext cx="93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启 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640116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温 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781236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迷 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1950840" y="512640"/>
            <a:ext cx="86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 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781236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迷 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动作按钮: 前进或下一项 13">
            <a:hlinkClick r:id="rId3" action="ppaction://hlinksldjump"/>
          </p:cNvPr>
          <p:cNvSpPr/>
          <p:nvPr/>
        </p:nvSpPr>
        <p:spPr>
          <a:xfrm>
            <a:off x="539640" y="476640"/>
            <a:ext cx="791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11" name="动作按钮: 前进或下一项 14">
            <a:hlinkClick r:id="rId4" action="ppaction://hlinksldjump"/>
          </p:cNvPr>
          <p:cNvSpPr/>
          <p:nvPr/>
        </p:nvSpPr>
        <p:spPr>
          <a:xfrm>
            <a:off x="3420000" y="476640"/>
            <a:ext cx="935640" cy="503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12" name="动作按钮: 前进或下一项 15">
            <a:hlinkClick r:id="rId5" action="ppaction://hlinksldjump"/>
          </p:cNvPr>
          <p:cNvSpPr/>
          <p:nvPr/>
        </p:nvSpPr>
        <p:spPr>
          <a:xfrm>
            <a:off x="493200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13" name="动作按钮: 前进或下一项 16">
            <a:hlinkClick r:id="rId6" action="ppaction://hlinksldjump"/>
          </p:cNvPr>
          <p:cNvSpPr/>
          <p:nvPr/>
        </p:nvSpPr>
        <p:spPr>
          <a:xfrm>
            <a:off x="637236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2" descr="p825925971.jpg"/>
          <p:cNvPicPr/>
          <p:nvPr/>
        </p:nvPicPr>
        <p:blipFill>
          <a:blip r:embed="rId1"/>
          <a:stretch/>
        </p:blipFill>
        <p:spPr>
          <a:xfrm>
            <a:off x="6130440" y="1124640"/>
            <a:ext cx="3013200" cy="57330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" descr="p510861057.jpg"/>
          <p:cNvPicPr/>
          <p:nvPr/>
        </p:nvPicPr>
        <p:blipFill>
          <a:blip r:embed="rId2"/>
          <a:stretch/>
        </p:blipFill>
        <p:spPr>
          <a:xfrm>
            <a:off x="2988000" y="1124640"/>
            <a:ext cx="3120120" cy="573300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5" descr="p825929568.jpg"/>
          <p:cNvPicPr/>
          <p:nvPr/>
        </p:nvPicPr>
        <p:blipFill>
          <a:blip r:embed="rId3"/>
          <a:stretch/>
        </p:blipFill>
        <p:spPr>
          <a:xfrm>
            <a:off x="0" y="1124640"/>
            <a:ext cx="2969640" cy="5733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53964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 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950840" y="512640"/>
            <a:ext cx="86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 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3434400" y="512640"/>
            <a:ext cx="93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启 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498960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 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81236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迷 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1950840" y="512640"/>
            <a:ext cx="86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 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动作按钮: 前进或下一项 14">
            <a:hlinkClick r:id="rId4" action="ppaction://hlinksldjump"/>
          </p:cNvPr>
          <p:cNvSpPr/>
          <p:nvPr/>
        </p:nvSpPr>
        <p:spPr>
          <a:xfrm>
            <a:off x="539640" y="476640"/>
            <a:ext cx="791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24" name="动作按钮: 前进或下一项 15">
            <a:hlinkClick r:id="rId5" action="ppaction://hlinksldjump"/>
          </p:cNvPr>
          <p:cNvSpPr/>
          <p:nvPr/>
        </p:nvSpPr>
        <p:spPr>
          <a:xfrm>
            <a:off x="3420000" y="476640"/>
            <a:ext cx="935640" cy="503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25" name="动作按钮: 前进或下一项 16">
            <a:hlinkClick r:id="rId6" action="ppaction://hlinksldjump"/>
          </p:cNvPr>
          <p:cNvSpPr/>
          <p:nvPr/>
        </p:nvSpPr>
        <p:spPr>
          <a:xfrm>
            <a:off x="493200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26" name="动作按钮: 前进或下一项 17">
            <a:hlinkClick r:id="rId7" action="ppaction://hlinksldjump"/>
          </p:cNvPr>
          <p:cNvSpPr/>
          <p:nvPr/>
        </p:nvSpPr>
        <p:spPr>
          <a:xfrm>
            <a:off x="637236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27" name="动作按钮: 前进或下一项 18">
            <a:hlinkClick r:id="rId8" action="ppaction://hlinksldjump"/>
          </p:cNvPr>
          <p:cNvSpPr/>
          <p:nvPr/>
        </p:nvSpPr>
        <p:spPr>
          <a:xfrm>
            <a:off x="774036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p936214561.jpg"/>
          <p:cNvPicPr/>
          <p:nvPr/>
        </p:nvPicPr>
        <p:blipFill>
          <a:blip r:embed="rId1"/>
          <a:stretch/>
        </p:blipFill>
        <p:spPr>
          <a:xfrm>
            <a:off x="0" y="1143000"/>
            <a:ext cx="4019040" cy="57146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p715502643.jpg"/>
          <p:cNvPicPr/>
          <p:nvPr/>
        </p:nvPicPr>
        <p:blipFill>
          <a:blip r:embed="rId2"/>
          <a:stretch/>
        </p:blipFill>
        <p:spPr>
          <a:xfrm>
            <a:off x="5076000" y="1124640"/>
            <a:ext cx="4067640" cy="5733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"/>
          <p:cNvSpPr/>
          <p:nvPr/>
        </p:nvSpPr>
        <p:spPr>
          <a:xfrm>
            <a:off x="4212000" y="1700640"/>
            <a:ext cx="79992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　　　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53964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 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950840" y="512640"/>
            <a:ext cx="86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 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3434400" y="512640"/>
            <a:ext cx="93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启 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498960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 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6401160" y="51264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温 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1950840" y="512640"/>
            <a:ext cx="86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 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动作按钮: 前进或下一项 13">
            <a:hlinkClick r:id="rId3" action="ppaction://hlinksldjump"/>
          </p:cNvPr>
          <p:cNvSpPr/>
          <p:nvPr/>
        </p:nvSpPr>
        <p:spPr>
          <a:xfrm>
            <a:off x="539640" y="476640"/>
            <a:ext cx="791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38" name="动作按钮: 前进或下一项 14">
            <a:hlinkClick r:id="rId4" action="ppaction://hlinksldjump"/>
          </p:cNvPr>
          <p:cNvSpPr/>
          <p:nvPr/>
        </p:nvSpPr>
        <p:spPr>
          <a:xfrm>
            <a:off x="3420000" y="476640"/>
            <a:ext cx="935640" cy="503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39" name="动作按钮: 前进或下一项 15">
            <a:hlinkClick r:id="rId5" action="ppaction://hlinksldjump"/>
          </p:cNvPr>
          <p:cNvSpPr/>
          <p:nvPr/>
        </p:nvSpPr>
        <p:spPr>
          <a:xfrm>
            <a:off x="493200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40" name="动作按钮: 前进或下一项 16">
            <a:hlinkClick r:id="rId6" action="ppaction://hlinksldjump"/>
          </p:cNvPr>
          <p:cNvSpPr/>
          <p:nvPr/>
        </p:nvSpPr>
        <p:spPr>
          <a:xfrm>
            <a:off x="637236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41" name="动作按钮: 前进或下一项 17">
            <a:hlinkClick r:id="rId7" action="ppaction://hlinksldjump"/>
          </p:cNvPr>
          <p:cNvSpPr/>
          <p:nvPr/>
        </p:nvSpPr>
        <p:spPr>
          <a:xfrm>
            <a:off x="7740360" y="476640"/>
            <a:ext cx="863640" cy="431640"/>
          </a:xfrm>
          <a:prstGeom prst="actionButtonForwardNex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模块">
  <a:themeElements>
    <a:clrScheme name="都市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odule</Template>
  <TotalTime>242</TotalTime>
  <Application>LibreOffice/7.4.7.2$Linux_X86_64 LibreOffice_project/40$Build-2</Application>
  <AppVersion>15.0000</AppVersion>
  <Words>140</Words>
  <Paragraphs>5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07:48:11Z</dcterms:created>
  <dc:creator>kong</dc:creator>
  <dc:description/>
  <dc:language>en-US</dc:language>
  <cp:lastModifiedBy>kong</cp:lastModifiedBy>
  <dcterms:modified xsi:type="dcterms:W3CDTF">2011-08-18T07:03:10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</vt:r8>
  </property>
  <property fmtid="{D5CDD505-2E9C-101B-9397-08002B2CF9AE}" pid="4" name="PresentationFormat">
    <vt:lpwstr>全屏显示(4:3)</vt:lpwstr>
  </property>
  <property fmtid="{D5CDD505-2E9C-101B-9397-08002B2CF9AE}" pid="5" name="Slides">
    <vt:r8>6</vt:r8>
  </property>
</Properties>
</file>