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788-FCDC-44B6-9DCC-F75AE472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760-A73F-4420-9E57-46119675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787-DCB2-4790-AF3B-4390C793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1F0-5859-4EF8-9BC3-B218BE9B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D8F-0767-4FC1-9F18-8F2FAB2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609-5EBA-4CAE-89B0-B85E5AA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A71-BC45-4C16-AD3C-FB88CA9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CBA-E3C2-47EE-995C-DE4FB10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7FF-2415-4FB0-A456-5B3E766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739-FE6A-4AA8-863B-082254B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CD4-BCBE-40FD-A42A-CB6972DF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017-B8B2-46E4-BFC8-824DA6E7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A45-36DF-4CD3-9B5C-1A3F7D28D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2700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99"/>
                </a:solidFill>
                <a:latin typeface="Arial"/>
                <a:ea typeface="楷体_GB2312"/>
              </a:rPr>
              <a:t>课前准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2565000"/>
            <a:ext cx="64803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课  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导学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双色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工具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阎维文-母亲.mp3" descr="阎维文-母亲"/>
          <p:cNvPicPr/>
          <p:nvPr/>
        </p:nvPicPr>
        <p:blipFill>
          <a:blip r:embed="rId3"/>
          <a:stretch/>
        </p:blipFill>
        <p:spPr>
          <a:xfrm>
            <a:off x="8172360" y="5734080"/>
            <a:ext cx="865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924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讨论探究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3480" y="3644640"/>
            <a:ext cx="9104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【互动程序方案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两人小对子：相互检查自研成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红笔给对方评定等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子间交流自学时遇到的疑难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组互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长主持组内的互动，重点交流内容——文章的写法、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务分工：①抽签：明确各人的展示任务。②预演：围绕展示任务，参照展示方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化展示内容，分派展示任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组内展示预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81080" y="1197000"/>
            <a:ext cx="734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中遇到的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学案【自研自探导学】部分的问题及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展示质疑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4797360"/>
            <a:ext cx="90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【互动展示方案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有“朗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疑——对抗——总结”等完流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点评同学点评思路方法，应该注意的问题，力争进行必要的联系拓展，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其他同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倾听、积极思考、记好笔记、大胆质疑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8000" y="1486080"/>
          <a:ext cx="8783640" cy="3504960"/>
        </p:xfrm>
        <a:graphic>
          <a:graphicData uri="http://schemas.openxmlformats.org/drawingml/2006/table">
            <a:tbl>
              <a:tblPr/>
              <a:tblGrid>
                <a:gridCol w="4392720"/>
                <a:gridCol w="43909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0099"/>
                          </a:solidFill>
                          <a:latin typeface="楷体_GB2312"/>
                          <a:ea typeface="楷体_GB2312"/>
                        </a:rPr>
                        <a:t>探 究 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0099"/>
                          </a:solidFill>
                          <a:latin typeface="Calibri"/>
                          <a:ea typeface="楷体_GB2312"/>
                        </a:rPr>
                        <a:t>展示小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0099"/>
                          </a:solidFill>
                          <a:latin typeface="Calibri"/>
                          <a:ea typeface="楷体_GB2312"/>
                        </a:rPr>
                        <a:t>探究点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0099"/>
                          </a:solidFill>
                          <a:latin typeface="Calibri"/>
                          <a:ea typeface="楷体_GB2312"/>
                        </a:rPr>
                        <a:t>探究点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0099"/>
                          </a:solidFill>
                          <a:latin typeface="Calibri"/>
                          <a:ea typeface="楷体_GB2312"/>
                        </a:rPr>
                        <a:t>探究点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0099"/>
                          </a:solidFill>
                          <a:latin typeface="Calibri"/>
                          <a:ea typeface="楷体_GB2312"/>
                        </a:rPr>
                        <a:t>拓展延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拓展延伸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幸福的家庭是美好的温馨的，幸福家庭的生活细节也渗透着浓浓的亲情，真切感人的关爱。它不仅在莫怀戚的家中，它也在我们每一个人的家中，在我们每一个人的心中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说你家中的亲情故事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左右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检测矫正：（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A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60" y="981000"/>
            <a:ext cx="9001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根据拼音写汉字或给划线的字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ēn qí(     )   xìn fú (     )  chāi sàn(      )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霎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)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芽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母亲”开始想走大路，后来为什么改变主意走小路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因为小路有意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玩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因为孙子要走小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她怕儿子为难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因有儿子在身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随时背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填入下列句子横线上的词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恰当的一项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母亲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了一个严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亲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点点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去拿外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南方初春的田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块小块的新绿随意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度 无奈 生长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拖 高兴  覆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熬 信服 铺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活 犹豫  滋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检测矫正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198080"/>
            <a:ext cx="90583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给加粗字注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步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)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咕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  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)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芽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)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波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粼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母亲改变主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明了这个家庭的关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老人总爱迁就孙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原则性不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老人本来没有什么主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总爱听别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表现了祖孙三代互相谦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团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谐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母亲是老一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子是新一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们代表了人类的过去和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在下面的横线上补上合适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南方的初春的田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块小块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随意地铺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的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树上的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也密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田里的冬水也        起着水泡。这一切都使人想着一样东西——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65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归纳小结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学科班长回扣目标，并归纳总结本节所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6720" y="1486080"/>
            <a:ext cx="822960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国哲学家培根曾说过：“哺育子女是动物也有的本能，赡养父母才是人类的文化之举，这个，全世界数中国人做得最好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468360" y="3573360"/>
            <a:ext cx="84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61800" y="819000"/>
            <a:ext cx="24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教师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176400" y="1628280"/>
            <a:ext cx="9104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家，一个多么温馨的字眼，它是一个避风的港湾，一个幸福的摇篮。它给了我们无尽的关爱和温情，也给我们展示了一个充满亲情和关爱的空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而和亲人一起散步，更是一个幸福的时刻。今天，就让我们跟随莫怀戚一家一起散步，去感受家庭里浓浓的亲情。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Z.xx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秋天的怀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史铁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Administrator\桌面\992422550196.JPG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1763640" y="11970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散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莫怀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解读目标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了解作者、背景及词的有关知识，理解积累“熬、分歧、粼粼”等词语。能够有感情的朗读这篇文章，理解课文的主要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 通过合作探究，品味文章精彩词句，抓住人物的动作、神态、语言体会人物的内心世界，学习作者以小见大的写作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激情投入，阳光参与，培养尊老爱幼、珍视亲情、珍爱生命的情感，领悟文章蕴涵的深沉无私的母爱，联系生活实际，激发感恩情怀。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Zx.x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997440" y="1270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419640" y="609480"/>
            <a:ext cx="33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作家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968080" y="105480"/>
            <a:ext cx="18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莫怀戚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95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年出生，男，汉族，重庆人，当代作家。现为重庆师范大学中文系教授。著有系列小说集《大律师现实录》，中篇小说《诗礼人家》曾获“四川文学”奖。散文《散步》和《家园落日》被选入中学语文课本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79280" y="332856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莫怀戚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951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年出生，男，汉族，重庆人，当代作家。现为重庆师范大学中文系教授。著有系列小说集《大律师现实录》，中篇小说《诗礼人家》曾获“四川文学”奖。散文《散步》和《家园落日》被选入中学语文课本。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.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写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其写作契机有两个：一个是作者全家三代四口人，在初春时，确实在南方的田野散过步，有了一定的感慨。另一个是作者与美国汉学家柯尔特先生相识后，就中西方文化的异同进行过交谈，柯尔特对中国文化中的“孝”大加赞赏，这就引起了作者理性的感慨，在感慨之余，写下了此文。</a:t>
            </a:r>
            <a:r>
              <a:rPr b="0" lang="en-US" sz="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Zx..x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学情检测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给下列划线的字注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步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)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咕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  分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)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芽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  )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波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粼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出划线字注音正确的一项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nèn )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 tiào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sà 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  依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wè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dūn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bè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粼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粼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lín)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chā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释下列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信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信并佩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委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受到不应有的指责或待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里难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各得其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每个人或事物都得到合适的安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预习梳理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顾自研情况，巩固自学成果，并明确知道自己的疑难与困惑。强化记忆自测中出错的知识点，加深理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10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全新硬笔楷书简"/>
              </a:rPr>
              <a:t>熟读课文，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09440" y="19908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把握脉落，概括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6:01Z</dcterms:created>
  <dc:creator>微软系统</dc:creator>
  <dc:description>3edu教育网【www.3edu.net】</dc:description>
  <cp:keywords>3edu教育网【www.3edu.net】教学课件、教学试题、教案学案、教学素材</cp:keywords>
  <dc:language>en-US</dc:language>
  <cp:lastModifiedBy>微软系统</cp:lastModifiedBy>
  <dcterms:modified xsi:type="dcterms:W3CDTF">2015-09-09T02:20:30Z</dcterms:modified>
  <cp:revision>10</cp:revision>
  <dc:subject>3edu教育网【www.3edu.net】教师助手，学生帮手，家长朋友，三星数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