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AD4-DB7D-4EE6-9D57-490F53E8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AB7-4889-4EC7-8CF1-C35E4144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1B4-CDB2-4064-8EB9-DA7A24D2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9FD-DCAC-40C0-B700-C30EEED5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581-739F-4BCF-8A0B-5C510ED2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321-B0C5-4486-B9E4-76CAC716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B20-F011-47AB-A2B5-C1A10F6D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3A3-3545-4558-9732-66E0B8B0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998-B61F-4583-896D-8652B264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BF4-FF05-4AD5-9AB4-BD0838A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11D-2FC9-4A33-B8E2-4D7DD21A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4C4-29BB-45F9-91CB-4AB8EB5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4652-52E7-4F2A-9FA2-F8428C9E035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278100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265f00"/>
              </a:solidFill>
              <a:latin typeface="Georgi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5f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5f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2888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5f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5f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5:41:59Z</dcterms:created>
  <dc:creator/>
  <dc:description/>
  <dc:language>en-US</dc:language>
  <cp:lastModifiedBy>微软用户</cp:lastModifiedBy>
  <dcterms:modified xsi:type="dcterms:W3CDTF">2014-09-19T01:23:2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