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media/image8.wmf" ContentType="image/x-wmf"/>
  <Override PartName="/ppt/media/image9.wmf" ContentType="image/x-wmf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1D49-4810-44A6-9197-E6E8000B3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94CC-45D9-428D-A192-93D66925A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9CFF-CCF3-40D6-B6D1-B31C57B1D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275C-8405-4508-8AAE-A9C4B6400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8E6DD-069A-4CD1-8A72-9BF7CA46A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40B1A-8E0E-41B4-9104-8FF4406EE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C9226-2BBB-4398-BA5A-9754F15AB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A600A-C049-4D14-ABF1-F3ABE7166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924E1-14A4-4AFC-8774-5C211F148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E2423-D0CA-4B13-88FD-F3B009749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FC1BA-DB0D-48DE-AC43-859E413D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0F1B-E548-4F3F-B173-464A59A1B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57AA6-D171-4156-8454-117DA457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36979-8EED-482D-8722-698524FD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0ECDD-AB98-47AC-B666-6F497A18F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5D520-C972-456B-9576-DA48BE4BE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5CE2A-BA6D-4BF3-A582-B44D8830B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CB094-A306-4314-BD05-44676BCFA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A7F98-00EC-4E97-BE45-D217273B0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0AEFA-64FA-4FEC-A322-31DFF21A4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402FF-A74A-40D6-8084-FBC9F7B90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B4140-C99D-44F0-A1AC-DC0612DD4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7F44-B7A9-4F06-9740-65C0D57EA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2E0C7-C4CA-43F9-B65F-6713D7C91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3B44D-2B16-4EA5-9172-B5786346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46358-05BC-4F3C-A441-D629FBB6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EE602-37CC-42B5-93A5-A562602D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4F31D-3925-4A52-BB34-C9DDD3BAD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85914-D3F5-48D7-9536-6A6A0249F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AAFDE-2081-4830-A701-83D19F956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DFEB-D3B8-4683-9F4B-FF3BC2B76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29E5-3689-4F10-B63C-1109C4E63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37A2-4FC5-4F47-88D7-FF7A36DB4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208F-38C2-4255-944E-7E5051BB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F9E9-9D01-4216-9281-8BAB354E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BAF7-373B-4D97-808A-7EF0BC3B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67E6F-3C71-4BDE-92DB-21B06645C59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6" descr="strtegic1"/>
          <p:cNvPicPr/>
          <p:nvPr/>
        </p:nvPicPr>
        <p:blipFill>
          <a:blip r:embed="rId3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186AD-9541-4C8B-B691-F79092F48DB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6" descr="strtegic1"/>
          <p:cNvPicPr/>
          <p:nvPr/>
        </p:nvPicPr>
        <p:blipFill>
          <a:blip r:embed="rId3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3D961-CF08-4F30-8271-6521E14D50A2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2000" y="1402920"/>
            <a:ext cx="5561280" cy="11257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f5f5f"/>
                </a:solidFill>
                <a:latin typeface="Times New Roman"/>
              </a:rPr>
              <a:t>年度服务工作总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753080" y="2530440"/>
            <a:ext cx="396072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f5f5f"/>
                </a:solidFill>
                <a:latin typeface="Times New Roman"/>
              </a:rPr>
              <a:t>请添加文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工作中存在的问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445400" y="1943280"/>
            <a:ext cx="7376400" cy="4006440"/>
            <a:chOff x="1445400" y="1943280"/>
            <a:chExt cx="7376400" cy="4006440"/>
          </a:xfrm>
        </p:grpSpPr>
        <p:sp>
          <p:nvSpPr>
            <p:cNvPr id="200" name="Rectangle 4"/>
            <p:cNvSpPr/>
            <p:nvPr/>
          </p:nvSpPr>
          <p:spPr>
            <a:xfrm>
              <a:off x="1593720" y="2898360"/>
              <a:ext cx="7080120" cy="213300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Rectangle 5"/>
            <p:cNvSpPr/>
            <p:nvPr/>
          </p:nvSpPr>
          <p:spPr>
            <a:xfrm rot="5400000">
              <a:off x="2763000" y="1643040"/>
              <a:ext cx="1454760" cy="2973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Rectangle 6"/>
            <p:cNvSpPr/>
            <p:nvPr/>
          </p:nvSpPr>
          <p:spPr>
            <a:xfrm>
              <a:off x="2007360" y="1943280"/>
              <a:ext cx="2973240" cy="41328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WordArt 7"/>
            <p:cNvSpPr txBox="1"/>
            <p:nvPr/>
          </p:nvSpPr>
          <p:spPr>
            <a:xfrm>
              <a:off x="2980440" y="2035080"/>
              <a:ext cx="1023120" cy="21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索赔周期长</a:t>
              </a:r>
              <a:endParaRPr b="0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  <p:sp>
          <p:nvSpPr>
            <p:cNvPr id="204" name="Rectangle 8"/>
            <p:cNvSpPr/>
            <p:nvPr/>
          </p:nvSpPr>
          <p:spPr>
            <a:xfrm>
              <a:off x="2007360" y="2420640"/>
              <a:ext cx="2986920" cy="13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zh-CN" sz="1200" spc="-1" strike="noStrike">
                  <a:solidFill>
                    <a:srgbClr val="000000"/>
                  </a:solidFill>
                  <a:latin typeface="Times New Roman"/>
                </a:rPr>
                <a:t>现阶段，索赔方面经常脱节，索赔件管理欠缺。望在新的一年里，各部门能够积极配合、协调索赔工作的整体运作，不在发生以厂家来人需要人陪同为由，拖拉索赔工作的进行的行为。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Rectangle 9"/>
            <p:cNvSpPr/>
            <p:nvPr/>
          </p:nvSpPr>
          <p:spPr>
            <a:xfrm rot="5400000">
              <a:off x="2763720" y="3736080"/>
              <a:ext cx="1453680" cy="2973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Rectangle 10"/>
            <p:cNvSpPr/>
            <p:nvPr/>
          </p:nvSpPr>
          <p:spPr>
            <a:xfrm>
              <a:off x="2007360" y="4039920"/>
              <a:ext cx="2973240" cy="41436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cc00"/>
                </a:gs>
              </a:gsLst>
              <a:lin ang="8100000"/>
            </a:gra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WordArt 11"/>
            <p:cNvSpPr txBox="1"/>
            <p:nvPr/>
          </p:nvSpPr>
          <p:spPr>
            <a:xfrm>
              <a:off x="2980440" y="4132800"/>
              <a:ext cx="1023120" cy="21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服务人员技能问题</a:t>
              </a:r>
              <a:endParaRPr b="0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  <p:sp>
          <p:nvSpPr>
            <p:cNvPr id="208" name="Rectangle 12"/>
            <p:cNvSpPr/>
            <p:nvPr/>
          </p:nvSpPr>
          <p:spPr>
            <a:xfrm>
              <a:off x="2007360" y="4517640"/>
              <a:ext cx="2986920" cy="13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zh-CN" sz="1200" spc="-1" strike="noStrike">
                  <a:solidFill>
                    <a:srgbClr val="000000"/>
                  </a:solidFill>
                  <a:latin typeface="Times New Roman"/>
                </a:rPr>
                <a:t>对于服务人员技能问题，我分公司正积极组织学习。在明年能够达成</a:t>
              </a:r>
              <a:r>
                <a:rPr b="1" lang="zh-CN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zh-CN" sz="1200" spc="-1" strike="noStrike">
                  <a:solidFill>
                    <a:srgbClr val="000000"/>
                  </a:solidFill>
                  <a:latin typeface="Times New Roman"/>
                </a:rPr>
                <a:t>级服务人员为零的突破。现阶段，我分公司有</a:t>
              </a:r>
              <a:r>
                <a:rPr b="1" lang="zh-CN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1200" spc="-1" strike="noStrike">
                  <a:solidFill>
                    <a:srgbClr val="000000"/>
                  </a:solidFill>
                  <a:latin typeface="Times New Roman"/>
                </a:rPr>
                <a:t>名现场服务即将从山东学成归来，期待他的表现！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Rectangle 13"/>
            <p:cNvSpPr/>
            <p:nvPr/>
          </p:nvSpPr>
          <p:spPr>
            <a:xfrm rot="5400000">
              <a:off x="6028920" y="1643040"/>
              <a:ext cx="1454760" cy="2973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Rectangle 14"/>
            <p:cNvSpPr/>
            <p:nvPr/>
          </p:nvSpPr>
          <p:spPr>
            <a:xfrm>
              <a:off x="5273280" y="1943280"/>
              <a:ext cx="2973240" cy="41328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cc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WordArt 15"/>
            <p:cNvSpPr txBox="1"/>
            <p:nvPr/>
          </p:nvSpPr>
          <p:spPr>
            <a:xfrm>
              <a:off x="6246360" y="2035080"/>
              <a:ext cx="1023120" cy="21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配件价格满意度低</a:t>
              </a:r>
              <a:endParaRPr b="0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  <p:sp>
          <p:nvSpPr>
            <p:cNvPr id="212" name="Rectangle 16"/>
            <p:cNvSpPr/>
            <p:nvPr/>
          </p:nvSpPr>
          <p:spPr>
            <a:xfrm>
              <a:off x="5273280" y="2420640"/>
              <a:ext cx="2986920" cy="13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zh-CN" sz="1200" spc="-1" strike="noStrike">
                  <a:solidFill>
                    <a:srgbClr val="000000"/>
                  </a:solidFill>
                  <a:latin typeface="Times New Roman"/>
                </a:rPr>
                <a:t>在冬季走访中填写的用户满意度调查表显示，我区域大部分客户对于配件价格不满意。配件价格高，到货时间长，是客户不满意的主要原因。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Rectangle 17"/>
            <p:cNvSpPr/>
            <p:nvPr/>
          </p:nvSpPr>
          <p:spPr>
            <a:xfrm rot="5400000">
              <a:off x="6029640" y="3736080"/>
              <a:ext cx="1453680" cy="2973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Rectangle 18"/>
            <p:cNvSpPr/>
            <p:nvPr/>
          </p:nvSpPr>
          <p:spPr>
            <a:xfrm>
              <a:off x="5273280" y="4039920"/>
              <a:ext cx="2973240" cy="41436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cc00"/>
                </a:gs>
              </a:gsLst>
              <a:lin ang="8100000"/>
            </a:gra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WordArt 19"/>
            <p:cNvSpPr txBox="1"/>
            <p:nvPr/>
          </p:nvSpPr>
          <p:spPr>
            <a:xfrm>
              <a:off x="6246360" y="4132800"/>
              <a:ext cx="1023120" cy="21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增加修理车间</a:t>
              </a:r>
              <a:endParaRPr b="0" lang="en-US" sz="2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  <p:sp>
          <p:nvSpPr>
            <p:cNvPr id="216" name="Rectangle 20"/>
            <p:cNvSpPr/>
            <p:nvPr/>
          </p:nvSpPr>
          <p:spPr>
            <a:xfrm>
              <a:off x="5273280" y="4517640"/>
              <a:ext cx="2986920" cy="13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zh-CN" sz="1200" spc="-1" strike="noStrike">
                  <a:solidFill>
                    <a:srgbClr val="000000"/>
                  </a:solidFill>
                  <a:latin typeface="Times New Roman"/>
                </a:rPr>
                <a:t>维修发动机工具，翻转架工具，工具不足，积极联系争取。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zh-CN" sz="1200" spc="-1" strike="noStrike">
                  <a:solidFill>
                    <a:srgbClr val="000000"/>
                  </a:solidFill>
                  <a:latin typeface="Times New Roman"/>
                </a:rPr>
                <a:t>增加维修车间，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r>
                <a:rPr b="1" lang="zh-CN" sz="1200" spc="-1" strike="noStrike">
                  <a:solidFill>
                    <a:srgbClr val="000000"/>
                  </a:solidFill>
                  <a:latin typeface="Times New Roman"/>
                </a:rPr>
                <a:t>坪左右（室内外）。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zh-CN" sz="1200" spc="-1" strike="noStrike">
                  <a:solidFill>
                    <a:srgbClr val="000000"/>
                  </a:solidFill>
                  <a:latin typeface="Times New Roman"/>
                </a:rPr>
                <a:t>增加电气焊设备。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AutoShape 21"/>
            <p:cNvSpPr/>
            <p:nvPr/>
          </p:nvSpPr>
          <p:spPr>
            <a:xfrm rot="2700000">
              <a:off x="4972320" y="2810880"/>
              <a:ext cx="255240" cy="165240"/>
            </a:xfrm>
            <a:prstGeom prst="rtTriangle">
              <a:avLst/>
            </a:prstGeom>
            <a:solidFill>
              <a:srgbClr val="ffcc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AutoShape 22"/>
            <p:cNvSpPr/>
            <p:nvPr/>
          </p:nvSpPr>
          <p:spPr>
            <a:xfrm rot="13500000">
              <a:off x="5025600" y="4952520"/>
              <a:ext cx="255240" cy="165240"/>
            </a:xfrm>
            <a:prstGeom prst="rtTriangle">
              <a:avLst/>
            </a:prstGeom>
            <a:solidFill>
              <a:srgbClr val="ffcc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AutoShape 23"/>
            <p:cNvSpPr/>
            <p:nvPr/>
          </p:nvSpPr>
          <p:spPr>
            <a:xfrm rot="8100000">
              <a:off x="8590320" y="3858120"/>
              <a:ext cx="165240" cy="255240"/>
            </a:xfrm>
            <a:prstGeom prst="rtTriangle">
              <a:avLst/>
            </a:prstGeom>
            <a:solidFill>
              <a:srgbClr val="ffcc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AutoShape 24"/>
            <p:cNvSpPr/>
            <p:nvPr/>
          </p:nvSpPr>
          <p:spPr>
            <a:xfrm rot="18900000">
              <a:off x="1511280" y="3774960"/>
              <a:ext cx="165240" cy="255240"/>
            </a:xfrm>
            <a:prstGeom prst="rtTriangle">
              <a:avLst/>
            </a:prstGeom>
            <a:solidFill>
              <a:srgbClr val="ffcc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01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年资源配置计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2052720" y="1898640"/>
            <a:ext cx="5975280" cy="1766520"/>
            <a:chOff x="2052720" y="1898640"/>
            <a:chExt cx="5975280" cy="1766520"/>
          </a:xfrm>
        </p:grpSpPr>
        <p:sp>
          <p:nvSpPr>
            <p:cNvPr id="223" name="Rectangle 4"/>
            <p:cNvSpPr/>
            <p:nvPr/>
          </p:nvSpPr>
          <p:spPr>
            <a:xfrm>
              <a:off x="2052720" y="2303640"/>
              <a:ext cx="5975280" cy="111024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Rectangle 5"/>
            <p:cNvSpPr/>
            <p:nvPr/>
          </p:nvSpPr>
          <p:spPr>
            <a:xfrm>
              <a:off x="2300760" y="1898640"/>
              <a:ext cx="2054520" cy="111024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6"/>
            <p:cNvSpPr/>
            <p:nvPr/>
          </p:nvSpPr>
          <p:spPr>
            <a:xfrm>
              <a:off x="2052720" y="3414240"/>
              <a:ext cx="59752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6" name="WordArt 7" descr=""/>
            <p:cNvPicPr/>
            <p:nvPr/>
          </p:nvPicPr>
          <p:blipFill>
            <a:blip r:embed="rId2"/>
            <a:stretch/>
          </p:blipFill>
          <p:spPr>
            <a:xfrm>
              <a:off x="2401200" y="2334960"/>
              <a:ext cx="1884240" cy="24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Rectangle 8"/>
            <p:cNvSpPr/>
            <p:nvPr/>
          </p:nvSpPr>
          <p:spPr>
            <a:xfrm>
              <a:off x="4355640" y="2303640"/>
              <a:ext cx="3672000" cy="108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i="1" lang="zh-CN" sz="2000" spc="-1" strike="noStrike">
                  <a:solidFill>
                    <a:srgbClr val="000000"/>
                  </a:solidFill>
                  <a:latin typeface="Times New Roman"/>
                </a:rPr>
                <a:t>现场服务人员数量少，平均每名服务所担当车辆较多，预计</a:t>
              </a:r>
              <a:r>
                <a:rPr b="0" i="1" lang="zh-CN" sz="2000" spc="-1" strike="noStrike">
                  <a:solidFill>
                    <a:srgbClr val="000000"/>
                  </a:solidFill>
                  <a:latin typeface="Times New Roman"/>
                </a:rPr>
                <a:t>2011</a:t>
              </a:r>
              <a:r>
                <a:rPr b="0" i="1" lang="zh-CN" sz="2000" spc="-1" strike="noStrike">
                  <a:solidFill>
                    <a:srgbClr val="000000"/>
                  </a:solidFill>
                  <a:latin typeface="Times New Roman"/>
                </a:rPr>
                <a:t>年新增现场服务</a:t>
              </a:r>
              <a:r>
                <a:rPr b="0" i="1" lang="zh-CN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zh-CN" sz="2000" spc="-1" strike="noStrike">
                  <a:solidFill>
                    <a:srgbClr val="000000"/>
                  </a:solidFill>
                  <a:latin typeface="Times New Roman"/>
                </a:rPr>
                <a:t>名，解决人员分配的问题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AutoShape 9"/>
            <p:cNvSpPr/>
            <p:nvPr/>
          </p:nvSpPr>
          <p:spPr>
            <a:xfrm>
              <a:off x="2052720" y="3416760"/>
              <a:ext cx="5975280" cy="248400"/>
            </a:xfrm>
            <a:custGeom>
              <a:avLst/>
              <a:gdLst>
                <a:gd name="textAreaLeft" fmla="*/ 646200 w 5975280"/>
                <a:gd name="textAreaRight" fmla="*/ 5329080 w 5975280"/>
                <a:gd name="textAreaTop" fmla="*/ 27360 h 248400"/>
                <a:gd name="textAreaBottom" fmla="*/ 221040 h 24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AutoShape 10"/>
            <p:cNvSpPr/>
            <p:nvPr/>
          </p:nvSpPr>
          <p:spPr>
            <a:xfrm>
              <a:off x="2300760" y="3020400"/>
              <a:ext cx="2054520" cy="248400"/>
            </a:xfrm>
            <a:custGeom>
              <a:avLst/>
              <a:gdLst>
                <a:gd name="textAreaLeft" fmla="*/ 222120 w 2054520"/>
                <a:gd name="textAreaRight" fmla="*/ 1832400 w 2054520"/>
                <a:gd name="textAreaTop" fmla="*/ 27360 h 248400"/>
                <a:gd name="textAreaBottom" fmla="*/ 221040 h 24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cc00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2052720" y="3921120"/>
            <a:ext cx="5975280" cy="1766520"/>
            <a:chOff x="2052720" y="3921120"/>
            <a:chExt cx="5975280" cy="1766520"/>
          </a:xfrm>
        </p:grpSpPr>
        <p:sp>
          <p:nvSpPr>
            <p:cNvPr id="231" name="Rectangle 12"/>
            <p:cNvSpPr/>
            <p:nvPr/>
          </p:nvSpPr>
          <p:spPr>
            <a:xfrm>
              <a:off x="2052720" y="4326120"/>
              <a:ext cx="5975280" cy="111024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Rectangle 13"/>
            <p:cNvSpPr/>
            <p:nvPr/>
          </p:nvSpPr>
          <p:spPr>
            <a:xfrm>
              <a:off x="2300760" y="3921120"/>
              <a:ext cx="2054520" cy="111024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14"/>
            <p:cNvSpPr/>
            <p:nvPr/>
          </p:nvSpPr>
          <p:spPr>
            <a:xfrm>
              <a:off x="2052720" y="5436720"/>
              <a:ext cx="59752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4" name="WordArt 15" descr=""/>
            <p:cNvPicPr/>
            <p:nvPr/>
          </p:nvPicPr>
          <p:blipFill>
            <a:blip r:embed="rId3"/>
            <a:stretch/>
          </p:blipFill>
          <p:spPr>
            <a:xfrm>
              <a:off x="2401200" y="4358880"/>
              <a:ext cx="1884240" cy="24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Rectangle 16"/>
            <p:cNvSpPr/>
            <p:nvPr/>
          </p:nvSpPr>
          <p:spPr>
            <a:xfrm>
              <a:off x="4355640" y="4326120"/>
              <a:ext cx="3672000" cy="108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i="1" lang="zh-CN" sz="2000" spc="-1" strike="noStrike">
                  <a:solidFill>
                    <a:srgbClr val="000000"/>
                  </a:solidFill>
                  <a:latin typeface="Times New Roman"/>
                </a:rPr>
                <a:t>现配车</a:t>
              </a:r>
              <a:r>
                <a:rPr b="0" i="1" lang="zh-CN" sz="2000" spc="-1" strike="noStrike">
                  <a:solidFill>
                    <a:srgbClr val="000000"/>
                  </a:solidFill>
                  <a:latin typeface="Times New Roman"/>
                </a:rPr>
                <a:t>64</a:t>
              </a:r>
              <a:r>
                <a:rPr b="0" i="1" lang="zh-CN" sz="2000" spc="-1" strike="noStrike">
                  <a:solidFill>
                    <a:srgbClr val="000000"/>
                  </a:solidFill>
                  <a:latin typeface="Times New Roman"/>
                </a:rPr>
                <a:t>台，明年计划销售</a:t>
              </a:r>
              <a:r>
                <a:rPr b="0" i="1" lang="zh-CN" sz="2000" spc="-1" strike="noStrike">
                  <a:solidFill>
                    <a:srgbClr val="000000"/>
                  </a:solidFill>
                  <a:latin typeface="Times New Roman"/>
                </a:rPr>
                <a:t>28</a:t>
              </a:r>
              <a:r>
                <a:rPr b="0" i="1" lang="zh-CN" sz="2000" spc="-1" strike="noStrike">
                  <a:solidFill>
                    <a:srgbClr val="000000"/>
                  </a:solidFill>
                  <a:latin typeface="Times New Roman"/>
                </a:rPr>
                <a:t>台，预计外地临时转入</a:t>
              </a:r>
              <a:r>
                <a:rPr b="0" i="1" lang="zh-CN" sz="20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r>
                <a:rPr b="0" i="1" lang="zh-CN" sz="2000" spc="-1" strike="noStrike">
                  <a:solidFill>
                    <a:srgbClr val="000000"/>
                  </a:solidFill>
                  <a:latin typeface="Times New Roman"/>
                </a:rPr>
                <a:t>台，明年配车将达到</a:t>
              </a:r>
              <a:r>
                <a:rPr b="0" i="1" lang="zh-CN" sz="2000" spc="-1" strike="noStrike">
                  <a:solidFill>
                    <a:srgbClr val="000000"/>
                  </a:solidFill>
                  <a:latin typeface="Times New Roman"/>
                </a:rPr>
                <a:t>107</a:t>
              </a:r>
              <a:r>
                <a:rPr b="0" i="1" lang="zh-CN" sz="2000" spc="-1" strike="noStrike">
                  <a:solidFill>
                    <a:srgbClr val="000000"/>
                  </a:solidFill>
                  <a:latin typeface="Times New Roman"/>
                </a:rPr>
                <a:t>台，预计新增服务车一台，新增服务小组</a:t>
              </a:r>
              <a:r>
                <a:rPr b="0" i="1" lang="zh-CN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i="1" lang="zh-CN" sz="2000" spc="-1" strike="noStrike">
                  <a:solidFill>
                    <a:srgbClr val="000000"/>
                  </a:solidFill>
                  <a:latin typeface="Times New Roman"/>
                </a:rPr>
                <a:t>组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AutoShape 17"/>
            <p:cNvSpPr/>
            <p:nvPr/>
          </p:nvSpPr>
          <p:spPr>
            <a:xfrm>
              <a:off x="2052720" y="5439240"/>
              <a:ext cx="5975280" cy="248400"/>
            </a:xfrm>
            <a:custGeom>
              <a:avLst/>
              <a:gdLst>
                <a:gd name="textAreaLeft" fmla="*/ 646200 w 5975280"/>
                <a:gd name="textAreaRight" fmla="*/ 5329080 w 5975280"/>
                <a:gd name="textAreaTop" fmla="*/ 27360 h 248400"/>
                <a:gd name="textAreaBottom" fmla="*/ 221040 h 24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AutoShape 18"/>
            <p:cNvSpPr/>
            <p:nvPr/>
          </p:nvSpPr>
          <p:spPr>
            <a:xfrm>
              <a:off x="2300760" y="5042880"/>
              <a:ext cx="2054520" cy="248400"/>
            </a:xfrm>
            <a:custGeom>
              <a:avLst/>
              <a:gdLst>
                <a:gd name="textAreaLeft" fmla="*/ 222120 w 2054520"/>
                <a:gd name="textAreaRight" fmla="*/ 1832400 w 2054520"/>
                <a:gd name="textAreaTop" fmla="*/ 27360 h 248400"/>
                <a:gd name="textAreaBottom" fmla="*/ 221040 h 24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cc00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01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年服务工时费计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Object 3" descr=""/>
          <p:cNvPicPr/>
          <p:nvPr/>
        </p:nvPicPr>
        <p:blipFill>
          <a:blip r:embed="rId2"/>
          <a:stretch/>
        </p:blipFill>
        <p:spPr>
          <a:xfrm>
            <a:off x="836640" y="1763640"/>
            <a:ext cx="8086680" cy="31244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"/>
          <p:cNvSpPr/>
          <p:nvPr/>
        </p:nvSpPr>
        <p:spPr>
          <a:xfrm>
            <a:off x="2793960" y="5138640"/>
            <a:ext cx="378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0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年实绩服务工时费为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81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0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年服务工时费计划为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4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服务工时费增长率为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01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年服务带动零件计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Object 3" descr=""/>
          <p:cNvPicPr/>
          <p:nvPr/>
        </p:nvPicPr>
        <p:blipFill>
          <a:blip r:embed="rId2"/>
          <a:stretch/>
        </p:blipFill>
        <p:spPr>
          <a:xfrm>
            <a:off x="701640" y="1765440"/>
            <a:ext cx="8221680" cy="312264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4"/>
          <p:cNvSpPr/>
          <p:nvPr/>
        </p:nvSpPr>
        <p:spPr>
          <a:xfrm>
            <a:off x="2793960" y="5138640"/>
            <a:ext cx="378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0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年实绩服务工时费为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650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0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年服务工时费计划为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0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服务工时费增长率为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1.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如何完善服务与配件体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252760" y="1981080"/>
            <a:ext cx="3738600" cy="37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树立全局观念，做好本职工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精于专业技能，勤于现场观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善于沟通交流，强于协助协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完善配件系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1407960" y="1989000"/>
            <a:ext cx="3703680" cy="3778560"/>
          </a:xfrm>
          <a:custGeom>
            <a:avLst/>
            <a:gdLst>
              <a:gd name="textAreaLeft" fmla="*/ 14760 w 3703680"/>
              <a:gd name="textAreaRight" fmla="*/ 3688920 w 3703680"/>
              <a:gd name="textAreaTop" fmla="*/ 14760 h 3778560"/>
              <a:gd name="textAreaBottom" fmla="*/ 3763800 h 3778560"/>
            </a:gdLst>
            <a:ahLst/>
            <a:rect l="textAreaLeft" t="textAreaTop" r="textAreaRight" b="textAreaBottom"/>
            <a:pathLst>
              <a:path w="21600" h="22037">
                <a:moveTo>
                  <a:pt x="296" y="0"/>
                </a:moveTo>
                <a:arcTo wR="296" hR="296" stAng="16200000" swAng="-5400000"/>
                <a:lnTo>
                  <a:pt x="0" y="21741"/>
                </a:lnTo>
                <a:arcTo wR="296" hR="296" stAng="10800000" swAng="-5400000"/>
                <a:lnTo>
                  <a:pt x="21304" y="22037"/>
                </a:lnTo>
                <a:arcTo wR="296" hR="296" stAng="5400000" swAng="-5400000"/>
                <a:lnTo>
                  <a:pt x="21600" y="296"/>
                </a:lnTo>
                <a:arcTo wR="296" hR="296" stAng="0" swAng="-5400000"/>
                <a:close/>
              </a:path>
            </a:pathLst>
          </a:custGeom>
          <a:blipFill rotWithShape="0">
            <a:blip r:embed="rId2"/>
            <a:srcRect/>
            <a:stretch/>
          </a:blipFill>
          <a:ln w="32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AutoShape 5"/>
          <p:cNvSpPr/>
          <p:nvPr/>
        </p:nvSpPr>
        <p:spPr>
          <a:xfrm>
            <a:off x="1403280" y="4138560"/>
            <a:ext cx="3700440" cy="1081080"/>
          </a:xfrm>
          <a:prstGeom prst="roundRect">
            <a:avLst>
              <a:gd name="adj" fmla="val 1532"/>
            </a:avLst>
          </a:prstGeom>
          <a:gradFill rotWithShape="0">
            <a:gsLst>
              <a:gs pos="0">
                <a:srgbClr val="ffffff"/>
              </a:gs>
              <a:gs pos="100000">
                <a:srgbClr val="5f5f5f"/>
              </a:gs>
            </a:gsLst>
            <a:lin ang="5400000"/>
          </a:gra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Times New Roman"/>
              </a:rPr>
              <a:t>根据我分公司实际情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Times New Roman"/>
              </a:rPr>
              <a:t>做出以下方案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一、树立全局观念，做好本职工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utoShape 3"/>
          <p:cNvSpPr/>
          <p:nvPr/>
        </p:nvSpPr>
        <p:spPr>
          <a:xfrm>
            <a:off x="1871640" y="2079720"/>
            <a:ext cx="6165720" cy="3375000"/>
          </a:xfrm>
          <a:prstGeom prst="roundRect">
            <a:avLst>
              <a:gd name="adj" fmla="val 5657"/>
            </a:avLst>
          </a:prstGeom>
          <a:gradFill rotWithShape="0">
            <a:gsLst>
              <a:gs pos="0">
                <a:srgbClr val="f2f2f2"/>
              </a:gs>
              <a:gs pos="100000">
                <a:srgbClr val="dddddd"/>
              </a:gs>
            </a:gsLst>
            <a:lin ang="5400000"/>
          </a:gradFill>
          <a:ln w="3240">
            <a:solidFill>
              <a:srgbClr val="969696">
                <a:alpha val="6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不管从事什么工作，树立全局意识是首要的问题，现场技术服务也不例外。我认为服务工作的全局就是：“树立企业形象，使客户对公司产品的满意度和忠诚度最大化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。最大限度的保护客户的利益，是提高我们产品的核心竞争力的一个重要组成部分。做好服务工作，同时也为了及时反馈产品从出厂至使用过程中出现的不良情况，以便作出及时改进，使产品更好的满足现场的使用要求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二、精于专业技能，勤于现场观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AutoShape 3"/>
          <p:cNvSpPr/>
          <p:nvPr/>
        </p:nvSpPr>
        <p:spPr>
          <a:xfrm>
            <a:off x="1871640" y="2246400"/>
            <a:ext cx="6210360" cy="2892240"/>
          </a:xfrm>
          <a:prstGeom prst="roundRect">
            <a:avLst>
              <a:gd name="adj" fmla="val 5657"/>
            </a:avLst>
          </a:prstGeom>
          <a:gradFill rotWithShape="0">
            <a:gsLst>
              <a:gs pos="0">
                <a:srgbClr val="f2f2f2"/>
              </a:gs>
              <a:gs pos="100000">
                <a:srgbClr val="dddddd"/>
              </a:gs>
            </a:gsLst>
            <a:lin ang="5400000"/>
          </a:gradFill>
          <a:ln w="3240">
            <a:solidFill>
              <a:srgbClr val="969696">
                <a:alpha val="6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作为一个技术服务人员，要在现场勤于观察、独立思考、多与现场技术工人交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对于不断掌握新环境下大型机械的应用知识至关重要。能否做好一个产品的质量调研，是衡量技术人员专业水准的标尺，同时也是技术人员尽快掌握应用知识的有效手段。所以我建议公司增加服务学习的机会，增加各分公司的技术交流，促进分公司服务部的共同进步。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三、善于沟通交流，强于协助协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AutoShape 3"/>
          <p:cNvSpPr/>
          <p:nvPr/>
        </p:nvSpPr>
        <p:spPr>
          <a:xfrm>
            <a:off x="1916280" y="2201760"/>
            <a:ext cx="6121080" cy="2892600"/>
          </a:xfrm>
          <a:prstGeom prst="roundRect">
            <a:avLst>
              <a:gd name="adj" fmla="val 5657"/>
            </a:avLst>
          </a:prstGeom>
          <a:gradFill rotWithShape="0">
            <a:gsLst>
              <a:gs pos="0">
                <a:srgbClr val="f2f2f2"/>
              </a:gs>
              <a:gs pos="100000">
                <a:srgbClr val="dddddd"/>
              </a:gs>
            </a:gsLst>
            <a:lin ang="5400000"/>
          </a:gradFill>
          <a:ln w="3240">
            <a:solidFill>
              <a:srgbClr val="969696">
                <a:alpha val="6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现场技术服务人员不仅要有较强的专业技术知识，还应该具备良好的沟通交流能力，一种产品很多时候是由于使用操作不当才出现了问题，而往往不是如客户反映的质量不行，所以这个时候就需要我们找出症结所在，和客户进行交流，规范操作，从而避免对产品的不信任乃至对企业形象的损害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四、完善配件系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AutoShape 3"/>
          <p:cNvSpPr/>
          <p:nvPr/>
        </p:nvSpPr>
        <p:spPr>
          <a:xfrm>
            <a:off x="2006640" y="2201760"/>
            <a:ext cx="5985000" cy="2892600"/>
          </a:xfrm>
          <a:prstGeom prst="roundRect">
            <a:avLst>
              <a:gd name="adj" fmla="val 5657"/>
            </a:avLst>
          </a:prstGeom>
          <a:gradFill rotWithShape="0">
            <a:gsLst>
              <a:gs pos="0">
                <a:srgbClr val="f2f2f2"/>
              </a:gs>
              <a:gs pos="100000">
                <a:srgbClr val="dddddd"/>
              </a:gs>
            </a:gsLst>
            <a:lin ang="5400000"/>
          </a:gradFill>
          <a:ln w="3240">
            <a:solidFill>
              <a:srgbClr val="969696">
                <a:alpha val="6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细黑"/>
              </a:rPr>
              <a:t>建立服务配件中心库和服务配件周转库，完善配件管理制度。对于有偿配件的提供要有结算，以保证公司利益不受损失。加强与职能部门的协作、改善配件领用制度，实施有效追偿。这样就能有效处理服务于配件的关系，使整个服务系统正常运作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132000" y="1402920"/>
            <a:ext cx="5561280" cy="112572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ffff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f5f5f"/>
                </a:solidFill>
                <a:latin typeface="Times New Roman"/>
              </a:rPr>
              <a:t>年总结到此结束，谢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753080" y="2530440"/>
            <a:ext cx="396072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f5f5f"/>
                </a:solidFill>
                <a:latin typeface="Times New Roman"/>
              </a:rPr>
              <a:t>请添加文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2232000" y="2023920"/>
            <a:ext cx="5819760" cy="5558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2232000" y="2023920"/>
            <a:ext cx="2343240" cy="555840"/>
          </a:xfrm>
          <a:prstGeom prst="rightArrowCallout">
            <a:avLst>
              <a:gd name="adj1" fmla="val 48662"/>
              <a:gd name="adj2" fmla="val 50000"/>
              <a:gd name="adj3" fmla="val 42332"/>
              <a:gd name="adj4" fmla="val 89958"/>
            </a:avLst>
          </a:prstGeom>
          <a:gradFill rotWithShape="0">
            <a:gsLst>
              <a:gs pos="0">
                <a:srgbClr val="ffcc00"/>
              </a:gs>
              <a:gs pos="100000">
                <a:srgbClr val="ff99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5"/>
          <p:cNvSpPr/>
          <p:nvPr/>
        </p:nvSpPr>
        <p:spPr>
          <a:xfrm>
            <a:off x="2232000" y="2581200"/>
            <a:ext cx="57992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4226040" y="2028960"/>
            <a:ext cx="38052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2010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年服务工作总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7"/>
          <p:cNvSpPr/>
          <p:nvPr/>
        </p:nvSpPr>
        <p:spPr>
          <a:xfrm>
            <a:off x="2232000" y="2584440"/>
            <a:ext cx="5799240" cy="239760"/>
          </a:xfrm>
          <a:custGeom>
            <a:avLst/>
            <a:gdLst>
              <a:gd name="textAreaLeft" fmla="*/ 627120 w 5799240"/>
              <a:gd name="textAreaRight" fmla="*/ 5172120 w 5799240"/>
              <a:gd name="textAreaTop" fmla="*/ 25920 h 239760"/>
              <a:gd name="textAreaBottom" fmla="*/ 213840 h 23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2232000" y="2765520"/>
            <a:ext cx="5819760" cy="5554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9"/>
          <p:cNvSpPr/>
          <p:nvPr/>
        </p:nvSpPr>
        <p:spPr>
          <a:xfrm>
            <a:off x="2232000" y="2765520"/>
            <a:ext cx="2343240" cy="555480"/>
          </a:xfrm>
          <a:prstGeom prst="rightArrowCallout">
            <a:avLst>
              <a:gd name="adj1" fmla="val 48662"/>
              <a:gd name="adj2" fmla="val 50000"/>
              <a:gd name="adj3" fmla="val 42360"/>
              <a:gd name="adj4" fmla="val 89958"/>
            </a:avLst>
          </a:prstGeom>
          <a:gradFill rotWithShape="0">
            <a:gsLst>
              <a:gs pos="0">
                <a:srgbClr val="ffcc00"/>
              </a:gs>
              <a:gs pos="100000">
                <a:srgbClr val="ff99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10"/>
          <p:cNvSpPr/>
          <p:nvPr/>
        </p:nvSpPr>
        <p:spPr>
          <a:xfrm>
            <a:off x="2232000" y="3322800"/>
            <a:ext cx="57992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4226040" y="2770200"/>
            <a:ext cx="38052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10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年实绩与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09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年实绩对比数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12"/>
          <p:cNvSpPr/>
          <p:nvPr/>
        </p:nvSpPr>
        <p:spPr>
          <a:xfrm>
            <a:off x="2232000" y="3324240"/>
            <a:ext cx="5799240" cy="241200"/>
          </a:xfrm>
          <a:custGeom>
            <a:avLst/>
            <a:gdLst>
              <a:gd name="textAreaLeft" fmla="*/ 627120 w 5799240"/>
              <a:gd name="textAreaRight" fmla="*/ 5172120 w 5799240"/>
              <a:gd name="textAreaTop" fmla="*/ 25920 h 241200"/>
              <a:gd name="textAreaBottom" fmla="*/ 215280 h 241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3"/>
          <p:cNvSpPr/>
          <p:nvPr/>
        </p:nvSpPr>
        <p:spPr>
          <a:xfrm>
            <a:off x="2232000" y="3502080"/>
            <a:ext cx="5819760" cy="557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14"/>
          <p:cNvSpPr/>
          <p:nvPr/>
        </p:nvSpPr>
        <p:spPr>
          <a:xfrm>
            <a:off x="2232000" y="3502080"/>
            <a:ext cx="2343240" cy="557280"/>
          </a:xfrm>
          <a:prstGeom prst="rightArrowCallout">
            <a:avLst>
              <a:gd name="adj1" fmla="val 48662"/>
              <a:gd name="adj2" fmla="val 50000"/>
              <a:gd name="adj3" fmla="val 42223"/>
              <a:gd name="adj4" fmla="val 89958"/>
            </a:avLst>
          </a:prstGeom>
          <a:gradFill rotWithShape="0">
            <a:gsLst>
              <a:gs pos="0">
                <a:srgbClr val="ffcc00"/>
              </a:gs>
              <a:gs pos="100000">
                <a:srgbClr val="ff99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15"/>
          <p:cNvSpPr/>
          <p:nvPr/>
        </p:nvSpPr>
        <p:spPr>
          <a:xfrm>
            <a:off x="2232000" y="4059360"/>
            <a:ext cx="57992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6"/>
          <p:cNvSpPr/>
          <p:nvPr/>
        </p:nvSpPr>
        <p:spPr>
          <a:xfrm>
            <a:off x="4226040" y="3506760"/>
            <a:ext cx="38052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工作中存在的问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17"/>
          <p:cNvSpPr/>
          <p:nvPr/>
        </p:nvSpPr>
        <p:spPr>
          <a:xfrm>
            <a:off x="2232000" y="4062240"/>
            <a:ext cx="5799240" cy="239760"/>
          </a:xfrm>
          <a:custGeom>
            <a:avLst/>
            <a:gdLst>
              <a:gd name="textAreaLeft" fmla="*/ 627120 w 5799240"/>
              <a:gd name="textAreaRight" fmla="*/ 5172120 w 5799240"/>
              <a:gd name="textAreaTop" fmla="*/ 25920 h 239760"/>
              <a:gd name="textAreaBottom" fmla="*/ 213840 h 23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8"/>
          <p:cNvSpPr/>
          <p:nvPr/>
        </p:nvSpPr>
        <p:spPr>
          <a:xfrm>
            <a:off x="2232000" y="4262400"/>
            <a:ext cx="5819760" cy="5558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19"/>
          <p:cNvSpPr/>
          <p:nvPr/>
        </p:nvSpPr>
        <p:spPr>
          <a:xfrm>
            <a:off x="2232000" y="4262400"/>
            <a:ext cx="2343240" cy="555840"/>
          </a:xfrm>
          <a:prstGeom prst="rightArrowCallout">
            <a:avLst>
              <a:gd name="adj1" fmla="val 48662"/>
              <a:gd name="adj2" fmla="val 50000"/>
              <a:gd name="adj3" fmla="val 42332"/>
              <a:gd name="adj4" fmla="val 89958"/>
            </a:avLst>
          </a:prstGeom>
          <a:gradFill rotWithShape="0">
            <a:gsLst>
              <a:gs pos="0">
                <a:srgbClr val="ffcc00"/>
              </a:gs>
              <a:gs pos="100000">
                <a:srgbClr val="ff99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20"/>
          <p:cNvSpPr/>
          <p:nvPr/>
        </p:nvSpPr>
        <p:spPr>
          <a:xfrm>
            <a:off x="2232000" y="4818240"/>
            <a:ext cx="57992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21"/>
          <p:cNvSpPr/>
          <p:nvPr/>
        </p:nvSpPr>
        <p:spPr>
          <a:xfrm>
            <a:off x="4226040" y="4265640"/>
            <a:ext cx="38052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2011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年服务工作计划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2"/>
          <p:cNvSpPr/>
          <p:nvPr/>
        </p:nvSpPr>
        <p:spPr>
          <a:xfrm>
            <a:off x="2232000" y="4821120"/>
            <a:ext cx="5799240" cy="239760"/>
          </a:xfrm>
          <a:custGeom>
            <a:avLst/>
            <a:gdLst>
              <a:gd name="textAreaLeft" fmla="*/ 627120 w 5799240"/>
              <a:gd name="textAreaRight" fmla="*/ 5172120 w 5799240"/>
              <a:gd name="textAreaTop" fmla="*/ 25920 h 239760"/>
              <a:gd name="textAreaBottom" fmla="*/ 213840 h 23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23"/>
          <p:cNvSpPr/>
          <p:nvPr/>
        </p:nvSpPr>
        <p:spPr>
          <a:xfrm>
            <a:off x="2232000" y="5011560"/>
            <a:ext cx="5819760" cy="5558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24"/>
          <p:cNvSpPr/>
          <p:nvPr/>
        </p:nvSpPr>
        <p:spPr>
          <a:xfrm>
            <a:off x="2232000" y="5011560"/>
            <a:ext cx="2343240" cy="555840"/>
          </a:xfrm>
          <a:prstGeom prst="rightArrowCallout">
            <a:avLst>
              <a:gd name="adj1" fmla="val 48662"/>
              <a:gd name="adj2" fmla="val 50000"/>
              <a:gd name="adj3" fmla="val 42332"/>
              <a:gd name="adj4" fmla="val 89958"/>
            </a:avLst>
          </a:prstGeom>
          <a:gradFill rotWithShape="0">
            <a:gsLst>
              <a:gs pos="0">
                <a:srgbClr val="ffcc00"/>
              </a:gs>
              <a:gs pos="100000">
                <a:srgbClr val="ff99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25"/>
          <p:cNvSpPr/>
          <p:nvPr/>
        </p:nvSpPr>
        <p:spPr>
          <a:xfrm>
            <a:off x="2232000" y="5568840"/>
            <a:ext cx="57992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26"/>
          <p:cNvSpPr/>
          <p:nvPr/>
        </p:nvSpPr>
        <p:spPr>
          <a:xfrm>
            <a:off x="4226040" y="5016600"/>
            <a:ext cx="38052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如何完善服务与配件体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27"/>
          <p:cNvSpPr/>
          <p:nvPr/>
        </p:nvSpPr>
        <p:spPr>
          <a:xfrm>
            <a:off x="2232000" y="5570640"/>
            <a:ext cx="5799240" cy="241200"/>
          </a:xfrm>
          <a:custGeom>
            <a:avLst/>
            <a:gdLst>
              <a:gd name="textAreaLeft" fmla="*/ 627120 w 5799240"/>
              <a:gd name="textAreaRight" fmla="*/ 5172120 w 5799240"/>
              <a:gd name="textAreaTop" fmla="*/ 25920 h 241200"/>
              <a:gd name="textAreaBottom" fmla="*/ 215280 h 241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010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年服务工作总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3"/>
          <p:cNvSpPr/>
          <p:nvPr/>
        </p:nvSpPr>
        <p:spPr>
          <a:xfrm rot="5400000">
            <a:off x="1455120" y="2798640"/>
            <a:ext cx="2468520" cy="1817640"/>
          </a:xfrm>
          <a:custGeom>
            <a:avLst/>
            <a:gdLst>
              <a:gd name="textAreaLeft" fmla="*/ 330120 w 2468520"/>
              <a:gd name="textAreaRight" fmla="*/ 2138400 w 2468520"/>
              <a:gd name="textAreaTop" fmla="*/ 243000 h 1817640"/>
              <a:gd name="textAreaBottom" fmla="*/ 1574640 h 181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78" y="21600"/>
                </a:lnTo>
                <a:lnTo>
                  <a:pt x="1942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fcc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4"/>
          <p:cNvSpPr/>
          <p:nvPr/>
        </p:nvSpPr>
        <p:spPr>
          <a:xfrm rot="16200000">
            <a:off x="2528640" y="3579120"/>
            <a:ext cx="2459160" cy="236880"/>
          </a:xfrm>
          <a:custGeom>
            <a:avLst/>
            <a:gdLst>
              <a:gd name="textAreaLeft" fmla="*/ 303120 w 2459160"/>
              <a:gd name="textAreaRight" fmla="*/ 2156040 w 2459160"/>
              <a:gd name="textAreaTop" fmla="*/ 29160 h 236880"/>
              <a:gd name="textAreaBottom" fmla="*/ 207720 h 23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0" y="21600"/>
                </a:lnTo>
                <a:lnTo>
                  <a:pt x="1987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00">
                  <a:alpha val="25098"/>
                </a:srgbClr>
              </a:gs>
              <a:gs pos="100000">
                <a:srgbClr val="5f5f5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1793880" y="2708280"/>
            <a:ext cx="179064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车辆概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保内车辆定期服务完成情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2720880" y="3825720"/>
            <a:ext cx="85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ffff"/>
                </a:solidFill>
                <a:latin typeface="Times New Roman"/>
                <a:ea typeface="黑体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7"/>
          <p:cNvSpPr/>
          <p:nvPr/>
        </p:nvSpPr>
        <p:spPr>
          <a:xfrm>
            <a:off x="4167360" y="1943280"/>
            <a:ext cx="4140000" cy="1331640"/>
          </a:xfrm>
          <a:prstGeom prst="roundRect">
            <a:avLst>
              <a:gd name="adj" fmla="val 13125"/>
            </a:avLst>
          </a:prstGeom>
          <a:gradFill rotWithShape="0">
            <a:gsLst>
              <a:gs pos="0">
                <a:srgbClr val="f2f2f2"/>
              </a:gs>
              <a:gs pos="100000">
                <a:srgbClr val="dddddd"/>
              </a:gs>
            </a:gsLst>
            <a:lin ang="5400000"/>
          </a:gradFill>
          <a:ln w="3240">
            <a:solidFill>
              <a:srgbClr val="969696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201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年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1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华文细黑"/>
              </a:rPr>
              <a:t>1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月份（截止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华文细黑"/>
              </a:rPr>
              <a:t>1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华文细黑"/>
              </a:rPr>
              <a:t>2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日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保内车辆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华文细黑"/>
              </a:rPr>
              <a:t>17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台                保外车辆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华文细黑"/>
              </a:rPr>
              <a:t>47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其中    外地转入：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华文细黑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台      总配车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华文细黑"/>
              </a:rPr>
              <a:t>6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8"/>
          <p:cNvSpPr/>
          <p:nvPr/>
        </p:nvSpPr>
        <p:spPr>
          <a:xfrm>
            <a:off x="4213080" y="4014720"/>
            <a:ext cx="4094280" cy="1387440"/>
          </a:xfrm>
          <a:prstGeom prst="roundRect">
            <a:avLst>
              <a:gd name="adj" fmla="val 13125"/>
            </a:avLst>
          </a:prstGeom>
          <a:gradFill rotWithShape="0">
            <a:gsLst>
              <a:gs pos="0">
                <a:srgbClr val="f2f2f2"/>
              </a:gs>
              <a:gs pos="100000">
                <a:srgbClr val="dddddd"/>
              </a:gs>
            </a:gsLst>
            <a:lin ang="5400000"/>
          </a:gradFill>
          <a:ln w="3240">
            <a:solidFill>
              <a:srgbClr val="969696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保内车辆完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25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小时保养的有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华文细黑"/>
              </a:rPr>
              <a:t>3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保内车辆完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50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小时保养的有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华文细黑"/>
              </a:rPr>
              <a:t>2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保内车辆即将出保的有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华文细黑"/>
              </a:rPr>
              <a:t>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240" y="41400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010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年服务工作总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3"/>
          <p:cNvSpPr/>
          <p:nvPr/>
        </p:nvSpPr>
        <p:spPr>
          <a:xfrm rot="5400000">
            <a:off x="80280" y="2798640"/>
            <a:ext cx="2468520" cy="1817640"/>
          </a:xfrm>
          <a:custGeom>
            <a:avLst/>
            <a:gdLst>
              <a:gd name="textAreaLeft" fmla="*/ 330120 w 2468520"/>
              <a:gd name="textAreaRight" fmla="*/ 2138400 w 2468520"/>
              <a:gd name="textAreaTop" fmla="*/ 243000 h 1817640"/>
              <a:gd name="textAreaBottom" fmla="*/ 1574640 h 181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78" y="21600"/>
                </a:lnTo>
                <a:lnTo>
                  <a:pt x="1942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fcc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4"/>
          <p:cNvSpPr/>
          <p:nvPr/>
        </p:nvSpPr>
        <p:spPr>
          <a:xfrm rot="16200000">
            <a:off x="1154160" y="3579480"/>
            <a:ext cx="2459160" cy="236520"/>
          </a:xfrm>
          <a:custGeom>
            <a:avLst/>
            <a:gdLst>
              <a:gd name="textAreaLeft" fmla="*/ 303120 w 2459160"/>
              <a:gd name="textAreaRight" fmla="*/ 2156040 w 2459160"/>
              <a:gd name="textAreaTop" fmla="*/ 29160 h 236520"/>
              <a:gd name="textAreaBottom" fmla="*/ 207360 h 23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0" y="21600"/>
                </a:lnTo>
                <a:lnTo>
                  <a:pt x="1987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00">
                  <a:alpha val="25098"/>
                </a:srgbClr>
              </a:gs>
              <a:gs pos="100000">
                <a:srgbClr val="5f5f5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419040" y="2708280"/>
            <a:ext cx="179064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完成交机台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全年修理情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1346040" y="3825720"/>
            <a:ext cx="85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ffff"/>
                </a:solidFill>
                <a:latin typeface="Times New Roman"/>
                <a:ea typeface="黑体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7"/>
          <p:cNvSpPr/>
          <p:nvPr/>
        </p:nvSpPr>
        <p:spPr>
          <a:xfrm>
            <a:off x="2508120" y="1486080"/>
            <a:ext cx="5664240" cy="1439640"/>
          </a:xfrm>
          <a:prstGeom prst="roundRect">
            <a:avLst>
              <a:gd name="adj" fmla="val 13125"/>
            </a:avLst>
          </a:prstGeom>
          <a:gradFill rotWithShape="0">
            <a:gsLst>
              <a:gs pos="0">
                <a:srgbClr val="f2f2f2"/>
              </a:gs>
              <a:gs pos="100000">
                <a:srgbClr val="dddddd"/>
              </a:gs>
            </a:gsLst>
            <a:lin ang="5400000"/>
          </a:gradFill>
          <a:ln w="3240">
            <a:solidFill>
              <a:srgbClr val="969696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20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1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月份 累计交机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华文细黑"/>
              </a:rPr>
              <a:t>1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华文细黑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8"/>
          <p:cNvSpPr/>
          <p:nvPr/>
        </p:nvSpPr>
        <p:spPr>
          <a:xfrm>
            <a:off x="2508120" y="3068640"/>
            <a:ext cx="5664240" cy="3456000"/>
          </a:xfrm>
          <a:prstGeom prst="roundRect">
            <a:avLst>
              <a:gd name="adj" fmla="val 13125"/>
            </a:avLst>
          </a:prstGeom>
          <a:gradFill rotWithShape="0">
            <a:gsLst>
              <a:gs pos="0">
                <a:srgbClr val="f2f2f2"/>
              </a:gs>
              <a:gs pos="100000">
                <a:srgbClr val="dddddd"/>
              </a:gs>
            </a:gsLst>
            <a:lin ang="5400000"/>
          </a:gradFill>
          <a:ln w="3240">
            <a:solidFill>
              <a:srgbClr val="969696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592360" y="1584360"/>
          <a:ext cx="5445000" cy="733320"/>
        </p:xfrm>
        <a:graphic>
          <a:graphicData uri="http://schemas.openxmlformats.org/drawingml/2006/table">
            <a:tbl>
              <a:tblPr/>
              <a:tblGrid>
                <a:gridCol w="557280"/>
                <a:gridCol w="482400"/>
                <a:gridCol w="355680"/>
                <a:gridCol w="339840"/>
                <a:gridCol w="347760"/>
                <a:gridCol w="355320"/>
                <a:gridCol w="341280"/>
                <a:gridCol w="355680"/>
                <a:gridCol w="382680"/>
                <a:gridCol w="480960"/>
                <a:gridCol w="482760"/>
                <a:gridCol w="468360"/>
                <a:gridCol w="4950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月份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月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月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月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月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月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月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月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月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月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月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1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月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月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交机台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2592360" y="3449520"/>
          <a:ext cx="5445000" cy="2805120"/>
        </p:xfrm>
        <a:graphic>
          <a:graphicData uri="http://schemas.openxmlformats.org/drawingml/2006/table">
            <a:tbl>
              <a:tblPr/>
              <a:tblGrid>
                <a:gridCol w="312840"/>
                <a:gridCol w="442800"/>
                <a:gridCol w="328680"/>
                <a:gridCol w="314280"/>
                <a:gridCol w="357120"/>
                <a:gridCol w="314280"/>
                <a:gridCol w="316080"/>
                <a:gridCol w="360360"/>
                <a:gridCol w="358560"/>
                <a:gridCol w="360360"/>
                <a:gridCol w="360360"/>
                <a:gridCol w="314640"/>
                <a:gridCol w="360360"/>
                <a:gridCol w="360360"/>
                <a:gridCol w="583920"/>
              </a:tblGrid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序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010</a:t>
                      </a: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5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6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1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合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总对应件数（收到维修请求总数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2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3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6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6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对应件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2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3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6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6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其中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: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返修件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utoShape 2"/>
          <p:cNvSpPr/>
          <p:nvPr/>
        </p:nvSpPr>
        <p:spPr>
          <a:xfrm>
            <a:off x="2508120" y="1484280"/>
            <a:ext cx="6024600" cy="5113440"/>
          </a:xfrm>
          <a:prstGeom prst="roundRect">
            <a:avLst>
              <a:gd name="adj" fmla="val 13125"/>
            </a:avLst>
          </a:prstGeom>
          <a:gradFill rotWithShape="0">
            <a:gsLst>
              <a:gs pos="0">
                <a:srgbClr val="f2f2f2"/>
              </a:gs>
              <a:gs pos="100000">
                <a:srgbClr val="dddddd"/>
              </a:gs>
            </a:gsLst>
            <a:lin ang="5400000"/>
          </a:gradFill>
          <a:ln w="3240">
            <a:solidFill>
              <a:srgbClr val="969696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240" y="41400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010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年服务工作总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AutoShape 4"/>
          <p:cNvSpPr/>
          <p:nvPr/>
        </p:nvSpPr>
        <p:spPr>
          <a:xfrm rot="5400000">
            <a:off x="80280" y="2798640"/>
            <a:ext cx="2468520" cy="1817640"/>
          </a:xfrm>
          <a:custGeom>
            <a:avLst/>
            <a:gdLst>
              <a:gd name="textAreaLeft" fmla="*/ 330120 w 2468520"/>
              <a:gd name="textAreaRight" fmla="*/ 2138400 w 2468520"/>
              <a:gd name="textAreaTop" fmla="*/ 243000 h 1817640"/>
              <a:gd name="textAreaBottom" fmla="*/ 1574640 h 181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78" y="21600"/>
                </a:lnTo>
                <a:lnTo>
                  <a:pt x="1942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fcc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5"/>
          <p:cNvSpPr/>
          <p:nvPr/>
        </p:nvSpPr>
        <p:spPr>
          <a:xfrm rot="16200000">
            <a:off x="1154160" y="3579480"/>
            <a:ext cx="2459160" cy="236520"/>
          </a:xfrm>
          <a:custGeom>
            <a:avLst/>
            <a:gdLst>
              <a:gd name="textAreaLeft" fmla="*/ 303120 w 2459160"/>
              <a:gd name="textAreaRight" fmla="*/ 2156040 w 2459160"/>
              <a:gd name="textAreaTop" fmla="*/ 29160 h 236520"/>
              <a:gd name="textAreaBottom" fmla="*/ 207360 h 23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0" y="21600"/>
                </a:lnTo>
                <a:lnTo>
                  <a:pt x="1987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00">
                  <a:alpha val="25098"/>
                </a:srgbClr>
              </a:gs>
              <a:gs pos="100000">
                <a:srgbClr val="5f5f5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419040" y="2708280"/>
            <a:ext cx="17906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全年服务活动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1346040" y="3825720"/>
            <a:ext cx="85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ffff"/>
                </a:solidFill>
                <a:latin typeface="Times New Roman"/>
                <a:ea typeface="黑体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681280" y="1763640"/>
          <a:ext cx="5716440" cy="4280040"/>
        </p:xfrm>
        <a:graphic>
          <a:graphicData uri="http://schemas.openxmlformats.org/drawingml/2006/table">
            <a:tbl>
              <a:tblPr/>
              <a:tblGrid>
                <a:gridCol w="318960"/>
                <a:gridCol w="454320"/>
                <a:gridCol w="336240"/>
                <a:gridCol w="320760"/>
                <a:gridCol w="327240"/>
                <a:gridCol w="336240"/>
                <a:gridCol w="320760"/>
                <a:gridCol w="351000"/>
                <a:gridCol w="345960"/>
                <a:gridCol w="353880"/>
                <a:gridCol w="360360"/>
                <a:gridCol w="405000"/>
                <a:gridCol w="404640"/>
                <a:gridCol w="360360"/>
                <a:gridCol w="720720"/>
              </a:tblGrid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序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010</a:t>
                      </a: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5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6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1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合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交机件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保内定期保养件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③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索赔件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改装件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⑤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有偿件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走访、检查件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2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零件促销件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⑧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其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AutoShape 2"/>
          <p:cNvSpPr/>
          <p:nvPr/>
        </p:nvSpPr>
        <p:spPr>
          <a:xfrm>
            <a:off x="2619360" y="1413000"/>
            <a:ext cx="6048360" cy="5111640"/>
          </a:xfrm>
          <a:prstGeom prst="roundRect">
            <a:avLst>
              <a:gd name="adj" fmla="val 13125"/>
            </a:avLst>
          </a:prstGeom>
          <a:gradFill rotWithShape="0">
            <a:gsLst>
              <a:gs pos="0">
                <a:srgbClr val="f2f2f2"/>
              </a:gs>
              <a:gs pos="100000">
                <a:srgbClr val="dddddd"/>
              </a:gs>
            </a:gsLst>
            <a:lin ang="5400000"/>
          </a:gradFill>
          <a:ln w="3240">
            <a:solidFill>
              <a:srgbClr val="969696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             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共计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华文细黑"/>
              </a:rPr>
              <a:t>2910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240" y="27900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010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年服务工作总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4"/>
          <p:cNvSpPr/>
          <p:nvPr/>
        </p:nvSpPr>
        <p:spPr>
          <a:xfrm rot="5400000">
            <a:off x="106200" y="2768400"/>
            <a:ext cx="2468520" cy="1818000"/>
          </a:xfrm>
          <a:custGeom>
            <a:avLst/>
            <a:gdLst>
              <a:gd name="textAreaLeft" fmla="*/ 330120 w 2468520"/>
              <a:gd name="textAreaRight" fmla="*/ 2138400 w 2468520"/>
              <a:gd name="textAreaTop" fmla="*/ 243000 h 1818000"/>
              <a:gd name="textAreaBottom" fmla="*/ 1575000 h 181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78" y="21600"/>
                </a:lnTo>
                <a:lnTo>
                  <a:pt x="1942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fcc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5"/>
          <p:cNvSpPr/>
          <p:nvPr/>
        </p:nvSpPr>
        <p:spPr>
          <a:xfrm rot="16200000">
            <a:off x="1179360" y="3549240"/>
            <a:ext cx="2459160" cy="236520"/>
          </a:xfrm>
          <a:custGeom>
            <a:avLst/>
            <a:gdLst>
              <a:gd name="textAreaLeft" fmla="*/ 303120 w 2459160"/>
              <a:gd name="textAreaRight" fmla="*/ 2156040 w 2459160"/>
              <a:gd name="textAreaTop" fmla="*/ 29160 h 236520"/>
              <a:gd name="textAreaBottom" fmla="*/ 207360 h 23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0" y="21600"/>
                </a:lnTo>
                <a:lnTo>
                  <a:pt x="1987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00">
                  <a:alpha val="25098"/>
                </a:srgbClr>
              </a:gs>
              <a:gs pos="100000">
                <a:srgbClr val="5f5f5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444600" y="2678040"/>
            <a:ext cx="17906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保外车辆收取工时费统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1371600" y="3795840"/>
            <a:ext cx="85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ffff"/>
                </a:solidFill>
                <a:latin typeface="Times New Roman"/>
                <a:ea typeface="黑体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849400" y="1557360"/>
          <a:ext cx="5592600" cy="4726080"/>
        </p:xfrm>
        <a:graphic>
          <a:graphicData uri="http://schemas.openxmlformats.org/drawingml/2006/table">
            <a:tbl>
              <a:tblPr/>
              <a:tblGrid>
                <a:gridCol w="814320"/>
                <a:gridCol w="1224000"/>
                <a:gridCol w="1071720"/>
                <a:gridCol w="814320"/>
                <a:gridCol w="1668240"/>
              </a:tblGrid>
              <a:tr h="28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序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期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客户名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单次工时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修理内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010-3-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姜延安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8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更换回转支撑油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010-3-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连洪军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更换铲斗油缸油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010-4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赵喜军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清洗液压系统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010-4-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王岸国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更换油缸油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010-4-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杨金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更换油缸油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010-6-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宋金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更换行走齿圈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010-7-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李继国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修理行走液压系统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010-7-3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张国文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3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该机电路线束检修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010-8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礼玉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4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更换喷油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010-8-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胡长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更换电磁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010-8-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刘友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更换浮动油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010-9-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宋金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更换右侧链条行车齿轮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010-9-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李金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更换二臂油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010-9-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张久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更换风扇皮带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010-9-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张久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更换液压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010-10-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礼玉红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检测喷油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010-10-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王玉祥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拆除破碎锤管路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010-12-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刘友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6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更换二臂油封，维修高压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240" y="3236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010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年服务工作总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3"/>
          <p:cNvSpPr/>
          <p:nvPr/>
        </p:nvSpPr>
        <p:spPr>
          <a:xfrm rot="5400000">
            <a:off x="80280" y="2798640"/>
            <a:ext cx="2468520" cy="1817640"/>
          </a:xfrm>
          <a:custGeom>
            <a:avLst/>
            <a:gdLst>
              <a:gd name="textAreaLeft" fmla="*/ 330120 w 2468520"/>
              <a:gd name="textAreaRight" fmla="*/ 2138400 w 2468520"/>
              <a:gd name="textAreaTop" fmla="*/ 243000 h 1817640"/>
              <a:gd name="textAreaBottom" fmla="*/ 1574640 h 181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78" y="21600"/>
                </a:lnTo>
                <a:lnTo>
                  <a:pt x="1942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9933"/>
              </a:gs>
              <a:gs pos="100000">
                <a:srgbClr val="ffcc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4"/>
          <p:cNvSpPr/>
          <p:nvPr/>
        </p:nvSpPr>
        <p:spPr>
          <a:xfrm rot="16200000">
            <a:off x="1154160" y="3579480"/>
            <a:ext cx="2459160" cy="236520"/>
          </a:xfrm>
          <a:custGeom>
            <a:avLst/>
            <a:gdLst>
              <a:gd name="textAreaLeft" fmla="*/ 303120 w 2459160"/>
              <a:gd name="textAreaRight" fmla="*/ 2156040 w 2459160"/>
              <a:gd name="textAreaTop" fmla="*/ 29160 h 236520"/>
              <a:gd name="textAreaBottom" fmla="*/ 207360 h 23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0" y="21600"/>
                </a:lnTo>
                <a:lnTo>
                  <a:pt x="1987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00">
                  <a:alpha val="25098"/>
                </a:srgbClr>
              </a:gs>
              <a:gs pos="100000">
                <a:srgbClr val="5f5f5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419040" y="2708280"/>
            <a:ext cx="179064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冬季作业情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满意度情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1346040" y="3825720"/>
            <a:ext cx="85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ffff"/>
                </a:solidFill>
                <a:latin typeface="Times New Roman"/>
                <a:ea typeface="黑体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7"/>
          <p:cNvSpPr/>
          <p:nvPr/>
        </p:nvSpPr>
        <p:spPr>
          <a:xfrm>
            <a:off x="2508120" y="1486080"/>
            <a:ext cx="5664240" cy="1439640"/>
          </a:xfrm>
          <a:prstGeom prst="roundRect">
            <a:avLst>
              <a:gd name="adj" fmla="val 13125"/>
            </a:avLst>
          </a:prstGeom>
          <a:gradFill rotWithShape="0">
            <a:gsLst>
              <a:gs pos="0">
                <a:srgbClr val="f2f2f2"/>
              </a:gs>
              <a:gs pos="100000">
                <a:srgbClr val="dddddd"/>
              </a:gs>
            </a:gsLst>
            <a:lin ang="5400000"/>
          </a:gradFill>
          <a:ln w="3240">
            <a:solidFill>
              <a:srgbClr val="969696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现保有车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6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台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冬季停工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华文细黑"/>
              </a:rPr>
              <a:t>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台    暂不确定车辆：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冬季不停工车辆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华文细黑"/>
              </a:rPr>
              <a:t>1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华文细黑"/>
              </a:rPr>
              <a:t>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8"/>
          <p:cNvSpPr/>
          <p:nvPr/>
        </p:nvSpPr>
        <p:spPr>
          <a:xfrm>
            <a:off x="2508120" y="3068640"/>
            <a:ext cx="5664240" cy="3456000"/>
          </a:xfrm>
          <a:prstGeom prst="roundRect">
            <a:avLst>
              <a:gd name="adj" fmla="val 13125"/>
            </a:avLst>
          </a:prstGeom>
          <a:gradFill rotWithShape="0">
            <a:gsLst>
              <a:gs pos="0">
                <a:srgbClr val="f2f2f2"/>
              </a:gs>
              <a:gs pos="100000">
                <a:srgbClr val="dddddd"/>
              </a:gs>
            </a:gsLst>
            <a:lin ang="5400000"/>
          </a:gradFill>
          <a:ln w="3240">
            <a:solidFill>
              <a:srgbClr val="969696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在走访中，向客户说明走访的重要性，使其理解我们的工作，配合我们的工作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尽量留下司机的电话，并确保其准确性，以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4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回访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满意度情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月份将有所上升，但我们会继续努力，争取满意度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100%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4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互相督促，共同进步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06280" y="3236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零件销售对比情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Object 3"/>
          <p:cNvGraphicFramePr/>
          <p:nvPr/>
        </p:nvGraphicFramePr>
        <p:xfrm>
          <a:off x="701640" y="1449360"/>
          <a:ext cx="8099640" cy="373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2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1640" y="1449360"/>
                    <a:ext cx="809964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Text Box 4"/>
          <p:cNvSpPr/>
          <p:nvPr/>
        </p:nvSpPr>
        <p:spPr>
          <a:xfrm>
            <a:off x="3055680" y="5229360"/>
            <a:ext cx="3319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009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年实绩零件销售额为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8495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01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年实绩零件销售额为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80004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计划达成率为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66.7%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同期增长率为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-5.8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06280" y="27900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服务工时费对比情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Object 3" descr=""/>
          <p:cNvPicPr/>
          <p:nvPr/>
        </p:nvPicPr>
        <p:blipFill>
          <a:blip r:embed="rId2"/>
          <a:stretch/>
        </p:blipFill>
        <p:spPr>
          <a:xfrm>
            <a:off x="836640" y="1314360"/>
            <a:ext cx="7785000" cy="3915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3594240" y="5948280"/>
            <a:ext cx="311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3056400" y="5229360"/>
            <a:ext cx="3191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009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年实绩服务工时费为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49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01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年实绩服务工时费为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81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计划达成率为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40.4%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同期增长率为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2.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0T01:01:12Z</dcterms:created>
  <dc:creator/>
  <dc:description/>
  <dc:language>en-US</dc:language>
  <cp:lastModifiedBy>king</cp:lastModifiedBy>
  <cp:lastPrinted>1899-12-30T00:00:00Z</cp:lastPrinted>
  <dcterms:modified xsi:type="dcterms:W3CDTF">2014-02-05T01:19:44Z</dcterms:modified>
  <cp:revision>1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</Properties>
</file>