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3.gif" ContentType="image/gif"/>
  <Override PartName="/ppt/media/image21.gif" ContentType="image/gif"/>
  <Override PartName="/ppt/media/image19.jpeg" ContentType="image/jpeg"/>
  <Override PartName="/ppt/media/image2.gif" ContentType="image/gif"/>
  <Override PartName="/ppt/media/image17.gif" ContentType="image/gif"/>
  <Override PartName="/ppt/media/image16.gif" ContentType="image/gif"/>
  <Override PartName="/ppt/media/image24.jpeg" ContentType="image/jpeg"/>
  <Override PartName="/ppt/media/image30.jpeg" ContentType="image/jpeg"/>
  <Override PartName="/ppt/media/image12.gif" ContentType="image/gif"/>
  <Override PartName="/ppt/media/image9.jpeg" ContentType="image/jpeg"/>
  <Override PartName="/ppt/media/image36.jpeg" ContentType="image/jpeg"/>
  <Override PartName="/ppt/media/image11.jpeg" ContentType="image/jpeg"/>
  <Override PartName="/ppt/media/image31.gif" ContentType="image/gif"/>
  <Override PartName="/ppt/media/image6.gif" ContentType="image/gif"/>
  <Override PartName="/ppt/media/image29.gif" ContentType="image/gif"/>
  <Override PartName="/ppt/media/image20.gif" ContentType="image/gif"/>
  <Override PartName="/ppt/media/image13.jpeg" ContentType="image/jpeg"/>
  <Override PartName="/ppt/media/image7.gif" ContentType="image/gif"/>
  <Override PartName="/ppt/media/image32.jpeg" ContentType="image/jpeg"/>
  <Override PartName="/ppt/media/image26.jpeg" ContentType="image/jpeg"/>
  <Override PartName="/ppt/media/image10.gif" ContentType="image/gif"/>
  <Override PartName="/ppt/media/image34.gif" ContentType="image/gif"/>
  <Override PartName="/ppt/media/image8.gif" ContentType="image/gif"/>
  <Override PartName="/ppt/media/image18.jpeg" ContentType="image/jpeg"/>
  <Override PartName="/ppt/media/image4.jpeg" ContentType="image/jpeg"/>
  <Override PartName="/ppt/media/image25.jpeg" ContentType="image/jpeg"/>
  <Override PartName="/ppt/media/image33.gif" ContentType="image/gif"/>
  <Override PartName="/ppt/media/image3.gif" ContentType="image/gif"/>
  <Override PartName="/ppt/media/image35.jpeg" ContentType="image/jpeg"/>
  <Override PartName="/ppt/media/image1.jpeg" ContentType="image/jpeg"/>
  <Override PartName="/ppt/media/image22.jpeg" ContentType="image/jpeg"/>
  <Override PartName="/ppt/media/image28.jpeg" ContentType="image/jpeg"/>
  <Override PartName="/ppt/media/image27.gif" ContentType="image/gif"/>
  <Override PartName="/ppt/media/image14.jpeg" ContentType="image/jpeg"/>
  <Override PartName="/ppt/media/image5.jpeg" ContentType="image/jpeg"/>
  <Override PartName="/ppt/media/image15.gif" ContentType="image/gif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995E-E4AE-44CE-9D11-B0941B9E6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96B6-778E-41D0-A0E3-62346ED1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5EA36-8A75-4A50-96F2-530A9164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47DFD-9019-43A9-8B63-80F6DD1E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DA775-3589-4420-B31F-81D338DE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98DDC-0E63-4AE8-B669-70D018BC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2F1976-F040-4118-86F7-4CEA8F3E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F700E-B91C-466A-AEA8-237C964D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C0A0D-1A43-4A04-B7DE-5BB703E9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9F123-259B-47D2-A9CA-8A1EAC5DE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7C485-500C-426B-88D8-9A02FBCE7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DB785D-9632-40DF-975D-8D8E30E48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3654-B1DE-4718-AA9C-E360192A7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EF1C93-17D8-4A6E-A4FB-A66FDBEE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71828-99D3-417A-9F56-62BC2D3B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223B4F-2769-49F0-B147-6104D2B1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D8F1B-237E-43DE-9592-AD298947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50169A-09EF-4E2D-9AD5-F7845884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8F1E9B-FE84-4EAB-9484-18EF7FD3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11601B-B0D5-458D-B631-C11B4A02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B6E194-1A6E-420D-8FCC-1C9FE133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E51563-37AE-4184-ADBC-D52D74B9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F09DE9-AC5C-4D2F-A79E-85E0F839A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5F46-3980-4FCA-B16E-2C2F377FB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1A7E3A-EDB1-46CA-B3C8-77ED7B8C3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CFC0B-CB25-49D2-81E6-2F62FBCE6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49DCD-7D3A-4676-8C6B-CE045AC2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40E4B-133E-4BE3-92DF-99429C6A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B9C3EE-97C3-4FD4-A978-425B8C4D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50FAD-E50D-4D10-AE1F-E545EDC7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45BF60-0894-45AB-AB81-B3DA58D6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AFA54-A54F-4679-939B-E85BFFE2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013028-17FE-4C43-B491-5234767D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96935-62B7-4601-8AC9-73851AC7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AEAA-5BBB-4393-9926-1180EFBA7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3CD3E-C782-4CD9-A053-3210FB45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63850-8F54-48B3-A590-998E72B8D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793F1-7A9C-42C0-9677-7325ADAA1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723733-A13D-4E18-AF78-7ABB4CC01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9BAD21-E7A8-4F4C-89BB-5EA83A3E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A32A58-A101-488D-BFCC-D90D33BF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C4DCA6-992E-4333-993A-34957A9D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E7B89E-22B7-4EF8-A181-A2084835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0BF7BC-19FD-428B-8DEE-71A8E332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78B2DA-7C57-4794-8664-295DFAB8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2C5D-ED2E-4BE8-8CA3-834ACB81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3FF9A5-3117-4CA3-8950-32940798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0AC842-72A1-48EA-A413-F9D857BE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DFC2C7-35B6-46E8-A66D-31263E73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21FA98-E9FE-403E-9F09-2F2C05A72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DE8E08-4E6A-4639-8507-07CF22271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4202BF-8BF7-4DF3-A0E5-37AF6A66A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415C95-6A41-47FA-8975-6581D595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B4C983-B479-42B2-8E38-58949E6A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C36C17-EB48-4BB9-9A34-CE168CFB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8D5386-1765-41D9-A200-EF55A54E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01E0-6199-4727-AD73-57FBBA11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C5F0EE-CD20-4D5B-80EF-A6A7454A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298777-9DA1-4ED8-9E9D-1464F2E3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DE96D0-A42B-4C77-AFFF-B634D492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C0D8BA-3AA8-463E-B7A9-A0852863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ABB0A5-CC32-4881-8FA0-692E62B1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4D612E-C179-4E0A-B3E0-906A04AED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952301-0969-44AC-8BA8-DE4473FBA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006CBD-DD72-41EC-94E3-05DDA65FB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910EE2-F673-4AF4-92B4-494AE233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EE5175-2B46-4BA0-8B97-7308B54F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4DAB-5E94-4140-9CA8-1D0B4812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BB04AC-2C94-4B9D-82D3-84D7B387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F8375D-4E91-449E-81B6-E08A0F75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370E2F-2A67-41E3-B53E-A72367D4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7FA374-8B4E-4EDC-B283-5C5F3C67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746362-6990-4399-8A1C-3B46FFE9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9704E7-00E0-4B7A-BE43-32637761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ECDB8F-A782-4D83-B0F2-649AD020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921485-FDDE-4509-BB3C-7650D1AB5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9DDD3E-2E46-4DB5-95A7-985413E31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4591FA-6E41-4221-867E-A813B3AB9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0E5D-2604-46F4-A8AD-D4D42488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7ECFDB-41F8-40D3-8B59-D0E225B5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4A5C92-D5FD-4BE1-ABE6-53724B8F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CEFA75-7369-4D8D-BA58-28866E49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91A647-4978-4B89-8F2B-8A0F10E0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377412-4FDC-4357-99D0-EA20665F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8ACE46-2C37-405F-9EBA-F4048D83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67424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572D99-71BB-4B84-82E1-D31EA877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EE2396-AEA7-486A-9DF2-48EDA45E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720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A49470-CF81-41CB-8359-E5B1ED8A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67424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6383DB-68C4-445D-9FEC-38E995650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A977-DCAF-4A7C-A316-82B56C2C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572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23964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02208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5202E2-BD42-4C96-898B-291F3B63F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8D862F-197E-4FE3-8849-5AADB3453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56D6F5-176A-432C-A1F9-BEB00AC7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B3FA34-24AD-4039-98C6-A17D67FA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E620F5-CACC-4686-BA48-A8D0CD6D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2C8C7F-998A-462B-8C52-7DC5139E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EC2DB5-EBDF-4CB8-9E4A-57D850D1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999E18-EDA9-45CA-BDF9-0506DC37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ED4F0E-2CB3-495E-8539-A71F244E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9C43DC-F1F1-46A5-A85C-B71A3A20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F00E-01E2-44A1-ABB0-BCF7623D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C1D913-A469-423D-BC9B-20577AC7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04E69A-0E14-4C74-9676-24A398D52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D59964-2294-441D-A971-9D8A308AC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4CB2-B15A-4BB7-972F-79F02E6C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7F9C-A168-4F80-95E6-50D102DB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E308-E420-46F7-8DA4-763C16F7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CA87-D69B-493E-98FF-3C2FBE9B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726D-1531-4FF6-BFA0-04AB08A2A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2AB5-2CDE-4C0D-8BA9-BCCF6FF01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0DDDB-B962-4E01-A352-F3313C665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70D6D-833A-4251-AE05-0DB5A90C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7DC1E-9630-48B1-A835-EF3A40D3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9569B-1C41-4B70-AC27-609C362A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C8691-BD46-4BB4-89D5-C32ECFFD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B156-E2C8-4C85-849E-2411A08C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D26CF-E8BB-4427-806C-7EDE68B1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B9628-D394-49F2-BCDD-83E136A4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40636-1A50-44C7-A361-68383AF9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3E483-0B1C-46ED-9F3E-E14B8487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3A3BD-3DD1-4B5D-88CA-B4D0F670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3660B-D947-4120-869E-8052B974B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212F7-FA32-4C9B-BE34-605F3FAA1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43D0A-08D1-4B2E-8F16-7014E6DD4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EC3D6-407F-4382-ABE5-CAE74F18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B0B2F-4AD5-4F0B-B554-23300986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D737-C582-4E13-A12A-4289CC07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29A74-2F44-4093-A6C1-38E7D5C1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F965D-76F8-4A79-92C3-C05D3224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250D3-7729-4AE9-9057-96D3745D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A54BC-1473-4632-8FBE-C43DE8D9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1F8AC-3CFC-4E3F-8029-6ABFE678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504BB-AAF8-4506-B82E-F6F5E919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44C49-2FA5-490E-996D-7C66770F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10A77-572C-46FC-9567-28939A370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E6087-DB59-4549-933F-3191CA899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E27C8-B11D-4E4F-BAC1-58553E7F2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5CBB-AC8D-487B-AF5F-1594AA29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20558-64C3-4D6D-90D9-46FC7FF8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83D76-2042-4AF2-9ADE-5F2FDBA7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558BE-30D0-4660-B5F6-D20947B5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56E26-A851-41AA-8C7E-77CE8EB9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C63C0-9E4B-4443-8837-C1950FA6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85F46-58C7-4A51-B630-43BF0711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21251-7B9A-4258-B0B0-4FC2B176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FBDFB-DCAF-4F8E-AC14-2EBE5A65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ED6E0-C8D6-41AA-8F63-7E19F1DA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2C078-0802-4D09-97E2-DAC3A88C9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565B-07D3-47AD-9CDA-479AEFA9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CC0BA-CA59-43D4-AF98-E682D2AD3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9EA25-1F3A-4E3F-BEDA-0DB5AAFAC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E315D-3898-4498-8420-6237103C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88770-75AD-478C-879E-51778DAF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EA5E5-F20C-445E-8A27-519EC434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7E950-11E7-40B6-BB10-334DCB33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CEB65-84C2-4BE3-9561-730ADCE4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3FA38-E8DD-49AC-9C24-7E4F60C1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041E7-381A-42BE-BF5E-76992879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61ADB-29D0-4B4D-BC17-C56EA9B7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8355-F86B-4389-9B92-63A394C0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257A8-E203-47ED-977E-A6ACAF01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E6BAB-FD25-4796-BDF3-E33BD8A50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74EFE-C605-4674-A097-25CE46877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96CF5-AAEB-4DA3-A7A7-3B1094682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ED706-B3E0-421D-A2F1-D48AE285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3B8EB-F921-4B51-AF53-3063ACB3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256E2-6006-4B0C-8489-034100B9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80951-2EC0-4C12-BEF1-9C530049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B10FF-7B0A-4B36-A9D8-78BEFD0E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F9682-6437-46C8-A4BF-C3B85096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6308-595C-47F3-9FB9-F810AB45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8E5EE-5313-4BFE-A06D-91A19046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A7FA0-19F8-4308-B282-A842F220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0AA93-E548-425D-8D30-50842578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943A5-B494-4853-AE1C-3E939CC39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007E6-24B3-4372-B15D-62EA2C878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15B3B-CA02-4B50-B2DC-89615483A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DA79A-0C6D-497A-9696-B61169A6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A4F20-0E13-4368-B693-B2F9C59B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16B92-071D-4C9D-A258-0DF135FB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5F5DC-F2FA-43F3-8112-3262C947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22F2-D567-440C-9407-C4411E09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59B13-E4D4-4B92-94A8-28A1612F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57772-D4CD-4325-A5B5-CF5F0A87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2EAC7-96A6-4875-9DFB-50A557D2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7ADB9-39DE-46F8-B77B-0C60E05D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86470-50DE-49FB-B1F9-D6CCC3CB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359FE-1AF8-44FA-97C7-543D96B0F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05864-FA7F-43F1-871D-5C63FAAAD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A4BBD-6DC4-454C-8319-670F7F81E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46D96C-1168-4D61-94DB-1D0C185B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7AB923-CBCD-4F26-9AE0-8474FAF4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0.jpe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2.jpeg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4.gif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gif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0.gif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2.gif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1119207597cd14f316o"/>
          <p:cNvPicPr/>
          <p:nvPr/>
        </p:nvPicPr>
        <p:blipFill>
          <a:blip r:embed="rId2"/>
          <a:srcRect l="48734" t="0" r="10154" b="0"/>
          <a:stretch/>
        </p:blipFill>
        <p:spPr>
          <a:xfrm>
            <a:off x="7086600" y="4307040"/>
            <a:ext cx="2057400" cy="25509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1119207597cd14f316o"/>
          <p:cNvPicPr/>
          <p:nvPr/>
        </p:nvPicPr>
        <p:blipFill>
          <a:blip r:embed="rId3"/>
          <a:srcRect l="10663" t="0" r="51270" b="0"/>
          <a:stretch/>
        </p:blipFill>
        <p:spPr>
          <a:xfrm>
            <a:off x="0" y="4307040"/>
            <a:ext cx="1905120" cy="2550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E69C-5701-46D4-8715-7A079F300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20100327112640297"/>
          <p:cNvPicPr/>
          <p:nvPr/>
        </p:nvPicPr>
        <p:blipFill>
          <a:blip r:embed="rId4"/>
          <a:stretch/>
        </p:blipFill>
        <p:spPr>
          <a:xfrm rot="19669800">
            <a:off x="151920" y="456840"/>
            <a:ext cx="1809720" cy="857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10" descr="20091011142334746"/>
          <p:cNvPicPr/>
          <p:nvPr/>
        </p:nvPicPr>
        <p:blipFill>
          <a:blip r:embed="rId2"/>
          <a:stretch/>
        </p:blipFill>
        <p:spPr>
          <a:xfrm>
            <a:off x="0" y="4419720"/>
            <a:ext cx="762120" cy="24382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9" descr="20091011142334746"/>
          <p:cNvPicPr/>
          <p:nvPr/>
        </p:nvPicPr>
        <p:blipFill>
          <a:blip r:embed="rId3"/>
          <a:stretch/>
        </p:blipFill>
        <p:spPr>
          <a:xfrm>
            <a:off x="8381880" y="4419720"/>
            <a:ext cx="762120" cy="24382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" descr="11293042804a9d71aao"/>
          <p:cNvPicPr/>
          <p:nvPr/>
        </p:nvPicPr>
        <p:blipFill>
          <a:blip r:embed="rId4"/>
          <a:srcRect l="0" t="0" r="51626" b="0"/>
          <a:stretch/>
        </p:blipFill>
        <p:spPr>
          <a:xfrm>
            <a:off x="914400" y="5307120"/>
            <a:ext cx="1371600" cy="15508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8" descr="11293042804a9d71aao"/>
          <p:cNvPicPr/>
          <p:nvPr/>
        </p:nvPicPr>
        <p:blipFill>
          <a:blip r:embed="rId5"/>
          <a:srcRect l="51067" t="0" r="0" b="0"/>
          <a:stretch/>
        </p:blipFill>
        <p:spPr>
          <a:xfrm>
            <a:off x="7010280" y="5307120"/>
            <a:ext cx="1387440" cy="155088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7372-7055-4766-A7EC-2C2F53ADB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10" descr="20091011142344663"/>
          <p:cNvPicPr/>
          <p:nvPr/>
        </p:nvPicPr>
        <p:blipFill>
          <a:blip r:embed="rId2"/>
          <a:stretch/>
        </p:blipFill>
        <p:spPr>
          <a:xfrm>
            <a:off x="8229600" y="3581280"/>
            <a:ext cx="762120" cy="18957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9" descr="20091011142344663"/>
          <p:cNvPicPr/>
          <p:nvPr/>
        </p:nvPicPr>
        <p:blipFill>
          <a:blip r:embed="rId3"/>
          <a:stretch/>
        </p:blipFill>
        <p:spPr>
          <a:xfrm>
            <a:off x="228600" y="3581280"/>
            <a:ext cx="762120" cy="189576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7" descr="11293042867fdb46c9o"/>
          <p:cNvPicPr/>
          <p:nvPr/>
        </p:nvPicPr>
        <p:blipFill>
          <a:blip r:embed="rId4"/>
          <a:srcRect l="54641" t="0" r="0" b="0"/>
          <a:stretch/>
        </p:blipFill>
        <p:spPr>
          <a:xfrm>
            <a:off x="7878600" y="5160960"/>
            <a:ext cx="1265400" cy="16970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8" descr="11293042867fdb46c9o"/>
          <p:cNvPicPr/>
          <p:nvPr/>
        </p:nvPicPr>
        <p:blipFill>
          <a:blip r:embed="rId5"/>
          <a:srcRect l="0" t="15383" r="48094" b="0"/>
          <a:stretch/>
        </p:blipFill>
        <p:spPr>
          <a:xfrm>
            <a:off x="0" y="5181480"/>
            <a:ext cx="1690560" cy="167652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6B4F-2A2E-4265-8C55-122657D6A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7" descr="11308307041b8f4fc5o"/>
          <p:cNvPicPr/>
          <p:nvPr/>
        </p:nvPicPr>
        <p:blipFill>
          <a:blip r:embed="rId2"/>
          <a:srcRect l="0" t="0" r="50985" b="0"/>
          <a:stretch/>
        </p:blipFill>
        <p:spPr>
          <a:xfrm>
            <a:off x="0" y="5213520"/>
            <a:ext cx="1587600" cy="16444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8" descr="11308307041b8f4fc5o"/>
          <p:cNvPicPr/>
          <p:nvPr/>
        </p:nvPicPr>
        <p:blipFill>
          <a:blip r:embed="rId3"/>
          <a:srcRect l="49019" t="0" r="0" b="0"/>
          <a:stretch/>
        </p:blipFill>
        <p:spPr>
          <a:xfrm>
            <a:off x="7493040" y="5213520"/>
            <a:ext cx="1650960" cy="164448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CD8B-F66E-4A42-893A-2DE08628A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Picture 9" descr="20091229030511833"/>
          <p:cNvPicPr/>
          <p:nvPr/>
        </p:nvPicPr>
        <p:blipFill>
          <a:blip r:embed="rId4"/>
          <a:stretch/>
        </p:blipFill>
        <p:spPr>
          <a:xfrm>
            <a:off x="2666880" y="5905440"/>
            <a:ext cx="3810240" cy="952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7" descr="113317553014595073l"/>
          <p:cNvPicPr/>
          <p:nvPr/>
        </p:nvPicPr>
        <p:blipFill>
          <a:blip r:embed="rId2"/>
          <a:srcRect l="57600" t="0" r="0" b="0"/>
          <a:stretch/>
        </p:blipFill>
        <p:spPr>
          <a:xfrm>
            <a:off x="7516800" y="4422600"/>
            <a:ext cx="1627200" cy="24354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8" descr="113317553014595073l"/>
          <p:cNvPicPr/>
          <p:nvPr/>
        </p:nvPicPr>
        <p:blipFill>
          <a:blip r:embed="rId3"/>
          <a:srcRect l="0" t="0" r="74188" b="9389"/>
          <a:stretch/>
        </p:blipFill>
        <p:spPr>
          <a:xfrm>
            <a:off x="0" y="4651200"/>
            <a:ext cx="990720" cy="220680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5336-EC2A-424C-90A2-DDF20BD72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9" descr="20100513233734348"/>
          <p:cNvPicPr/>
          <p:nvPr/>
        </p:nvPicPr>
        <p:blipFill>
          <a:blip r:embed="rId4"/>
          <a:stretch/>
        </p:blipFill>
        <p:spPr>
          <a:xfrm rot="1226400">
            <a:off x="7872120" y="239760"/>
            <a:ext cx="10206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7" descr="112574585186169d60l"/>
          <p:cNvPicPr/>
          <p:nvPr/>
        </p:nvPicPr>
        <p:blipFill>
          <a:blip r:embed="rId2"/>
          <a:srcRect l="0" t="21019" r="0" b="13306"/>
          <a:stretch/>
        </p:blipFill>
        <p:spPr>
          <a:xfrm>
            <a:off x="2819520" y="2438280"/>
            <a:ext cx="3111480" cy="1905120"/>
          </a:xfrm>
          <a:prstGeom prst="rect">
            <a:avLst/>
          </a:prstGeom>
          <a:ln w="0">
            <a:noFill/>
          </a:ln>
        </p:spPr>
      </p:pic>
      <p:sp>
        <p:nvSpPr>
          <p:cNvPr id="57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8" descr="20091011142344439"/>
          <p:cNvPicPr/>
          <p:nvPr/>
        </p:nvPicPr>
        <p:blipFill>
          <a:blip r:embed="rId3"/>
          <a:stretch/>
        </p:blipFill>
        <p:spPr>
          <a:xfrm>
            <a:off x="3733920" y="0"/>
            <a:ext cx="1176120" cy="285768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84A8-50AD-4DC3-9F35-74A08A234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7" descr="11294955844a267be6l"/>
          <p:cNvPicPr/>
          <p:nvPr/>
        </p:nvPicPr>
        <p:blipFill>
          <a:blip r:embed="rId2"/>
          <a:stretch/>
        </p:blipFill>
        <p:spPr>
          <a:xfrm>
            <a:off x="3048120" y="1295280"/>
            <a:ext cx="3006720" cy="451188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A5B6-CC32-48E4-80A7-D7E976F02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6" name="Picture 9" descr="20100513233733586"/>
          <p:cNvPicPr/>
          <p:nvPr/>
        </p:nvPicPr>
        <p:blipFill>
          <a:blip r:embed="rId3"/>
          <a:stretch/>
        </p:blipFill>
        <p:spPr>
          <a:xfrm rot="865800">
            <a:off x="5638320" y="1294920"/>
            <a:ext cx="833400" cy="234324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5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8" descr="20091229030511517"/>
          <p:cNvPicPr/>
          <p:nvPr/>
        </p:nvPicPr>
        <p:blipFill>
          <a:blip r:embed="rId2"/>
          <a:stretch/>
        </p:blipFill>
        <p:spPr>
          <a:xfrm>
            <a:off x="457200" y="228600"/>
            <a:ext cx="2971800" cy="204300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7" descr="11302403162a2193c5l"/>
          <p:cNvPicPr/>
          <p:nvPr/>
        </p:nvPicPr>
        <p:blipFill>
          <a:blip r:embed="rId3"/>
          <a:stretch/>
        </p:blipFill>
        <p:spPr>
          <a:xfrm>
            <a:off x="4572000" y="3565440"/>
            <a:ext cx="4572000" cy="329256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C974-96EE-4413-A4D7-A81E47CEC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9" descr="20100402210213880"/>
          <p:cNvPicPr/>
          <p:nvPr/>
        </p:nvPicPr>
        <p:blipFill>
          <a:blip r:embed="rId2"/>
          <a:stretch/>
        </p:blipFill>
        <p:spPr>
          <a:xfrm>
            <a:off x="228600" y="0"/>
            <a:ext cx="1752480" cy="1501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1129113158dd5286a2l"/>
          <p:cNvPicPr/>
          <p:nvPr/>
        </p:nvPicPr>
        <p:blipFill>
          <a:blip r:embed="rId3"/>
          <a:srcRect l="0" t="0" r="50184" b="0"/>
          <a:stretch/>
        </p:blipFill>
        <p:spPr>
          <a:xfrm>
            <a:off x="0" y="4648320"/>
            <a:ext cx="1886040" cy="2209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1129113158dd5286a2l"/>
          <p:cNvPicPr/>
          <p:nvPr/>
        </p:nvPicPr>
        <p:blipFill>
          <a:blip r:embed="rId4"/>
          <a:srcRect l="49413" t="0" r="0" b="0"/>
          <a:stretch/>
        </p:blipFill>
        <p:spPr>
          <a:xfrm>
            <a:off x="7229520" y="4648320"/>
            <a:ext cx="1914480" cy="2209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C400-1B3B-474A-8CB0-D88D339DB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8" descr="1129116834cd617168o"/>
          <p:cNvPicPr/>
          <p:nvPr/>
        </p:nvPicPr>
        <p:blipFill>
          <a:blip r:embed="rId2"/>
          <a:srcRect l="49727" t="0" r="0" b="0"/>
          <a:stretch/>
        </p:blipFill>
        <p:spPr>
          <a:xfrm>
            <a:off x="7551720" y="5342040"/>
            <a:ext cx="1592280" cy="1515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1129116834cd617168o"/>
          <p:cNvPicPr/>
          <p:nvPr/>
        </p:nvPicPr>
        <p:blipFill>
          <a:blip r:embed="rId3"/>
          <a:srcRect l="0" t="0" r="49477" b="0"/>
          <a:stretch/>
        </p:blipFill>
        <p:spPr>
          <a:xfrm>
            <a:off x="0" y="5342040"/>
            <a:ext cx="1600200" cy="15159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A2A6-EF2B-45A2-A81A-56C9BB703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9" descr="20090831032149674"/>
          <p:cNvPicPr/>
          <p:nvPr/>
        </p:nvPicPr>
        <p:blipFill>
          <a:blip r:embed="rId4"/>
          <a:stretch/>
        </p:blipFill>
        <p:spPr>
          <a:xfrm rot="2645400">
            <a:off x="1294920" y="4038480"/>
            <a:ext cx="723960" cy="1428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20090831032149674"/>
          <p:cNvPicPr/>
          <p:nvPr/>
        </p:nvPicPr>
        <p:blipFill>
          <a:blip r:embed="rId5"/>
          <a:stretch/>
        </p:blipFill>
        <p:spPr>
          <a:xfrm flipH="1" rot="19243800">
            <a:off x="7009920" y="4114800"/>
            <a:ext cx="800280" cy="1429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20100327112640677"/>
          <p:cNvPicPr/>
          <p:nvPr/>
        </p:nvPicPr>
        <p:blipFill>
          <a:blip r:embed="rId6"/>
          <a:stretch/>
        </p:blipFill>
        <p:spPr>
          <a:xfrm>
            <a:off x="0" y="380880"/>
            <a:ext cx="2190600" cy="103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0" descr="20091011142336688"/>
          <p:cNvPicPr/>
          <p:nvPr/>
        </p:nvPicPr>
        <p:blipFill>
          <a:blip r:embed="rId2"/>
          <a:stretch/>
        </p:blipFill>
        <p:spPr>
          <a:xfrm rot="20474400">
            <a:off x="609480" y="228240"/>
            <a:ext cx="1013040" cy="2909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1130830706c411f92eo"/>
          <p:cNvPicPr/>
          <p:nvPr/>
        </p:nvPicPr>
        <p:blipFill>
          <a:blip r:embed="rId3"/>
          <a:srcRect l="49414" t="0" r="0" b="0"/>
          <a:stretch/>
        </p:blipFill>
        <p:spPr>
          <a:xfrm>
            <a:off x="7505640" y="5213520"/>
            <a:ext cx="1638360" cy="1644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1130830706c411f92eo"/>
          <p:cNvPicPr/>
          <p:nvPr/>
        </p:nvPicPr>
        <p:blipFill>
          <a:blip r:embed="rId4"/>
          <a:srcRect l="0" t="0" r="50590" b="0"/>
          <a:stretch/>
        </p:blipFill>
        <p:spPr>
          <a:xfrm>
            <a:off x="0" y="5213520"/>
            <a:ext cx="1600200" cy="16444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6B5E-7110-4ED8-B910-B5AC549AB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9" descr="20090831032149714"/>
          <p:cNvPicPr/>
          <p:nvPr/>
        </p:nvPicPr>
        <p:blipFill>
          <a:blip r:embed="rId2"/>
          <a:stretch/>
        </p:blipFill>
        <p:spPr>
          <a:xfrm rot="1120800">
            <a:off x="7467480" y="228600"/>
            <a:ext cx="1268640" cy="2614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1130830707bf345b8fo"/>
          <p:cNvPicPr/>
          <p:nvPr/>
        </p:nvPicPr>
        <p:blipFill>
          <a:blip r:embed="rId3"/>
          <a:srcRect l="0" t="0" r="50590" b="0"/>
          <a:stretch/>
        </p:blipFill>
        <p:spPr>
          <a:xfrm>
            <a:off x="0" y="5213520"/>
            <a:ext cx="1600200" cy="1644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1130830707bf345b8fo"/>
          <p:cNvPicPr/>
          <p:nvPr/>
        </p:nvPicPr>
        <p:blipFill>
          <a:blip r:embed="rId4"/>
          <a:srcRect l="49414" t="0" r="0" b="0"/>
          <a:stretch/>
        </p:blipFill>
        <p:spPr>
          <a:xfrm>
            <a:off x="7505640" y="5213520"/>
            <a:ext cx="1638360" cy="164448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9D5D-3738-440E-9512-58F715DAF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9" descr="20091011142334500"/>
          <p:cNvPicPr/>
          <p:nvPr/>
        </p:nvPicPr>
        <p:blipFill>
          <a:blip r:embed="rId2"/>
          <a:stretch/>
        </p:blipFill>
        <p:spPr>
          <a:xfrm rot="21034200">
            <a:off x="304920" y="228240"/>
            <a:ext cx="957240" cy="27860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1130830708a6f20fe4o"/>
          <p:cNvPicPr/>
          <p:nvPr/>
        </p:nvPicPr>
        <p:blipFill>
          <a:blip r:embed="rId3"/>
          <a:srcRect l="49019" t="0" r="0" b="0"/>
          <a:stretch/>
        </p:blipFill>
        <p:spPr>
          <a:xfrm>
            <a:off x="7493040" y="5213520"/>
            <a:ext cx="1650960" cy="1644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1130830708a6f20fe4o"/>
          <p:cNvPicPr/>
          <p:nvPr/>
        </p:nvPicPr>
        <p:blipFill>
          <a:blip r:embed="rId4"/>
          <a:srcRect l="0" t="0" r="50985" b="0"/>
          <a:stretch/>
        </p:blipFill>
        <p:spPr>
          <a:xfrm>
            <a:off x="0" y="5213520"/>
            <a:ext cx="1587600" cy="16444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4436-61D9-4A0C-B21C-F390D00C8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8" descr="1130830710b02cbeaao"/>
          <p:cNvPicPr/>
          <p:nvPr/>
        </p:nvPicPr>
        <p:blipFill>
          <a:blip r:embed="rId2"/>
          <a:srcRect l="49019" t="0" r="0" b="0"/>
          <a:stretch/>
        </p:blipFill>
        <p:spPr>
          <a:xfrm>
            <a:off x="7493040" y="5213520"/>
            <a:ext cx="1650960" cy="16444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1130830710b02cbeaao"/>
          <p:cNvPicPr/>
          <p:nvPr/>
        </p:nvPicPr>
        <p:blipFill>
          <a:blip r:embed="rId3"/>
          <a:srcRect l="0" t="0" r="50985" b="0"/>
          <a:stretch/>
        </p:blipFill>
        <p:spPr>
          <a:xfrm>
            <a:off x="0" y="5213520"/>
            <a:ext cx="1587600" cy="164448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B616-69F1-4026-850A-4583AFBA1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9" descr="20091011142330370"/>
          <p:cNvPicPr/>
          <p:nvPr/>
        </p:nvPicPr>
        <p:blipFill>
          <a:blip r:embed="rId4"/>
          <a:stretch/>
        </p:blipFill>
        <p:spPr>
          <a:xfrm rot="1297800">
            <a:off x="7783200" y="185760"/>
            <a:ext cx="896760" cy="175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9" descr="20090831032148857"/>
          <p:cNvPicPr/>
          <p:nvPr/>
        </p:nvPicPr>
        <p:blipFill>
          <a:blip r:embed="rId2"/>
          <a:stretch/>
        </p:blipFill>
        <p:spPr>
          <a:xfrm>
            <a:off x="0" y="3276720"/>
            <a:ext cx="762120" cy="19810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0" descr="20091011142334830"/>
          <p:cNvPicPr/>
          <p:nvPr/>
        </p:nvPicPr>
        <p:blipFill>
          <a:blip r:embed="rId3"/>
          <a:stretch/>
        </p:blipFill>
        <p:spPr>
          <a:xfrm>
            <a:off x="8458200" y="3505320"/>
            <a:ext cx="488880" cy="18190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8" descr="1130830714a2808fc5o"/>
          <p:cNvPicPr/>
          <p:nvPr/>
        </p:nvPicPr>
        <p:blipFill>
          <a:blip r:embed="rId4"/>
          <a:srcRect l="49019" t="0" r="0" b="0"/>
          <a:stretch/>
        </p:blipFill>
        <p:spPr>
          <a:xfrm>
            <a:off x="7493040" y="5213520"/>
            <a:ext cx="1650960" cy="16444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1130830714a2808fc5o"/>
          <p:cNvPicPr/>
          <p:nvPr/>
        </p:nvPicPr>
        <p:blipFill>
          <a:blip r:embed="rId5"/>
          <a:srcRect l="0" t="0" r="48629" b="0"/>
          <a:stretch/>
        </p:blipFill>
        <p:spPr>
          <a:xfrm>
            <a:off x="0" y="5213520"/>
            <a:ext cx="1663560" cy="164448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0F9A-5D37-4878-AF1B-35F012F95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7" descr="1130835357c6f0a019l"/>
          <p:cNvPicPr/>
          <p:nvPr/>
        </p:nvPicPr>
        <p:blipFill>
          <a:blip r:embed="rId2"/>
          <a:srcRect l="47923" t="0" r="10413" b="10999"/>
          <a:stretch/>
        </p:blipFill>
        <p:spPr>
          <a:xfrm>
            <a:off x="7620120" y="3505320"/>
            <a:ext cx="1523880" cy="33526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8" descr="1130835357c6f0a019l"/>
          <p:cNvPicPr/>
          <p:nvPr/>
        </p:nvPicPr>
        <p:blipFill>
          <a:blip r:embed="rId3"/>
          <a:srcRect l="8337" t="0" r="54173" b="10999"/>
          <a:stretch/>
        </p:blipFill>
        <p:spPr>
          <a:xfrm>
            <a:off x="0" y="3505320"/>
            <a:ext cx="1371600" cy="335268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B872-59A3-4774-970F-E6075904F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Picture 9" descr="20091011142334729"/>
          <p:cNvPicPr/>
          <p:nvPr/>
        </p:nvPicPr>
        <p:blipFill>
          <a:blip r:embed="rId4"/>
          <a:stretch/>
        </p:blipFill>
        <p:spPr>
          <a:xfrm rot="20723400">
            <a:off x="259920" y="2057040"/>
            <a:ext cx="654120" cy="1847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0" descr="20091011142334729"/>
          <p:cNvPicPr/>
          <p:nvPr/>
        </p:nvPicPr>
        <p:blipFill>
          <a:blip r:embed="rId5"/>
          <a:stretch/>
        </p:blipFill>
        <p:spPr>
          <a:xfrm flipH="1" rot="482400">
            <a:off x="8305560" y="2133720"/>
            <a:ext cx="640800" cy="184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4" descr="狗狗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5-07-14T07:26:31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