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78F-19A6-4772-B89A-E1FFF746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FD1-6EE4-45E7-A3C8-28CB73D7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22A-B890-4AD6-A6CB-05BD52D3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439-A845-424E-BC54-13D0014F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B6DD-EF8F-40E2-8CC9-3DBA527B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FE90-AB97-4E80-AC26-B2811714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6A16-0A2B-48A8-A1D6-00522D4D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C195-A1F0-4A13-BC4D-4C158E8F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6EDB-EFBD-4F92-9369-B6D169E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664A-7C3D-4EC0-979F-F83E139E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3F53-654E-451F-BF14-36D2EB3D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1F4-8E96-46C8-BC3E-34307D4F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E649-BE5F-4715-9F62-C5AA0DD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AF21-53FA-4487-999D-F15DEF44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318C-A6C6-4E28-BA48-B813DA2C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7FAD-F1BE-4E61-852E-AFF2C460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BED8-6C7D-4789-AD42-D8BC11D2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A6C-9EBE-43FA-BE12-A519F2FD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50A-1A6A-465E-9455-6B326D9C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C12-D889-4F1A-B4DE-FEA00532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063-6536-45C5-B2B6-67299274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0BB-28D7-4281-9267-AA564A1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EEF-A5AB-47DB-8647-DED4FB41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70A-8E53-4986-8D17-0AB27D7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424D-5F19-4A14-ABA7-8A4E60C2D9F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AA1F-BCBF-4C8B-A54D-F4BB19E4D6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.wmf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0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" descr=""/>
          <p:cNvPicPr/>
          <p:nvPr/>
        </p:nvPicPr>
        <p:blipFill>
          <a:blip r:embed="rId11"/>
          <a:stretch/>
        </p:blipFill>
        <p:spPr>
          <a:xfrm>
            <a:off x="0" y="3384720"/>
            <a:ext cx="9144000" cy="952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9"/>
          <p:cNvSpPr/>
          <p:nvPr/>
        </p:nvSpPr>
        <p:spPr>
          <a:xfrm>
            <a:off x="679320" y="5661000"/>
            <a:ext cx="41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西西软件园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cr173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2152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Base 05"/>
              </a:rPr>
              <a:t>W</a:t>
            </a:r>
            <a:r>
              <a:rPr b="0" lang="zh-CN" sz="4800" spc="-1" strike="noStrike">
                <a:solidFill>
                  <a:srgbClr val="ffffff"/>
                </a:solidFill>
                <a:latin typeface="Base 05"/>
              </a:rPr>
              <a:t>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1120" y="2104920"/>
            <a:ext cx="704844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Base 05"/>
              </a:rPr>
              <a:t>a powerful softwar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278160" y="1463760"/>
            <a:ext cx="56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一款功能强大的软件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5"/>
          <p:cNvSpPr/>
          <p:nvPr/>
        </p:nvSpPr>
        <p:spPr>
          <a:xfrm>
            <a:off x="324000" y="48117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e 05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"/>
          <p:cNvGrpSpPr/>
          <p:nvPr/>
        </p:nvGrpSpPr>
        <p:grpSpPr>
          <a:xfrm>
            <a:off x="5007960" y="1815480"/>
            <a:ext cx="3465360" cy="505800"/>
            <a:chOff x="5007960" y="1815480"/>
            <a:chExt cx="3465360" cy="505800"/>
          </a:xfrm>
        </p:grpSpPr>
        <p:sp>
          <p:nvSpPr>
            <p:cNvPr id="92" name="圆角矩形 5"/>
            <p:cNvSpPr/>
            <p:nvPr/>
          </p:nvSpPr>
          <p:spPr>
            <a:xfrm>
              <a:off x="5007960" y="1815480"/>
              <a:ext cx="3465360" cy="5058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6"/>
            <p:cNvSpPr/>
            <p:nvPr/>
          </p:nvSpPr>
          <p:spPr>
            <a:xfrm>
              <a:off x="5008680" y="188496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0"/>
          <p:cNvGrpSpPr/>
          <p:nvPr/>
        </p:nvGrpSpPr>
        <p:grpSpPr>
          <a:xfrm>
            <a:off x="5007960" y="2787480"/>
            <a:ext cx="3465360" cy="505440"/>
            <a:chOff x="5007960" y="2787480"/>
            <a:chExt cx="3465360" cy="505440"/>
          </a:xfrm>
        </p:grpSpPr>
        <p:sp>
          <p:nvSpPr>
            <p:cNvPr id="95" name="圆角矩形 5"/>
            <p:cNvSpPr/>
            <p:nvPr/>
          </p:nvSpPr>
          <p:spPr>
            <a:xfrm>
              <a:off x="5007960" y="2787480"/>
              <a:ext cx="3465360" cy="5054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6"/>
            <p:cNvSpPr/>
            <p:nvPr/>
          </p:nvSpPr>
          <p:spPr>
            <a:xfrm>
              <a:off x="5008680" y="285732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6"/>
          <p:cNvGrpSpPr/>
          <p:nvPr/>
        </p:nvGrpSpPr>
        <p:grpSpPr>
          <a:xfrm>
            <a:off x="5007960" y="3759120"/>
            <a:ext cx="3465360" cy="505440"/>
            <a:chOff x="5007960" y="3759120"/>
            <a:chExt cx="3465360" cy="505440"/>
          </a:xfrm>
        </p:grpSpPr>
        <p:sp>
          <p:nvSpPr>
            <p:cNvPr id="98" name="圆角矩形 5"/>
            <p:cNvSpPr/>
            <p:nvPr/>
          </p:nvSpPr>
          <p:spPr>
            <a:xfrm>
              <a:off x="5007960" y="3759120"/>
              <a:ext cx="3465360" cy="5054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6"/>
            <p:cNvSpPr/>
            <p:nvPr/>
          </p:nvSpPr>
          <p:spPr>
            <a:xfrm>
              <a:off x="5008680" y="382896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5007960" y="4732200"/>
            <a:ext cx="3465360" cy="505440"/>
            <a:chOff x="5007960" y="4732200"/>
            <a:chExt cx="3465360" cy="505440"/>
          </a:xfrm>
        </p:grpSpPr>
        <p:sp>
          <p:nvSpPr>
            <p:cNvPr id="101" name="圆角矩形 5"/>
            <p:cNvSpPr/>
            <p:nvPr/>
          </p:nvSpPr>
          <p:spPr>
            <a:xfrm>
              <a:off x="5007960" y="4732200"/>
              <a:ext cx="3465360" cy="5054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6"/>
            <p:cNvSpPr/>
            <p:nvPr/>
          </p:nvSpPr>
          <p:spPr>
            <a:xfrm>
              <a:off x="5008680" y="480204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拉链内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圆角矩形 5"/>
          <p:cNvSpPr/>
          <p:nvPr/>
        </p:nvSpPr>
        <p:spPr>
          <a:xfrm>
            <a:off x="1527120" y="3129120"/>
            <a:ext cx="5743800" cy="8380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e9b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901880" y="3222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Base 05"/>
                <a:ea typeface="微软雅黑"/>
              </a:rPr>
              <a:t>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拉链内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539640" y="3049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Base 05"/>
                <a:ea typeface="微软雅黑"/>
              </a:rPr>
              <a:t>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7340760" y="1990800"/>
            <a:ext cx="1295280" cy="1060200"/>
            <a:chOff x="7340760" y="1990800"/>
            <a:chExt cx="1295280" cy="1060200"/>
          </a:xfrm>
        </p:grpSpPr>
        <p:grpSp>
          <p:nvGrpSpPr>
            <p:cNvPr id="109" name="Group 5"/>
            <p:cNvGrpSpPr/>
            <p:nvPr/>
          </p:nvGrpSpPr>
          <p:grpSpPr>
            <a:xfrm>
              <a:off x="7399440" y="1990800"/>
              <a:ext cx="1181880" cy="1060200"/>
              <a:chOff x="7399440" y="1990800"/>
              <a:chExt cx="1181880" cy="1060200"/>
            </a:xfrm>
          </p:grpSpPr>
          <p:sp>
            <p:nvSpPr>
              <p:cNvPr id="110" name="椭圆 7"/>
              <p:cNvSpPr/>
              <p:nvPr/>
            </p:nvSpPr>
            <p:spPr>
              <a:xfrm>
                <a:off x="7458480" y="1990800"/>
                <a:ext cx="1059840" cy="1060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椭圆 8"/>
              <p:cNvSpPr/>
              <p:nvPr/>
            </p:nvSpPr>
            <p:spPr>
              <a:xfrm>
                <a:off x="7489440" y="2021760"/>
                <a:ext cx="997560" cy="997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接连接符 10"/>
              <p:cNvSpPr/>
              <p:nvPr/>
            </p:nvSpPr>
            <p:spPr>
              <a:xfrm>
                <a:off x="7403760" y="2285280"/>
                <a:ext cx="117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接连接符 11"/>
              <p:cNvSpPr/>
              <p:nvPr/>
            </p:nvSpPr>
            <p:spPr>
              <a:xfrm>
                <a:off x="7399440" y="2741040"/>
                <a:ext cx="117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1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5" name="TextBox 15"/>
            <p:cNvSpPr/>
            <p:nvPr/>
          </p:nvSpPr>
          <p:spPr>
            <a:xfrm>
              <a:off x="7340760" y="23623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Base 05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直接连接符 5"/>
          <p:cNvSpPr/>
          <p:nvPr/>
        </p:nvSpPr>
        <p:spPr>
          <a:xfrm>
            <a:off x="790560" y="4653000"/>
            <a:ext cx="6481800" cy="144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6"/>
          <p:cNvSpPr/>
          <p:nvPr/>
        </p:nvSpPr>
        <p:spPr>
          <a:xfrm>
            <a:off x="1008000" y="425772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7"/>
          <p:cNvSpPr/>
          <p:nvPr/>
        </p:nvSpPr>
        <p:spPr>
          <a:xfrm>
            <a:off x="1008000" y="386064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8"/>
          <p:cNvSpPr/>
          <p:nvPr/>
        </p:nvSpPr>
        <p:spPr>
          <a:xfrm>
            <a:off x="1008000" y="346536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9"/>
          <p:cNvSpPr/>
          <p:nvPr/>
        </p:nvSpPr>
        <p:spPr>
          <a:xfrm>
            <a:off x="1008000" y="3068640"/>
            <a:ext cx="6264360" cy="144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>
            <a:off x="1008000" y="267336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1"/>
          <p:cNvSpPr/>
          <p:nvPr/>
        </p:nvSpPr>
        <p:spPr>
          <a:xfrm>
            <a:off x="1008000" y="2276640"/>
            <a:ext cx="6264360" cy="144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2"/>
          <p:cNvSpPr/>
          <p:nvPr/>
        </p:nvSpPr>
        <p:spPr>
          <a:xfrm>
            <a:off x="1008000" y="2060640"/>
            <a:ext cx="0" cy="2808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21"/>
          <p:cNvSpPr/>
          <p:nvPr/>
        </p:nvSpPr>
        <p:spPr>
          <a:xfrm>
            <a:off x="1378080" y="2276640"/>
            <a:ext cx="144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4"/>
          <p:cNvSpPr/>
          <p:nvPr/>
        </p:nvSpPr>
        <p:spPr>
          <a:xfrm>
            <a:off x="1749600" y="2276640"/>
            <a:ext cx="144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5"/>
          <p:cNvSpPr/>
          <p:nvPr/>
        </p:nvSpPr>
        <p:spPr>
          <a:xfrm>
            <a:off x="212076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6"/>
          <p:cNvSpPr/>
          <p:nvPr/>
        </p:nvSpPr>
        <p:spPr>
          <a:xfrm>
            <a:off x="249228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7"/>
          <p:cNvSpPr/>
          <p:nvPr/>
        </p:nvSpPr>
        <p:spPr>
          <a:xfrm>
            <a:off x="286380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28"/>
          <p:cNvSpPr/>
          <p:nvPr/>
        </p:nvSpPr>
        <p:spPr>
          <a:xfrm>
            <a:off x="323532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9"/>
          <p:cNvSpPr/>
          <p:nvPr/>
        </p:nvSpPr>
        <p:spPr>
          <a:xfrm>
            <a:off x="360684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30"/>
          <p:cNvSpPr/>
          <p:nvPr/>
        </p:nvSpPr>
        <p:spPr>
          <a:xfrm>
            <a:off x="397656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31"/>
          <p:cNvSpPr/>
          <p:nvPr/>
        </p:nvSpPr>
        <p:spPr>
          <a:xfrm>
            <a:off x="434808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32"/>
          <p:cNvSpPr/>
          <p:nvPr/>
        </p:nvSpPr>
        <p:spPr>
          <a:xfrm>
            <a:off x="471960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3"/>
          <p:cNvSpPr/>
          <p:nvPr/>
        </p:nvSpPr>
        <p:spPr>
          <a:xfrm>
            <a:off x="509112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34"/>
          <p:cNvSpPr/>
          <p:nvPr/>
        </p:nvSpPr>
        <p:spPr>
          <a:xfrm>
            <a:off x="546084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35"/>
          <p:cNvSpPr/>
          <p:nvPr/>
        </p:nvSpPr>
        <p:spPr>
          <a:xfrm>
            <a:off x="583236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36"/>
          <p:cNvSpPr/>
          <p:nvPr/>
        </p:nvSpPr>
        <p:spPr>
          <a:xfrm>
            <a:off x="620388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37"/>
          <p:cNvSpPr/>
          <p:nvPr/>
        </p:nvSpPr>
        <p:spPr>
          <a:xfrm>
            <a:off x="657540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38"/>
          <p:cNvSpPr/>
          <p:nvPr/>
        </p:nvSpPr>
        <p:spPr>
          <a:xfrm>
            <a:off x="694692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39"/>
          <p:cNvSpPr/>
          <p:nvPr/>
        </p:nvSpPr>
        <p:spPr>
          <a:xfrm>
            <a:off x="731844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0"/>
          <p:cNvSpPr/>
          <p:nvPr/>
        </p:nvSpPr>
        <p:spPr>
          <a:xfrm>
            <a:off x="539640" y="42703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1"/>
          <p:cNvSpPr/>
          <p:nvPr/>
        </p:nvSpPr>
        <p:spPr>
          <a:xfrm>
            <a:off x="539640" y="38671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2"/>
          <p:cNvSpPr/>
          <p:nvPr/>
        </p:nvSpPr>
        <p:spPr>
          <a:xfrm>
            <a:off x="539640" y="3463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3"/>
          <p:cNvSpPr/>
          <p:nvPr/>
        </p:nvSpPr>
        <p:spPr>
          <a:xfrm>
            <a:off x="539640" y="3060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4"/>
          <p:cNvSpPr/>
          <p:nvPr/>
        </p:nvSpPr>
        <p:spPr>
          <a:xfrm>
            <a:off x="539640" y="26589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5"/>
          <p:cNvSpPr/>
          <p:nvPr/>
        </p:nvSpPr>
        <p:spPr>
          <a:xfrm>
            <a:off x="539640" y="22557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9"/>
          <p:cNvSpPr/>
          <p:nvPr/>
        </p:nvSpPr>
        <p:spPr>
          <a:xfrm>
            <a:off x="1079640" y="4869000"/>
            <a:ext cx="612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b3130"/>
                </a:solidFill>
                <a:latin typeface="微软雅黑"/>
                <a:ea typeface="微软雅黑"/>
              </a:rPr>
              <a:t>Add Your Content   </a:t>
            </a:r>
            <a:r>
              <a:rPr b="0" lang="zh-CN" sz="1600" spc="-1" strike="noStrike">
                <a:solidFill>
                  <a:srgbClr val="3b3130"/>
                </a:solidFill>
                <a:latin typeface="Arial"/>
              </a:rPr>
              <a:t>Add Your Content    Add Your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8"/>
          <p:cNvSpPr/>
          <p:nvPr/>
        </p:nvSpPr>
        <p:spPr>
          <a:xfrm rot="15480000">
            <a:off x="1379520" y="2706120"/>
            <a:ext cx="1563480" cy="156384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563840"/>
              <a:gd name="textAreaBottom" fmla="*/ 1169640 h 1563840"/>
            </a:gdLst>
            <a:ahLst/>
            <a:rect l="textAreaLeft" t="textAreaTop" r="textAreaRight" b="textAreaBottom"/>
            <a:pathLst>
              <a:path w="21600" h="21600">
                <a:moveTo>
                  <a:pt x="9581" y="11913"/>
                </a:moveTo>
                <a:cubicBezTo>
                  <a:pt x="9303" y="11609"/>
                  <a:pt x="9149" y="11212"/>
                  <a:pt x="9149" y="10800"/>
                </a:cubicBezTo>
                <a:cubicBezTo>
                  <a:pt x="9149" y="9888"/>
                  <a:pt x="9888" y="9149"/>
                  <a:pt x="10800" y="9149"/>
                </a:cubicBezTo>
                <a:cubicBezTo>
                  <a:pt x="11711" y="9149"/>
                  <a:pt x="12451" y="9888"/>
                  <a:pt x="12451" y="10800"/>
                </a:cubicBezTo>
                <a:cubicBezTo>
                  <a:pt x="12451" y="11212"/>
                  <a:pt x="12296" y="11609"/>
                  <a:pt x="12018" y="11913"/>
                </a:cubicBezTo>
                <a:lnTo>
                  <a:pt x="18772" y="18085"/>
                </a:lnTo>
                <a:cubicBezTo>
                  <a:pt x="20591" y="16095"/>
                  <a:pt x="21600" y="13496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496"/>
                  <a:pt x="1008" y="16095"/>
                  <a:pt x="2827" y="18085"/>
                </a:cubicBezTo>
                <a:lnTo>
                  <a:pt x="9581" y="119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9"/>
          <p:cNvSpPr/>
          <p:nvPr/>
        </p:nvSpPr>
        <p:spPr>
          <a:xfrm rot="15480000">
            <a:off x="3381480" y="2706120"/>
            <a:ext cx="1563480" cy="156348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563480"/>
              <a:gd name="textAreaBottom" fmla="*/ 1385640 h 1563480"/>
            </a:gdLst>
            <a:ahLst/>
            <a:rect l="textAreaLeft" t="textAreaTop" r="textAreaRight" b="textAreaBottom"/>
            <a:pathLst>
              <a:path w="21600" h="21600">
                <a:moveTo>
                  <a:pt x="9914" y="12431"/>
                </a:moveTo>
                <a:cubicBezTo>
                  <a:pt x="9316" y="12106"/>
                  <a:pt x="8944" y="11480"/>
                  <a:pt x="8944" y="10800"/>
                </a:cubicBezTo>
                <a:cubicBezTo>
                  <a:pt x="8944" y="9774"/>
                  <a:pt x="9774" y="8944"/>
                  <a:pt x="10800" y="8944"/>
                </a:cubicBezTo>
                <a:cubicBezTo>
                  <a:pt x="11825" y="8944"/>
                  <a:pt x="12656" y="9774"/>
                  <a:pt x="12656" y="10800"/>
                </a:cubicBezTo>
                <a:cubicBezTo>
                  <a:pt x="12656" y="11480"/>
                  <a:pt x="12283" y="12106"/>
                  <a:pt x="11685" y="12431"/>
                </a:cubicBezTo>
                <a:lnTo>
                  <a:pt x="15952" y="20291"/>
                </a:lnTo>
                <a:cubicBezTo>
                  <a:pt x="19432" y="18402"/>
                  <a:pt x="21600" y="14759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4759"/>
                  <a:pt x="2167" y="18402"/>
                  <a:pt x="5647" y="20291"/>
                </a:cubicBezTo>
                <a:lnTo>
                  <a:pt x="9914" y="1243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0"/>
          <p:cNvSpPr/>
          <p:nvPr/>
        </p:nvSpPr>
        <p:spPr>
          <a:xfrm rot="15480000">
            <a:off x="5383080" y="2706120"/>
            <a:ext cx="1563480" cy="156384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563840"/>
              <a:gd name="textAreaBottom" fmla="*/ 1495800 h 1563840"/>
            </a:gdLst>
            <a:ahLst/>
            <a:rect l="textAreaLeft" t="textAreaTop" r="textAreaRight" b="textAreaBottom"/>
            <a:pathLst>
              <a:path w="21600" h="21600">
                <a:moveTo>
                  <a:pt x="10300" y="12738"/>
                </a:moveTo>
                <a:cubicBezTo>
                  <a:pt x="9415" y="12510"/>
                  <a:pt x="8798" y="11713"/>
                  <a:pt x="8798" y="10800"/>
                </a:cubicBezTo>
                <a:cubicBezTo>
                  <a:pt x="8798" y="9694"/>
                  <a:pt x="9694" y="8798"/>
                  <a:pt x="10800" y="8798"/>
                </a:cubicBezTo>
                <a:cubicBezTo>
                  <a:pt x="11905" y="8798"/>
                  <a:pt x="12802" y="9694"/>
                  <a:pt x="12802" y="10800"/>
                </a:cubicBezTo>
                <a:cubicBezTo>
                  <a:pt x="12802" y="11713"/>
                  <a:pt x="12184" y="12510"/>
                  <a:pt x="11299" y="12738"/>
                </a:cubicBezTo>
                <a:lnTo>
                  <a:pt x="13496" y="21257"/>
                </a:lnTo>
                <a:cubicBezTo>
                  <a:pt x="18266" y="20027"/>
                  <a:pt x="21600" y="15726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5726"/>
                  <a:pt x="3333" y="20027"/>
                  <a:pt x="8103" y="21257"/>
                </a:cubicBezTo>
                <a:lnTo>
                  <a:pt x="10300" y="1273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4" descr=""/>
          <p:cNvPicPr/>
          <p:nvPr/>
        </p:nvPicPr>
        <p:blipFill>
          <a:blip r:embed="rId2"/>
          <a:stretch/>
        </p:blipFill>
        <p:spPr>
          <a:xfrm>
            <a:off x="0" y="3384720"/>
            <a:ext cx="9144000" cy="952200"/>
          </a:xfrm>
          <a:prstGeom prst="rect">
            <a:avLst/>
          </a:prstGeom>
          <a:ln w="0">
            <a:noFill/>
          </a:ln>
        </p:spPr>
      </p:pic>
      <p:sp>
        <p:nvSpPr>
          <p:cNvPr id="153" name="标题 1"/>
          <p:cNvSpPr/>
          <p:nvPr/>
        </p:nvSpPr>
        <p:spPr>
          <a:xfrm>
            <a:off x="68580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se 05"/>
                <a:ea typeface="微软雅黑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副标题 2" hidden="1"/>
          <p:cNvSpPr/>
          <p:nvPr/>
        </p:nvSpPr>
        <p:spPr>
          <a:xfrm>
            <a:off x="1434960" y="2781360"/>
            <a:ext cx="6513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炫酷牛仔风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owerPoin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79320" y="5261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690560" y="470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您在寻找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690560" y="5373720"/>
            <a:ext cx="62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是一款开放、高效、安全的办公软件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拉链1"/>
          <p:cNvPicPr/>
          <p:nvPr/>
        </p:nvPicPr>
        <p:blipFill>
          <a:blip r:embed="rId1"/>
          <a:stretch/>
        </p:blipFill>
        <p:spPr>
          <a:xfrm>
            <a:off x="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24000" y="1359000"/>
            <a:ext cx="61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切尽在其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它将使您的办公更加轻松自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标题 1"/>
          <p:cNvSpPr/>
          <p:nvPr/>
        </p:nvSpPr>
        <p:spPr>
          <a:xfrm>
            <a:off x="324000" y="30240"/>
            <a:ext cx="2152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Base 05"/>
                <a:ea typeface="微软雅黑"/>
              </a:rPr>
              <a:t>W</a:t>
            </a:r>
            <a:r>
              <a:rPr b="0" lang="zh-CN" sz="4800" spc="-1" strike="noStrike">
                <a:solidFill>
                  <a:srgbClr val="ffffff"/>
                </a:solidFill>
                <a:latin typeface="Base 05"/>
                <a:ea typeface="微软雅黑"/>
              </a:rPr>
              <a:t>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dministrator</cp:lastModifiedBy>
  <dcterms:modified xsi:type="dcterms:W3CDTF">2015-07-10T07:30:3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9</vt:lpwstr>
  </property>
</Properties>
</file>