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50.png" ContentType="image/png"/>
  <Override PartName="/ppt/media/image33.jpeg" ContentType="image/jpeg"/>
  <Override PartName="/ppt/media/image45.png" ContentType="image/png"/>
  <Override PartName="/ppt/media/image6.jpeg" ContentType="image/jpeg"/>
  <Override PartName="/ppt/media/image12.jpeg" ContentType="image/jpeg"/>
  <Override PartName="/ppt/media/image34.jpeg" ContentType="image/jpeg"/>
  <Override PartName="/ppt/media/image43.jpeg" ContentType="image/jpeg"/>
  <Override PartName="/ppt/media/image35.jpeg" ContentType="image/jpeg"/>
  <Override PartName="/ppt/media/image10.jpeg" ContentType="image/jpeg"/>
  <Override PartName="/ppt/media/image29.jpeg" ContentType="image/jpeg"/>
  <Override PartName="/ppt/media/image46.png" ContentType="image/png"/>
  <Override PartName="/ppt/media/image30.jpeg" ContentType="image/jpeg"/>
  <Override PartName="/ppt/media/image27.jpeg" ContentType="image/jpeg"/>
  <Override PartName="/ppt/media/image52.png" ContentType="image/png"/>
  <Override PartName="/ppt/media/image47.jpeg" ContentType="image/jpeg"/>
  <Override PartName="/ppt/media/image31.jpeg" ContentType="image/jpeg"/>
  <Override PartName="/ppt/media/image53.png" ContentType="image/png"/>
  <Override PartName="/ppt/media/image54.jpeg" ContentType="image/jpeg"/>
  <Override PartName="/ppt/media/image49.jpeg" ContentType="image/jpeg"/>
  <Override PartName="/ppt/media/image48.png" ContentType="image/png"/>
  <Override PartName="/ppt/media/image9.jpeg" ContentType="image/jpeg"/>
  <Override PartName="/ppt/media/image11.jpeg" ContentType="image/jpeg"/>
  <Override PartName="/ppt/media/image8.jpeg" ContentType="image/jpeg"/>
  <Override PartName="/ppt/media/image39.jpeg" ContentType="image/jpeg"/>
  <Override PartName="/ppt/media/image7.jpeg" ContentType="image/jpeg"/>
  <Override PartName="/ppt/media/image38.jpeg" ContentType="image/jpeg"/>
  <Override PartName="/ppt/media/image44.png" ContentType="image/png"/>
  <Override PartName="/ppt/media/image40.jpeg" ContentType="image/jpeg"/>
  <Override PartName="/ppt/media/image13.jpeg" ContentType="image/jpeg"/>
  <Override PartName="/ppt/media/image28.jpeg" ContentType="image/jpeg"/>
  <Override PartName="/ppt/media/image5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0" name="矩形 21"/>
          <p:cNvSpPr/>
          <p:nvPr/>
        </p:nvSpPr>
        <p:spPr>
          <a:xfrm>
            <a:off x="3419640" y="0"/>
            <a:ext cx="5724360" cy="6253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22"/>
          <p:cNvSpPr/>
          <p:nvPr/>
        </p:nvSpPr>
        <p:spPr>
          <a:xfrm>
            <a:off x="3416400" y="650880"/>
            <a:ext cx="5727600" cy="460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图片 9" descr=""/>
          <p:cNvPicPr/>
          <p:nvPr/>
        </p:nvPicPr>
        <p:blipFill>
          <a:blip r:embed="rId4"/>
          <a:stretch/>
        </p:blipFill>
        <p:spPr>
          <a:xfrm>
            <a:off x="-1440" y="650880"/>
            <a:ext cx="3417840" cy="46080"/>
          </a:xfrm>
          <a:prstGeom prst="rect">
            <a:avLst/>
          </a:prstGeom>
          <a:ln w="0">
            <a:noFill/>
          </a:ln>
        </p:spPr>
      </p:pic>
      <p:sp>
        <p:nvSpPr>
          <p:cNvPr id="3" name="矩形 10"/>
          <p:cNvSpPr/>
          <p:nvPr/>
        </p:nvSpPr>
        <p:spPr>
          <a:xfrm>
            <a:off x="3419640" y="0"/>
            <a:ext cx="5724360" cy="625320"/>
          </a:xfrm>
          <a:prstGeom prst="rect">
            <a:avLst/>
          </a:prstGeom>
          <a:solidFill>
            <a:srgbClr val="217435">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矩形 11"/>
          <p:cNvSpPr/>
          <p:nvPr/>
        </p:nvSpPr>
        <p:spPr>
          <a:xfrm>
            <a:off x="3416400" y="650880"/>
            <a:ext cx="5727600" cy="46080"/>
          </a:xfrm>
          <a:prstGeom prst="rect">
            <a:avLst/>
          </a:prstGeom>
          <a:solidFill>
            <a:srgbClr val="217435">
              <a:alpha val="69000"/>
            </a:srgbClr>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图片 2" descr=""/>
          <p:cNvPicPr/>
          <p:nvPr/>
        </p:nvPicPr>
        <p:blipFill>
          <a:blip r:embed="rId5"/>
          <a:stretch/>
        </p:blipFill>
        <p:spPr>
          <a:xfrm>
            <a:off x="0" y="4346640"/>
            <a:ext cx="9144000" cy="1368360"/>
          </a:xfrm>
          <a:prstGeom prst="rect">
            <a:avLst/>
          </a:prstGeom>
          <a:ln w="0">
            <a:noFill/>
          </a:ln>
        </p:spPr>
      </p:pic>
      <p:sp>
        <p:nvSpPr>
          <p:cNvPr id="6" name="矩形 4"/>
          <p:cNvSpPr/>
          <p:nvPr/>
        </p:nvSpPr>
        <p:spPr>
          <a:xfrm>
            <a:off x="0" y="4226040"/>
            <a:ext cx="9144000" cy="148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 name="PlaceHolder 2"/>
          <p:cNvSpPr>
            <a:spLocks noGrp="1"/>
          </p:cNvSpPr>
          <p:nvPr>
            <p:ph type="body"/>
          </p:nvPr>
        </p:nvSpPr>
        <p:spPr>
          <a:xfrm>
            <a:off x="457200" y="1337400"/>
            <a:ext cx="8229240" cy="3315240"/>
          </a:xfrm>
          <a:prstGeom prst="rect">
            <a:avLst/>
          </a:prstGeom>
          <a:noFill/>
          <a:ln w="0">
            <a:noFill/>
          </a:ln>
        </p:spPr>
        <p:txBody>
          <a:bodyPr lIns="0" rIns="0" tIns="0" bIns="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image" Target="../media/image14.jpeg"/><Relationship Id="rId13" Type="http://schemas.openxmlformats.org/officeDocument/2006/relationships/image" Target="../media/image15.jpeg"/><Relationship Id="rId14" Type="http://schemas.openxmlformats.org/officeDocument/2006/relationships/image" Target="../media/image16.jpeg"/><Relationship Id="rId1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image" Target="../media/image37.jpeg"/><Relationship Id="rId7" Type="http://schemas.openxmlformats.org/officeDocument/2006/relationships/image" Target="../media/image38.jpeg"/><Relationship Id="rId8" Type="http://schemas.openxmlformats.org/officeDocument/2006/relationships/image" Target="../media/image39.jpeg"/><Relationship Id="rId9" Type="http://schemas.openxmlformats.org/officeDocument/2006/relationships/image" Target="../media/image40.jpeg"/><Relationship Id="rId10" Type="http://schemas.openxmlformats.org/officeDocument/2006/relationships/image" Target="../media/image41.jpeg"/><Relationship Id="rId11" Type="http://schemas.openxmlformats.org/officeDocument/2006/relationships/image" Target="../media/image42.jpeg"/><Relationship Id="rId12" Type="http://schemas.openxmlformats.org/officeDocument/2006/relationships/image" Target="../media/image43.jpeg"/><Relationship Id="rId1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45" name="矩形 9"/>
          <p:cNvSpPr/>
          <p:nvPr/>
        </p:nvSpPr>
        <p:spPr>
          <a:xfrm>
            <a:off x="0" y="0"/>
            <a:ext cx="9144000" cy="35053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22"/>
          <p:cNvSpPr/>
          <p:nvPr/>
        </p:nvSpPr>
        <p:spPr>
          <a:xfrm>
            <a:off x="0" y="0"/>
            <a:ext cx="9144000" cy="3505320"/>
          </a:xfrm>
          <a:prstGeom prst="rect">
            <a:avLst/>
          </a:prstGeom>
          <a:solidFill>
            <a:srgbClr val="217435">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2" descr=""/>
          <p:cNvPicPr/>
          <p:nvPr/>
        </p:nvPicPr>
        <p:blipFill>
          <a:blip r:embed="rId2"/>
          <a:stretch/>
        </p:blipFill>
        <p:spPr>
          <a:xfrm>
            <a:off x="0" y="3578400"/>
            <a:ext cx="1457280" cy="934920"/>
          </a:xfrm>
          <a:prstGeom prst="rect">
            <a:avLst/>
          </a:prstGeom>
          <a:ln w="0">
            <a:noFill/>
          </a:ln>
        </p:spPr>
      </p:pic>
      <p:pic>
        <p:nvPicPr>
          <p:cNvPr id="48" name="Picture 2" descr=""/>
          <p:cNvPicPr/>
          <p:nvPr/>
        </p:nvPicPr>
        <p:blipFill>
          <a:blip r:embed="rId3"/>
          <a:stretch/>
        </p:blipFill>
        <p:spPr>
          <a:xfrm>
            <a:off x="1536840" y="3578400"/>
            <a:ext cx="1457280" cy="934920"/>
          </a:xfrm>
          <a:prstGeom prst="rect">
            <a:avLst/>
          </a:prstGeom>
          <a:ln w="0">
            <a:noFill/>
          </a:ln>
        </p:spPr>
      </p:pic>
      <p:pic>
        <p:nvPicPr>
          <p:cNvPr id="49" name="Picture 2" descr=""/>
          <p:cNvPicPr/>
          <p:nvPr/>
        </p:nvPicPr>
        <p:blipFill>
          <a:blip r:embed="rId4"/>
          <a:stretch/>
        </p:blipFill>
        <p:spPr>
          <a:xfrm>
            <a:off x="3075120" y="3578400"/>
            <a:ext cx="1457280" cy="934920"/>
          </a:xfrm>
          <a:prstGeom prst="rect">
            <a:avLst/>
          </a:prstGeom>
          <a:ln w="0">
            <a:noFill/>
          </a:ln>
        </p:spPr>
      </p:pic>
      <p:pic>
        <p:nvPicPr>
          <p:cNvPr id="50" name="Picture 2" descr=""/>
          <p:cNvPicPr/>
          <p:nvPr/>
        </p:nvPicPr>
        <p:blipFill>
          <a:blip r:embed="rId5"/>
          <a:stretch/>
        </p:blipFill>
        <p:spPr>
          <a:xfrm>
            <a:off x="4611600" y="3578400"/>
            <a:ext cx="1457280" cy="934920"/>
          </a:xfrm>
          <a:prstGeom prst="rect">
            <a:avLst/>
          </a:prstGeom>
          <a:ln w="0">
            <a:noFill/>
          </a:ln>
        </p:spPr>
      </p:pic>
      <p:pic>
        <p:nvPicPr>
          <p:cNvPr id="51" name="Picture 2" descr=""/>
          <p:cNvPicPr/>
          <p:nvPr/>
        </p:nvPicPr>
        <p:blipFill>
          <a:blip r:embed="rId6"/>
          <a:stretch/>
        </p:blipFill>
        <p:spPr>
          <a:xfrm>
            <a:off x="6149880" y="3578400"/>
            <a:ext cx="1457280" cy="934920"/>
          </a:xfrm>
          <a:prstGeom prst="rect">
            <a:avLst/>
          </a:prstGeom>
          <a:ln w="0">
            <a:noFill/>
          </a:ln>
        </p:spPr>
      </p:pic>
      <p:pic>
        <p:nvPicPr>
          <p:cNvPr id="52" name="Picture 2" descr=""/>
          <p:cNvPicPr/>
          <p:nvPr/>
        </p:nvPicPr>
        <p:blipFill>
          <a:blip r:embed="rId7"/>
          <a:stretch/>
        </p:blipFill>
        <p:spPr>
          <a:xfrm>
            <a:off x="7686720" y="3578400"/>
            <a:ext cx="1457280" cy="934920"/>
          </a:xfrm>
          <a:prstGeom prst="rect">
            <a:avLst/>
          </a:prstGeom>
          <a:ln w="0">
            <a:noFill/>
          </a:ln>
        </p:spPr>
      </p:pic>
      <p:pic>
        <p:nvPicPr>
          <p:cNvPr id="53" name="图片 8" descr=""/>
          <p:cNvPicPr/>
          <p:nvPr/>
        </p:nvPicPr>
        <p:blipFill>
          <a:blip r:embed="rId8"/>
          <a:stretch/>
        </p:blipFill>
        <p:spPr>
          <a:xfrm>
            <a:off x="0" y="4594320"/>
            <a:ext cx="9161640" cy="1143000"/>
          </a:xfrm>
          <a:prstGeom prst="rect">
            <a:avLst/>
          </a:prstGeom>
          <a:ln w="0">
            <a:noFill/>
          </a:ln>
        </p:spPr>
      </p:pic>
      <p:pic>
        <p:nvPicPr>
          <p:cNvPr id="54" name="图片 1" descr=""/>
          <p:cNvPicPr/>
          <p:nvPr/>
        </p:nvPicPr>
        <p:blipFill>
          <a:blip r:embed="rId9"/>
          <a:stretch/>
        </p:blipFill>
        <p:spPr>
          <a:xfrm>
            <a:off x="0" y="3578400"/>
            <a:ext cx="1457280" cy="934920"/>
          </a:xfrm>
          <a:prstGeom prst="rect">
            <a:avLst/>
          </a:prstGeom>
          <a:ln w="0">
            <a:noFill/>
          </a:ln>
        </p:spPr>
      </p:pic>
      <p:pic>
        <p:nvPicPr>
          <p:cNvPr id="55" name="图片 2" descr=""/>
          <p:cNvPicPr/>
          <p:nvPr/>
        </p:nvPicPr>
        <p:blipFill>
          <a:blip r:embed="rId10"/>
          <a:stretch/>
        </p:blipFill>
        <p:spPr>
          <a:xfrm>
            <a:off x="1536840" y="3578400"/>
            <a:ext cx="1457280" cy="934920"/>
          </a:xfrm>
          <a:prstGeom prst="rect">
            <a:avLst/>
          </a:prstGeom>
          <a:ln w="0">
            <a:noFill/>
          </a:ln>
        </p:spPr>
      </p:pic>
      <p:pic>
        <p:nvPicPr>
          <p:cNvPr id="56" name="图片 3" descr=""/>
          <p:cNvPicPr/>
          <p:nvPr/>
        </p:nvPicPr>
        <p:blipFill>
          <a:blip r:embed="rId11"/>
          <a:stretch/>
        </p:blipFill>
        <p:spPr>
          <a:xfrm>
            <a:off x="3075120" y="3578400"/>
            <a:ext cx="1457280" cy="934920"/>
          </a:xfrm>
          <a:prstGeom prst="rect">
            <a:avLst/>
          </a:prstGeom>
          <a:ln w="0">
            <a:noFill/>
          </a:ln>
        </p:spPr>
      </p:pic>
      <p:pic>
        <p:nvPicPr>
          <p:cNvPr id="57" name="图片 4" descr=""/>
          <p:cNvPicPr/>
          <p:nvPr/>
        </p:nvPicPr>
        <p:blipFill>
          <a:blip r:embed="rId12"/>
          <a:stretch/>
        </p:blipFill>
        <p:spPr>
          <a:xfrm>
            <a:off x="4611600" y="3578400"/>
            <a:ext cx="1457280" cy="934920"/>
          </a:xfrm>
          <a:prstGeom prst="rect">
            <a:avLst/>
          </a:prstGeom>
          <a:ln w="0">
            <a:noFill/>
          </a:ln>
        </p:spPr>
      </p:pic>
      <p:pic>
        <p:nvPicPr>
          <p:cNvPr id="58" name="图片 5" descr=""/>
          <p:cNvPicPr/>
          <p:nvPr/>
        </p:nvPicPr>
        <p:blipFill>
          <a:blip r:embed="rId13"/>
          <a:stretch/>
        </p:blipFill>
        <p:spPr>
          <a:xfrm>
            <a:off x="6149880" y="3578400"/>
            <a:ext cx="1457280" cy="934920"/>
          </a:xfrm>
          <a:prstGeom prst="rect">
            <a:avLst/>
          </a:prstGeom>
          <a:ln w="0">
            <a:noFill/>
          </a:ln>
        </p:spPr>
      </p:pic>
      <p:pic>
        <p:nvPicPr>
          <p:cNvPr id="59" name="图片 6" descr=""/>
          <p:cNvPicPr/>
          <p:nvPr/>
        </p:nvPicPr>
        <p:blipFill>
          <a:blip r:embed="rId14"/>
          <a:stretch/>
        </p:blipFill>
        <p:spPr>
          <a:xfrm>
            <a:off x="7686720" y="3578400"/>
            <a:ext cx="1457280" cy="934920"/>
          </a:xfrm>
          <a:prstGeom prst="rect">
            <a:avLst/>
          </a:prstGeom>
          <a:ln w="0">
            <a:noFill/>
          </a:ln>
        </p:spPr>
      </p:pic>
      <p:sp>
        <p:nvSpPr>
          <p:cNvPr id="60" name="矩形 3"/>
          <p:cNvSpPr/>
          <p:nvPr/>
        </p:nvSpPr>
        <p:spPr>
          <a:xfrm>
            <a:off x="1450800" y="979560"/>
            <a:ext cx="31068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西部有机农业产品流通平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可行性报告</a:t>
            </a:r>
            <a:endParaRPr b="0" lang="en-US" sz="3200" spc="-1" strike="noStrike">
              <a:solidFill>
                <a:srgbClr val="000000"/>
              </a:solidFill>
              <a:latin typeface="Arial"/>
            </a:endParaRPr>
          </a:p>
        </p:txBody>
      </p:sp>
      <p:sp>
        <p:nvSpPr>
          <p:cNvPr id="61" name="矩形 4"/>
          <p:cNvSpPr/>
          <p:nvPr/>
        </p:nvSpPr>
        <p:spPr>
          <a:xfrm>
            <a:off x="966600" y="205596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云资本西部企业路演平台</a:t>
            </a:r>
            <a:endParaRPr b="0" lang="en-US" sz="1800" spc="-1" strike="noStrike">
              <a:solidFill>
                <a:srgbClr val="000000"/>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174"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平台流通产品计划</a:t>
            </a:r>
            <a:endParaRPr b="0" lang="en-US" sz="2400" spc="-1" strike="noStrike">
              <a:solidFill>
                <a:srgbClr val="000000"/>
              </a:solidFill>
              <a:latin typeface="Arial"/>
            </a:endParaRPr>
          </a:p>
        </p:txBody>
      </p:sp>
      <p:sp>
        <p:nvSpPr>
          <p:cNvPr id="175" name="直接连接符 6"/>
          <p:cNvSpPr/>
          <p:nvPr/>
        </p:nvSpPr>
        <p:spPr>
          <a:xfrm>
            <a:off x="692280" y="145080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 name="圆角矩形 7"/>
          <p:cNvSpPr/>
          <p:nvPr/>
        </p:nvSpPr>
        <p:spPr>
          <a:xfrm>
            <a:off x="692280" y="987480"/>
            <a:ext cx="402408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模式划分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委托种、养殖特点</a:t>
            </a:r>
            <a:endParaRPr b="0" lang="en-US" sz="2000" spc="-1" strike="noStrike">
              <a:solidFill>
                <a:srgbClr val="000000"/>
              </a:solidFill>
              <a:latin typeface="Arial"/>
            </a:endParaRPr>
          </a:p>
        </p:txBody>
      </p:sp>
      <p:sp>
        <p:nvSpPr>
          <p:cNvPr id="177" name="矩形 9"/>
          <p:cNvSpPr/>
          <p:nvPr/>
        </p:nvSpPr>
        <p:spPr>
          <a:xfrm>
            <a:off x="692280" y="1633680"/>
            <a:ext cx="6688080" cy="718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货源稳定</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对基地合作社的利益保障主要采用“定金 </a:t>
            </a:r>
            <a:r>
              <a:rPr b="0" lang="en-US" sz="1200" spc="-1" strike="noStrike">
                <a:solidFill>
                  <a:srgbClr val="217435"/>
                </a:solidFill>
                <a:latin typeface="微软雅黑"/>
                <a:ea typeface="微软雅黑"/>
              </a:rPr>
              <a:t>+ </a:t>
            </a:r>
            <a:r>
              <a:rPr b="0" lang="zh-CN" sz="1200" spc="-1" strike="noStrike">
                <a:solidFill>
                  <a:srgbClr val="217435"/>
                </a:solidFill>
                <a:latin typeface="微软雅黑"/>
                <a:ea typeface="微软雅黑"/>
              </a:rPr>
              <a:t>最终交易价格区间浮动”模式，在实际操作中还需要借助政府协调以及与基地的良好沟通以保证产品供应的长期稳定。</a:t>
            </a:r>
            <a:endParaRPr b="0" lang="en-US" sz="1200" spc="-1" strike="noStrike">
              <a:solidFill>
                <a:srgbClr val="000000"/>
              </a:solidFill>
              <a:latin typeface="Arial"/>
            </a:endParaRPr>
          </a:p>
        </p:txBody>
      </p:sp>
      <p:sp>
        <p:nvSpPr>
          <p:cNvPr id="178" name="矩形 10"/>
          <p:cNvSpPr/>
          <p:nvPr/>
        </p:nvSpPr>
        <p:spPr>
          <a:xfrm>
            <a:off x="692280" y="2352600"/>
            <a:ext cx="6688080" cy="14414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配送计划</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若将日常消费的产品按消费频次划分：蔬菜、水果类属高频消费，肉、蛋、乳属中频消费，禽类、水产类属低频消费。</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中频消费类在操作中可以指定基地与品种，平台与消费者签署常年定期供应协议，保证同一标准产品的持续供应。</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低频消费类存在着一定的不确定性，可以采取预定式消费，消费者预定时间跟配送时间间隔需要根据系统能力进行测算。</a:t>
            </a:r>
            <a:endParaRPr b="0" lang="en-US" sz="1200" spc="-1" strike="noStrike">
              <a:solidFill>
                <a:srgbClr val="000000"/>
              </a:solidFill>
              <a:latin typeface="Arial"/>
            </a:endParaRPr>
          </a:p>
        </p:txBody>
      </p:sp>
      <p:sp>
        <p:nvSpPr>
          <p:cNvPr id="179" name="矩形 11"/>
          <p:cNvSpPr/>
          <p:nvPr/>
        </p:nvSpPr>
        <p:spPr>
          <a:xfrm>
            <a:off x="692280" y="3794040"/>
            <a:ext cx="6688080" cy="935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储值消费</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为了定金支付以及结算的方便，同时尽快积累长期客户群，委托类业务只针对会员开放，用卡消费流程描述如下：</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平台组合成套餐产品</a:t>
            </a:r>
            <a:r>
              <a:rPr b="0" lang="en-US" sz="1200" spc="-1" strike="noStrike">
                <a:solidFill>
                  <a:srgbClr val="217435"/>
                </a:solidFill>
                <a:latin typeface="微软雅黑"/>
                <a:ea typeface="微软雅黑"/>
              </a:rPr>
              <a:t>——</a:t>
            </a:r>
            <a:r>
              <a:rPr b="0" lang="zh-CN" sz="1200" spc="-1" strike="noStrike">
                <a:solidFill>
                  <a:srgbClr val="217435"/>
                </a:solidFill>
                <a:latin typeface="微软雅黑"/>
                <a:ea typeface="微软雅黑"/>
              </a:rPr>
              <a:t>用户选定各基地的品种</a:t>
            </a:r>
            <a:r>
              <a:rPr b="0" lang="en-US" sz="1200" spc="-1" strike="noStrike">
                <a:solidFill>
                  <a:srgbClr val="217435"/>
                </a:solidFill>
                <a:latin typeface="微软雅黑"/>
                <a:ea typeface="微软雅黑"/>
              </a:rPr>
              <a:t>——</a:t>
            </a:r>
            <a:r>
              <a:rPr b="0" lang="zh-CN" sz="1200" spc="-1" strike="noStrike">
                <a:solidFill>
                  <a:srgbClr val="217435"/>
                </a:solidFill>
                <a:latin typeface="微软雅黑"/>
                <a:ea typeface="微软雅黑"/>
              </a:rPr>
              <a:t>约定配送规则</a:t>
            </a:r>
            <a:r>
              <a:rPr b="0" lang="en-US" sz="1200" spc="-1" strike="noStrike">
                <a:solidFill>
                  <a:srgbClr val="217435"/>
                </a:solidFill>
                <a:latin typeface="微软雅黑"/>
                <a:ea typeface="微软雅黑"/>
              </a:rPr>
              <a:t>——</a:t>
            </a:r>
            <a:r>
              <a:rPr b="0" lang="zh-CN" sz="1200" spc="-1" strike="noStrike">
                <a:solidFill>
                  <a:srgbClr val="217435"/>
                </a:solidFill>
                <a:latin typeface="微软雅黑"/>
                <a:ea typeface="微软雅黑"/>
              </a:rPr>
              <a:t>定期配送</a:t>
            </a:r>
            <a:r>
              <a:rPr b="0" lang="en-US" sz="1200" spc="-1" strike="noStrike">
                <a:solidFill>
                  <a:srgbClr val="217435"/>
                </a:solidFill>
                <a:latin typeface="微软雅黑"/>
                <a:ea typeface="微软雅黑"/>
              </a:rPr>
              <a:t>——</a:t>
            </a:r>
            <a:r>
              <a:rPr b="0" lang="zh-CN" sz="1200" spc="-1" strike="noStrike">
                <a:solidFill>
                  <a:srgbClr val="217435"/>
                </a:solidFill>
                <a:latin typeface="微软雅黑"/>
                <a:ea typeface="微软雅黑"/>
              </a:rPr>
              <a:t>根据每次配送的分量计算价格 用户签收后从储值卡中扣款。</a:t>
            </a:r>
            <a:endParaRPr b="0" lang="en-US" sz="12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180"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sp>
        <p:nvSpPr>
          <p:cNvPr id="181" name="直接连接符 2"/>
          <p:cNvSpPr/>
          <p:nvPr/>
        </p:nvSpPr>
        <p:spPr>
          <a:xfrm>
            <a:off x="692280" y="145080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圆角矩形 3"/>
          <p:cNvSpPr/>
          <p:nvPr/>
        </p:nvSpPr>
        <p:spPr>
          <a:xfrm>
            <a:off x="692280" y="987480"/>
            <a:ext cx="402408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一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精选产品，形成口碑</a:t>
            </a:r>
            <a:endParaRPr b="0" lang="en-US" sz="2000" spc="-1" strike="noStrike">
              <a:solidFill>
                <a:srgbClr val="000000"/>
              </a:solidFill>
              <a:latin typeface="Arial"/>
            </a:endParaRPr>
          </a:p>
        </p:txBody>
      </p:sp>
      <p:sp>
        <p:nvSpPr>
          <p:cNvPr id="183" name="TextBox 4"/>
          <p:cNvSpPr/>
          <p:nvPr/>
        </p:nvSpPr>
        <p:spPr>
          <a:xfrm>
            <a:off x="692280" y="1465200"/>
            <a:ext cx="66880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这一阶段主要是平台与基地的磨合以及系统的完善，在产品推送上不求数量丰富，而是先从众多产品中挑选出最有市场潜力的一批。</a:t>
            </a:r>
            <a:endParaRPr b="0" lang="en-US" sz="1200" spc="-1" strike="noStrike">
              <a:solidFill>
                <a:srgbClr val="000000"/>
              </a:solidFill>
              <a:latin typeface="Arial"/>
            </a:endParaRPr>
          </a:p>
        </p:txBody>
      </p:sp>
      <p:sp>
        <p:nvSpPr>
          <p:cNvPr id="184" name="同侧圆角矩形 8"/>
          <p:cNvSpPr/>
          <p:nvPr/>
        </p:nvSpPr>
        <p:spPr>
          <a:xfrm>
            <a:off x="826920" y="2568600"/>
            <a:ext cx="2347920" cy="1944720"/>
          </a:xfrm>
          <a:custGeom>
            <a:avLst/>
            <a:gdLst>
              <a:gd name="textAreaLeft" fmla="*/ 0 w 2347920"/>
              <a:gd name="textAreaRight" fmla="*/ 2348280 w 2347920"/>
              <a:gd name="textAreaTop" fmla="*/ 0 h 1944720"/>
              <a:gd name="textAreaBottom" fmla="*/ 1945080 h 1944720"/>
            </a:gdLst>
            <a:ahLst/>
            <a:rect l="textAreaLeft" t="textAreaTop" r="textAreaRight" b="textAreaBottom"/>
            <a:pathLst>
              <a:path w="3698" h="3062">
                <a:moveTo>
                  <a:pt x="510" y="0"/>
                </a:moveTo>
                <a:lnTo>
                  <a:pt x="3187" y="0"/>
                </a:lnTo>
                <a:lnTo>
                  <a:pt x="3187" y="0"/>
                </a:lnTo>
                <a:arcTo wR="510" hR="510" stAng="-5400000" swAng="5400000"/>
                <a:lnTo>
                  <a:pt x="3698" y="3062"/>
                </a:lnTo>
                <a:lnTo>
                  <a:pt x="3698" y="3062"/>
                </a:lnTo>
                <a:arcTo wR="0" hR="0" stAng="0" swAng="0"/>
                <a:lnTo>
                  <a:pt x="0" y="3062"/>
                </a:lnTo>
                <a:lnTo>
                  <a:pt x="0" y="3062"/>
                </a:lnTo>
                <a:arcTo wR="0" hR="0" stAng="0" swAng="0"/>
                <a:lnTo>
                  <a:pt x="0" y="510"/>
                </a:lnTo>
                <a:lnTo>
                  <a:pt x="0" y="510"/>
                </a:lnTo>
                <a:arcTo wR="510" hR="510" stAng="10800000" swAng="5400000"/>
                <a:close/>
              </a:path>
            </a:pathLst>
          </a:custGeom>
          <a:solidFill>
            <a:srgbClr val="bbecc8"/>
          </a:solidFill>
          <a:ln w="15840">
            <a:solidFill>
              <a:srgbClr val="ffffff"/>
            </a:solidFill>
            <a:round/>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产品选择</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选择附加值高的，产量有限容易锁定的产品类别</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5" name="图片 5" descr=""/>
          <p:cNvPicPr/>
          <p:nvPr/>
        </p:nvPicPr>
        <p:blipFill>
          <a:blip r:embed="rId1"/>
          <a:stretch/>
        </p:blipFill>
        <p:spPr>
          <a:xfrm>
            <a:off x="826920" y="2568600"/>
            <a:ext cx="747720" cy="747720"/>
          </a:xfrm>
          <a:prstGeom prst="rect">
            <a:avLst/>
          </a:prstGeom>
          <a:ln w="0">
            <a:noFill/>
          </a:ln>
        </p:spPr>
      </p:pic>
      <p:sp>
        <p:nvSpPr>
          <p:cNvPr id="186" name="同侧圆角矩形 11"/>
          <p:cNvSpPr/>
          <p:nvPr/>
        </p:nvSpPr>
        <p:spPr>
          <a:xfrm>
            <a:off x="3301920" y="2568600"/>
            <a:ext cx="2347920" cy="1944720"/>
          </a:xfrm>
          <a:custGeom>
            <a:avLst/>
            <a:gdLst>
              <a:gd name="textAreaLeft" fmla="*/ 0 w 2347920"/>
              <a:gd name="textAreaRight" fmla="*/ 2348280 w 2347920"/>
              <a:gd name="textAreaTop" fmla="*/ 0 h 1944720"/>
              <a:gd name="textAreaBottom" fmla="*/ 1945080 h 1944720"/>
            </a:gdLst>
            <a:ahLst/>
            <a:rect l="textAreaLeft" t="textAreaTop" r="textAreaRight" b="textAreaBottom"/>
            <a:pathLst>
              <a:path w="3698" h="3062">
                <a:moveTo>
                  <a:pt x="510" y="0"/>
                </a:moveTo>
                <a:lnTo>
                  <a:pt x="3187" y="0"/>
                </a:lnTo>
                <a:lnTo>
                  <a:pt x="3187" y="0"/>
                </a:lnTo>
                <a:arcTo wR="510" hR="510" stAng="-5400000" swAng="5400000"/>
                <a:lnTo>
                  <a:pt x="3698" y="3062"/>
                </a:lnTo>
                <a:lnTo>
                  <a:pt x="3698" y="3062"/>
                </a:lnTo>
                <a:arcTo wR="0" hR="0" stAng="0" swAng="0"/>
                <a:lnTo>
                  <a:pt x="0" y="3062"/>
                </a:lnTo>
                <a:lnTo>
                  <a:pt x="0" y="3062"/>
                </a:lnTo>
                <a:arcTo wR="0" hR="0" stAng="0" swAng="0"/>
                <a:lnTo>
                  <a:pt x="0" y="510"/>
                </a:lnTo>
                <a:lnTo>
                  <a:pt x="0" y="510"/>
                </a:lnTo>
                <a:arcTo wR="510" hR="510" stAng="10800000" swAng="5400000"/>
                <a:close/>
              </a:path>
            </a:pathLst>
          </a:custGeom>
          <a:solidFill>
            <a:srgbClr val="bbecc8"/>
          </a:solidFill>
          <a:ln w="15840">
            <a:solidFill>
              <a:srgbClr val="ffffff"/>
            </a:solidFill>
            <a:round/>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产品机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做到基本满足每一大类（肉禽蛋乳米油等）都有一款产品长期供应</a:t>
            </a:r>
            <a:endParaRPr b="0" lang="en-US" sz="1200" spc="-1" strike="noStrike">
              <a:solidFill>
                <a:srgbClr val="000000"/>
              </a:solidFill>
              <a:latin typeface="Arial"/>
            </a:endParaRPr>
          </a:p>
        </p:txBody>
      </p:sp>
      <p:pic>
        <p:nvPicPr>
          <p:cNvPr id="187" name="图片 12" descr=""/>
          <p:cNvPicPr/>
          <p:nvPr/>
        </p:nvPicPr>
        <p:blipFill>
          <a:blip r:embed="rId2"/>
          <a:stretch/>
        </p:blipFill>
        <p:spPr>
          <a:xfrm>
            <a:off x="3301920" y="2568600"/>
            <a:ext cx="746280" cy="747720"/>
          </a:xfrm>
          <a:prstGeom prst="rect">
            <a:avLst/>
          </a:prstGeom>
          <a:ln w="0">
            <a:noFill/>
          </a:ln>
        </p:spPr>
      </p:pic>
      <p:sp>
        <p:nvSpPr>
          <p:cNvPr id="188" name="同侧圆角矩形 14"/>
          <p:cNvSpPr/>
          <p:nvPr/>
        </p:nvSpPr>
        <p:spPr>
          <a:xfrm>
            <a:off x="5724360" y="2568600"/>
            <a:ext cx="2347920" cy="1944720"/>
          </a:xfrm>
          <a:custGeom>
            <a:avLst/>
            <a:gdLst>
              <a:gd name="textAreaLeft" fmla="*/ 0 w 2347920"/>
              <a:gd name="textAreaRight" fmla="*/ 2348280 w 2347920"/>
              <a:gd name="textAreaTop" fmla="*/ 0 h 1944720"/>
              <a:gd name="textAreaBottom" fmla="*/ 1945080 h 1944720"/>
            </a:gdLst>
            <a:ahLst/>
            <a:rect l="textAreaLeft" t="textAreaTop" r="textAreaRight" b="textAreaBottom"/>
            <a:pathLst>
              <a:path w="3698" h="3062">
                <a:moveTo>
                  <a:pt x="510" y="0"/>
                </a:moveTo>
                <a:lnTo>
                  <a:pt x="3187" y="0"/>
                </a:lnTo>
                <a:lnTo>
                  <a:pt x="3187" y="0"/>
                </a:lnTo>
                <a:arcTo wR="510" hR="510" stAng="-5400000" swAng="5400000"/>
                <a:lnTo>
                  <a:pt x="3698" y="3062"/>
                </a:lnTo>
                <a:lnTo>
                  <a:pt x="3698" y="3062"/>
                </a:lnTo>
                <a:arcTo wR="0" hR="0" stAng="0" swAng="0"/>
                <a:lnTo>
                  <a:pt x="0" y="3062"/>
                </a:lnTo>
                <a:lnTo>
                  <a:pt x="0" y="3062"/>
                </a:lnTo>
                <a:arcTo wR="0" hR="0" stAng="0" swAng="0"/>
                <a:lnTo>
                  <a:pt x="0" y="510"/>
                </a:lnTo>
                <a:lnTo>
                  <a:pt x="0" y="510"/>
                </a:lnTo>
                <a:arcTo wR="510" hR="510" stAng="10800000" swAng="5400000"/>
                <a:close/>
              </a:path>
            </a:pathLst>
          </a:custGeom>
          <a:solidFill>
            <a:srgbClr val="bbecc8"/>
          </a:solidFill>
          <a:ln w="15840">
            <a:solidFill>
              <a:srgbClr val="ffffff"/>
            </a:solidFill>
            <a:round/>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产品策划</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精细化运作，高质量推送，产品不仅要带动销售而且要带动品牌</a:t>
            </a:r>
            <a:endParaRPr b="0" lang="en-US" sz="1200" spc="-1" strike="noStrike">
              <a:solidFill>
                <a:srgbClr val="000000"/>
              </a:solidFill>
              <a:latin typeface="Arial"/>
            </a:endParaRPr>
          </a:p>
        </p:txBody>
      </p:sp>
      <p:pic>
        <p:nvPicPr>
          <p:cNvPr id="189" name="图片 15" descr=""/>
          <p:cNvPicPr/>
          <p:nvPr/>
        </p:nvPicPr>
        <p:blipFill>
          <a:blip r:embed="rId3"/>
          <a:stretch/>
        </p:blipFill>
        <p:spPr>
          <a:xfrm>
            <a:off x="5724360" y="2568600"/>
            <a:ext cx="746280" cy="747720"/>
          </a:xfrm>
          <a:prstGeom prst="rect">
            <a:avLst/>
          </a:prstGeom>
          <a:ln w="0">
            <a:noFill/>
          </a:ln>
        </p:spPr>
      </p:pic>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190"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sp>
        <p:nvSpPr>
          <p:cNvPr id="191" name="直接连接符 2"/>
          <p:cNvSpPr/>
          <p:nvPr/>
        </p:nvSpPr>
        <p:spPr>
          <a:xfrm>
            <a:off x="692280" y="145080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2" name="圆角矩形 3"/>
          <p:cNvSpPr/>
          <p:nvPr/>
        </p:nvSpPr>
        <p:spPr>
          <a:xfrm>
            <a:off x="692280" y="987480"/>
            <a:ext cx="402408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一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物流模式</a:t>
            </a:r>
            <a:endParaRPr b="0" lang="en-US" sz="2000" spc="-1" strike="noStrike">
              <a:solidFill>
                <a:srgbClr val="000000"/>
              </a:solidFill>
              <a:latin typeface="Arial"/>
            </a:endParaRPr>
          </a:p>
        </p:txBody>
      </p:sp>
      <p:sp>
        <p:nvSpPr>
          <p:cNvPr id="193" name="TextBox 6"/>
          <p:cNvSpPr/>
          <p:nvPr/>
        </p:nvSpPr>
        <p:spPr>
          <a:xfrm>
            <a:off x="692280" y="1460520"/>
            <a:ext cx="7704000" cy="793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在市区发展提货点 </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提货点可选择高端水果店或社区超市，由于店面一般都有冷柜，可以较长时间地保存产品。由于省略了从仓库转移到消费者手中的物流环节，可以大大节约物流成本。与提货点一般的合作模式是销售分成，分成的原则是不能高于物流增加成本。</a:t>
            </a:r>
            <a:endParaRPr b="0" lang="en-US" sz="1200" spc="-1" strike="noStrike">
              <a:solidFill>
                <a:srgbClr val="000000"/>
              </a:solidFill>
              <a:latin typeface="Arial"/>
            </a:endParaRPr>
          </a:p>
        </p:txBody>
      </p:sp>
      <p:pic>
        <p:nvPicPr>
          <p:cNvPr id="194" name="图片 7" descr=""/>
          <p:cNvPicPr/>
          <p:nvPr/>
        </p:nvPicPr>
        <p:blipFill>
          <a:blip r:embed="rId1"/>
          <a:stretch/>
        </p:blipFill>
        <p:spPr>
          <a:xfrm>
            <a:off x="826920" y="3073320"/>
            <a:ext cx="2843280" cy="1320840"/>
          </a:xfrm>
          <a:prstGeom prst="rect">
            <a:avLst/>
          </a:prstGeom>
          <a:ln w="19080">
            <a:solidFill>
              <a:srgbClr val="217435"/>
            </a:solidFill>
            <a:miter/>
          </a:ln>
        </p:spPr>
      </p:pic>
      <p:sp>
        <p:nvSpPr>
          <p:cNvPr id="195" name="TextBox 8"/>
          <p:cNvSpPr/>
          <p:nvPr/>
        </p:nvSpPr>
        <p:spPr>
          <a:xfrm>
            <a:off x="4105440" y="3057480"/>
            <a:ext cx="4290840" cy="793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寻求第三方物流合作</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由于此阶段选择的产品附加值较高，也可以与在冷链运输上具有优势的第三方物流公司进行合作，理论上来说，购买高附加值产品的消费者对于物流费用并不敏感。</a:t>
            </a:r>
            <a:endParaRPr b="0" lang="en-US" sz="12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196"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sp>
        <p:nvSpPr>
          <p:cNvPr id="197" name="直接连接符 2"/>
          <p:cNvSpPr/>
          <p:nvPr/>
        </p:nvSpPr>
        <p:spPr>
          <a:xfrm>
            <a:off x="692280" y="1450800"/>
            <a:ext cx="3448080" cy="1800"/>
          </a:xfrm>
          <a:prstGeom prst="line">
            <a:avLst/>
          </a:prstGeom>
          <a:ln w="9360">
            <a:solidFill>
              <a:srgbClr val="926a07"/>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8" name="圆角矩形 3"/>
          <p:cNvSpPr/>
          <p:nvPr/>
        </p:nvSpPr>
        <p:spPr>
          <a:xfrm>
            <a:off x="692280" y="987480"/>
            <a:ext cx="402408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一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业绩目标</a:t>
            </a:r>
            <a:endParaRPr b="0" lang="en-US" sz="2000" spc="-1" strike="noStrike">
              <a:solidFill>
                <a:srgbClr val="000000"/>
              </a:solidFill>
              <a:latin typeface="Arial"/>
            </a:endParaRPr>
          </a:p>
        </p:txBody>
      </p:sp>
      <p:pic>
        <p:nvPicPr>
          <p:cNvPr id="199" name="图片 5" descr=""/>
          <p:cNvPicPr/>
          <p:nvPr/>
        </p:nvPicPr>
        <p:blipFill>
          <a:blip r:embed="rId1"/>
          <a:stretch/>
        </p:blipFill>
        <p:spPr>
          <a:xfrm>
            <a:off x="2441520" y="1981080"/>
            <a:ext cx="4273560" cy="2530440"/>
          </a:xfrm>
          <a:prstGeom prst="rect">
            <a:avLst/>
          </a:prstGeom>
          <a:ln w="0">
            <a:noFill/>
          </a:ln>
        </p:spPr>
      </p:pic>
      <p:sp>
        <p:nvSpPr>
          <p:cNvPr id="200" name="圆角矩形 7"/>
          <p:cNvSpPr/>
          <p:nvPr/>
        </p:nvSpPr>
        <p:spPr>
          <a:xfrm>
            <a:off x="5580000" y="1590840"/>
            <a:ext cx="2960640" cy="1325520"/>
          </a:xfrm>
          <a:prstGeom prst="roundRect">
            <a:avLst>
              <a:gd name="adj" fmla="val 16667"/>
            </a:avLst>
          </a:prstGeom>
          <a:solidFill>
            <a:srgbClr val="bbecc8"/>
          </a:solidFill>
          <a:ln w="15840">
            <a:solidFill>
              <a:srgbClr val="ffffff"/>
            </a:solidFill>
            <a:miter/>
            <a:tailEnd len="med" type="oval" w="med"/>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团购销售</a:t>
            </a:r>
            <a:r>
              <a:rPr b="1" lang="en-US" sz="1200" spc="-1" strike="noStrike">
                <a:solidFill>
                  <a:srgbClr val="dc9f0b"/>
                </a:solidFill>
                <a:latin typeface="微软雅黑"/>
                <a:ea typeface="微软雅黑"/>
              </a:rPr>
              <a:t>80</a:t>
            </a:r>
            <a:r>
              <a:rPr b="1" lang="zh-CN" sz="1200" spc="-1" strike="noStrike">
                <a:solidFill>
                  <a:srgbClr val="dc9f0b"/>
                </a:solidFill>
                <a:latin typeface="微软雅黑"/>
                <a:ea typeface="微软雅黑"/>
              </a:rPr>
              <a:t>万</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肉、禽、蛋、乳、米、油、菌、干货等</a:t>
            </a:r>
            <a:r>
              <a:rPr b="0" lang="en-US" sz="1200" spc="-1" strike="noStrike">
                <a:solidFill>
                  <a:srgbClr val="217435"/>
                </a:solidFill>
                <a:latin typeface="微软雅黑"/>
                <a:ea typeface="微软雅黑"/>
              </a:rPr>
              <a:t>8</a:t>
            </a:r>
            <a:r>
              <a:rPr b="0" lang="zh-CN" sz="1200" spc="-1" strike="noStrike">
                <a:solidFill>
                  <a:srgbClr val="217435"/>
                </a:solidFill>
                <a:latin typeface="微软雅黑"/>
                <a:ea typeface="微软雅黑"/>
              </a:rPr>
              <a:t>个主打品种及其他配套品种，在产品组合上至少保证每个星期都有一款团购推出，取单价平均</a:t>
            </a:r>
            <a:r>
              <a:rPr b="0" lang="en-US" sz="1200" spc="-1" strike="noStrike">
                <a:solidFill>
                  <a:srgbClr val="217435"/>
                </a:solidFill>
                <a:latin typeface="微软雅黑"/>
                <a:ea typeface="微软雅黑"/>
              </a:rPr>
              <a:t>100</a:t>
            </a:r>
            <a:r>
              <a:rPr b="0" lang="zh-CN" sz="1200" spc="-1" strike="noStrike">
                <a:solidFill>
                  <a:srgbClr val="217435"/>
                </a:solidFill>
                <a:latin typeface="微软雅黑"/>
                <a:ea typeface="微软雅黑"/>
              </a:rPr>
              <a:t>元，每款团购销量平均</a:t>
            </a:r>
            <a:r>
              <a:rPr b="0" lang="en-US" sz="1200" spc="-1" strike="noStrike">
                <a:solidFill>
                  <a:srgbClr val="217435"/>
                </a:solidFill>
                <a:latin typeface="微软雅黑"/>
                <a:ea typeface="微软雅黑"/>
              </a:rPr>
              <a:t>300</a:t>
            </a:r>
            <a:r>
              <a:rPr b="0" lang="zh-CN" sz="1200" spc="-1" strike="noStrike">
                <a:solidFill>
                  <a:srgbClr val="217435"/>
                </a:solidFill>
                <a:latin typeface="微软雅黑"/>
                <a:ea typeface="微软雅黑"/>
              </a:rPr>
              <a:t>件。</a:t>
            </a:r>
            <a:r>
              <a:rPr b="1" lang="zh-CN" sz="1200" spc="-1" strike="noStrike">
                <a:solidFill>
                  <a:srgbClr val="926a07"/>
                </a:solidFill>
                <a:latin typeface="微软雅黑"/>
                <a:ea typeface="微软雅黑"/>
              </a:rPr>
              <a:t>	</a:t>
            </a:r>
            <a:endParaRPr b="0" lang="en-US" sz="1200" spc="-1" strike="noStrike">
              <a:solidFill>
                <a:srgbClr val="000000"/>
              </a:solidFill>
              <a:latin typeface="Arial"/>
            </a:endParaRPr>
          </a:p>
        </p:txBody>
      </p:sp>
      <p:sp>
        <p:nvSpPr>
          <p:cNvPr id="201" name="圆角矩形 8"/>
          <p:cNvSpPr/>
          <p:nvPr/>
        </p:nvSpPr>
        <p:spPr>
          <a:xfrm>
            <a:off x="692280" y="2925720"/>
            <a:ext cx="2808000" cy="1374840"/>
          </a:xfrm>
          <a:prstGeom prst="roundRect">
            <a:avLst>
              <a:gd name="adj" fmla="val 16667"/>
            </a:avLst>
          </a:prstGeom>
          <a:solidFill>
            <a:srgbClr val="bbecc8"/>
          </a:solidFill>
          <a:ln w="15840">
            <a:solidFill>
              <a:srgbClr val="ffffff"/>
            </a:solidFill>
            <a:miter/>
            <a:tailEnd len="med" type="oval" w="med"/>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礼品销售</a:t>
            </a:r>
            <a:r>
              <a:rPr b="1" lang="en-US" sz="1200" spc="-1" strike="noStrike">
                <a:solidFill>
                  <a:srgbClr val="dc9f0b"/>
                </a:solidFill>
                <a:latin typeface="微软雅黑"/>
                <a:ea typeface="微软雅黑"/>
              </a:rPr>
              <a:t>150</a:t>
            </a:r>
            <a:r>
              <a:rPr b="1" lang="zh-CN" sz="1200" spc="-1" strike="noStrike">
                <a:solidFill>
                  <a:srgbClr val="dc9f0b"/>
                </a:solidFill>
                <a:latin typeface="微软雅黑"/>
                <a:ea typeface="微软雅黑"/>
              </a:rPr>
              <a:t>万</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以端午、中秋、国庆、元旦、春节等重要送礼节气为主，在企业用户的支撑下，保守预计每场销售额不低于</a:t>
            </a:r>
            <a:r>
              <a:rPr b="0" lang="en-US" sz="1200" spc="-1" strike="noStrike">
                <a:solidFill>
                  <a:srgbClr val="217435"/>
                </a:solidFill>
                <a:latin typeface="微软雅黑"/>
                <a:ea typeface="微软雅黑"/>
              </a:rPr>
              <a:t>30</a:t>
            </a:r>
            <a:r>
              <a:rPr b="0" lang="zh-CN" sz="1200" spc="-1" strike="noStrike">
                <a:solidFill>
                  <a:srgbClr val="217435"/>
                </a:solidFill>
                <a:latin typeface="微软雅黑"/>
                <a:ea typeface="微软雅黑"/>
              </a:rPr>
              <a:t>万。</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TextBox 9"/>
          <p:cNvSpPr/>
          <p:nvPr/>
        </p:nvSpPr>
        <p:spPr>
          <a:xfrm>
            <a:off x="692280" y="1465200"/>
            <a:ext cx="36637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预计</a:t>
            </a:r>
            <a:r>
              <a:rPr b="0" lang="en-US" sz="1200" spc="-1" strike="noStrike">
                <a:solidFill>
                  <a:srgbClr val="217435"/>
                </a:solidFill>
                <a:latin typeface="微软雅黑"/>
                <a:ea typeface="微软雅黑"/>
              </a:rPr>
              <a:t>2012</a:t>
            </a:r>
            <a:r>
              <a:rPr b="0" lang="zh-CN" sz="1200" spc="-1" strike="noStrike">
                <a:solidFill>
                  <a:srgbClr val="217435"/>
                </a:solidFill>
                <a:latin typeface="微软雅黑"/>
                <a:ea typeface="微软雅黑"/>
              </a:rPr>
              <a:t>年</a:t>
            </a:r>
            <a:r>
              <a:rPr b="0" lang="en-US" sz="1200" spc="-1" strike="noStrike">
                <a:solidFill>
                  <a:srgbClr val="217435"/>
                </a:solidFill>
                <a:latin typeface="微软雅黑"/>
                <a:ea typeface="微软雅黑"/>
              </a:rPr>
              <a:t>6</a:t>
            </a:r>
            <a:r>
              <a:rPr b="0" lang="zh-CN" sz="1200" spc="-1" strike="noStrike">
                <a:solidFill>
                  <a:srgbClr val="217435"/>
                </a:solidFill>
                <a:latin typeface="微软雅黑"/>
                <a:ea typeface="微软雅黑"/>
              </a:rPr>
              <a:t>月</a:t>
            </a:r>
            <a:r>
              <a:rPr b="0" lang="en-US" sz="1200" spc="-1" strike="noStrike">
                <a:solidFill>
                  <a:srgbClr val="217435"/>
                </a:solidFill>
                <a:latin typeface="微软雅黑"/>
                <a:ea typeface="微软雅黑"/>
              </a:rPr>
              <a:t>—</a:t>
            </a:r>
            <a:r>
              <a:rPr b="0" lang="en-US" sz="1200" spc="-1" strike="noStrike">
                <a:solidFill>
                  <a:srgbClr val="217435"/>
                </a:solidFill>
                <a:latin typeface="微软雅黑"/>
                <a:ea typeface="微软雅黑"/>
              </a:rPr>
              <a:t>2012</a:t>
            </a:r>
            <a:r>
              <a:rPr b="0" lang="zh-CN" sz="1200" spc="-1" strike="noStrike">
                <a:solidFill>
                  <a:srgbClr val="217435"/>
                </a:solidFill>
                <a:latin typeface="微软雅黑"/>
                <a:ea typeface="微软雅黑"/>
              </a:rPr>
              <a:t>年</a:t>
            </a:r>
            <a:r>
              <a:rPr b="0" lang="en-US" sz="1200" spc="-1" strike="noStrike">
                <a:solidFill>
                  <a:srgbClr val="217435"/>
                </a:solidFill>
                <a:latin typeface="微软雅黑"/>
                <a:ea typeface="微软雅黑"/>
              </a:rPr>
              <a:t>12</a:t>
            </a:r>
            <a:r>
              <a:rPr b="0" lang="zh-CN" sz="1200" spc="-1" strike="noStrike">
                <a:solidFill>
                  <a:srgbClr val="217435"/>
                </a:solidFill>
                <a:latin typeface="微软雅黑"/>
                <a:ea typeface="微软雅黑"/>
              </a:rPr>
              <a:t>月半年销售额</a:t>
            </a:r>
            <a:r>
              <a:rPr b="0" lang="en-US" sz="1200" spc="-1" strike="noStrike">
                <a:solidFill>
                  <a:srgbClr val="217435"/>
                </a:solidFill>
                <a:latin typeface="微软雅黑"/>
                <a:ea typeface="微软雅黑"/>
              </a:rPr>
              <a:t>230</a:t>
            </a:r>
            <a:r>
              <a:rPr b="0" lang="zh-CN" sz="1200" spc="-1" strike="noStrike">
                <a:solidFill>
                  <a:srgbClr val="217435"/>
                </a:solidFill>
                <a:latin typeface="微软雅黑"/>
                <a:ea typeface="微软雅黑"/>
              </a:rPr>
              <a:t>万。</a:t>
            </a:r>
            <a:endParaRPr b="0" lang="en-US" sz="12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203"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sp>
        <p:nvSpPr>
          <p:cNvPr id="204" name="直接连接符 2"/>
          <p:cNvSpPr/>
          <p:nvPr/>
        </p:nvSpPr>
        <p:spPr>
          <a:xfrm>
            <a:off x="692280" y="145080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 name="圆角矩形 3"/>
          <p:cNvSpPr/>
          <p:nvPr/>
        </p:nvSpPr>
        <p:spPr>
          <a:xfrm>
            <a:off x="692280" y="987480"/>
            <a:ext cx="474336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二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丰富产品线，拓展多业务</a:t>
            </a:r>
            <a:endParaRPr b="0" lang="en-US" sz="2000" spc="-1" strike="noStrike">
              <a:solidFill>
                <a:srgbClr val="000000"/>
              </a:solidFill>
              <a:latin typeface="Arial"/>
            </a:endParaRPr>
          </a:p>
        </p:txBody>
      </p:sp>
      <p:sp>
        <p:nvSpPr>
          <p:cNvPr id="206" name="TextBox 4"/>
          <p:cNvSpPr/>
          <p:nvPr/>
        </p:nvSpPr>
        <p:spPr>
          <a:xfrm>
            <a:off x="692280" y="1895400"/>
            <a:ext cx="39510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在继续保持团购业务增长的同时要大力推进委托种养殖业务的完善，与基地的合作范围也要大幅度扩张。销售从定时配送要达到常态配送，因此在此阶段系统功能建设已经初步成熟，特别是物流体系，系统能够根据订单进行位置搜索，自动进行路径最优计算，即时生成次日的物流运送方案。</a:t>
            </a:r>
            <a:endParaRPr b="0" lang="en-US" sz="1200" spc="-1" strike="noStrike">
              <a:solidFill>
                <a:srgbClr val="000000"/>
              </a:solidFill>
              <a:latin typeface="Arial"/>
            </a:endParaRPr>
          </a:p>
        </p:txBody>
      </p:sp>
      <p:pic>
        <p:nvPicPr>
          <p:cNvPr id="207" name="图片 7" descr=""/>
          <p:cNvPicPr/>
          <p:nvPr/>
        </p:nvPicPr>
        <p:blipFill>
          <a:blip r:embed="rId1"/>
          <a:stretch/>
        </p:blipFill>
        <p:spPr>
          <a:xfrm>
            <a:off x="4933800" y="1644480"/>
            <a:ext cx="3462480" cy="2256120"/>
          </a:xfrm>
          <a:prstGeom prst="rect">
            <a:avLst/>
          </a:prstGeom>
          <a:ln w="19080">
            <a:solidFill>
              <a:srgbClr val="217435"/>
            </a:solidFill>
            <a:miter/>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208" name="矩形 2"/>
          <p:cNvSpPr/>
          <p:nvPr/>
        </p:nvSpPr>
        <p:spPr>
          <a:xfrm>
            <a:off x="0" y="4441680"/>
            <a:ext cx="9144000" cy="1273320"/>
          </a:xfrm>
          <a:prstGeom prst="rect">
            <a:avLst/>
          </a:prstGeom>
          <a:solidFill>
            <a:srgbClr val="ddf5e3"/>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图片 5" descr=""/>
          <p:cNvPicPr/>
          <p:nvPr/>
        </p:nvPicPr>
        <p:blipFill>
          <a:blip r:embed="rId1"/>
          <a:srcRect l="0" t="14117" r="5587" b="4756"/>
          <a:stretch/>
        </p:blipFill>
        <p:spPr>
          <a:xfrm>
            <a:off x="0" y="120600"/>
            <a:ext cx="9144000" cy="5594400"/>
          </a:xfrm>
          <a:prstGeom prst="rect">
            <a:avLst/>
          </a:prstGeom>
          <a:ln w="0">
            <a:noFill/>
          </a:ln>
        </p:spPr>
      </p:pic>
      <p:sp>
        <p:nvSpPr>
          <p:cNvPr id="210"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sp>
        <p:nvSpPr>
          <p:cNvPr id="211" name="直接连接符 2"/>
          <p:cNvSpPr/>
          <p:nvPr/>
        </p:nvSpPr>
        <p:spPr>
          <a:xfrm>
            <a:off x="692280" y="145080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2" name="圆角矩形 3"/>
          <p:cNvSpPr/>
          <p:nvPr/>
        </p:nvSpPr>
        <p:spPr>
          <a:xfrm>
            <a:off x="692280" y="987480"/>
            <a:ext cx="445608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二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物流模式</a:t>
            </a:r>
            <a:endParaRPr b="0" lang="en-US" sz="2000" spc="-1" strike="noStrike">
              <a:solidFill>
                <a:srgbClr val="000000"/>
              </a:solidFill>
              <a:latin typeface="Arial"/>
            </a:endParaRPr>
          </a:p>
        </p:txBody>
      </p:sp>
      <p:sp>
        <p:nvSpPr>
          <p:cNvPr id="213" name="TextBox 4"/>
          <p:cNvSpPr/>
          <p:nvPr/>
        </p:nvSpPr>
        <p:spPr>
          <a:xfrm>
            <a:off x="692280" y="1459080"/>
            <a:ext cx="3735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此阶段销量开始稳步上升，提货点存在着销售分成可能会出现的分歧，有了销售的保障，可以开始自建配送渠道，在这个过程中，根据情况将第三方物流作为过渡，逐步扩大自有物流体系的比例。</a:t>
            </a:r>
            <a:endParaRPr b="0" lang="en-US" sz="1200" spc="-1" strike="noStrike">
              <a:solidFill>
                <a:srgbClr val="000000"/>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214"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sp>
        <p:nvSpPr>
          <p:cNvPr id="215" name="直接连接符 2"/>
          <p:cNvSpPr/>
          <p:nvPr/>
        </p:nvSpPr>
        <p:spPr>
          <a:xfrm>
            <a:off x="692280" y="145080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6" name="圆角矩形 3"/>
          <p:cNvSpPr/>
          <p:nvPr/>
        </p:nvSpPr>
        <p:spPr>
          <a:xfrm>
            <a:off x="692280" y="987480"/>
            <a:ext cx="445608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二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业绩目标</a:t>
            </a:r>
            <a:endParaRPr b="0" lang="en-US" sz="2000" spc="-1" strike="noStrike">
              <a:solidFill>
                <a:srgbClr val="000000"/>
              </a:solidFill>
              <a:latin typeface="Arial"/>
            </a:endParaRPr>
          </a:p>
        </p:txBody>
      </p:sp>
      <p:sp>
        <p:nvSpPr>
          <p:cNvPr id="217" name="TextBox 10"/>
          <p:cNvSpPr/>
          <p:nvPr/>
        </p:nvSpPr>
        <p:spPr>
          <a:xfrm>
            <a:off x="692280" y="1465200"/>
            <a:ext cx="3735360" cy="2193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spcBef>
                <a:spcPts val="601"/>
              </a:spcBef>
              <a:spcAft>
                <a:spcPts val="601"/>
              </a:spcAft>
              <a:buClr>
                <a:srgbClr val="dc9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团购业务</a:t>
            </a:r>
            <a:r>
              <a:rPr b="0" lang="en-US" sz="1200" spc="-1" strike="noStrike">
                <a:solidFill>
                  <a:srgbClr val="217435"/>
                </a:solidFill>
                <a:latin typeface="微软雅黑"/>
                <a:ea typeface="微软雅黑"/>
              </a:rPr>
              <a:t>3</a:t>
            </a:r>
            <a:r>
              <a:rPr b="0" lang="zh-CN" sz="1200" spc="-1" strike="noStrike">
                <a:solidFill>
                  <a:srgbClr val="217435"/>
                </a:solidFill>
                <a:latin typeface="微软雅黑"/>
                <a:ea typeface="微软雅黑"/>
              </a:rPr>
              <a:t>年内以年度</a:t>
            </a:r>
            <a:r>
              <a:rPr b="0" lang="en-US" sz="1200" spc="-1" strike="noStrike">
                <a:solidFill>
                  <a:srgbClr val="217435"/>
                </a:solidFill>
                <a:latin typeface="微软雅黑"/>
                <a:ea typeface="微软雅黑"/>
              </a:rPr>
              <a:t>100%</a:t>
            </a:r>
            <a:r>
              <a:rPr b="0" lang="zh-CN" sz="1200" spc="-1" strike="noStrike">
                <a:solidFill>
                  <a:srgbClr val="217435"/>
                </a:solidFill>
                <a:latin typeface="微软雅黑"/>
                <a:ea typeface="微软雅黑"/>
              </a:rPr>
              <a:t>增长速度计算。</a:t>
            </a:r>
            <a:endParaRPr b="0" lang="en-US" sz="1200" spc="-1" strike="noStrike">
              <a:solidFill>
                <a:srgbClr val="000000"/>
              </a:solidFill>
              <a:latin typeface="Arial"/>
            </a:endParaRPr>
          </a:p>
          <a:p>
            <a:pPr marL="171360" indent="-171360">
              <a:lnSpc>
                <a:spcPct val="150000"/>
              </a:lnSpc>
              <a:spcBef>
                <a:spcPts val="601"/>
              </a:spcBef>
              <a:spcAft>
                <a:spcPts val="601"/>
              </a:spcAft>
              <a:buClr>
                <a:srgbClr val="dc9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委托业务按每个家庭年度消费</a:t>
            </a:r>
            <a:r>
              <a:rPr b="0" lang="en-US" sz="1200" spc="-1" strike="noStrike">
                <a:solidFill>
                  <a:srgbClr val="217435"/>
                </a:solidFill>
                <a:latin typeface="微软雅黑"/>
                <a:ea typeface="微软雅黑"/>
              </a:rPr>
              <a:t>3</a:t>
            </a:r>
            <a:r>
              <a:rPr b="0" lang="zh-CN" sz="1200" spc="-1" strike="noStrike">
                <a:solidFill>
                  <a:srgbClr val="217435"/>
                </a:solidFill>
                <a:latin typeface="微软雅黑"/>
                <a:ea typeface="微软雅黑"/>
              </a:rPr>
              <a:t>万元计算，</a:t>
            </a:r>
            <a:r>
              <a:rPr b="0" lang="en-US" sz="1200" spc="-1" strike="noStrike">
                <a:solidFill>
                  <a:srgbClr val="217435"/>
                </a:solidFill>
                <a:latin typeface="微软雅黑"/>
                <a:ea typeface="微软雅黑"/>
              </a:rPr>
              <a:t>2013</a:t>
            </a:r>
            <a:r>
              <a:rPr b="0" lang="zh-CN" sz="1200" spc="-1" strike="noStrike">
                <a:solidFill>
                  <a:srgbClr val="217435"/>
                </a:solidFill>
                <a:latin typeface="微软雅黑"/>
                <a:ea typeface="微软雅黑"/>
              </a:rPr>
              <a:t>年发展</a:t>
            </a:r>
            <a:r>
              <a:rPr b="0" lang="en-US" sz="1200" spc="-1" strike="noStrike">
                <a:solidFill>
                  <a:srgbClr val="217435"/>
                </a:solidFill>
                <a:latin typeface="微软雅黑"/>
                <a:ea typeface="微软雅黑"/>
              </a:rPr>
              <a:t>50</a:t>
            </a:r>
            <a:r>
              <a:rPr b="0" lang="zh-CN" sz="1200" spc="-1" strike="noStrike">
                <a:solidFill>
                  <a:srgbClr val="217435"/>
                </a:solidFill>
                <a:latin typeface="微软雅黑"/>
                <a:ea typeface="微软雅黑"/>
              </a:rPr>
              <a:t>户左右，</a:t>
            </a:r>
            <a:r>
              <a:rPr b="0" lang="en-US" sz="1200" spc="-1" strike="noStrike">
                <a:solidFill>
                  <a:srgbClr val="217435"/>
                </a:solidFill>
                <a:latin typeface="微软雅黑"/>
                <a:ea typeface="微软雅黑"/>
              </a:rPr>
              <a:t>2</a:t>
            </a:r>
            <a:r>
              <a:rPr b="0" lang="zh-CN" sz="1200" spc="-1" strike="noStrike">
                <a:solidFill>
                  <a:srgbClr val="217435"/>
                </a:solidFill>
                <a:latin typeface="微软雅黑"/>
                <a:ea typeface="微软雅黑"/>
              </a:rPr>
              <a:t>年内以年增速</a:t>
            </a:r>
            <a:r>
              <a:rPr b="0" lang="en-US" sz="1200" spc="-1" strike="noStrike">
                <a:solidFill>
                  <a:srgbClr val="217435"/>
                </a:solidFill>
                <a:latin typeface="微软雅黑"/>
                <a:ea typeface="微软雅黑"/>
              </a:rPr>
              <a:t>200%</a:t>
            </a:r>
            <a:r>
              <a:rPr b="0" lang="zh-CN" sz="1200" spc="-1" strike="noStrike">
                <a:solidFill>
                  <a:srgbClr val="217435"/>
                </a:solidFill>
                <a:latin typeface="微软雅黑"/>
                <a:ea typeface="微软雅黑"/>
              </a:rPr>
              <a:t>计算。</a:t>
            </a:r>
            <a:endParaRPr b="0" lang="en-US" sz="1200" spc="-1" strike="noStrike">
              <a:solidFill>
                <a:srgbClr val="000000"/>
              </a:solidFill>
              <a:latin typeface="Arial"/>
            </a:endParaRPr>
          </a:p>
          <a:p>
            <a:pPr marL="171360" indent="-171360">
              <a:lnSpc>
                <a:spcPct val="150000"/>
              </a:lnSpc>
              <a:spcBef>
                <a:spcPts val="601"/>
              </a:spcBef>
              <a:spcAft>
                <a:spcPts val="601"/>
              </a:spcAft>
              <a:buClr>
                <a:srgbClr val="dc9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礼品业务</a:t>
            </a:r>
            <a:r>
              <a:rPr b="0" lang="en-US" sz="1200" spc="-1" strike="noStrike">
                <a:solidFill>
                  <a:srgbClr val="217435"/>
                </a:solidFill>
                <a:latin typeface="微软雅黑"/>
                <a:ea typeface="微软雅黑"/>
              </a:rPr>
              <a:t>3</a:t>
            </a:r>
            <a:r>
              <a:rPr b="0" lang="zh-CN" sz="1200" spc="-1" strike="noStrike">
                <a:solidFill>
                  <a:srgbClr val="217435"/>
                </a:solidFill>
                <a:latin typeface="微软雅黑"/>
                <a:ea typeface="微软雅黑"/>
              </a:rPr>
              <a:t>年内以每年</a:t>
            </a:r>
            <a:r>
              <a:rPr b="0" lang="en-US" sz="1200" spc="-1" strike="noStrike">
                <a:solidFill>
                  <a:srgbClr val="217435"/>
                </a:solidFill>
                <a:latin typeface="微软雅黑"/>
                <a:ea typeface="微软雅黑"/>
              </a:rPr>
              <a:t>100%</a:t>
            </a:r>
            <a:r>
              <a:rPr b="0" lang="zh-CN" sz="1200" spc="-1" strike="noStrike">
                <a:solidFill>
                  <a:srgbClr val="217435"/>
                </a:solidFill>
                <a:latin typeface="微软雅黑"/>
                <a:ea typeface="微软雅黑"/>
              </a:rPr>
              <a:t>增长速度计算。</a:t>
            </a:r>
            <a:endParaRPr b="0" lang="en-US" sz="1200" spc="-1" strike="noStrike">
              <a:solidFill>
                <a:srgbClr val="000000"/>
              </a:solidFill>
              <a:latin typeface="Arial"/>
            </a:endParaRPr>
          </a:p>
          <a:p>
            <a:pPr marL="171360" indent="-171360">
              <a:lnSpc>
                <a:spcPct val="150000"/>
              </a:lnSpc>
              <a:spcBef>
                <a:spcPts val="601"/>
              </a:spcBef>
              <a:spcAft>
                <a:spcPts val="601"/>
              </a:spcAft>
              <a:buClr>
                <a:srgbClr val="dc9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由于各类产品自身利润率以及管理成本的差异，以平均利润率</a:t>
            </a:r>
            <a:r>
              <a:rPr b="0" lang="en-US" sz="1200" spc="-1" strike="noStrike">
                <a:solidFill>
                  <a:srgbClr val="217435"/>
                </a:solidFill>
                <a:latin typeface="微软雅黑"/>
                <a:ea typeface="微软雅黑"/>
              </a:rPr>
              <a:t>15%</a:t>
            </a:r>
            <a:r>
              <a:rPr b="0" lang="zh-CN" sz="1200" spc="-1" strike="noStrike">
                <a:solidFill>
                  <a:srgbClr val="217435"/>
                </a:solidFill>
                <a:latin typeface="微软雅黑"/>
                <a:ea typeface="微软雅黑"/>
              </a:rPr>
              <a:t>计算，以初始投资</a:t>
            </a:r>
            <a:r>
              <a:rPr b="0" lang="en-US" sz="1200" spc="-1" strike="noStrike">
                <a:solidFill>
                  <a:srgbClr val="217435"/>
                </a:solidFill>
                <a:latin typeface="微软雅黑"/>
                <a:ea typeface="微软雅黑"/>
              </a:rPr>
              <a:t>400</a:t>
            </a:r>
            <a:r>
              <a:rPr b="0" lang="zh-CN" sz="1200" spc="-1" strike="noStrike">
                <a:solidFill>
                  <a:srgbClr val="217435"/>
                </a:solidFill>
                <a:latin typeface="微软雅黑"/>
                <a:ea typeface="微软雅黑"/>
              </a:rPr>
              <a:t>万计算，不考虑</a:t>
            </a:r>
            <a:r>
              <a:rPr b="0" lang="en-US" sz="1200" spc="-1" strike="noStrike">
                <a:solidFill>
                  <a:srgbClr val="217435"/>
                </a:solidFill>
                <a:latin typeface="微软雅黑"/>
                <a:ea typeface="微软雅黑"/>
              </a:rPr>
              <a:t>B</a:t>
            </a:r>
            <a:r>
              <a:rPr b="0" lang="zh-CN" sz="1200" spc="-1" strike="noStrike">
                <a:solidFill>
                  <a:srgbClr val="217435"/>
                </a:solidFill>
                <a:latin typeface="微软雅黑"/>
                <a:ea typeface="微软雅黑"/>
              </a:rPr>
              <a:t>轮融资以及商业模式拓展等因素，</a:t>
            </a:r>
            <a:r>
              <a:rPr b="0" lang="en-US" sz="1200" spc="-1" strike="noStrike">
                <a:solidFill>
                  <a:srgbClr val="217435"/>
                </a:solidFill>
                <a:latin typeface="微软雅黑"/>
                <a:ea typeface="微软雅黑"/>
              </a:rPr>
              <a:t>2</a:t>
            </a:r>
            <a:r>
              <a:rPr b="0" lang="zh-CN" sz="1200" spc="-1" strike="noStrike">
                <a:solidFill>
                  <a:srgbClr val="217435"/>
                </a:solidFill>
                <a:latin typeface="微软雅黑"/>
                <a:ea typeface="微软雅黑"/>
              </a:rPr>
              <a:t>年半可以收回初始投资。</a:t>
            </a:r>
            <a:endParaRPr b="0" lang="en-US" sz="1200" spc="-1" strike="noStrike">
              <a:solidFill>
                <a:srgbClr val="000000"/>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218"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sp>
        <p:nvSpPr>
          <p:cNvPr id="219" name="直接连接符 2"/>
          <p:cNvSpPr/>
          <p:nvPr/>
        </p:nvSpPr>
        <p:spPr>
          <a:xfrm>
            <a:off x="692280" y="145080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0" name="圆角矩形 3"/>
          <p:cNvSpPr/>
          <p:nvPr/>
        </p:nvSpPr>
        <p:spPr>
          <a:xfrm>
            <a:off x="692280" y="987480"/>
            <a:ext cx="510372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三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以金融服务为核心进行基地整合</a:t>
            </a:r>
            <a:endParaRPr b="0" lang="en-US" sz="2000" spc="-1" strike="noStrike">
              <a:solidFill>
                <a:srgbClr val="000000"/>
              </a:solidFill>
              <a:latin typeface="Arial"/>
            </a:endParaRPr>
          </a:p>
        </p:txBody>
      </p:sp>
      <p:sp>
        <p:nvSpPr>
          <p:cNvPr id="221" name="TextBox 4"/>
          <p:cNvSpPr/>
          <p:nvPr/>
        </p:nvSpPr>
        <p:spPr>
          <a:xfrm>
            <a:off x="692280" y="1465200"/>
            <a:ext cx="6688080" cy="793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在平台发展的第一二阶段，最重要的是客户开拓和优化客户体验，平台与基地的合作完成了从产品代销到产地锁定的过程。在第三阶段，团队需要进行扩充和分化，一部分继续关注下游，另一个专业团队进入到上游基地的整合中，完成平台产业链的延伸。</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从长远可持续发展来说，拥有自己的生产基地是平台毋庸置疑的前进方向，而自建基地资金投入高、周期长，因此对于部分天然条件及产品符合平台要求，受制于技术升级或产能限制等且有合作意愿的基地可以进行整合，平台通过带来资金、技术、团队以及其他资源作价以股份形式进入基地。</a:t>
            </a:r>
            <a:endParaRPr b="0" lang="en-US" sz="1200" spc="-1" strike="noStrike">
              <a:solidFill>
                <a:srgbClr val="000000"/>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pic>
        <p:nvPicPr>
          <p:cNvPr id="222" name="图片 2" descr=""/>
          <p:cNvPicPr/>
          <p:nvPr/>
        </p:nvPicPr>
        <p:blipFill>
          <a:blip r:embed="rId1"/>
          <a:stretch/>
        </p:blipFill>
        <p:spPr>
          <a:xfrm>
            <a:off x="0" y="3092400"/>
            <a:ext cx="9144000" cy="2622600"/>
          </a:xfrm>
          <a:prstGeom prst="rect">
            <a:avLst/>
          </a:prstGeom>
          <a:ln w="0">
            <a:noFill/>
          </a:ln>
        </p:spPr>
      </p:pic>
      <p:sp>
        <p:nvSpPr>
          <p:cNvPr id="223" name="矩形 3"/>
          <p:cNvSpPr/>
          <p:nvPr/>
        </p:nvSpPr>
        <p:spPr>
          <a:xfrm>
            <a:off x="0" y="3002040"/>
            <a:ext cx="9144000" cy="174132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sp>
        <p:nvSpPr>
          <p:cNvPr id="225" name="直接连接符 2"/>
          <p:cNvSpPr/>
          <p:nvPr/>
        </p:nvSpPr>
        <p:spPr>
          <a:xfrm>
            <a:off x="692280" y="145080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 name="圆角矩形 3"/>
          <p:cNvSpPr/>
          <p:nvPr/>
        </p:nvSpPr>
        <p:spPr>
          <a:xfrm>
            <a:off x="692280" y="987480"/>
            <a:ext cx="510372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三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基地选择</a:t>
            </a:r>
            <a:endParaRPr b="0" lang="en-US" sz="2000" spc="-1" strike="noStrike">
              <a:solidFill>
                <a:srgbClr val="000000"/>
              </a:solidFill>
              <a:latin typeface="Arial"/>
            </a:endParaRPr>
          </a:p>
        </p:txBody>
      </p:sp>
      <p:sp>
        <p:nvSpPr>
          <p:cNvPr id="227" name="TextBox 4"/>
          <p:cNvSpPr/>
          <p:nvPr/>
        </p:nvSpPr>
        <p:spPr>
          <a:xfrm>
            <a:off x="679320" y="1457280"/>
            <a:ext cx="6688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考虑到一些实力雄厚的大型资金目前也在全国范围内寻找基地，主要为其实现大规模集约化生产做准备。从平台来说，则主要关注一些特色产品基地，由于特定水土光照的限制，属于无法借助资金在异地复制的资源，在平台整合步骤中，这类基地优先于大规模集约化常规类产品基地，也是从资金的属性进行区分，平台引入及合作时不以资金量大为优势，而从运作思路进行差异化。</a:t>
            </a:r>
            <a:endParaRPr b="0" lang="en-US" sz="1200" spc="-1" strike="noStrike">
              <a:solidFill>
                <a:srgbClr val="0000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pic>
        <p:nvPicPr>
          <p:cNvPr id="228" name="图片 2" descr=""/>
          <p:cNvPicPr/>
          <p:nvPr/>
        </p:nvPicPr>
        <p:blipFill>
          <a:blip r:embed="rId1"/>
          <a:stretch/>
        </p:blipFill>
        <p:spPr>
          <a:xfrm>
            <a:off x="3613320" y="1893960"/>
            <a:ext cx="5530680" cy="2763720"/>
          </a:xfrm>
          <a:prstGeom prst="rect">
            <a:avLst/>
          </a:prstGeom>
          <a:ln w="0">
            <a:noFill/>
          </a:ln>
        </p:spPr>
      </p:pic>
      <p:pic>
        <p:nvPicPr>
          <p:cNvPr id="229" name="图片 3" descr=""/>
          <p:cNvPicPr/>
          <p:nvPr/>
        </p:nvPicPr>
        <p:blipFill>
          <a:blip r:embed="rId2"/>
          <a:stretch/>
        </p:blipFill>
        <p:spPr>
          <a:xfrm>
            <a:off x="0" y="4299120"/>
            <a:ext cx="9144000" cy="1415880"/>
          </a:xfrm>
          <a:prstGeom prst="rect">
            <a:avLst/>
          </a:prstGeom>
          <a:ln w="0">
            <a:noFill/>
          </a:ln>
        </p:spPr>
      </p:pic>
      <p:sp>
        <p:nvSpPr>
          <p:cNvPr id="230"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sp>
        <p:nvSpPr>
          <p:cNvPr id="231" name="直接连接符 2"/>
          <p:cNvSpPr/>
          <p:nvPr/>
        </p:nvSpPr>
        <p:spPr>
          <a:xfrm>
            <a:off x="692280" y="145080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2" name="圆角矩形 3"/>
          <p:cNvSpPr/>
          <p:nvPr/>
        </p:nvSpPr>
        <p:spPr>
          <a:xfrm>
            <a:off x="692280" y="987480"/>
            <a:ext cx="510372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三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整合方式</a:t>
            </a:r>
            <a:endParaRPr b="0" lang="en-US" sz="2000" spc="-1" strike="noStrike">
              <a:solidFill>
                <a:srgbClr val="000000"/>
              </a:solidFill>
              <a:latin typeface="Arial"/>
            </a:endParaRPr>
          </a:p>
        </p:txBody>
      </p:sp>
      <p:sp>
        <p:nvSpPr>
          <p:cNvPr id="233" name="TextBox 4"/>
          <p:cNvSpPr/>
          <p:nvPr/>
        </p:nvSpPr>
        <p:spPr>
          <a:xfrm>
            <a:off x="679320" y="1457280"/>
            <a:ext cx="4829400" cy="1067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基地整合中，主要包括三方主体，原有运营方、资金方、平台，平台主要为连接运营方和资金方的纽带，平台凭借销售渠道、投资机构资源以及部分自有资金投入在基地中占有部分股权，因此平台主要是凭借资源参股，自有资金投入可以采用向外界定向募集的跟投方式，即最大限度地减少平台自身的资金占用，充分运用杠杆手段。</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第三阶段基地整合的资金回报率要远远高于产品流通，随着商业模式的变型，平台将迎来爆发式增长期。</a:t>
            </a:r>
            <a:endParaRPr b="0" lang="en-US" sz="12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62" name="矩形 1"/>
          <p:cNvSpPr/>
          <p:nvPr/>
        </p:nvSpPr>
        <p:spPr>
          <a:xfrm>
            <a:off x="7723080" y="120600"/>
            <a:ext cx="546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目录</a:t>
            </a:r>
            <a:endParaRPr b="0" lang="en-US" sz="2400" spc="-1" strike="noStrike">
              <a:solidFill>
                <a:srgbClr val="000000"/>
              </a:solidFill>
              <a:latin typeface="Arial"/>
            </a:endParaRPr>
          </a:p>
        </p:txBody>
      </p:sp>
      <p:sp>
        <p:nvSpPr>
          <p:cNvPr id="63" name="圆角矩形 3"/>
          <p:cNvSpPr/>
          <p:nvPr/>
        </p:nvSpPr>
        <p:spPr>
          <a:xfrm>
            <a:off x="7093080" y="1963800"/>
            <a:ext cx="503280" cy="2463840"/>
          </a:xfrm>
          <a:custGeom>
            <a:avLst/>
            <a:gdLst>
              <a:gd name="textAreaLeft" fmla="*/ 35640 w 503280"/>
              <a:gd name="textAreaRight" fmla="*/ 467640 w 503280"/>
              <a:gd name="textAreaTop" fmla="*/ 35640 h 2463840"/>
              <a:gd name="textAreaBottom" fmla="*/ 2428200 h 2463840"/>
            </a:gdLst>
            <a:ahLst/>
            <a:rect l="textAreaLeft" t="textAreaTop" r="textAreaRight" b="textAreaBottom"/>
            <a:pathLst>
              <a:path w="21600" h="105684">
                <a:moveTo>
                  <a:pt x="5252" y="0"/>
                </a:moveTo>
                <a:arcTo wR="5252" hR="5252" stAng="16200000" swAng="-5400000"/>
                <a:lnTo>
                  <a:pt x="0" y="100432"/>
                </a:lnTo>
                <a:arcTo wR="5252" hR="5252" stAng="10800000" swAng="-5400000"/>
                <a:lnTo>
                  <a:pt x="16348" y="105684"/>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市场分析</a:t>
            </a:r>
            <a:endParaRPr b="0" lang="en-US" sz="2000" spc="-1" strike="noStrike">
              <a:solidFill>
                <a:srgbClr val="000000"/>
              </a:solidFill>
              <a:latin typeface="Arial"/>
            </a:endParaRPr>
          </a:p>
        </p:txBody>
      </p:sp>
      <p:sp>
        <p:nvSpPr>
          <p:cNvPr id="64" name="圆角矩形 4"/>
          <p:cNvSpPr/>
          <p:nvPr/>
        </p:nvSpPr>
        <p:spPr>
          <a:xfrm>
            <a:off x="6408720" y="1963800"/>
            <a:ext cx="503280" cy="2463840"/>
          </a:xfrm>
          <a:custGeom>
            <a:avLst/>
            <a:gdLst>
              <a:gd name="textAreaLeft" fmla="*/ 35640 w 503280"/>
              <a:gd name="textAreaRight" fmla="*/ 467640 w 503280"/>
              <a:gd name="textAreaTop" fmla="*/ 35640 h 2463840"/>
              <a:gd name="textAreaBottom" fmla="*/ 2428200 h 2463840"/>
            </a:gdLst>
            <a:ahLst/>
            <a:rect l="textAreaLeft" t="textAreaTop" r="textAreaRight" b="textAreaBottom"/>
            <a:pathLst>
              <a:path w="21600" h="105684">
                <a:moveTo>
                  <a:pt x="5252" y="0"/>
                </a:moveTo>
                <a:arcTo wR="5252" hR="5252" stAng="16200000" swAng="-5400000"/>
                <a:lnTo>
                  <a:pt x="0" y="100432"/>
                </a:lnTo>
                <a:arcTo wR="5252" hR="5252" stAng="10800000" swAng="-5400000"/>
                <a:lnTo>
                  <a:pt x="16348" y="105684"/>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项目简介</a:t>
            </a:r>
            <a:endParaRPr b="0" lang="en-US" sz="2000" spc="-1" strike="noStrike">
              <a:solidFill>
                <a:srgbClr val="000000"/>
              </a:solidFill>
              <a:latin typeface="Arial"/>
            </a:endParaRPr>
          </a:p>
        </p:txBody>
      </p:sp>
      <p:sp>
        <p:nvSpPr>
          <p:cNvPr id="65" name="圆角矩形 5"/>
          <p:cNvSpPr/>
          <p:nvPr/>
        </p:nvSpPr>
        <p:spPr>
          <a:xfrm>
            <a:off x="5688000" y="1967040"/>
            <a:ext cx="503280" cy="2463840"/>
          </a:xfrm>
          <a:custGeom>
            <a:avLst/>
            <a:gdLst>
              <a:gd name="textAreaLeft" fmla="*/ 35640 w 503280"/>
              <a:gd name="textAreaRight" fmla="*/ 467640 w 503280"/>
              <a:gd name="textAreaTop" fmla="*/ 35640 h 2463840"/>
              <a:gd name="textAreaBottom" fmla="*/ 2428200 h 2463840"/>
            </a:gdLst>
            <a:ahLst/>
            <a:rect l="textAreaLeft" t="textAreaTop" r="textAreaRight" b="textAreaBottom"/>
            <a:pathLst>
              <a:path w="21600" h="105684">
                <a:moveTo>
                  <a:pt x="5252" y="0"/>
                </a:moveTo>
                <a:arcTo wR="5252" hR="5252" stAng="16200000" swAng="-5400000"/>
                <a:lnTo>
                  <a:pt x="0" y="100432"/>
                </a:lnTo>
                <a:arcTo wR="5252" hR="5252" stAng="10800000" swAng="-5400000"/>
                <a:lnTo>
                  <a:pt x="16348" y="105684"/>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平台优势介绍</a:t>
            </a:r>
            <a:endParaRPr b="0" lang="en-US" sz="2000" spc="-1" strike="noStrike">
              <a:solidFill>
                <a:srgbClr val="000000"/>
              </a:solidFill>
              <a:latin typeface="Arial"/>
            </a:endParaRPr>
          </a:p>
        </p:txBody>
      </p:sp>
      <p:sp>
        <p:nvSpPr>
          <p:cNvPr id="66" name="圆角矩形 6"/>
          <p:cNvSpPr/>
          <p:nvPr/>
        </p:nvSpPr>
        <p:spPr>
          <a:xfrm>
            <a:off x="4248000" y="1963800"/>
            <a:ext cx="505080" cy="2463840"/>
          </a:xfrm>
          <a:custGeom>
            <a:avLst/>
            <a:gdLst>
              <a:gd name="textAreaLeft" fmla="*/ 35640 w 505080"/>
              <a:gd name="textAreaRight" fmla="*/ 469440 w 505080"/>
              <a:gd name="textAreaTop" fmla="*/ 35640 h 2463840"/>
              <a:gd name="textAreaBottom" fmla="*/ 2428200 h 2463840"/>
            </a:gdLst>
            <a:ahLst/>
            <a:rect l="textAreaLeft" t="textAreaTop" r="textAreaRight" b="textAreaBottom"/>
            <a:pathLst>
              <a:path w="21600" h="105308">
                <a:moveTo>
                  <a:pt x="5252" y="0"/>
                </a:moveTo>
                <a:arcTo wR="5252" hR="5252" stAng="16200000" swAng="-5400000"/>
                <a:lnTo>
                  <a:pt x="0" y="100056"/>
                </a:lnTo>
                <a:arcTo wR="5252" hR="5252" stAng="10800000" swAng="-5400000"/>
                <a:lnTo>
                  <a:pt x="16348" y="105308"/>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平台流通产品计划</a:t>
            </a:r>
            <a:endParaRPr b="0" lang="en-US" sz="2000" spc="-1" strike="noStrike">
              <a:solidFill>
                <a:srgbClr val="000000"/>
              </a:solidFill>
              <a:latin typeface="Arial"/>
            </a:endParaRPr>
          </a:p>
        </p:txBody>
      </p:sp>
      <p:sp>
        <p:nvSpPr>
          <p:cNvPr id="67" name="圆角矩形 7"/>
          <p:cNvSpPr/>
          <p:nvPr/>
        </p:nvSpPr>
        <p:spPr>
          <a:xfrm>
            <a:off x="4968720" y="1963800"/>
            <a:ext cx="503280" cy="2463840"/>
          </a:xfrm>
          <a:custGeom>
            <a:avLst/>
            <a:gdLst>
              <a:gd name="textAreaLeft" fmla="*/ 35640 w 503280"/>
              <a:gd name="textAreaRight" fmla="*/ 467640 w 503280"/>
              <a:gd name="textAreaTop" fmla="*/ 35640 h 2463840"/>
              <a:gd name="textAreaBottom" fmla="*/ 2428200 h 2463840"/>
            </a:gdLst>
            <a:ahLst/>
            <a:rect l="textAreaLeft" t="textAreaTop" r="textAreaRight" b="textAreaBottom"/>
            <a:pathLst>
              <a:path w="21600" h="105684">
                <a:moveTo>
                  <a:pt x="5252" y="0"/>
                </a:moveTo>
                <a:arcTo wR="5252" hR="5252" stAng="16200000" swAng="-5400000"/>
                <a:lnTo>
                  <a:pt x="0" y="100432"/>
                </a:lnTo>
                <a:arcTo wR="5252" hR="5252" stAng="10800000" swAng="-5400000"/>
                <a:lnTo>
                  <a:pt x="16348" y="105684"/>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全程质量控制体系</a:t>
            </a:r>
            <a:endParaRPr b="0" lang="en-US" sz="2000" spc="-1" strike="noStrike">
              <a:solidFill>
                <a:srgbClr val="000000"/>
              </a:solidFill>
              <a:latin typeface="Arial"/>
            </a:endParaRPr>
          </a:p>
        </p:txBody>
      </p:sp>
      <p:sp>
        <p:nvSpPr>
          <p:cNvPr id="68" name="圆角矩形 8"/>
          <p:cNvSpPr/>
          <p:nvPr/>
        </p:nvSpPr>
        <p:spPr>
          <a:xfrm>
            <a:off x="3527280" y="1963800"/>
            <a:ext cx="505080" cy="2463840"/>
          </a:xfrm>
          <a:custGeom>
            <a:avLst/>
            <a:gdLst>
              <a:gd name="textAreaLeft" fmla="*/ 35640 w 505080"/>
              <a:gd name="textAreaRight" fmla="*/ 469440 w 505080"/>
              <a:gd name="textAreaTop" fmla="*/ 35640 h 2463840"/>
              <a:gd name="textAreaBottom" fmla="*/ 2428200 h 2463840"/>
            </a:gdLst>
            <a:ahLst/>
            <a:rect l="textAreaLeft" t="textAreaTop" r="textAreaRight" b="textAreaBottom"/>
            <a:pathLst>
              <a:path w="21600" h="105308">
                <a:moveTo>
                  <a:pt x="5252" y="0"/>
                </a:moveTo>
                <a:arcTo wR="5252" hR="5252" stAng="16200000" swAng="-5400000"/>
                <a:lnTo>
                  <a:pt x="0" y="100056"/>
                </a:lnTo>
                <a:arcTo wR="5252" hR="5252" stAng="10800000" swAng="-5400000"/>
                <a:lnTo>
                  <a:pt x="16348" y="105308"/>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平台供应链设计</a:t>
            </a:r>
            <a:endParaRPr b="0" lang="en-US" sz="2000" spc="-1" strike="noStrike">
              <a:solidFill>
                <a:srgbClr val="000000"/>
              </a:solidFill>
              <a:latin typeface="Arial"/>
            </a:endParaRPr>
          </a:p>
        </p:txBody>
      </p:sp>
      <p:sp>
        <p:nvSpPr>
          <p:cNvPr id="69" name="圆角矩形 9"/>
          <p:cNvSpPr/>
          <p:nvPr/>
        </p:nvSpPr>
        <p:spPr>
          <a:xfrm>
            <a:off x="2808360" y="1967040"/>
            <a:ext cx="503280" cy="2463840"/>
          </a:xfrm>
          <a:custGeom>
            <a:avLst/>
            <a:gdLst>
              <a:gd name="textAreaLeft" fmla="*/ 35640 w 503280"/>
              <a:gd name="textAreaRight" fmla="*/ 467640 w 503280"/>
              <a:gd name="textAreaTop" fmla="*/ 35640 h 2463840"/>
              <a:gd name="textAreaBottom" fmla="*/ 2428200 h 2463840"/>
            </a:gdLst>
            <a:ahLst/>
            <a:rect l="textAreaLeft" t="textAreaTop" r="textAreaRight" b="textAreaBottom"/>
            <a:pathLst>
              <a:path w="21600" h="105684">
                <a:moveTo>
                  <a:pt x="5252" y="0"/>
                </a:moveTo>
                <a:arcTo wR="5252" hR="5252" stAng="16200000" swAng="-5400000"/>
                <a:lnTo>
                  <a:pt x="0" y="100432"/>
                </a:lnTo>
                <a:arcTo wR="5252" hR="5252" stAng="10800000" swAng="-5400000"/>
                <a:lnTo>
                  <a:pt x="16348" y="105684"/>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经营计划</a:t>
            </a:r>
            <a:endParaRPr b="0" lang="en-US" sz="2000" spc="-1" strike="noStrike">
              <a:solidFill>
                <a:srgbClr val="000000"/>
              </a:solidFill>
              <a:latin typeface="Arial"/>
            </a:endParaRPr>
          </a:p>
        </p:txBody>
      </p:sp>
      <p:sp>
        <p:nvSpPr>
          <p:cNvPr id="70" name="圆角矩形 10"/>
          <p:cNvSpPr/>
          <p:nvPr/>
        </p:nvSpPr>
        <p:spPr>
          <a:xfrm>
            <a:off x="2087640" y="1967040"/>
            <a:ext cx="504720" cy="2463840"/>
          </a:xfrm>
          <a:custGeom>
            <a:avLst/>
            <a:gdLst>
              <a:gd name="textAreaLeft" fmla="*/ 35640 w 504720"/>
              <a:gd name="textAreaRight" fmla="*/ 469080 w 504720"/>
              <a:gd name="textAreaTop" fmla="*/ 35640 h 2463840"/>
              <a:gd name="textAreaBottom" fmla="*/ 2428200 h 2463840"/>
            </a:gdLst>
            <a:ahLst/>
            <a:rect l="textAreaLeft" t="textAreaTop" r="textAreaRight" b="textAreaBottom"/>
            <a:pathLst>
              <a:path w="21600" h="105383">
                <a:moveTo>
                  <a:pt x="5252" y="0"/>
                </a:moveTo>
                <a:arcTo wR="5252" hR="5252" stAng="16200000" swAng="-5400000"/>
                <a:lnTo>
                  <a:pt x="0" y="100131"/>
                </a:lnTo>
                <a:arcTo wR="5252" hR="5252" stAng="10800000" swAng="-5400000"/>
                <a:lnTo>
                  <a:pt x="16348" y="105383"/>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组织架构</a:t>
            </a:r>
            <a:endParaRPr b="0" lang="en-US" sz="2000" spc="-1" strike="noStrike">
              <a:solidFill>
                <a:srgbClr val="000000"/>
              </a:solidFill>
              <a:latin typeface="Arial"/>
            </a:endParaRPr>
          </a:p>
        </p:txBody>
      </p:sp>
      <p:sp>
        <p:nvSpPr>
          <p:cNvPr id="71" name="圆角矩形 11"/>
          <p:cNvSpPr/>
          <p:nvPr/>
        </p:nvSpPr>
        <p:spPr>
          <a:xfrm>
            <a:off x="1368360" y="1963800"/>
            <a:ext cx="503280" cy="2463840"/>
          </a:xfrm>
          <a:custGeom>
            <a:avLst/>
            <a:gdLst>
              <a:gd name="textAreaLeft" fmla="*/ 35640 w 503280"/>
              <a:gd name="textAreaRight" fmla="*/ 467640 w 503280"/>
              <a:gd name="textAreaTop" fmla="*/ 35640 h 2463840"/>
              <a:gd name="textAreaBottom" fmla="*/ 2428200 h 2463840"/>
            </a:gdLst>
            <a:ahLst/>
            <a:rect l="textAreaLeft" t="textAreaTop" r="textAreaRight" b="textAreaBottom"/>
            <a:pathLst>
              <a:path w="21600" h="105684">
                <a:moveTo>
                  <a:pt x="5252" y="0"/>
                </a:moveTo>
                <a:arcTo wR="5252" hR="5252" stAng="16200000" swAng="-5400000"/>
                <a:lnTo>
                  <a:pt x="0" y="100432"/>
                </a:lnTo>
                <a:arcTo wR="5252" hR="5252" stAng="10800000" swAng="-5400000"/>
                <a:lnTo>
                  <a:pt x="16348" y="105684"/>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融资规划</a:t>
            </a:r>
            <a:endParaRPr b="0" lang="en-US" sz="2000" spc="-1" strike="noStrike">
              <a:solidFill>
                <a:srgbClr val="000000"/>
              </a:solidFill>
              <a:latin typeface="Arial"/>
            </a:endParaRPr>
          </a:p>
        </p:txBody>
      </p:sp>
      <p:sp>
        <p:nvSpPr>
          <p:cNvPr id="72" name="圆角矩形 13"/>
          <p:cNvSpPr/>
          <p:nvPr/>
        </p:nvSpPr>
        <p:spPr>
          <a:xfrm>
            <a:off x="6408720" y="1488960"/>
            <a:ext cx="503280" cy="406440"/>
          </a:xfrm>
          <a:prstGeom prst="roundRect">
            <a:avLst>
              <a:gd name="adj" fmla="val 24315"/>
            </a:avLst>
          </a:prstGeom>
          <a:no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二</a:t>
            </a:r>
            <a:endParaRPr b="0" lang="en-US" sz="2000" spc="-1" strike="noStrike">
              <a:solidFill>
                <a:srgbClr val="000000"/>
              </a:solidFill>
              <a:latin typeface="Arial"/>
            </a:endParaRPr>
          </a:p>
        </p:txBody>
      </p:sp>
      <p:sp>
        <p:nvSpPr>
          <p:cNvPr id="73" name="圆角矩形 14"/>
          <p:cNvSpPr/>
          <p:nvPr/>
        </p:nvSpPr>
        <p:spPr>
          <a:xfrm>
            <a:off x="7093080" y="1488960"/>
            <a:ext cx="503280" cy="406440"/>
          </a:xfrm>
          <a:prstGeom prst="roundRect">
            <a:avLst>
              <a:gd name="adj" fmla="val 24315"/>
            </a:avLst>
          </a:prstGeom>
          <a:no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一</a:t>
            </a:r>
            <a:endParaRPr b="0" lang="en-US" sz="2000" spc="-1" strike="noStrike">
              <a:solidFill>
                <a:srgbClr val="000000"/>
              </a:solidFill>
              <a:latin typeface="Arial"/>
            </a:endParaRPr>
          </a:p>
        </p:txBody>
      </p:sp>
      <p:sp>
        <p:nvSpPr>
          <p:cNvPr id="74" name="圆角矩形 15"/>
          <p:cNvSpPr/>
          <p:nvPr/>
        </p:nvSpPr>
        <p:spPr>
          <a:xfrm>
            <a:off x="5688000" y="1488960"/>
            <a:ext cx="503280" cy="406440"/>
          </a:xfrm>
          <a:prstGeom prst="roundRect">
            <a:avLst>
              <a:gd name="adj" fmla="val 24315"/>
            </a:avLst>
          </a:prstGeom>
          <a:no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三</a:t>
            </a:r>
            <a:endParaRPr b="0" lang="en-US" sz="2000" spc="-1" strike="noStrike">
              <a:solidFill>
                <a:srgbClr val="000000"/>
              </a:solidFill>
              <a:latin typeface="Arial"/>
            </a:endParaRPr>
          </a:p>
        </p:txBody>
      </p:sp>
      <p:sp>
        <p:nvSpPr>
          <p:cNvPr id="75" name="圆角矩形 16"/>
          <p:cNvSpPr/>
          <p:nvPr/>
        </p:nvSpPr>
        <p:spPr>
          <a:xfrm>
            <a:off x="4968720" y="1488960"/>
            <a:ext cx="503280" cy="406440"/>
          </a:xfrm>
          <a:prstGeom prst="roundRect">
            <a:avLst>
              <a:gd name="adj" fmla="val 24315"/>
            </a:avLst>
          </a:prstGeom>
          <a:no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四</a:t>
            </a:r>
            <a:endParaRPr b="0" lang="en-US" sz="2000" spc="-1" strike="noStrike">
              <a:solidFill>
                <a:srgbClr val="000000"/>
              </a:solidFill>
              <a:latin typeface="Arial"/>
            </a:endParaRPr>
          </a:p>
        </p:txBody>
      </p:sp>
      <p:sp>
        <p:nvSpPr>
          <p:cNvPr id="76" name="圆角矩形 17"/>
          <p:cNvSpPr/>
          <p:nvPr/>
        </p:nvSpPr>
        <p:spPr>
          <a:xfrm>
            <a:off x="4248000" y="1488960"/>
            <a:ext cx="505080" cy="406440"/>
          </a:xfrm>
          <a:prstGeom prst="roundRect">
            <a:avLst>
              <a:gd name="adj" fmla="val 24315"/>
            </a:avLst>
          </a:prstGeom>
          <a:no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五</a:t>
            </a:r>
            <a:endParaRPr b="0" lang="en-US" sz="2000" spc="-1" strike="noStrike">
              <a:solidFill>
                <a:srgbClr val="000000"/>
              </a:solidFill>
              <a:latin typeface="Arial"/>
            </a:endParaRPr>
          </a:p>
        </p:txBody>
      </p:sp>
      <p:sp>
        <p:nvSpPr>
          <p:cNvPr id="77" name="圆角矩形 18"/>
          <p:cNvSpPr/>
          <p:nvPr/>
        </p:nvSpPr>
        <p:spPr>
          <a:xfrm>
            <a:off x="3527280" y="1488960"/>
            <a:ext cx="505080" cy="406440"/>
          </a:xfrm>
          <a:prstGeom prst="roundRect">
            <a:avLst>
              <a:gd name="adj" fmla="val 24315"/>
            </a:avLst>
          </a:prstGeom>
          <a:no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六</a:t>
            </a:r>
            <a:endParaRPr b="0" lang="en-US" sz="2000" spc="-1" strike="noStrike">
              <a:solidFill>
                <a:srgbClr val="000000"/>
              </a:solidFill>
              <a:latin typeface="Arial"/>
            </a:endParaRPr>
          </a:p>
        </p:txBody>
      </p:sp>
      <p:sp>
        <p:nvSpPr>
          <p:cNvPr id="78" name="圆角矩形 19"/>
          <p:cNvSpPr/>
          <p:nvPr/>
        </p:nvSpPr>
        <p:spPr>
          <a:xfrm>
            <a:off x="2808360" y="1488960"/>
            <a:ext cx="503280" cy="406440"/>
          </a:xfrm>
          <a:prstGeom prst="roundRect">
            <a:avLst>
              <a:gd name="adj" fmla="val 24315"/>
            </a:avLst>
          </a:prstGeom>
          <a:no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七</a:t>
            </a:r>
            <a:endParaRPr b="0" lang="en-US" sz="2000" spc="-1" strike="noStrike">
              <a:solidFill>
                <a:srgbClr val="000000"/>
              </a:solidFill>
              <a:latin typeface="Arial"/>
            </a:endParaRPr>
          </a:p>
        </p:txBody>
      </p:sp>
      <p:sp>
        <p:nvSpPr>
          <p:cNvPr id="79" name="圆角矩形 20"/>
          <p:cNvSpPr/>
          <p:nvPr/>
        </p:nvSpPr>
        <p:spPr>
          <a:xfrm>
            <a:off x="2087640" y="1488960"/>
            <a:ext cx="504720" cy="406440"/>
          </a:xfrm>
          <a:prstGeom prst="roundRect">
            <a:avLst>
              <a:gd name="adj" fmla="val 24315"/>
            </a:avLst>
          </a:prstGeom>
          <a:no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八</a:t>
            </a:r>
            <a:endParaRPr b="0" lang="en-US" sz="2000" spc="-1" strike="noStrike">
              <a:solidFill>
                <a:srgbClr val="000000"/>
              </a:solidFill>
              <a:latin typeface="Arial"/>
            </a:endParaRPr>
          </a:p>
        </p:txBody>
      </p:sp>
      <p:sp>
        <p:nvSpPr>
          <p:cNvPr id="80" name="圆角矩形 21"/>
          <p:cNvSpPr/>
          <p:nvPr/>
        </p:nvSpPr>
        <p:spPr>
          <a:xfrm>
            <a:off x="1368360" y="1488960"/>
            <a:ext cx="503280" cy="406440"/>
          </a:xfrm>
          <a:prstGeom prst="roundRect">
            <a:avLst>
              <a:gd name="adj" fmla="val 24315"/>
            </a:avLst>
          </a:prstGeom>
          <a:no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九</a:t>
            </a:r>
            <a:endParaRPr b="0" lang="en-US" sz="2000" spc="-1" strike="noStrike">
              <a:solidFill>
                <a:srgbClr val="000000"/>
              </a:solidFill>
              <a:latin typeface="Arial"/>
            </a:endParaRPr>
          </a:p>
        </p:txBody>
      </p:sp>
      <p:sp>
        <p:nvSpPr>
          <p:cNvPr id="81" name="直接连接符 23"/>
          <p:cNvSpPr/>
          <p:nvPr/>
        </p:nvSpPr>
        <p:spPr>
          <a:xfrm>
            <a:off x="1224000" y="1920960"/>
            <a:ext cx="6372360" cy="1440"/>
          </a:xfrm>
          <a:prstGeom prst="line">
            <a:avLst/>
          </a:prstGeom>
          <a:ln w="9360">
            <a:solidFill>
              <a:srgbClr val="dc9f0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234"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组织架构</a:t>
            </a:r>
            <a:endParaRPr b="0" lang="en-US" sz="2400" spc="-1" strike="noStrike">
              <a:solidFill>
                <a:srgbClr val="000000"/>
              </a:solidFill>
              <a:latin typeface="Arial"/>
            </a:endParaRPr>
          </a:p>
        </p:txBody>
      </p:sp>
      <p:sp>
        <p:nvSpPr>
          <p:cNvPr id="235" name="TextBox 152"/>
          <p:cNvSpPr/>
          <p:nvPr/>
        </p:nvSpPr>
        <p:spPr>
          <a:xfrm>
            <a:off x="108000" y="2735280"/>
            <a:ext cx="718920" cy="367560"/>
          </a:xfrm>
          <a:prstGeom prst="rect">
            <a:avLst/>
          </a:prstGeom>
          <a:solidFill>
            <a:srgbClr val="ffffff">
              <a:alpha val="50000"/>
            </a:srgbClr>
          </a:solidFill>
          <a:ln w="6480">
            <a:solidFill>
              <a:srgbClr val="ffffff"/>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董事会</a:t>
            </a:r>
            <a:endParaRPr b="0" lang="en-US" sz="1200" spc="-1" strike="noStrike">
              <a:solidFill>
                <a:srgbClr val="000000"/>
              </a:solidFill>
              <a:latin typeface="Arial"/>
            </a:endParaRPr>
          </a:p>
        </p:txBody>
      </p:sp>
      <p:sp>
        <p:nvSpPr>
          <p:cNvPr id="236" name="TextBox 153"/>
          <p:cNvSpPr/>
          <p:nvPr/>
        </p:nvSpPr>
        <p:spPr>
          <a:xfrm>
            <a:off x="1641600" y="2797200"/>
            <a:ext cx="720720" cy="367560"/>
          </a:xfrm>
          <a:prstGeom prst="rect">
            <a:avLst/>
          </a:prstGeom>
          <a:solidFill>
            <a:srgbClr val="ffffff">
              <a:alpha val="50000"/>
            </a:srgbClr>
          </a:solidFill>
          <a:ln w="6480">
            <a:solidFill>
              <a:srgbClr val="ffffff"/>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总经理</a:t>
            </a:r>
            <a:endParaRPr b="0" lang="en-US" sz="1200" spc="-1" strike="noStrike">
              <a:solidFill>
                <a:srgbClr val="000000"/>
              </a:solidFill>
              <a:latin typeface="Arial"/>
            </a:endParaRPr>
          </a:p>
        </p:txBody>
      </p:sp>
      <p:sp>
        <p:nvSpPr>
          <p:cNvPr id="237" name="TextBox 154"/>
          <p:cNvSpPr/>
          <p:nvPr/>
        </p:nvSpPr>
        <p:spPr>
          <a:xfrm>
            <a:off x="2158920" y="1209600"/>
            <a:ext cx="719280" cy="367560"/>
          </a:xfrm>
          <a:prstGeom prst="rect">
            <a:avLst/>
          </a:prstGeom>
          <a:solidFill>
            <a:srgbClr val="f5c040">
              <a:alpha val="45000"/>
            </a:srgbClr>
          </a:solidFill>
          <a:ln w="6480">
            <a:solidFill>
              <a:srgbClr val="f5c040"/>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财务部</a:t>
            </a:r>
            <a:endParaRPr b="0" lang="en-US" sz="1200" spc="-1" strike="noStrike">
              <a:solidFill>
                <a:srgbClr val="000000"/>
              </a:solidFill>
              <a:latin typeface="Arial"/>
            </a:endParaRPr>
          </a:p>
        </p:txBody>
      </p:sp>
      <p:sp>
        <p:nvSpPr>
          <p:cNvPr id="238" name="TextBox 155"/>
          <p:cNvSpPr/>
          <p:nvPr/>
        </p:nvSpPr>
        <p:spPr>
          <a:xfrm>
            <a:off x="3676680" y="2460600"/>
            <a:ext cx="720720" cy="367560"/>
          </a:xfrm>
          <a:prstGeom prst="rect">
            <a:avLst/>
          </a:prstGeom>
          <a:solidFill>
            <a:srgbClr val="31ae50">
              <a:alpha val="40000"/>
            </a:srgbClr>
          </a:solidFill>
          <a:ln w="6480">
            <a:solidFill>
              <a:srgbClr val="31ae50"/>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产品部</a:t>
            </a:r>
            <a:endParaRPr b="0" lang="en-US" sz="1200" spc="-1" strike="noStrike">
              <a:solidFill>
                <a:srgbClr val="000000"/>
              </a:solidFill>
              <a:latin typeface="Arial"/>
            </a:endParaRPr>
          </a:p>
        </p:txBody>
      </p:sp>
      <p:sp>
        <p:nvSpPr>
          <p:cNvPr id="239" name="TextBox 156"/>
          <p:cNvSpPr/>
          <p:nvPr/>
        </p:nvSpPr>
        <p:spPr>
          <a:xfrm>
            <a:off x="2043000" y="4660920"/>
            <a:ext cx="1073160" cy="367560"/>
          </a:xfrm>
          <a:prstGeom prst="rect">
            <a:avLst/>
          </a:prstGeom>
          <a:solidFill>
            <a:srgbClr val="bfbfbf">
              <a:alpha val="50000"/>
            </a:srgbClr>
          </a:solidFill>
          <a:ln w="6480">
            <a:solidFill>
              <a:srgbClr val="7f7f7f"/>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网站运营部</a:t>
            </a:r>
            <a:endParaRPr b="0" lang="en-US" sz="1200" spc="-1" strike="noStrike">
              <a:solidFill>
                <a:srgbClr val="000000"/>
              </a:solidFill>
              <a:latin typeface="Arial"/>
            </a:endParaRPr>
          </a:p>
        </p:txBody>
      </p:sp>
      <p:sp>
        <p:nvSpPr>
          <p:cNvPr id="240" name="TextBox 157"/>
          <p:cNvSpPr/>
          <p:nvPr/>
        </p:nvSpPr>
        <p:spPr>
          <a:xfrm>
            <a:off x="3824280" y="3506760"/>
            <a:ext cx="719280" cy="367560"/>
          </a:xfrm>
          <a:prstGeom prst="rect">
            <a:avLst/>
          </a:prstGeom>
          <a:solidFill>
            <a:srgbClr val="a5d028">
              <a:alpha val="50000"/>
            </a:srgbClr>
          </a:solidFill>
          <a:ln w="6480">
            <a:solidFill>
              <a:srgbClr val="a5d028"/>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销售部</a:t>
            </a:r>
            <a:endParaRPr b="0" lang="en-US" sz="1200" spc="-1" strike="noStrike">
              <a:solidFill>
                <a:srgbClr val="000000"/>
              </a:solidFill>
              <a:latin typeface="Arial"/>
            </a:endParaRPr>
          </a:p>
        </p:txBody>
      </p:sp>
      <p:sp>
        <p:nvSpPr>
          <p:cNvPr id="241" name="TextBox 158"/>
          <p:cNvSpPr/>
          <p:nvPr/>
        </p:nvSpPr>
        <p:spPr>
          <a:xfrm>
            <a:off x="3170160" y="4268880"/>
            <a:ext cx="720720" cy="367560"/>
          </a:xfrm>
          <a:prstGeom prst="rect">
            <a:avLst/>
          </a:prstGeom>
          <a:solidFill>
            <a:srgbClr val="5bd078">
              <a:alpha val="50000"/>
            </a:srgbClr>
          </a:solidFill>
          <a:ln w="6480">
            <a:solidFill>
              <a:srgbClr val="5bd078"/>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客服部</a:t>
            </a:r>
            <a:endParaRPr b="0" lang="en-US" sz="1200" spc="-1" strike="noStrike">
              <a:solidFill>
                <a:srgbClr val="000000"/>
              </a:solidFill>
              <a:latin typeface="Arial"/>
            </a:endParaRPr>
          </a:p>
        </p:txBody>
      </p:sp>
      <p:sp>
        <p:nvSpPr>
          <p:cNvPr id="242" name="线形标注 2 162"/>
          <p:cNvSpPr/>
          <p:nvPr/>
        </p:nvSpPr>
        <p:spPr>
          <a:xfrm>
            <a:off x="4708440" y="936720"/>
            <a:ext cx="1440000" cy="272880"/>
          </a:xfrm>
          <a:prstGeom prst="borderCallout2">
            <a:avLst>
              <a:gd name="adj1" fmla="val 18750"/>
              <a:gd name="adj2" fmla="val -8333"/>
              <a:gd name="adj3" fmla="val 22074"/>
              <a:gd name="adj4" fmla="val -111185"/>
              <a:gd name="adj5" fmla="val 127930"/>
              <a:gd name="adj6" fmla="val -132675"/>
            </a:avLst>
          </a:prstGeom>
          <a:solidFill>
            <a:srgbClr val="f5c040">
              <a:alpha val="45000"/>
            </a:srgbClr>
          </a:solidFill>
          <a:ln w="6480">
            <a:solidFill>
              <a:srgbClr val="f5c040"/>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会计</a:t>
            </a:r>
            <a:endParaRPr b="0" lang="en-US" sz="1200" spc="-1" strike="noStrike">
              <a:solidFill>
                <a:srgbClr val="000000"/>
              </a:solidFill>
              <a:latin typeface="Arial"/>
            </a:endParaRPr>
          </a:p>
        </p:txBody>
      </p:sp>
      <p:sp>
        <p:nvSpPr>
          <p:cNvPr id="243" name="线形标注 2 163"/>
          <p:cNvSpPr/>
          <p:nvPr/>
        </p:nvSpPr>
        <p:spPr>
          <a:xfrm>
            <a:off x="4708440" y="1327320"/>
            <a:ext cx="1440000" cy="274320"/>
          </a:xfrm>
          <a:prstGeom prst="borderCallout2">
            <a:avLst>
              <a:gd name="adj1" fmla="val 18750"/>
              <a:gd name="adj2" fmla="val -8333"/>
              <a:gd name="adj3" fmla="val 25518"/>
              <a:gd name="adj4" fmla="val -109874"/>
              <a:gd name="adj5" fmla="val 55546"/>
              <a:gd name="adj6" fmla="val -130708"/>
            </a:avLst>
          </a:prstGeom>
          <a:solidFill>
            <a:srgbClr val="f5c040">
              <a:alpha val="45000"/>
            </a:srgbClr>
          </a:solidFill>
          <a:ln w="6480">
            <a:solidFill>
              <a:srgbClr val="f5c040"/>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出纳</a:t>
            </a:r>
            <a:endParaRPr b="0" lang="en-US" sz="1200" spc="-1" strike="noStrike">
              <a:solidFill>
                <a:srgbClr val="000000"/>
              </a:solidFill>
              <a:latin typeface="Arial"/>
            </a:endParaRPr>
          </a:p>
        </p:txBody>
      </p:sp>
      <p:sp>
        <p:nvSpPr>
          <p:cNvPr id="244" name="线形标注 2 164"/>
          <p:cNvSpPr/>
          <p:nvPr/>
        </p:nvSpPr>
        <p:spPr>
          <a:xfrm>
            <a:off x="4716360" y="1754280"/>
            <a:ext cx="1440000" cy="272880"/>
          </a:xfrm>
          <a:prstGeom prst="borderCallout2">
            <a:avLst>
              <a:gd name="adj1" fmla="val 18750"/>
              <a:gd name="adj2" fmla="val -8333"/>
              <a:gd name="adj3" fmla="val 28962"/>
              <a:gd name="adj4" fmla="val -20851"/>
              <a:gd name="adj5" fmla="val 282763"/>
              <a:gd name="adj6" fmla="val -66560"/>
            </a:avLst>
          </a:prstGeom>
          <a:solidFill>
            <a:srgbClr val="31ae50">
              <a:alpha val="40000"/>
            </a:srgbClr>
          </a:solidFill>
          <a:ln w="6480">
            <a:solidFill>
              <a:srgbClr val="31ae50"/>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物流部</a:t>
            </a:r>
            <a:endParaRPr b="0" lang="en-US" sz="1200" spc="-1" strike="noStrike">
              <a:solidFill>
                <a:srgbClr val="000000"/>
              </a:solidFill>
              <a:latin typeface="Arial"/>
            </a:endParaRPr>
          </a:p>
        </p:txBody>
      </p:sp>
      <p:sp>
        <p:nvSpPr>
          <p:cNvPr id="245" name="线形标注 2 165"/>
          <p:cNvSpPr/>
          <p:nvPr/>
        </p:nvSpPr>
        <p:spPr>
          <a:xfrm>
            <a:off x="4716360" y="2173320"/>
            <a:ext cx="1440000" cy="274680"/>
          </a:xfrm>
          <a:prstGeom prst="borderCallout2">
            <a:avLst>
              <a:gd name="adj1" fmla="val 18750"/>
              <a:gd name="adj2" fmla="val -8333"/>
              <a:gd name="adj3" fmla="val 28962"/>
              <a:gd name="adj4" fmla="val -14962"/>
              <a:gd name="adj5" fmla="val 127842"/>
              <a:gd name="adj6" fmla="val -25324"/>
            </a:avLst>
          </a:prstGeom>
          <a:solidFill>
            <a:srgbClr val="31ae50">
              <a:alpha val="40000"/>
            </a:srgbClr>
          </a:solidFill>
          <a:ln w="6480">
            <a:solidFill>
              <a:srgbClr val="31ae50"/>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基地部</a:t>
            </a:r>
            <a:endParaRPr b="0" lang="en-US" sz="1200" spc="-1" strike="noStrike">
              <a:solidFill>
                <a:srgbClr val="000000"/>
              </a:solidFill>
              <a:latin typeface="Arial"/>
            </a:endParaRPr>
          </a:p>
        </p:txBody>
      </p:sp>
      <p:sp>
        <p:nvSpPr>
          <p:cNvPr id="246" name="线形标注 2 166"/>
          <p:cNvSpPr/>
          <p:nvPr/>
        </p:nvSpPr>
        <p:spPr>
          <a:xfrm>
            <a:off x="4708440" y="2600280"/>
            <a:ext cx="1440000" cy="273240"/>
          </a:xfrm>
          <a:prstGeom prst="borderCallout2">
            <a:avLst>
              <a:gd name="adj1" fmla="val 18750"/>
              <a:gd name="adj2" fmla="val -8333"/>
              <a:gd name="adj3" fmla="val 28962"/>
              <a:gd name="adj4" fmla="val -14962"/>
              <a:gd name="adj5" fmla="val 52106"/>
              <a:gd name="adj6" fmla="val -24671"/>
            </a:avLst>
          </a:prstGeom>
          <a:solidFill>
            <a:srgbClr val="31ae50">
              <a:alpha val="40000"/>
            </a:srgbClr>
          </a:solidFill>
          <a:ln w="6480">
            <a:solidFill>
              <a:srgbClr val="31ae50"/>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质量部</a:t>
            </a:r>
            <a:endParaRPr b="0" lang="en-US" sz="1200" spc="-1" strike="noStrike">
              <a:solidFill>
                <a:srgbClr val="000000"/>
              </a:solidFill>
              <a:latin typeface="Arial"/>
            </a:endParaRPr>
          </a:p>
        </p:txBody>
      </p:sp>
      <p:sp>
        <p:nvSpPr>
          <p:cNvPr id="247" name="线形标注 2 167"/>
          <p:cNvSpPr/>
          <p:nvPr/>
        </p:nvSpPr>
        <p:spPr>
          <a:xfrm>
            <a:off x="4716360" y="3241800"/>
            <a:ext cx="1440000" cy="274680"/>
          </a:xfrm>
          <a:prstGeom prst="borderCallout2">
            <a:avLst>
              <a:gd name="adj1" fmla="val 18750"/>
              <a:gd name="adj2" fmla="val -8333"/>
              <a:gd name="adj3" fmla="val 28962"/>
              <a:gd name="adj4" fmla="val -20851"/>
              <a:gd name="adj5" fmla="val 124490"/>
              <a:gd name="adj6" fmla="val -54782"/>
            </a:avLst>
          </a:prstGeom>
          <a:solidFill>
            <a:srgbClr val="a5d028">
              <a:alpha val="50000"/>
            </a:srgbClr>
          </a:solidFill>
          <a:ln w="6480">
            <a:solidFill>
              <a:srgbClr val="a5d028"/>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大客户部</a:t>
            </a:r>
            <a:endParaRPr b="0" lang="en-US" sz="1200" spc="-1" strike="noStrike">
              <a:solidFill>
                <a:srgbClr val="000000"/>
              </a:solidFill>
              <a:latin typeface="Arial"/>
            </a:endParaRPr>
          </a:p>
        </p:txBody>
      </p:sp>
      <p:sp>
        <p:nvSpPr>
          <p:cNvPr id="248" name="线形标注 2 168"/>
          <p:cNvSpPr/>
          <p:nvPr/>
        </p:nvSpPr>
        <p:spPr>
          <a:xfrm>
            <a:off x="4716360" y="3666960"/>
            <a:ext cx="1440000" cy="273240"/>
          </a:xfrm>
          <a:prstGeom prst="borderCallout2">
            <a:avLst>
              <a:gd name="adj1" fmla="val 18750"/>
              <a:gd name="adj2" fmla="val -8333"/>
              <a:gd name="adj3" fmla="val 32402"/>
              <a:gd name="adj4" fmla="val -9069"/>
              <a:gd name="adj5" fmla="val -26981"/>
              <a:gd name="adj6" fmla="val -16162"/>
            </a:avLst>
          </a:prstGeom>
          <a:solidFill>
            <a:srgbClr val="a5d028">
              <a:alpha val="50000"/>
            </a:srgbClr>
          </a:solidFill>
          <a:ln w="6480">
            <a:solidFill>
              <a:srgbClr val="a5d028"/>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合作部</a:t>
            </a:r>
            <a:endParaRPr b="0" lang="en-US" sz="1200" spc="-1" strike="noStrike">
              <a:solidFill>
                <a:srgbClr val="000000"/>
              </a:solidFill>
              <a:latin typeface="Arial"/>
            </a:endParaRPr>
          </a:p>
        </p:txBody>
      </p:sp>
      <p:sp>
        <p:nvSpPr>
          <p:cNvPr id="249" name="线形标注 2 169"/>
          <p:cNvSpPr/>
          <p:nvPr/>
        </p:nvSpPr>
        <p:spPr>
          <a:xfrm>
            <a:off x="4716360" y="4011480"/>
            <a:ext cx="1440000" cy="273240"/>
          </a:xfrm>
          <a:prstGeom prst="borderCallout2">
            <a:avLst>
              <a:gd name="adj1" fmla="val 18750"/>
              <a:gd name="adj2" fmla="val -8333"/>
              <a:gd name="adj3" fmla="val 28962"/>
              <a:gd name="adj4" fmla="val -92203"/>
              <a:gd name="adj5" fmla="val 117601"/>
              <a:gd name="adj6" fmla="val -100601"/>
            </a:avLst>
          </a:prstGeom>
          <a:solidFill>
            <a:srgbClr val="5bd078">
              <a:alpha val="50000"/>
            </a:srgbClr>
          </a:solidFill>
          <a:ln w="6480">
            <a:solidFill>
              <a:srgbClr val="5bd078"/>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售前</a:t>
            </a:r>
            <a:endParaRPr b="0" lang="en-US" sz="1200" spc="-1" strike="noStrike">
              <a:solidFill>
                <a:srgbClr val="000000"/>
              </a:solidFill>
              <a:latin typeface="Arial"/>
            </a:endParaRPr>
          </a:p>
        </p:txBody>
      </p:sp>
      <p:sp>
        <p:nvSpPr>
          <p:cNvPr id="250" name="线形标注 2 170"/>
          <p:cNvSpPr/>
          <p:nvPr/>
        </p:nvSpPr>
        <p:spPr>
          <a:xfrm>
            <a:off x="4716360" y="4437000"/>
            <a:ext cx="1440000" cy="273240"/>
          </a:xfrm>
          <a:prstGeom prst="borderCallout2">
            <a:avLst>
              <a:gd name="adj1" fmla="val 18750"/>
              <a:gd name="adj2" fmla="val -8333"/>
              <a:gd name="adj3" fmla="val 32402"/>
              <a:gd name="adj4" fmla="val -45726"/>
              <a:gd name="adj5" fmla="val -30425"/>
              <a:gd name="adj6" fmla="val -61328"/>
            </a:avLst>
          </a:prstGeom>
          <a:solidFill>
            <a:srgbClr val="5bd078">
              <a:alpha val="50000"/>
            </a:srgbClr>
          </a:solidFill>
          <a:ln w="6480">
            <a:solidFill>
              <a:srgbClr val="5bd078"/>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售后</a:t>
            </a:r>
            <a:endParaRPr b="0" lang="en-US" sz="1200" spc="-1" strike="noStrike">
              <a:solidFill>
                <a:srgbClr val="000000"/>
              </a:solidFill>
              <a:latin typeface="Arial"/>
            </a:endParaRPr>
          </a:p>
        </p:txBody>
      </p:sp>
      <p:sp>
        <p:nvSpPr>
          <p:cNvPr id="251" name="线形标注 2 171"/>
          <p:cNvSpPr/>
          <p:nvPr/>
        </p:nvSpPr>
        <p:spPr>
          <a:xfrm>
            <a:off x="4716360" y="4843440"/>
            <a:ext cx="1440000" cy="274680"/>
          </a:xfrm>
          <a:prstGeom prst="borderCallout2">
            <a:avLst>
              <a:gd name="adj1" fmla="val 18750"/>
              <a:gd name="adj2" fmla="val -8333"/>
              <a:gd name="adj3" fmla="val 35847"/>
              <a:gd name="adj4" fmla="val -97439"/>
              <a:gd name="adj5" fmla="val -44194"/>
              <a:gd name="adj6" fmla="val -114999"/>
            </a:avLst>
          </a:prstGeom>
          <a:solidFill>
            <a:srgbClr val="bfbfbf">
              <a:alpha val="50000"/>
            </a:srgbClr>
          </a:solidFill>
          <a:ln w="6480">
            <a:solidFill>
              <a:srgbClr val="7f7f7f"/>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技术部</a:t>
            </a:r>
            <a:endParaRPr b="0" lang="en-US" sz="1200" spc="-1" strike="noStrike">
              <a:solidFill>
                <a:srgbClr val="000000"/>
              </a:solidFill>
              <a:latin typeface="Arial"/>
            </a:endParaRPr>
          </a:p>
        </p:txBody>
      </p:sp>
      <p:sp>
        <p:nvSpPr>
          <p:cNvPr id="252" name="线形标注 2 172"/>
          <p:cNvSpPr/>
          <p:nvPr/>
        </p:nvSpPr>
        <p:spPr>
          <a:xfrm>
            <a:off x="4716360" y="5253120"/>
            <a:ext cx="1440000" cy="274680"/>
          </a:xfrm>
          <a:prstGeom prst="borderCallout2">
            <a:avLst>
              <a:gd name="adj1" fmla="val 18750"/>
              <a:gd name="adj2" fmla="val -8333"/>
              <a:gd name="adj3" fmla="val 35847"/>
              <a:gd name="adj4" fmla="val -97439"/>
              <a:gd name="adj5" fmla="val -99277"/>
              <a:gd name="adj6" fmla="val -116310"/>
            </a:avLst>
          </a:prstGeom>
          <a:solidFill>
            <a:srgbClr val="bfbfbf">
              <a:alpha val="50000"/>
            </a:srgbClr>
          </a:solidFill>
          <a:ln w="6480">
            <a:solidFill>
              <a:srgbClr val="7f7f7f"/>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市场部</a:t>
            </a:r>
            <a:endParaRPr b="0" lang="en-US" sz="1200" spc="-1" strike="noStrike">
              <a:solidFill>
                <a:srgbClr val="000000"/>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253"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融资规划</a:t>
            </a:r>
            <a:endParaRPr b="0" lang="en-US" sz="2400" spc="-1" strike="noStrike">
              <a:solidFill>
                <a:srgbClr val="000000"/>
              </a:solidFill>
              <a:latin typeface="Arial"/>
            </a:endParaRPr>
          </a:p>
        </p:txBody>
      </p:sp>
      <p:sp>
        <p:nvSpPr>
          <p:cNvPr id="254" name="直接连接符 2"/>
          <p:cNvSpPr/>
          <p:nvPr/>
        </p:nvSpPr>
        <p:spPr>
          <a:xfrm>
            <a:off x="692280" y="145080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TextBox 3"/>
          <p:cNvSpPr/>
          <p:nvPr/>
        </p:nvSpPr>
        <p:spPr>
          <a:xfrm>
            <a:off x="692280" y="1512720"/>
            <a:ext cx="64008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7435"/>
                </a:solidFill>
                <a:latin typeface="微软雅黑"/>
                <a:ea typeface="微软雅黑"/>
              </a:rPr>
              <a:t>2012</a:t>
            </a:r>
            <a:r>
              <a:rPr b="0" lang="zh-CN" sz="1200" spc="-1" strike="noStrike">
                <a:solidFill>
                  <a:srgbClr val="217435"/>
                </a:solidFill>
                <a:latin typeface="微软雅黑"/>
                <a:ea typeface="微软雅黑"/>
              </a:rPr>
              <a:t>年 首轮投资 共</a:t>
            </a:r>
            <a:r>
              <a:rPr b="0" lang="en-US" sz="1200" spc="-1" strike="noStrike">
                <a:solidFill>
                  <a:srgbClr val="217435"/>
                </a:solidFill>
                <a:latin typeface="微软雅黑"/>
                <a:ea typeface="微软雅黑"/>
              </a:rPr>
              <a:t>400</a:t>
            </a:r>
            <a:r>
              <a:rPr b="0" lang="zh-CN" sz="1200" spc="-1" strike="noStrike">
                <a:solidFill>
                  <a:srgbClr val="217435"/>
                </a:solidFill>
                <a:latin typeface="微软雅黑"/>
                <a:ea typeface="微软雅黑"/>
              </a:rPr>
              <a:t>万，投向如下。经营团队可根据投资人约定在期间进行股份回购。</a:t>
            </a:r>
            <a:endParaRPr b="0" lang="en-US" sz="1200" spc="-1" strike="noStrike">
              <a:solidFill>
                <a:srgbClr val="000000"/>
              </a:solidFill>
              <a:latin typeface="Arial"/>
            </a:endParaRPr>
          </a:p>
        </p:txBody>
      </p:sp>
      <p:sp>
        <p:nvSpPr>
          <p:cNvPr id="256" name="TextBox 4"/>
          <p:cNvSpPr/>
          <p:nvPr/>
        </p:nvSpPr>
        <p:spPr>
          <a:xfrm>
            <a:off x="692280" y="4403880"/>
            <a:ext cx="64008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7435"/>
                </a:solidFill>
                <a:latin typeface="微软雅黑"/>
                <a:ea typeface="微软雅黑"/>
              </a:rPr>
              <a:t>2015</a:t>
            </a:r>
            <a:r>
              <a:rPr b="0" lang="zh-CN" sz="1200" spc="-1" strike="noStrike">
                <a:solidFill>
                  <a:srgbClr val="217435"/>
                </a:solidFill>
                <a:latin typeface="微软雅黑"/>
                <a:ea typeface="微软雅黑"/>
              </a:rPr>
              <a:t>年 </a:t>
            </a:r>
            <a:r>
              <a:rPr b="0" lang="en-US" sz="1200" spc="-1" strike="noStrike">
                <a:solidFill>
                  <a:srgbClr val="217435"/>
                </a:solidFill>
                <a:latin typeface="微软雅黑"/>
                <a:ea typeface="微软雅黑"/>
              </a:rPr>
              <a:t>B</a:t>
            </a:r>
            <a:r>
              <a:rPr b="0" lang="zh-CN" sz="1200" spc="-1" strike="noStrike">
                <a:solidFill>
                  <a:srgbClr val="217435"/>
                </a:solidFill>
                <a:latin typeface="微软雅黑"/>
                <a:ea typeface="微软雅黑"/>
              </a:rPr>
              <a:t>轮融资，</a:t>
            </a:r>
            <a:r>
              <a:rPr b="0" lang="en-US" sz="1200" spc="-1" strike="noStrike">
                <a:solidFill>
                  <a:srgbClr val="217435"/>
                </a:solidFill>
                <a:latin typeface="微软雅黑"/>
                <a:ea typeface="微软雅黑"/>
              </a:rPr>
              <a:t>5000</a:t>
            </a:r>
            <a:r>
              <a:rPr b="0" lang="zh-CN" sz="1200" spc="-1" strike="noStrike">
                <a:solidFill>
                  <a:srgbClr val="217435"/>
                </a:solidFill>
                <a:latin typeface="微软雅黑"/>
                <a:ea typeface="微软雅黑"/>
              </a:rPr>
              <a:t>万，在西部其他中心城市设立分支机构；募集成立对基地进行跟投的基金。</a:t>
            </a:r>
            <a:endParaRPr b="0" lang="en-US" sz="1200" spc="-1" strike="noStrike">
              <a:solidFill>
                <a:srgbClr val="000000"/>
              </a:solidFill>
              <a:latin typeface="Arial"/>
            </a:endParaRPr>
          </a:p>
        </p:txBody>
      </p:sp>
      <p:sp>
        <p:nvSpPr>
          <p:cNvPr id="257" name="圆角矩形 5"/>
          <p:cNvSpPr/>
          <p:nvPr/>
        </p:nvSpPr>
        <p:spPr>
          <a:xfrm>
            <a:off x="692280" y="987480"/>
            <a:ext cx="366372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融资规划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首轮融资</a:t>
            </a:r>
            <a:endParaRPr b="0" lang="en-US" sz="2000" spc="-1" strike="noStrike">
              <a:solidFill>
                <a:srgbClr val="000000"/>
              </a:solidFill>
              <a:latin typeface="Arial"/>
            </a:endParaRPr>
          </a:p>
        </p:txBody>
      </p:sp>
      <p:sp>
        <p:nvSpPr>
          <p:cNvPr id="258" name="直接连接符 6"/>
          <p:cNvSpPr/>
          <p:nvPr/>
        </p:nvSpPr>
        <p:spPr>
          <a:xfrm>
            <a:off x="692280" y="436392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 name="圆角矩形 7"/>
          <p:cNvSpPr/>
          <p:nvPr/>
        </p:nvSpPr>
        <p:spPr>
          <a:xfrm>
            <a:off x="692280" y="3900600"/>
            <a:ext cx="3663720" cy="4046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融资规划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Ｂ轮融资</a:t>
            </a:r>
            <a:endParaRPr b="0" lang="en-US" sz="2000" spc="-1" strike="noStrike">
              <a:solidFill>
                <a:srgbClr val="000000"/>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pic>
        <p:nvPicPr>
          <p:cNvPr id="260" name="图片 10" descr=""/>
          <p:cNvPicPr/>
          <p:nvPr/>
        </p:nvPicPr>
        <p:blipFill>
          <a:blip r:embed="rId1"/>
          <a:stretch/>
        </p:blipFill>
        <p:spPr>
          <a:xfrm>
            <a:off x="0" y="0"/>
            <a:ext cx="9144000" cy="5715000"/>
          </a:xfrm>
          <a:prstGeom prst="rect">
            <a:avLst/>
          </a:prstGeom>
          <a:ln w="0">
            <a:noFill/>
          </a:ln>
        </p:spPr>
      </p:pic>
      <p:grpSp>
        <p:nvGrpSpPr>
          <p:cNvPr id="261" name=""/>
          <p:cNvGrpSpPr/>
          <p:nvPr/>
        </p:nvGrpSpPr>
        <p:grpSpPr>
          <a:xfrm>
            <a:off x="3352680" y="0"/>
            <a:ext cx="2438640" cy="3720960"/>
            <a:chOff x="3352680" y="0"/>
            <a:chExt cx="2438640" cy="3720960"/>
          </a:xfrm>
        </p:grpSpPr>
        <p:sp>
          <p:nvSpPr>
            <p:cNvPr id="262" name="矩形 3"/>
            <p:cNvSpPr/>
            <p:nvPr/>
          </p:nvSpPr>
          <p:spPr>
            <a:xfrm>
              <a:off x="3352680" y="0"/>
              <a:ext cx="2438640" cy="37209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矩形 5"/>
            <p:cNvSpPr/>
            <p:nvPr/>
          </p:nvSpPr>
          <p:spPr>
            <a:xfrm>
              <a:off x="3352680" y="0"/>
              <a:ext cx="2438640" cy="3720960"/>
            </a:xfrm>
            <a:prstGeom prst="rect">
              <a:avLst/>
            </a:prstGeom>
            <a:solidFill>
              <a:srgbClr val="217435">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矩形 9"/>
          <p:cNvSpPr/>
          <p:nvPr/>
        </p:nvSpPr>
        <p:spPr>
          <a:xfrm>
            <a:off x="3760560" y="2065320"/>
            <a:ext cx="1622520" cy="1434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谢谢</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Ebrima"/>
                <a:ea typeface="Ebrima"/>
              </a:rPr>
              <a:t>THANKS</a:t>
            </a:r>
            <a:endParaRPr b="0" lang="en-US" sz="2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82"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市场分析</a:t>
            </a:r>
            <a:endParaRPr b="0" lang="en-US" sz="2400" spc="-1" strike="noStrike">
              <a:solidFill>
                <a:srgbClr val="000000"/>
              </a:solidFill>
              <a:latin typeface="Arial"/>
            </a:endParaRPr>
          </a:p>
        </p:txBody>
      </p:sp>
      <p:sp>
        <p:nvSpPr>
          <p:cNvPr id="83" name="TextBox 3"/>
          <p:cNvSpPr/>
          <p:nvPr/>
        </p:nvSpPr>
        <p:spPr>
          <a:xfrm>
            <a:off x="692280" y="985680"/>
            <a:ext cx="7191360" cy="793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我国有机农业产业受消费升级及食品安全等因素驱动发展迅速。从近年来农业投入的资本流向来说：政策性扶持资金比重加大，专业机构资本比重加大，而优秀人才向农业领域的涌入，优秀企业转型现代农业等事实都充分说明了我国有机农业将迎来崭新的发展时机。</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从整个有机农业的产业链来说，生产 </a:t>
            </a:r>
            <a:r>
              <a:rPr b="0" lang="en-US" sz="1200" spc="-1" strike="noStrike">
                <a:solidFill>
                  <a:srgbClr val="217435"/>
                </a:solidFill>
                <a:latin typeface="微软雅黑"/>
                <a:ea typeface="微软雅黑"/>
              </a:rPr>
              <a:t>— </a:t>
            </a:r>
            <a:r>
              <a:rPr b="0" lang="zh-CN" sz="1200" spc="-1" strike="noStrike">
                <a:solidFill>
                  <a:srgbClr val="217435"/>
                </a:solidFill>
                <a:latin typeface="微软雅黑"/>
                <a:ea typeface="微软雅黑"/>
              </a:rPr>
              <a:t>制造（半加工、深加工）</a:t>
            </a:r>
            <a:r>
              <a:rPr b="0" lang="en-US" sz="1200" spc="-1" strike="noStrike">
                <a:solidFill>
                  <a:srgbClr val="217435"/>
                </a:solidFill>
                <a:latin typeface="微软雅黑"/>
                <a:ea typeface="微软雅黑"/>
              </a:rPr>
              <a:t>— </a:t>
            </a:r>
            <a:r>
              <a:rPr b="0" lang="zh-CN" sz="1200" spc="-1" strike="noStrike">
                <a:solidFill>
                  <a:srgbClr val="217435"/>
                </a:solidFill>
                <a:latin typeface="微软雅黑"/>
                <a:ea typeface="微软雅黑"/>
              </a:rPr>
              <a:t>销售（线上、线下）构成了其整个产业链，也形成了生产型、渠道型、全产业链型等不同的市场主体。</a:t>
            </a:r>
            <a:endParaRPr b="0" lang="en-US" sz="1200" spc="-1" strike="noStrike">
              <a:solidFill>
                <a:srgbClr val="000000"/>
              </a:solidFill>
              <a:latin typeface="Arial"/>
            </a:endParaRPr>
          </a:p>
        </p:txBody>
      </p:sp>
      <p:pic>
        <p:nvPicPr>
          <p:cNvPr id="84" name="图片 4" descr=""/>
          <p:cNvPicPr/>
          <p:nvPr/>
        </p:nvPicPr>
        <p:blipFill>
          <a:blip r:embed="rId1"/>
          <a:stretch/>
        </p:blipFill>
        <p:spPr>
          <a:xfrm>
            <a:off x="1054080" y="3038400"/>
            <a:ext cx="1060560" cy="1212840"/>
          </a:xfrm>
          <a:prstGeom prst="rect">
            <a:avLst/>
          </a:prstGeom>
          <a:ln w="0">
            <a:noFill/>
          </a:ln>
        </p:spPr>
      </p:pic>
      <p:sp>
        <p:nvSpPr>
          <p:cNvPr id="85" name="直接连接符 8"/>
          <p:cNvSpPr/>
          <p:nvPr/>
        </p:nvSpPr>
        <p:spPr>
          <a:xfrm>
            <a:off x="1038240" y="4278240"/>
            <a:ext cx="2741760" cy="1800"/>
          </a:xfrm>
          <a:prstGeom prst="line">
            <a:avLst/>
          </a:prstGeom>
          <a:ln w="9360">
            <a:solidFill>
              <a:srgbClr val="dc9f0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直接连接符 10"/>
          <p:cNvSpPr/>
          <p:nvPr/>
        </p:nvSpPr>
        <p:spPr>
          <a:xfrm>
            <a:off x="5076720" y="4278240"/>
            <a:ext cx="2808360" cy="1800"/>
          </a:xfrm>
          <a:prstGeom prst="line">
            <a:avLst/>
          </a:prstGeom>
          <a:ln w="9360">
            <a:solidFill>
              <a:srgbClr val="dc9f0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圆角矩形 12"/>
          <p:cNvSpPr/>
          <p:nvPr/>
        </p:nvSpPr>
        <p:spPr>
          <a:xfrm>
            <a:off x="1038240" y="4324320"/>
            <a:ext cx="2741760" cy="405000"/>
          </a:xfrm>
          <a:prstGeom prst="roundRect">
            <a:avLst>
              <a:gd name="adj" fmla="val 24315"/>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全产业链型</a:t>
            </a:r>
            <a:endParaRPr b="0" lang="en-US" sz="2000" spc="-1" strike="noStrike">
              <a:solidFill>
                <a:srgbClr val="000000"/>
              </a:solidFill>
              <a:latin typeface="Arial"/>
            </a:endParaRPr>
          </a:p>
        </p:txBody>
      </p:sp>
      <p:sp>
        <p:nvSpPr>
          <p:cNvPr id="88" name="圆角矩形 13"/>
          <p:cNvSpPr/>
          <p:nvPr/>
        </p:nvSpPr>
        <p:spPr>
          <a:xfrm>
            <a:off x="5076720" y="4324320"/>
            <a:ext cx="2808360" cy="405000"/>
          </a:xfrm>
          <a:prstGeom prst="roundRect">
            <a:avLst>
              <a:gd name="adj" fmla="val 24315"/>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渠道型</a:t>
            </a:r>
            <a:endParaRPr b="0" lang="en-US" sz="20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89"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项目简介</a:t>
            </a:r>
            <a:endParaRPr b="0" lang="en-US" sz="2400" spc="-1" strike="noStrike">
              <a:solidFill>
                <a:srgbClr val="000000"/>
              </a:solidFill>
              <a:latin typeface="Arial"/>
            </a:endParaRPr>
          </a:p>
        </p:txBody>
      </p:sp>
      <p:sp>
        <p:nvSpPr>
          <p:cNvPr id="90" name="圆角矩形 2"/>
          <p:cNvSpPr/>
          <p:nvPr/>
        </p:nvSpPr>
        <p:spPr>
          <a:xfrm>
            <a:off x="692280" y="987480"/>
            <a:ext cx="2741400" cy="406440"/>
          </a:xfrm>
          <a:prstGeom prst="roundRect">
            <a:avLst>
              <a:gd name="adj" fmla="val 30995"/>
            </a:avLst>
          </a:prstGeom>
          <a:solidFill>
            <a:srgbClr val="ddf5e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有机农产品流通平台</a:t>
            </a:r>
            <a:endParaRPr b="0" lang="en-US" sz="2000" spc="-1" strike="noStrike">
              <a:solidFill>
                <a:srgbClr val="000000"/>
              </a:solidFill>
              <a:latin typeface="Arial"/>
            </a:endParaRPr>
          </a:p>
        </p:txBody>
      </p:sp>
      <p:sp>
        <p:nvSpPr>
          <p:cNvPr id="91" name="TextBox 3"/>
          <p:cNvSpPr/>
          <p:nvPr/>
        </p:nvSpPr>
        <p:spPr>
          <a:xfrm>
            <a:off x="692280" y="1465200"/>
            <a:ext cx="6688080" cy="1493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有机农产品流通平台（待命名，简称平台）重点整合西部地区有机食品基地，服务于以川渝为核心的西部中心城市。</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从商业模式上来说，平台前期属于渠道型，专注于有机农产品的有效流通，逐步占领西部中高端农产品消费市场，在这个过程中，以资本注入为主要手段不断整合上游基地资源，从而演变成全产业链型。</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从运作上来说，平台属于轻资产模式，核心思路在于杠杆化操作，用核心资源撬动规模资源，用部分资金撬动大量资金。在起步阶段来说，主要以资源整合为手段，以大量中高端消费者及企业资源为核心优势，以产品流通环节中的质量把控为重点，建立起一种全新的运作模式。</a:t>
            </a:r>
            <a:endParaRPr b="0" lang="en-US" sz="1200" spc="-1" strike="noStrike">
              <a:solidFill>
                <a:srgbClr val="000000"/>
              </a:solidFill>
              <a:latin typeface="Arial"/>
            </a:endParaRPr>
          </a:p>
        </p:txBody>
      </p:sp>
      <p:sp>
        <p:nvSpPr>
          <p:cNvPr id="92" name="直接连接符 4"/>
          <p:cNvSpPr/>
          <p:nvPr/>
        </p:nvSpPr>
        <p:spPr>
          <a:xfrm flipV="1">
            <a:off x="692280" y="1437840"/>
            <a:ext cx="7767360" cy="12600"/>
          </a:xfrm>
          <a:prstGeom prst="line">
            <a:avLst/>
          </a:prstGeom>
          <a:ln w="9360">
            <a:solidFill>
              <a:srgbClr val="dc9f0b"/>
            </a:solidFill>
            <a:miter/>
            <a:headEnd len="med" type="oval"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93" name="Freeform 7"/>
          <p:cNvSpPr/>
          <p:nvPr/>
        </p:nvSpPr>
        <p:spPr>
          <a:xfrm>
            <a:off x="692280" y="2514600"/>
            <a:ext cx="3584520" cy="2638440"/>
          </a:xfrm>
          <a:custGeom>
            <a:avLst/>
            <a:gdLst>
              <a:gd name="textAreaLeft" fmla="*/ 0 w 3584520"/>
              <a:gd name="textAreaRight" fmla="*/ 3584880 w 3584520"/>
              <a:gd name="textAreaTop" fmla="*/ 0 h 2638440"/>
              <a:gd name="textAreaBottom" fmla="*/ 2638800 h 2638440"/>
            </a:gdLst>
            <a:ahLst/>
            <a:rect l="textAreaLeft" t="textAreaTop" r="textAreaRight" b="textAreaBottom"/>
            <a:pathLst>
              <a:path w="4680" h="4124">
                <a:moveTo>
                  <a:pt x="2007" y="4082"/>
                </a:moveTo>
                <a:lnTo>
                  <a:pt x="2007" y="4082"/>
                </a:lnTo>
                <a:lnTo>
                  <a:pt x="2014" y="4092"/>
                </a:lnTo>
                <a:lnTo>
                  <a:pt x="2021" y="4103"/>
                </a:lnTo>
                <a:lnTo>
                  <a:pt x="2032" y="4114"/>
                </a:lnTo>
                <a:lnTo>
                  <a:pt x="2046" y="4121"/>
                </a:lnTo>
                <a:lnTo>
                  <a:pt x="2064" y="4124"/>
                </a:lnTo>
                <a:lnTo>
                  <a:pt x="2082" y="4117"/>
                </a:lnTo>
                <a:lnTo>
                  <a:pt x="2103" y="4107"/>
                </a:lnTo>
                <a:lnTo>
                  <a:pt x="2103" y="4107"/>
                </a:lnTo>
                <a:lnTo>
                  <a:pt x="2117" y="4110"/>
                </a:lnTo>
                <a:lnTo>
                  <a:pt x="2135" y="4114"/>
                </a:lnTo>
                <a:lnTo>
                  <a:pt x="2153" y="4117"/>
                </a:lnTo>
                <a:lnTo>
                  <a:pt x="2171" y="4114"/>
                </a:lnTo>
                <a:lnTo>
                  <a:pt x="2188" y="4107"/>
                </a:lnTo>
                <a:lnTo>
                  <a:pt x="2196" y="4099"/>
                </a:lnTo>
                <a:lnTo>
                  <a:pt x="2199" y="4089"/>
                </a:lnTo>
                <a:lnTo>
                  <a:pt x="2206" y="4078"/>
                </a:lnTo>
                <a:lnTo>
                  <a:pt x="2210" y="4060"/>
                </a:lnTo>
                <a:lnTo>
                  <a:pt x="2210" y="4060"/>
                </a:lnTo>
                <a:lnTo>
                  <a:pt x="2288" y="4017"/>
                </a:lnTo>
                <a:lnTo>
                  <a:pt x="2349" y="3989"/>
                </a:lnTo>
                <a:lnTo>
                  <a:pt x="2370" y="3978"/>
                </a:lnTo>
                <a:lnTo>
                  <a:pt x="2385" y="3978"/>
                </a:lnTo>
                <a:lnTo>
                  <a:pt x="2385" y="3978"/>
                </a:lnTo>
                <a:lnTo>
                  <a:pt x="2388" y="3992"/>
                </a:lnTo>
                <a:lnTo>
                  <a:pt x="2402" y="4021"/>
                </a:lnTo>
                <a:lnTo>
                  <a:pt x="2410" y="4032"/>
                </a:lnTo>
                <a:lnTo>
                  <a:pt x="2420" y="4035"/>
                </a:lnTo>
                <a:lnTo>
                  <a:pt x="2427" y="4032"/>
                </a:lnTo>
                <a:lnTo>
                  <a:pt x="2431" y="4028"/>
                </a:lnTo>
                <a:lnTo>
                  <a:pt x="2445" y="4010"/>
                </a:lnTo>
                <a:lnTo>
                  <a:pt x="2445" y="4010"/>
                </a:lnTo>
                <a:lnTo>
                  <a:pt x="2470" y="4000"/>
                </a:lnTo>
                <a:lnTo>
                  <a:pt x="2492" y="3992"/>
                </a:lnTo>
                <a:lnTo>
                  <a:pt x="2516" y="3989"/>
                </a:lnTo>
                <a:lnTo>
                  <a:pt x="2516" y="3989"/>
                </a:lnTo>
                <a:lnTo>
                  <a:pt x="2524" y="3989"/>
                </a:lnTo>
                <a:lnTo>
                  <a:pt x="2531" y="3985"/>
                </a:lnTo>
                <a:lnTo>
                  <a:pt x="2538" y="3971"/>
                </a:lnTo>
                <a:lnTo>
                  <a:pt x="2545" y="3957"/>
                </a:lnTo>
                <a:lnTo>
                  <a:pt x="2552" y="3935"/>
                </a:lnTo>
                <a:lnTo>
                  <a:pt x="2556" y="3896"/>
                </a:lnTo>
                <a:lnTo>
                  <a:pt x="2559" y="3878"/>
                </a:lnTo>
                <a:lnTo>
                  <a:pt x="2559" y="3878"/>
                </a:lnTo>
                <a:lnTo>
                  <a:pt x="2563" y="3875"/>
                </a:lnTo>
                <a:lnTo>
                  <a:pt x="2570" y="3868"/>
                </a:lnTo>
                <a:lnTo>
                  <a:pt x="2570" y="3864"/>
                </a:lnTo>
                <a:lnTo>
                  <a:pt x="2570" y="3857"/>
                </a:lnTo>
                <a:lnTo>
                  <a:pt x="2566" y="3850"/>
                </a:lnTo>
                <a:lnTo>
                  <a:pt x="2559" y="3843"/>
                </a:lnTo>
                <a:lnTo>
                  <a:pt x="2559" y="3843"/>
                </a:lnTo>
                <a:lnTo>
                  <a:pt x="2552" y="3807"/>
                </a:lnTo>
                <a:lnTo>
                  <a:pt x="2534" y="3750"/>
                </a:lnTo>
                <a:lnTo>
                  <a:pt x="2534" y="3750"/>
                </a:lnTo>
                <a:lnTo>
                  <a:pt x="2524" y="3729"/>
                </a:lnTo>
                <a:lnTo>
                  <a:pt x="2509" y="3711"/>
                </a:lnTo>
                <a:lnTo>
                  <a:pt x="2492" y="3697"/>
                </a:lnTo>
                <a:lnTo>
                  <a:pt x="2492" y="3697"/>
                </a:lnTo>
                <a:lnTo>
                  <a:pt x="2488" y="3650"/>
                </a:lnTo>
                <a:lnTo>
                  <a:pt x="2484" y="3604"/>
                </a:lnTo>
                <a:lnTo>
                  <a:pt x="2484" y="3550"/>
                </a:lnTo>
                <a:lnTo>
                  <a:pt x="2488" y="3504"/>
                </a:lnTo>
                <a:lnTo>
                  <a:pt x="2492" y="3483"/>
                </a:lnTo>
                <a:lnTo>
                  <a:pt x="2495" y="3468"/>
                </a:lnTo>
                <a:lnTo>
                  <a:pt x="2502" y="3458"/>
                </a:lnTo>
                <a:lnTo>
                  <a:pt x="2509" y="3451"/>
                </a:lnTo>
                <a:lnTo>
                  <a:pt x="2524" y="3451"/>
                </a:lnTo>
                <a:lnTo>
                  <a:pt x="2534" y="3461"/>
                </a:lnTo>
                <a:lnTo>
                  <a:pt x="2534" y="3461"/>
                </a:lnTo>
                <a:lnTo>
                  <a:pt x="2545" y="3458"/>
                </a:lnTo>
                <a:lnTo>
                  <a:pt x="2566" y="3451"/>
                </a:lnTo>
                <a:lnTo>
                  <a:pt x="2581" y="3440"/>
                </a:lnTo>
                <a:lnTo>
                  <a:pt x="2588" y="3429"/>
                </a:lnTo>
                <a:lnTo>
                  <a:pt x="2595" y="3411"/>
                </a:lnTo>
                <a:lnTo>
                  <a:pt x="2598" y="3390"/>
                </a:lnTo>
                <a:lnTo>
                  <a:pt x="2598" y="3390"/>
                </a:lnTo>
                <a:lnTo>
                  <a:pt x="2631" y="3340"/>
                </a:lnTo>
                <a:lnTo>
                  <a:pt x="2663" y="3301"/>
                </a:lnTo>
                <a:lnTo>
                  <a:pt x="2680" y="3283"/>
                </a:lnTo>
                <a:lnTo>
                  <a:pt x="2698" y="3269"/>
                </a:lnTo>
                <a:lnTo>
                  <a:pt x="2716" y="3247"/>
                </a:lnTo>
                <a:lnTo>
                  <a:pt x="2745" y="3144"/>
                </a:lnTo>
                <a:lnTo>
                  <a:pt x="2684" y="3091"/>
                </a:lnTo>
                <a:lnTo>
                  <a:pt x="2684" y="3091"/>
                </a:lnTo>
                <a:lnTo>
                  <a:pt x="2691" y="3073"/>
                </a:lnTo>
                <a:lnTo>
                  <a:pt x="2702" y="3055"/>
                </a:lnTo>
                <a:lnTo>
                  <a:pt x="2716" y="3037"/>
                </a:lnTo>
                <a:lnTo>
                  <a:pt x="2730" y="3019"/>
                </a:lnTo>
                <a:lnTo>
                  <a:pt x="2748" y="3009"/>
                </a:lnTo>
                <a:lnTo>
                  <a:pt x="2755" y="3005"/>
                </a:lnTo>
                <a:lnTo>
                  <a:pt x="2766" y="3005"/>
                </a:lnTo>
                <a:lnTo>
                  <a:pt x="2777" y="3005"/>
                </a:lnTo>
                <a:lnTo>
                  <a:pt x="2787" y="3012"/>
                </a:lnTo>
                <a:lnTo>
                  <a:pt x="2787" y="3012"/>
                </a:lnTo>
                <a:lnTo>
                  <a:pt x="2795" y="3012"/>
                </a:lnTo>
                <a:lnTo>
                  <a:pt x="2809" y="3012"/>
                </a:lnTo>
                <a:lnTo>
                  <a:pt x="2819" y="3009"/>
                </a:lnTo>
                <a:lnTo>
                  <a:pt x="2830" y="3001"/>
                </a:lnTo>
                <a:lnTo>
                  <a:pt x="2841" y="2991"/>
                </a:lnTo>
                <a:lnTo>
                  <a:pt x="2848" y="2973"/>
                </a:lnTo>
                <a:lnTo>
                  <a:pt x="2848" y="2973"/>
                </a:lnTo>
                <a:lnTo>
                  <a:pt x="2859" y="2944"/>
                </a:lnTo>
                <a:lnTo>
                  <a:pt x="2862" y="2930"/>
                </a:lnTo>
                <a:lnTo>
                  <a:pt x="2862" y="2923"/>
                </a:lnTo>
                <a:lnTo>
                  <a:pt x="2859" y="2916"/>
                </a:lnTo>
                <a:lnTo>
                  <a:pt x="2841" y="2898"/>
                </a:lnTo>
                <a:lnTo>
                  <a:pt x="2841" y="2898"/>
                </a:lnTo>
                <a:lnTo>
                  <a:pt x="2830" y="2884"/>
                </a:lnTo>
                <a:lnTo>
                  <a:pt x="2823" y="2866"/>
                </a:lnTo>
                <a:lnTo>
                  <a:pt x="2819" y="2848"/>
                </a:lnTo>
                <a:lnTo>
                  <a:pt x="2823" y="2830"/>
                </a:lnTo>
                <a:lnTo>
                  <a:pt x="2827" y="2816"/>
                </a:lnTo>
                <a:lnTo>
                  <a:pt x="2837" y="2805"/>
                </a:lnTo>
                <a:lnTo>
                  <a:pt x="2848" y="2802"/>
                </a:lnTo>
                <a:lnTo>
                  <a:pt x="2866" y="2802"/>
                </a:lnTo>
                <a:lnTo>
                  <a:pt x="2866" y="2802"/>
                </a:lnTo>
                <a:lnTo>
                  <a:pt x="2884" y="2809"/>
                </a:lnTo>
                <a:lnTo>
                  <a:pt x="2901" y="2809"/>
                </a:lnTo>
                <a:lnTo>
                  <a:pt x="2937" y="2805"/>
                </a:lnTo>
                <a:lnTo>
                  <a:pt x="2969" y="2795"/>
                </a:lnTo>
                <a:lnTo>
                  <a:pt x="2998" y="2788"/>
                </a:lnTo>
                <a:lnTo>
                  <a:pt x="2998" y="2788"/>
                </a:lnTo>
                <a:lnTo>
                  <a:pt x="3012" y="2780"/>
                </a:lnTo>
                <a:lnTo>
                  <a:pt x="3033" y="2780"/>
                </a:lnTo>
                <a:lnTo>
                  <a:pt x="3058" y="2777"/>
                </a:lnTo>
                <a:lnTo>
                  <a:pt x="3080" y="2780"/>
                </a:lnTo>
                <a:lnTo>
                  <a:pt x="3098" y="2784"/>
                </a:lnTo>
                <a:lnTo>
                  <a:pt x="3101" y="2788"/>
                </a:lnTo>
                <a:lnTo>
                  <a:pt x="3101" y="2791"/>
                </a:lnTo>
                <a:lnTo>
                  <a:pt x="3101" y="2798"/>
                </a:lnTo>
                <a:lnTo>
                  <a:pt x="3094" y="2809"/>
                </a:lnTo>
                <a:lnTo>
                  <a:pt x="3065" y="2827"/>
                </a:lnTo>
                <a:lnTo>
                  <a:pt x="3065" y="2827"/>
                </a:lnTo>
                <a:lnTo>
                  <a:pt x="3051" y="2837"/>
                </a:lnTo>
                <a:lnTo>
                  <a:pt x="3041" y="2848"/>
                </a:lnTo>
                <a:lnTo>
                  <a:pt x="3033" y="2859"/>
                </a:lnTo>
                <a:lnTo>
                  <a:pt x="3033" y="2870"/>
                </a:lnTo>
                <a:lnTo>
                  <a:pt x="3033" y="2880"/>
                </a:lnTo>
                <a:lnTo>
                  <a:pt x="3033" y="2891"/>
                </a:lnTo>
                <a:lnTo>
                  <a:pt x="3048" y="2909"/>
                </a:lnTo>
                <a:lnTo>
                  <a:pt x="3062" y="2927"/>
                </a:lnTo>
                <a:lnTo>
                  <a:pt x="3076" y="2937"/>
                </a:lnTo>
                <a:lnTo>
                  <a:pt x="3094" y="2948"/>
                </a:lnTo>
                <a:lnTo>
                  <a:pt x="3094" y="2948"/>
                </a:lnTo>
                <a:lnTo>
                  <a:pt x="3108" y="2959"/>
                </a:lnTo>
                <a:lnTo>
                  <a:pt x="3122" y="2969"/>
                </a:lnTo>
                <a:lnTo>
                  <a:pt x="3133" y="2984"/>
                </a:lnTo>
                <a:lnTo>
                  <a:pt x="3144" y="3001"/>
                </a:lnTo>
                <a:lnTo>
                  <a:pt x="3144" y="3012"/>
                </a:lnTo>
                <a:lnTo>
                  <a:pt x="3144" y="3019"/>
                </a:lnTo>
                <a:lnTo>
                  <a:pt x="3140" y="3030"/>
                </a:lnTo>
                <a:lnTo>
                  <a:pt x="3133" y="3041"/>
                </a:lnTo>
                <a:lnTo>
                  <a:pt x="3122" y="3051"/>
                </a:lnTo>
                <a:lnTo>
                  <a:pt x="3108" y="3062"/>
                </a:lnTo>
                <a:lnTo>
                  <a:pt x="3108" y="3062"/>
                </a:lnTo>
                <a:lnTo>
                  <a:pt x="3101" y="3062"/>
                </a:lnTo>
                <a:lnTo>
                  <a:pt x="3090" y="3069"/>
                </a:lnTo>
                <a:lnTo>
                  <a:pt x="3087" y="3073"/>
                </a:lnTo>
                <a:lnTo>
                  <a:pt x="3087" y="3083"/>
                </a:lnTo>
                <a:lnTo>
                  <a:pt x="3090" y="3094"/>
                </a:lnTo>
                <a:lnTo>
                  <a:pt x="3105" y="3108"/>
                </a:lnTo>
                <a:lnTo>
                  <a:pt x="3105" y="3108"/>
                </a:lnTo>
                <a:lnTo>
                  <a:pt x="3140" y="3140"/>
                </a:lnTo>
                <a:lnTo>
                  <a:pt x="3162" y="3155"/>
                </a:lnTo>
                <a:lnTo>
                  <a:pt x="3183" y="3165"/>
                </a:lnTo>
                <a:lnTo>
                  <a:pt x="3208" y="3173"/>
                </a:lnTo>
                <a:lnTo>
                  <a:pt x="3226" y="3176"/>
                </a:lnTo>
                <a:lnTo>
                  <a:pt x="3237" y="3173"/>
                </a:lnTo>
                <a:lnTo>
                  <a:pt x="3247" y="3169"/>
                </a:lnTo>
                <a:lnTo>
                  <a:pt x="3254" y="3162"/>
                </a:lnTo>
                <a:lnTo>
                  <a:pt x="3265" y="3151"/>
                </a:lnTo>
                <a:lnTo>
                  <a:pt x="3336" y="3140"/>
                </a:lnTo>
                <a:lnTo>
                  <a:pt x="3336" y="3140"/>
                </a:lnTo>
                <a:lnTo>
                  <a:pt x="3340" y="3112"/>
                </a:lnTo>
                <a:lnTo>
                  <a:pt x="3347" y="3087"/>
                </a:lnTo>
                <a:lnTo>
                  <a:pt x="3358" y="3058"/>
                </a:lnTo>
                <a:lnTo>
                  <a:pt x="3368" y="3048"/>
                </a:lnTo>
                <a:lnTo>
                  <a:pt x="3376" y="3041"/>
                </a:lnTo>
                <a:lnTo>
                  <a:pt x="3386" y="3034"/>
                </a:lnTo>
                <a:lnTo>
                  <a:pt x="3401" y="3030"/>
                </a:lnTo>
                <a:lnTo>
                  <a:pt x="3415" y="3034"/>
                </a:lnTo>
                <a:lnTo>
                  <a:pt x="3433" y="3041"/>
                </a:lnTo>
                <a:lnTo>
                  <a:pt x="3454" y="3055"/>
                </a:lnTo>
                <a:lnTo>
                  <a:pt x="3475" y="3073"/>
                </a:lnTo>
                <a:lnTo>
                  <a:pt x="3475" y="3073"/>
                </a:lnTo>
                <a:lnTo>
                  <a:pt x="3483" y="3069"/>
                </a:lnTo>
                <a:lnTo>
                  <a:pt x="3490" y="3069"/>
                </a:lnTo>
                <a:lnTo>
                  <a:pt x="3497" y="3066"/>
                </a:lnTo>
                <a:lnTo>
                  <a:pt x="3504" y="3069"/>
                </a:lnTo>
                <a:lnTo>
                  <a:pt x="3504" y="3080"/>
                </a:lnTo>
                <a:lnTo>
                  <a:pt x="3504" y="3094"/>
                </a:lnTo>
                <a:lnTo>
                  <a:pt x="3497" y="3119"/>
                </a:lnTo>
                <a:lnTo>
                  <a:pt x="3497" y="3119"/>
                </a:lnTo>
                <a:lnTo>
                  <a:pt x="3493" y="3126"/>
                </a:lnTo>
                <a:lnTo>
                  <a:pt x="3493" y="3140"/>
                </a:lnTo>
                <a:lnTo>
                  <a:pt x="3493" y="3148"/>
                </a:lnTo>
                <a:lnTo>
                  <a:pt x="3500" y="3151"/>
                </a:lnTo>
                <a:lnTo>
                  <a:pt x="3511" y="3151"/>
                </a:lnTo>
                <a:lnTo>
                  <a:pt x="3529" y="3148"/>
                </a:lnTo>
                <a:lnTo>
                  <a:pt x="3529" y="3148"/>
                </a:lnTo>
                <a:lnTo>
                  <a:pt x="3529" y="3148"/>
                </a:lnTo>
                <a:lnTo>
                  <a:pt x="3532" y="3148"/>
                </a:lnTo>
                <a:lnTo>
                  <a:pt x="3532" y="3158"/>
                </a:lnTo>
                <a:lnTo>
                  <a:pt x="3518" y="3183"/>
                </a:lnTo>
                <a:lnTo>
                  <a:pt x="3518" y="3183"/>
                </a:lnTo>
                <a:lnTo>
                  <a:pt x="3515" y="3190"/>
                </a:lnTo>
                <a:lnTo>
                  <a:pt x="3518" y="3194"/>
                </a:lnTo>
                <a:lnTo>
                  <a:pt x="3518" y="3201"/>
                </a:lnTo>
                <a:lnTo>
                  <a:pt x="3525" y="3201"/>
                </a:lnTo>
                <a:lnTo>
                  <a:pt x="3536" y="3205"/>
                </a:lnTo>
                <a:lnTo>
                  <a:pt x="3554" y="3198"/>
                </a:lnTo>
                <a:lnTo>
                  <a:pt x="3575" y="3190"/>
                </a:lnTo>
                <a:lnTo>
                  <a:pt x="3575" y="3190"/>
                </a:lnTo>
                <a:lnTo>
                  <a:pt x="3600" y="3180"/>
                </a:lnTo>
                <a:lnTo>
                  <a:pt x="3625" y="3180"/>
                </a:lnTo>
                <a:lnTo>
                  <a:pt x="3643" y="3183"/>
                </a:lnTo>
                <a:lnTo>
                  <a:pt x="3661" y="3190"/>
                </a:lnTo>
                <a:lnTo>
                  <a:pt x="3675" y="3201"/>
                </a:lnTo>
                <a:lnTo>
                  <a:pt x="3686" y="3208"/>
                </a:lnTo>
                <a:lnTo>
                  <a:pt x="3693" y="3219"/>
                </a:lnTo>
                <a:lnTo>
                  <a:pt x="3693" y="3219"/>
                </a:lnTo>
                <a:lnTo>
                  <a:pt x="3704" y="3215"/>
                </a:lnTo>
                <a:lnTo>
                  <a:pt x="3711" y="3208"/>
                </a:lnTo>
                <a:lnTo>
                  <a:pt x="3718" y="3194"/>
                </a:lnTo>
                <a:lnTo>
                  <a:pt x="3757" y="3194"/>
                </a:lnTo>
                <a:lnTo>
                  <a:pt x="3757" y="3194"/>
                </a:lnTo>
                <a:lnTo>
                  <a:pt x="3764" y="3187"/>
                </a:lnTo>
                <a:lnTo>
                  <a:pt x="3778" y="3176"/>
                </a:lnTo>
                <a:lnTo>
                  <a:pt x="3789" y="3169"/>
                </a:lnTo>
                <a:lnTo>
                  <a:pt x="3800" y="3165"/>
                </a:lnTo>
                <a:lnTo>
                  <a:pt x="3814" y="3165"/>
                </a:lnTo>
                <a:lnTo>
                  <a:pt x="3832" y="3169"/>
                </a:lnTo>
                <a:lnTo>
                  <a:pt x="3893" y="3137"/>
                </a:lnTo>
                <a:lnTo>
                  <a:pt x="3893" y="3137"/>
                </a:lnTo>
                <a:lnTo>
                  <a:pt x="3914" y="3144"/>
                </a:lnTo>
                <a:lnTo>
                  <a:pt x="3932" y="3144"/>
                </a:lnTo>
                <a:lnTo>
                  <a:pt x="3942" y="3144"/>
                </a:lnTo>
                <a:lnTo>
                  <a:pt x="3950" y="3140"/>
                </a:lnTo>
                <a:lnTo>
                  <a:pt x="3957" y="3133"/>
                </a:lnTo>
                <a:lnTo>
                  <a:pt x="3960" y="3123"/>
                </a:lnTo>
                <a:lnTo>
                  <a:pt x="3960" y="3108"/>
                </a:lnTo>
                <a:lnTo>
                  <a:pt x="3960" y="3091"/>
                </a:lnTo>
                <a:lnTo>
                  <a:pt x="3953" y="3069"/>
                </a:lnTo>
                <a:lnTo>
                  <a:pt x="3942" y="3041"/>
                </a:lnTo>
                <a:lnTo>
                  <a:pt x="3925" y="3009"/>
                </a:lnTo>
                <a:lnTo>
                  <a:pt x="3903" y="2966"/>
                </a:lnTo>
                <a:lnTo>
                  <a:pt x="3903" y="2966"/>
                </a:lnTo>
                <a:lnTo>
                  <a:pt x="3893" y="2959"/>
                </a:lnTo>
                <a:lnTo>
                  <a:pt x="3882" y="2955"/>
                </a:lnTo>
                <a:lnTo>
                  <a:pt x="3871" y="2952"/>
                </a:lnTo>
                <a:lnTo>
                  <a:pt x="3857" y="2948"/>
                </a:lnTo>
                <a:lnTo>
                  <a:pt x="3843" y="2955"/>
                </a:lnTo>
                <a:lnTo>
                  <a:pt x="3832" y="2969"/>
                </a:lnTo>
                <a:lnTo>
                  <a:pt x="3818" y="2991"/>
                </a:lnTo>
                <a:lnTo>
                  <a:pt x="3757" y="2973"/>
                </a:lnTo>
                <a:lnTo>
                  <a:pt x="3757" y="2962"/>
                </a:lnTo>
                <a:lnTo>
                  <a:pt x="3750" y="2941"/>
                </a:lnTo>
                <a:lnTo>
                  <a:pt x="3718" y="2895"/>
                </a:lnTo>
                <a:lnTo>
                  <a:pt x="3718" y="2895"/>
                </a:lnTo>
                <a:lnTo>
                  <a:pt x="3696" y="2891"/>
                </a:lnTo>
                <a:lnTo>
                  <a:pt x="3679" y="2895"/>
                </a:lnTo>
                <a:lnTo>
                  <a:pt x="3671" y="2898"/>
                </a:lnTo>
                <a:lnTo>
                  <a:pt x="3661" y="2905"/>
                </a:lnTo>
                <a:lnTo>
                  <a:pt x="3661" y="2905"/>
                </a:lnTo>
                <a:lnTo>
                  <a:pt x="3650" y="2884"/>
                </a:lnTo>
                <a:lnTo>
                  <a:pt x="3639" y="2859"/>
                </a:lnTo>
                <a:lnTo>
                  <a:pt x="3632" y="2830"/>
                </a:lnTo>
                <a:lnTo>
                  <a:pt x="3632" y="2802"/>
                </a:lnTo>
                <a:lnTo>
                  <a:pt x="3632" y="2788"/>
                </a:lnTo>
                <a:lnTo>
                  <a:pt x="3636" y="2777"/>
                </a:lnTo>
                <a:lnTo>
                  <a:pt x="3643" y="2766"/>
                </a:lnTo>
                <a:lnTo>
                  <a:pt x="3654" y="2755"/>
                </a:lnTo>
                <a:lnTo>
                  <a:pt x="3668" y="2748"/>
                </a:lnTo>
                <a:lnTo>
                  <a:pt x="3686" y="2745"/>
                </a:lnTo>
                <a:lnTo>
                  <a:pt x="3729" y="2738"/>
                </a:lnTo>
                <a:lnTo>
                  <a:pt x="3729" y="2738"/>
                </a:lnTo>
                <a:lnTo>
                  <a:pt x="3736" y="2716"/>
                </a:lnTo>
                <a:lnTo>
                  <a:pt x="3743" y="2698"/>
                </a:lnTo>
                <a:lnTo>
                  <a:pt x="3753" y="2681"/>
                </a:lnTo>
                <a:lnTo>
                  <a:pt x="3764" y="2670"/>
                </a:lnTo>
                <a:lnTo>
                  <a:pt x="3771" y="2666"/>
                </a:lnTo>
                <a:lnTo>
                  <a:pt x="3778" y="2666"/>
                </a:lnTo>
                <a:lnTo>
                  <a:pt x="3786" y="2666"/>
                </a:lnTo>
                <a:lnTo>
                  <a:pt x="3793" y="2674"/>
                </a:lnTo>
                <a:lnTo>
                  <a:pt x="3800" y="2688"/>
                </a:lnTo>
                <a:lnTo>
                  <a:pt x="3807" y="2702"/>
                </a:lnTo>
                <a:lnTo>
                  <a:pt x="3835" y="2713"/>
                </a:lnTo>
                <a:lnTo>
                  <a:pt x="3835" y="2713"/>
                </a:lnTo>
                <a:lnTo>
                  <a:pt x="3864" y="2738"/>
                </a:lnTo>
                <a:lnTo>
                  <a:pt x="3893" y="2759"/>
                </a:lnTo>
                <a:lnTo>
                  <a:pt x="3917" y="2777"/>
                </a:lnTo>
                <a:lnTo>
                  <a:pt x="3928" y="2780"/>
                </a:lnTo>
                <a:lnTo>
                  <a:pt x="3939" y="2780"/>
                </a:lnTo>
                <a:lnTo>
                  <a:pt x="3946" y="2777"/>
                </a:lnTo>
                <a:lnTo>
                  <a:pt x="3946" y="2766"/>
                </a:lnTo>
                <a:lnTo>
                  <a:pt x="3946" y="2748"/>
                </a:lnTo>
                <a:lnTo>
                  <a:pt x="3939" y="2720"/>
                </a:lnTo>
                <a:lnTo>
                  <a:pt x="3925" y="2688"/>
                </a:lnTo>
                <a:lnTo>
                  <a:pt x="3903" y="2645"/>
                </a:lnTo>
                <a:lnTo>
                  <a:pt x="3903" y="2645"/>
                </a:lnTo>
                <a:lnTo>
                  <a:pt x="3896" y="2627"/>
                </a:lnTo>
                <a:lnTo>
                  <a:pt x="3889" y="2613"/>
                </a:lnTo>
                <a:lnTo>
                  <a:pt x="3875" y="2599"/>
                </a:lnTo>
                <a:lnTo>
                  <a:pt x="3857" y="2581"/>
                </a:lnTo>
                <a:lnTo>
                  <a:pt x="3832" y="2570"/>
                </a:lnTo>
                <a:lnTo>
                  <a:pt x="3821" y="2567"/>
                </a:lnTo>
                <a:lnTo>
                  <a:pt x="3803" y="2563"/>
                </a:lnTo>
                <a:lnTo>
                  <a:pt x="3786" y="2563"/>
                </a:lnTo>
                <a:lnTo>
                  <a:pt x="3768" y="2567"/>
                </a:lnTo>
                <a:lnTo>
                  <a:pt x="3739" y="2563"/>
                </a:lnTo>
                <a:lnTo>
                  <a:pt x="3739" y="2563"/>
                </a:lnTo>
                <a:lnTo>
                  <a:pt x="3736" y="2559"/>
                </a:lnTo>
                <a:lnTo>
                  <a:pt x="3729" y="2556"/>
                </a:lnTo>
                <a:lnTo>
                  <a:pt x="3714" y="2556"/>
                </a:lnTo>
                <a:lnTo>
                  <a:pt x="3711" y="2559"/>
                </a:lnTo>
                <a:lnTo>
                  <a:pt x="3707" y="2567"/>
                </a:lnTo>
                <a:lnTo>
                  <a:pt x="3707" y="2567"/>
                </a:lnTo>
                <a:lnTo>
                  <a:pt x="3700" y="2570"/>
                </a:lnTo>
                <a:lnTo>
                  <a:pt x="3686" y="2570"/>
                </a:lnTo>
                <a:lnTo>
                  <a:pt x="3675" y="2570"/>
                </a:lnTo>
                <a:lnTo>
                  <a:pt x="3668" y="2563"/>
                </a:lnTo>
                <a:lnTo>
                  <a:pt x="3661" y="2552"/>
                </a:lnTo>
                <a:lnTo>
                  <a:pt x="3654" y="2534"/>
                </a:lnTo>
                <a:lnTo>
                  <a:pt x="3654" y="2534"/>
                </a:lnTo>
                <a:lnTo>
                  <a:pt x="3650" y="2520"/>
                </a:lnTo>
                <a:lnTo>
                  <a:pt x="3647" y="2488"/>
                </a:lnTo>
                <a:lnTo>
                  <a:pt x="3636" y="2456"/>
                </a:lnTo>
                <a:lnTo>
                  <a:pt x="3629" y="2445"/>
                </a:lnTo>
                <a:lnTo>
                  <a:pt x="3622" y="2438"/>
                </a:lnTo>
                <a:lnTo>
                  <a:pt x="3614" y="2420"/>
                </a:lnTo>
                <a:lnTo>
                  <a:pt x="3614" y="2399"/>
                </a:lnTo>
                <a:lnTo>
                  <a:pt x="3554" y="2410"/>
                </a:lnTo>
                <a:lnTo>
                  <a:pt x="3508" y="2410"/>
                </a:lnTo>
                <a:lnTo>
                  <a:pt x="3508" y="2399"/>
                </a:lnTo>
                <a:lnTo>
                  <a:pt x="3508" y="2374"/>
                </a:lnTo>
                <a:lnTo>
                  <a:pt x="3497" y="2353"/>
                </a:lnTo>
                <a:lnTo>
                  <a:pt x="3472" y="2338"/>
                </a:lnTo>
                <a:lnTo>
                  <a:pt x="3454" y="2321"/>
                </a:lnTo>
                <a:lnTo>
                  <a:pt x="3443" y="2289"/>
                </a:lnTo>
                <a:lnTo>
                  <a:pt x="3443" y="2256"/>
                </a:lnTo>
                <a:lnTo>
                  <a:pt x="3443" y="2256"/>
                </a:lnTo>
                <a:lnTo>
                  <a:pt x="3458" y="2249"/>
                </a:lnTo>
                <a:lnTo>
                  <a:pt x="3490" y="2228"/>
                </a:lnTo>
                <a:lnTo>
                  <a:pt x="3504" y="2214"/>
                </a:lnTo>
                <a:lnTo>
                  <a:pt x="3518" y="2192"/>
                </a:lnTo>
                <a:lnTo>
                  <a:pt x="3529" y="2171"/>
                </a:lnTo>
                <a:lnTo>
                  <a:pt x="3536" y="2149"/>
                </a:lnTo>
                <a:lnTo>
                  <a:pt x="3550" y="2139"/>
                </a:lnTo>
                <a:lnTo>
                  <a:pt x="3604" y="2139"/>
                </a:lnTo>
                <a:lnTo>
                  <a:pt x="3607" y="2125"/>
                </a:lnTo>
                <a:lnTo>
                  <a:pt x="3607" y="2125"/>
                </a:lnTo>
                <a:lnTo>
                  <a:pt x="3611" y="2103"/>
                </a:lnTo>
                <a:lnTo>
                  <a:pt x="3614" y="2078"/>
                </a:lnTo>
                <a:lnTo>
                  <a:pt x="3625" y="2057"/>
                </a:lnTo>
                <a:lnTo>
                  <a:pt x="3611" y="2039"/>
                </a:lnTo>
                <a:lnTo>
                  <a:pt x="3543" y="2018"/>
                </a:lnTo>
                <a:lnTo>
                  <a:pt x="3543" y="2018"/>
                </a:lnTo>
                <a:lnTo>
                  <a:pt x="3540" y="2010"/>
                </a:lnTo>
                <a:lnTo>
                  <a:pt x="3536" y="2007"/>
                </a:lnTo>
                <a:lnTo>
                  <a:pt x="3536" y="1996"/>
                </a:lnTo>
                <a:lnTo>
                  <a:pt x="3536" y="1986"/>
                </a:lnTo>
                <a:lnTo>
                  <a:pt x="3540" y="1971"/>
                </a:lnTo>
                <a:lnTo>
                  <a:pt x="3550" y="1957"/>
                </a:lnTo>
                <a:lnTo>
                  <a:pt x="3568" y="1939"/>
                </a:lnTo>
                <a:lnTo>
                  <a:pt x="3568" y="1939"/>
                </a:lnTo>
                <a:lnTo>
                  <a:pt x="3565" y="1925"/>
                </a:lnTo>
                <a:lnTo>
                  <a:pt x="3565" y="1911"/>
                </a:lnTo>
                <a:lnTo>
                  <a:pt x="3565" y="1893"/>
                </a:lnTo>
                <a:lnTo>
                  <a:pt x="3575" y="1879"/>
                </a:lnTo>
                <a:lnTo>
                  <a:pt x="3582" y="1871"/>
                </a:lnTo>
                <a:lnTo>
                  <a:pt x="3593" y="1864"/>
                </a:lnTo>
                <a:lnTo>
                  <a:pt x="3607" y="1861"/>
                </a:lnTo>
                <a:lnTo>
                  <a:pt x="3625" y="1857"/>
                </a:lnTo>
                <a:lnTo>
                  <a:pt x="3647" y="1857"/>
                </a:lnTo>
                <a:lnTo>
                  <a:pt x="3671" y="1861"/>
                </a:lnTo>
                <a:lnTo>
                  <a:pt x="3671" y="1861"/>
                </a:lnTo>
                <a:lnTo>
                  <a:pt x="3732" y="1882"/>
                </a:lnTo>
                <a:lnTo>
                  <a:pt x="3782" y="1900"/>
                </a:lnTo>
                <a:lnTo>
                  <a:pt x="3818" y="1918"/>
                </a:lnTo>
                <a:lnTo>
                  <a:pt x="3843" y="1904"/>
                </a:lnTo>
                <a:lnTo>
                  <a:pt x="3843" y="1904"/>
                </a:lnTo>
                <a:lnTo>
                  <a:pt x="3850" y="1889"/>
                </a:lnTo>
                <a:lnTo>
                  <a:pt x="3860" y="1879"/>
                </a:lnTo>
                <a:lnTo>
                  <a:pt x="3875" y="1868"/>
                </a:lnTo>
                <a:lnTo>
                  <a:pt x="3893" y="1864"/>
                </a:lnTo>
                <a:lnTo>
                  <a:pt x="3903" y="1864"/>
                </a:lnTo>
                <a:lnTo>
                  <a:pt x="3914" y="1864"/>
                </a:lnTo>
                <a:lnTo>
                  <a:pt x="3925" y="1871"/>
                </a:lnTo>
                <a:lnTo>
                  <a:pt x="3939" y="1879"/>
                </a:lnTo>
                <a:lnTo>
                  <a:pt x="3950" y="1889"/>
                </a:lnTo>
                <a:lnTo>
                  <a:pt x="3964" y="1907"/>
                </a:lnTo>
                <a:lnTo>
                  <a:pt x="3964" y="1907"/>
                </a:lnTo>
                <a:lnTo>
                  <a:pt x="3971" y="1918"/>
                </a:lnTo>
                <a:lnTo>
                  <a:pt x="3992" y="1946"/>
                </a:lnTo>
                <a:lnTo>
                  <a:pt x="4007" y="1957"/>
                </a:lnTo>
                <a:lnTo>
                  <a:pt x="4021" y="1971"/>
                </a:lnTo>
                <a:lnTo>
                  <a:pt x="4035" y="1978"/>
                </a:lnTo>
                <a:lnTo>
                  <a:pt x="4049" y="1982"/>
                </a:lnTo>
                <a:lnTo>
                  <a:pt x="4049" y="1982"/>
                </a:lnTo>
                <a:lnTo>
                  <a:pt x="4085" y="1975"/>
                </a:lnTo>
                <a:lnTo>
                  <a:pt x="4096" y="1975"/>
                </a:lnTo>
                <a:lnTo>
                  <a:pt x="4106" y="1986"/>
                </a:lnTo>
                <a:lnTo>
                  <a:pt x="4106" y="1986"/>
                </a:lnTo>
                <a:lnTo>
                  <a:pt x="4110" y="1989"/>
                </a:lnTo>
                <a:lnTo>
                  <a:pt x="4114" y="1989"/>
                </a:lnTo>
                <a:lnTo>
                  <a:pt x="4117" y="1978"/>
                </a:lnTo>
                <a:lnTo>
                  <a:pt x="4121" y="1957"/>
                </a:lnTo>
                <a:lnTo>
                  <a:pt x="4149" y="1964"/>
                </a:lnTo>
                <a:lnTo>
                  <a:pt x="4278" y="1722"/>
                </a:lnTo>
                <a:lnTo>
                  <a:pt x="4278" y="1722"/>
                </a:lnTo>
                <a:lnTo>
                  <a:pt x="4281" y="1715"/>
                </a:lnTo>
                <a:lnTo>
                  <a:pt x="4288" y="1693"/>
                </a:lnTo>
                <a:lnTo>
                  <a:pt x="4288" y="1679"/>
                </a:lnTo>
                <a:lnTo>
                  <a:pt x="4288" y="1661"/>
                </a:lnTo>
                <a:lnTo>
                  <a:pt x="4285" y="1643"/>
                </a:lnTo>
                <a:lnTo>
                  <a:pt x="4278" y="1622"/>
                </a:lnTo>
                <a:lnTo>
                  <a:pt x="4278" y="1622"/>
                </a:lnTo>
                <a:lnTo>
                  <a:pt x="4270" y="1604"/>
                </a:lnTo>
                <a:lnTo>
                  <a:pt x="4270" y="1586"/>
                </a:lnTo>
                <a:lnTo>
                  <a:pt x="4274" y="1576"/>
                </a:lnTo>
                <a:lnTo>
                  <a:pt x="4281" y="1565"/>
                </a:lnTo>
                <a:lnTo>
                  <a:pt x="4299" y="1551"/>
                </a:lnTo>
                <a:lnTo>
                  <a:pt x="4310" y="1543"/>
                </a:lnTo>
                <a:lnTo>
                  <a:pt x="4310" y="1543"/>
                </a:lnTo>
                <a:lnTo>
                  <a:pt x="4313" y="1547"/>
                </a:lnTo>
                <a:lnTo>
                  <a:pt x="4327" y="1551"/>
                </a:lnTo>
                <a:lnTo>
                  <a:pt x="4338" y="1547"/>
                </a:lnTo>
                <a:lnTo>
                  <a:pt x="4349" y="1543"/>
                </a:lnTo>
                <a:lnTo>
                  <a:pt x="4360" y="1536"/>
                </a:lnTo>
                <a:lnTo>
                  <a:pt x="4370" y="1526"/>
                </a:lnTo>
                <a:lnTo>
                  <a:pt x="4370" y="1526"/>
                </a:lnTo>
                <a:lnTo>
                  <a:pt x="4374" y="1526"/>
                </a:lnTo>
                <a:lnTo>
                  <a:pt x="4384" y="1529"/>
                </a:lnTo>
                <a:lnTo>
                  <a:pt x="4392" y="1533"/>
                </a:lnTo>
                <a:lnTo>
                  <a:pt x="4399" y="1540"/>
                </a:lnTo>
                <a:lnTo>
                  <a:pt x="4402" y="1547"/>
                </a:lnTo>
                <a:lnTo>
                  <a:pt x="4406" y="1561"/>
                </a:lnTo>
                <a:lnTo>
                  <a:pt x="4406" y="1561"/>
                </a:lnTo>
                <a:lnTo>
                  <a:pt x="4413" y="1565"/>
                </a:lnTo>
                <a:lnTo>
                  <a:pt x="4417" y="1568"/>
                </a:lnTo>
                <a:lnTo>
                  <a:pt x="4424" y="1568"/>
                </a:lnTo>
                <a:lnTo>
                  <a:pt x="4434" y="1568"/>
                </a:lnTo>
                <a:lnTo>
                  <a:pt x="4445" y="1561"/>
                </a:lnTo>
                <a:lnTo>
                  <a:pt x="4456" y="1547"/>
                </a:lnTo>
                <a:lnTo>
                  <a:pt x="4466" y="1522"/>
                </a:lnTo>
                <a:lnTo>
                  <a:pt x="4466" y="1522"/>
                </a:lnTo>
                <a:lnTo>
                  <a:pt x="4470" y="1519"/>
                </a:lnTo>
                <a:lnTo>
                  <a:pt x="4474" y="1511"/>
                </a:lnTo>
                <a:lnTo>
                  <a:pt x="4474" y="1504"/>
                </a:lnTo>
                <a:lnTo>
                  <a:pt x="4470" y="1497"/>
                </a:lnTo>
                <a:lnTo>
                  <a:pt x="4466" y="1490"/>
                </a:lnTo>
                <a:lnTo>
                  <a:pt x="4466" y="1490"/>
                </a:lnTo>
                <a:lnTo>
                  <a:pt x="4459" y="1486"/>
                </a:lnTo>
                <a:lnTo>
                  <a:pt x="4459" y="1479"/>
                </a:lnTo>
                <a:lnTo>
                  <a:pt x="4463" y="1469"/>
                </a:lnTo>
                <a:lnTo>
                  <a:pt x="4470" y="1458"/>
                </a:lnTo>
                <a:lnTo>
                  <a:pt x="4474" y="1454"/>
                </a:lnTo>
                <a:lnTo>
                  <a:pt x="4499" y="1426"/>
                </a:lnTo>
                <a:lnTo>
                  <a:pt x="4488" y="1397"/>
                </a:lnTo>
                <a:lnTo>
                  <a:pt x="4506" y="1362"/>
                </a:lnTo>
                <a:lnTo>
                  <a:pt x="4506" y="1362"/>
                </a:lnTo>
                <a:lnTo>
                  <a:pt x="4502" y="1355"/>
                </a:lnTo>
                <a:lnTo>
                  <a:pt x="4495" y="1347"/>
                </a:lnTo>
                <a:lnTo>
                  <a:pt x="4484" y="1337"/>
                </a:lnTo>
                <a:lnTo>
                  <a:pt x="4484" y="1337"/>
                </a:lnTo>
                <a:lnTo>
                  <a:pt x="4477" y="1330"/>
                </a:lnTo>
                <a:lnTo>
                  <a:pt x="4481" y="1322"/>
                </a:lnTo>
                <a:lnTo>
                  <a:pt x="4488" y="1315"/>
                </a:lnTo>
                <a:lnTo>
                  <a:pt x="4499" y="1305"/>
                </a:lnTo>
                <a:lnTo>
                  <a:pt x="4520" y="1290"/>
                </a:lnTo>
                <a:lnTo>
                  <a:pt x="4531" y="1283"/>
                </a:lnTo>
                <a:lnTo>
                  <a:pt x="4531" y="1283"/>
                </a:lnTo>
                <a:lnTo>
                  <a:pt x="4538" y="1265"/>
                </a:lnTo>
                <a:lnTo>
                  <a:pt x="4541" y="1248"/>
                </a:lnTo>
                <a:lnTo>
                  <a:pt x="4541" y="1226"/>
                </a:lnTo>
                <a:lnTo>
                  <a:pt x="4541" y="1226"/>
                </a:lnTo>
                <a:lnTo>
                  <a:pt x="4541" y="1219"/>
                </a:lnTo>
                <a:lnTo>
                  <a:pt x="4545" y="1216"/>
                </a:lnTo>
                <a:lnTo>
                  <a:pt x="4552" y="1212"/>
                </a:lnTo>
                <a:lnTo>
                  <a:pt x="4563" y="1212"/>
                </a:lnTo>
                <a:lnTo>
                  <a:pt x="4563" y="1212"/>
                </a:lnTo>
                <a:lnTo>
                  <a:pt x="4559" y="1205"/>
                </a:lnTo>
                <a:lnTo>
                  <a:pt x="4556" y="1198"/>
                </a:lnTo>
                <a:lnTo>
                  <a:pt x="4556" y="1191"/>
                </a:lnTo>
                <a:lnTo>
                  <a:pt x="4559" y="1183"/>
                </a:lnTo>
                <a:lnTo>
                  <a:pt x="4566" y="1176"/>
                </a:lnTo>
                <a:lnTo>
                  <a:pt x="4581" y="1173"/>
                </a:lnTo>
                <a:lnTo>
                  <a:pt x="4602" y="1173"/>
                </a:lnTo>
                <a:lnTo>
                  <a:pt x="4616" y="1155"/>
                </a:lnTo>
                <a:lnTo>
                  <a:pt x="4616" y="1137"/>
                </a:lnTo>
                <a:lnTo>
                  <a:pt x="4677" y="1109"/>
                </a:lnTo>
                <a:lnTo>
                  <a:pt x="4677" y="1109"/>
                </a:lnTo>
                <a:lnTo>
                  <a:pt x="4680" y="1105"/>
                </a:lnTo>
                <a:lnTo>
                  <a:pt x="4680" y="1091"/>
                </a:lnTo>
                <a:lnTo>
                  <a:pt x="4680" y="1084"/>
                </a:lnTo>
                <a:lnTo>
                  <a:pt x="4677" y="1077"/>
                </a:lnTo>
                <a:lnTo>
                  <a:pt x="4670" y="1069"/>
                </a:lnTo>
                <a:lnTo>
                  <a:pt x="4659" y="1066"/>
                </a:lnTo>
                <a:lnTo>
                  <a:pt x="4659" y="1044"/>
                </a:lnTo>
                <a:lnTo>
                  <a:pt x="4641" y="1041"/>
                </a:lnTo>
                <a:lnTo>
                  <a:pt x="4534" y="952"/>
                </a:lnTo>
                <a:lnTo>
                  <a:pt x="4534" y="952"/>
                </a:lnTo>
                <a:lnTo>
                  <a:pt x="4534" y="948"/>
                </a:lnTo>
                <a:lnTo>
                  <a:pt x="4538" y="941"/>
                </a:lnTo>
                <a:lnTo>
                  <a:pt x="4541" y="941"/>
                </a:lnTo>
                <a:lnTo>
                  <a:pt x="4548" y="937"/>
                </a:lnTo>
                <a:lnTo>
                  <a:pt x="4559" y="937"/>
                </a:lnTo>
                <a:lnTo>
                  <a:pt x="4570" y="941"/>
                </a:lnTo>
                <a:lnTo>
                  <a:pt x="4577" y="930"/>
                </a:lnTo>
                <a:lnTo>
                  <a:pt x="4577" y="895"/>
                </a:lnTo>
                <a:lnTo>
                  <a:pt x="4577" y="895"/>
                </a:lnTo>
                <a:lnTo>
                  <a:pt x="4588" y="895"/>
                </a:lnTo>
                <a:lnTo>
                  <a:pt x="4595" y="895"/>
                </a:lnTo>
                <a:lnTo>
                  <a:pt x="4605" y="891"/>
                </a:lnTo>
                <a:lnTo>
                  <a:pt x="4609" y="888"/>
                </a:lnTo>
                <a:lnTo>
                  <a:pt x="4605" y="877"/>
                </a:lnTo>
                <a:lnTo>
                  <a:pt x="4595" y="866"/>
                </a:lnTo>
                <a:lnTo>
                  <a:pt x="4573" y="845"/>
                </a:lnTo>
                <a:lnTo>
                  <a:pt x="4581" y="838"/>
                </a:lnTo>
                <a:lnTo>
                  <a:pt x="4609" y="831"/>
                </a:lnTo>
                <a:lnTo>
                  <a:pt x="4609" y="831"/>
                </a:lnTo>
                <a:lnTo>
                  <a:pt x="4613" y="823"/>
                </a:lnTo>
                <a:lnTo>
                  <a:pt x="4613" y="813"/>
                </a:lnTo>
                <a:lnTo>
                  <a:pt x="4609" y="806"/>
                </a:lnTo>
                <a:lnTo>
                  <a:pt x="4602" y="802"/>
                </a:lnTo>
                <a:lnTo>
                  <a:pt x="4591" y="798"/>
                </a:lnTo>
                <a:lnTo>
                  <a:pt x="4573" y="802"/>
                </a:lnTo>
                <a:lnTo>
                  <a:pt x="4534" y="813"/>
                </a:lnTo>
                <a:lnTo>
                  <a:pt x="4513" y="809"/>
                </a:lnTo>
                <a:lnTo>
                  <a:pt x="4488" y="831"/>
                </a:lnTo>
                <a:lnTo>
                  <a:pt x="4438" y="855"/>
                </a:lnTo>
                <a:lnTo>
                  <a:pt x="4438" y="855"/>
                </a:lnTo>
                <a:lnTo>
                  <a:pt x="4431" y="866"/>
                </a:lnTo>
                <a:lnTo>
                  <a:pt x="4420" y="873"/>
                </a:lnTo>
                <a:lnTo>
                  <a:pt x="4409" y="880"/>
                </a:lnTo>
                <a:lnTo>
                  <a:pt x="4395" y="884"/>
                </a:lnTo>
                <a:lnTo>
                  <a:pt x="4381" y="888"/>
                </a:lnTo>
                <a:lnTo>
                  <a:pt x="4363" y="880"/>
                </a:lnTo>
                <a:lnTo>
                  <a:pt x="4342" y="866"/>
                </a:lnTo>
                <a:lnTo>
                  <a:pt x="4342" y="866"/>
                </a:lnTo>
                <a:lnTo>
                  <a:pt x="4306" y="834"/>
                </a:lnTo>
                <a:lnTo>
                  <a:pt x="4274" y="802"/>
                </a:lnTo>
                <a:lnTo>
                  <a:pt x="4256" y="791"/>
                </a:lnTo>
                <a:lnTo>
                  <a:pt x="4238" y="784"/>
                </a:lnTo>
                <a:lnTo>
                  <a:pt x="4220" y="784"/>
                </a:lnTo>
                <a:lnTo>
                  <a:pt x="4196" y="788"/>
                </a:lnTo>
                <a:lnTo>
                  <a:pt x="4196" y="788"/>
                </a:lnTo>
                <a:lnTo>
                  <a:pt x="4188" y="791"/>
                </a:lnTo>
                <a:lnTo>
                  <a:pt x="4181" y="791"/>
                </a:lnTo>
                <a:lnTo>
                  <a:pt x="4171" y="791"/>
                </a:lnTo>
                <a:lnTo>
                  <a:pt x="4160" y="791"/>
                </a:lnTo>
                <a:lnTo>
                  <a:pt x="4153" y="784"/>
                </a:lnTo>
                <a:lnTo>
                  <a:pt x="4146" y="770"/>
                </a:lnTo>
                <a:lnTo>
                  <a:pt x="4142" y="749"/>
                </a:lnTo>
                <a:lnTo>
                  <a:pt x="4146" y="734"/>
                </a:lnTo>
                <a:lnTo>
                  <a:pt x="4117" y="734"/>
                </a:lnTo>
                <a:lnTo>
                  <a:pt x="4117" y="734"/>
                </a:lnTo>
                <a:lnTo>
                  <a:pt x="4106" y="738"/>
                </a:lnTo>
                <a:lnTo>
                  <a:pt x="4099" y="741"/>
                </a:lnTo>
                <a:lnTo>
                  <a:pt x="4092" y="749"/>
                </a:lnTo>
                <a:lnTo>
                  <a:pt x="4092" y="749"/>
                </a:lnTo>
                <a:lnTo>
                  <a:pt x="4089" y="777"/>
                </a:lnTo>
                <a:lnTo>
                  <a:pt x="4089" y="798"/>
                </a:lnTo>
                <a:lnTo>
                  <a:pt x="4089" y="798"/>
                </a:lnTo>
                <a:lnTo>
                  <a:pt x="4078" y="795"/>
                </a:lnTo>
                <a:lnTo>
                  <a:pt x="4060" y="784"/>
                </a:lnTo>
                <a:lnTo>
                  <a:pt x="4060" y="784"/>
                </a:lnTo>
                <a:lnTo>
                  <a:pt x="4007" y="759"/>
                </a:lnTo>
                <a:lnTo>
                  <a:pt x="3996" y="752"/>
                </a:lnTo>
                <a:lnTo>
                  <a:pt x="3996" y="752"/>
                </a:lnTo>
                <a:lnTo>
                  <a:pt x="3999" y="731"/>
                </a:lnTo>
                <a:lnTo>
                  <a:pt x="3999" y="709"/>
                </a:lnTo>
                <a:lnTo>
                  <a:pt x="3999" y="688"/>
                </a:lnTo>
                <a:lnTo>
                  <a:pt x="3996" y="667"/>
                </a:lnTo>
                <a:lnTo>
                  <a:pt x="3992" y="659"/>
                </a:lnTo>
                <a:lnTo>
                  <a:pt x="3989" y="652"/>
                </a:lnTo>
                <a:lnTo>
                  <a:pt x="3982" y="649"/>
                </a:lnTo>
                <a:lnTo>
                  <a:pt x="3975" y="649"/>
                </a:lnTo>
                <a:lnTo>
                  <a:pt x="3964" y="652"/>
                </a:lnTo>
                <a:lnTo>
                  <a:pt x="3953" y="656"/>
                </a:lnTo>
                <a:lnTo>
                  <a:pt x="3953" y="656"/>
                </a:lnTo>
                <a:lnTo>
                  <a:pt x="3928" y="670"/>
                </a:lnTo>
                <a:lnTo>
                  <a:pt x="3910" y="674"/>
                </a:lnTo>
                <a:lnTo>
                  <a:pt x="3893" y="677"/>
                </a:lnTo>
                <a:lnTo>
                  <a:pt x="3878" y="674"/>
                </a:lnTo>
                <a:lnTo>
                  <a:pt x="3868" y="670"/>
                </a:lnTo>
                <a:lnTo>
                  <a:pt x="3860" y="663"/>
                </a:lnTo>
                <a:lnTo>
                  <a:pt x="3857" y="659"/>
                </a:lnTo>
                <a:lnTo>
                  <a:pt x="3818" y="684"/>
                </a:lnTo>
                <a:lnTo>
                  <a:pt x="3818" y="684"/>
                </a:lnTo>
                <a:lnTo>
                  <a:pt x="3807" y="688"/>
                </a:lnTo>
                <a:lnTo>
                  <a:pt x="3786" y="695"/>
                </a:lnTo>
                <a:lnTo>
                  <a:pt x="3768" y="706"/>
                </a:lnTo>
                <a:lnTo>
                  <a:pt x="3761" y="716"/>
                </a:lnTo>
                <a:lnTo>
                  <a:pt x="3757" y="724"/>
                </a:lnTo>
                <a:lnTo>
                  <a:pt x="3757" y="724"/>
                </a:lnTo>
                <a:lnTo>
                  <a:pt x="3736" y="724"/>
                </a:lnTo>
                <a:lnTo>
                  <a:pt x="3714" y="720"/>
                </a:lnTo>
                <a:lnTo>
                  <a:pt x="3689" y="713"/>
                </a:lnTo>
                <a:lnTo>
                  <a:pt x="3661" y="702"/>
                </a:lnTo>
                <a:lnTo>
                  <a:pt x="3636" y="688"/>
                </a:lnTo>
                <a:lnTo>
                  <a:pt x="3625" y="677"/>
                </a:lnTo>
                <a:lnTo>
                  <a:pt x="3618" y="667"/>
                </a:lnTo>
                <a:lnTo>
                  <a:pt x="3611" y="652"/>
                </a:lnTo>
                <a:lnTo>
                  <a:pt x="3607" y="638"/>
                </a:lnTo>
                <a:lnTo>
                  <a:pt x="3607" y="638"/>
                </a:lnTo>
                <a:lnTo>
                  <a:pt x="3604" y="631"/>
                </a:lnTo>
                <a:lnTo>
                  <a:pt x="3597" y="624"/>
                </a:lnTo>
                <a:lnTo>
                  <a:pt x="3589" y="620"/>
                </a:lnTo>
                <a:lnTo>
                  <a:pt x="3586" y="620"/>
                </a:lnTo>
                <a:lnTo>
                  <a:pt x="3579" y="620"/>
                </a:lnTo>
                <a:lnTo>
                  <a:pt x="3568" y="627"/>
                </a:lnTo>
                <a:lnTo>
                  <a:pt x="3568" y="627"/>
                </a:lnTo>
                <a:lnTo>
                  <a:pt x="3554" y="642"/>
                </a:lnTo>
                <a:lnTo>
                  <a:pt x="3536" y="652"/>
                </a:lnTo>
                <a:lnTo>
                  <a:pt x="3522" y="656"/>
                </a:lnTo>
                <a:lnTo>
                  <a:pt x="3522" y="656"/>
                </a:lnTo>
                <a:lnTo>
                  <a:pt x="3522" y="663"/>
                </a:lnTo>
                <a:lnTo>
                  <a:pt x="3518" y="667"/>
                </a:lnTo>
                <a:lnTo>
                  <a:pt x="3515" y="674"/>
                </a:lnTo>
                <a:lnTo>
                  <a:pt x="3508" y="677"/>
                </a:lnTo>
                <a:lnTo>
                  <a:pt x="3497" y="681"/>
                </a:lnTo>
                <a:lnTo>
                  <a:pt x="3479" y="684"/>
                </a:lnTo>
                <a:lnTo>
                  <a:pt x="3454" y="684"/>
                </a:lnTo>
                <a:lnTo>
                  <a:pt x="3433" y="716"/>
                </a:lnTo>
                <a:lnTo>
                  <a:pt x="3433" y="716"/>
                </a:lnTo>
                <a:lnTo>
                  <a:pt x="3426" y="720"/>
                </a:lnTo>
                <a:lnTo>
                  <a:pt x="3415" y="727"/>
                </a:lnTo>
                <a:lnTo>
                  <a:pt x="3408" y="727"/>
                </a:lnTo>
                <a:lnTo>
                  <a:pt x="3401" y="724"/>
                </a:lnTo>
                <a:lnTo>
                  <a:pt x="3397" y="713"/>
                </a:lnTo>
                <a:lnTo>
                  <a:pt x="3393" y="699"/>
                </a:lnTo>
                <a:lnTo>
                  <a:pt x="3393" y="699"/>
                </a:lnTo>
                <a:lnTo>
                  <a:pt x="3393" y="688"/>
                </a:lnTo>
                <a:lnTo>
                  <a:pt x="3393" y="688"/>
                </a:lnTo>
                <a:lnTo>
                  <a:pt x="3390" y="667"/>
                </a:lnTo>
                <a:lnTo>
                  <a:pt x="3383" y="649"/>
                </a:lnTo>
                <a:lnTo>
                  <a:pt x="3372" y="634"/>
                </a:lnTo>
                <a:lnTo>
                  <a:pt x="3358" y="627"/>
                </a:lnTo>
                <a:lnTo>
                  <a:pt x="3344" y="627"/>
                </a:lnTo>
                <a:lnTo>
                  <a:pt x="3329" y="631"/>
                </a:lnTo>
                <a:lnTo>
                  <a:pt x="3319" y="645"/>
                </a:lnTo>
                <a:lnTo>
                  <a:pt x="3308" y="663"/>
                </a:lnTo>
                <a:lnTo>
                  <a:pt x="3308" y="663"/>
                </a:lnTo>
                <a:lnTo>
                  <a:pt x="3315" y="677"/>
                </a:lnTo>
                <a:lnTo>
                  <a:pt x="3326" y="684"/>
                </a:lnTo>
                <a:lnTo>
                  <a:pt x="3340" y="695"/>
                </a:lnTo>
                <a:lnTo>
                  <a:pt x="3340" y="695"/>
                </a:lnTo>
                <a:lnTo>
                  <a:pt x="3340" y="699"/>
                </a:lnTo>
                <a:lnTo>
                  <a:pt x="3336" y="709"/>
                </a:lnTo>
                <a:lnTo>
                  <a:pt x="3329" y="720"/>
                </a:lnTo>
                <a:lnTo>
                  <a:pt x="3311" y="734"/>
                </a:lnTo>
                <a:lnTo>
                  <a:pt x="3311" y="734"/>
                </a:lnTo>
                <a:lnTo>
                  <a:pt x="3276" y="759"/>
                </a:lnTo>
                <a:lnTo>
                  <a:pt x="3262" y="770"/>
                </a:lnTo>
                <a:lnTo>
                  <a:pt x="3237" y="770"/>
                </a:lnTo>
                <a:lnTo>
                  <a:pt x="3237" y="788"/>
                </a:lnTo>
                <a:lnTo>
                  <a:pt x="3237" y="788"/>
                </a:lnTo>
                <a:lnTo>
                  <a:pt x="3229" y="795"/>
                </a:lnTo>
                <a:lnTo>
                  <a:pt x="3212" y="802"/>
                </a:lnTo>
                <a:lnTo>
                  <a:pt x="3201" y="802"/>
                </a:lnTo>
                <a:lnTo>
                  <a:pt x="3190" y="802"/>
                </a:lnTo>
                <a:lnTo>
                  <a:pt x="3180" y="791"/>
                </a:lnTo>
                <a:lnTo>
                  <a:pt x="3169" y="777"/>
                </a:lnTo>
                <a:lnTo>
                  <a:pt x="3126" y="798"/>
                </a:lnTo>
                <a:lnTo>
                  <a:pt x="3126" y="798"/>
                </a:lnTo>
                <a:lnTo>
                  <a:pt x="3115" y="795"/>
                </a:lnTo>
                <a:lnTo>
                  <a:pt x="3083" y="784"/>
                </a:lnTo>
                <a:lnTo>
                  <a:pt x="3048" y="777"/>
                </a:lnTo>
                <a:lnTo>
                  <a:pt x="3026" y="774"/>
                </a:lnTo>
                <a:lnTo>
                  <a:pt x="3005" y="777"/>
                </a:lnTo>
                <a:lnTo>
                  <a:pt x="3005" y="777"/>
                </a:lnTo>
                <a:lnTo>
                  <a:pt x="2998" y="770"/>
                </a:lnTo>
                <a:lnTo>
                  <a:pt x="2980" y="756"/>
                </a:lnTo>
                <a:lnTo>
                  <a:pt x="2955" y="741"/>
                </a:lnTo>
                <a:lnTo>
                  <a:pt x="2941" y="734"/>
                </a:lnTo>
                <a:lnTo>
                  <a:pt x="2926" y="731"/>
                </a:lnTo>
                <a:lnTo>
                  <a:pt x="2926" y="731"/>
                </a:lnTo>
                <a:lnTo>
                  <a:pt x="2909" y="727"/>
                </a:lnTo>
                <a:lnTo>
                  <a:pt x="2894" y="724"/>
                </a:lnTo>
                <a:lnTo>
                  <a:pt x="2884" y="713"/>
                </a:lnTo>
                <a:lnTo>
                  <a:pt x="2873" y="702"/>
                </a:lnTo>
                <a:lnTo>
                  <a:pt x="2866" y="692"/>
                </a:lnTo>
                <a:lnTo>
                  <a:pt x="2866" y="677"/>
                </a:lnTo>
                <a:lnTo>
                  <a:pt x="2873" y="663"/>
                </a:lnTo>
                <a:lnTo>
                  <a:pt x="2887" y="649"/>
                </a:lnTo>
                <a:lnTo>
                  <a:pt x="2887" y="649"/>
                </a:lnTo>
                <a:lnTo>
                  <a:pt x="2901" y="638"/>
                </a:lnTo>
                <a:lnTo>
                  <a:pt x="2909" y="627"/>
                </a:lnTo>
                <a:lnTo>
                  <a:pt x="2909" y="620"/>
                </a:lnTo>
                <a:lnTo>
                  <a:pt x="2905" y="613"/>
                </a:lnTo>
                <a:lnTo>
                  <a:pt x="2898" y="610"/>
                </a:lnTo>
                <a:lnTo>
                  <a:pt x="2887" y="610"/>
                </a:lnTo>
                <a:lnTo>
                  <a:pt x="2862" y="606"/>
                </a:lnTo>
                <a:lnTo>
                  <a:pt x="2862" y="606"/>
                </a:lnTo>
                <a:lnTo>
                  <a:pt x="2852" y="602"/>
                </a:lnTo>
                <a:lnTo>
                  <a:pt x="2844" y="599"/>
                </a:lnTo>
                <a:lnTo>
                  <a:pt x="2844" y="592"/>
                </a:lnTo>
                <a:lnTo>
                  <a:pt x="2848" y="588"/>
                </a:lnTo>
                <a:lnTo>
                  <a:pt x="2859" y="574"/>
                </a:lnTo>
                <a:lnTo>
                  <a:pt x="2877" y="560"/>
                </a:lnTo>
                <a:lnTo>
                  <a:pt x="2877" y="560"/>
                </a:lnTo>
                <a:lnTo>
                  <a:pt x="2880" y="552"/>
                </a:lnTo>
                <a:lnTo>
                  <a:pt x="2880" y="542"/>
                </a:lnTo>
                <a:lnTo>
                  <a:pt x="2869" y="517"/>
                </a:lnTo>
                <a:lnTo>
                  <a:pt x="2859" y="492"/>
                </a:lnTo>
                <a:lnTo>
                  <a:pt x="2852" y="481"/>
                </a:lnTo>
                <a:lnTo>
                  <a:pt x="2891" y="478"/>
                </a:lnTo>
                <a:lnTo>
                  <a:pt x="2891" y="478"/>
                </a:lnTo>
                <a:lnTo>
                  <a:pt x="2894" y="474"/>
                </a:lnTo>
                <a:lnTo>
                  <a:pt x="2898" y="470"/>
                </a:lnTo>
                <a:lnTo>
                  <a:pt x="2898" y="467"/>
                </a:lnTo>
                <a:lnTo>
                  <a:pt x="2894" y="460"/>
                </a:lnTo>
                <a:lnTo>
                  <a:pt x="2884" y="453"/>
                </a:lnTo>
                <a:lnTo>
                  <a:pt x="2873" y="446"/>
                </a:lnTo>
                <a:lnTo>
                  <a:pt x="2852" y="435"/>
                </a:lnTo>
                <a:lnTo>
                  <a:pt x="2852" y="435"/>
                </a:lnTo>
                <a:lnTo>
                  <a:pt x="2827" y="424"/>
                </a:lnTo>
                <a:lnTo>
                  <a:pt x="2809" y="406"/>
                </a:lnTo>
                <a:lnTo>
                  <a:pt x="2795" y="389"/>
                </a:lnTo>
                <a:lnTo>
                  <a:pt x="2787" y="367"/>
                </a:lnTo>
                <a:lnTo>
                  <a:pt x="2773" y="328"/>
                </a:lnTo>
                <a:lnTo>
                  <a:pt x="2773" y="314"/>
                </a:lnTo>
                <a:lnTo>
                  <a:pt x="2773" y="314"/>
                </a:lnTo>
                <a:lnTo>
                  <a:pt x="2759" y="307"/>
                </a:lnTo>
                <a:lnTo>
                  <a:pt x="2730" y="296"/>
                </a:lnTo>
                <a:lnTo>
                  <a:pt x="2705" y="296"/>
                </a:lnTo>
                <a:lnTo>
                  <a:pt x="2680" y="296"/>
                </a:lnTo>
                <a:lnTo>
                  <a:pt x="2648" y="299"/>
                </a:lnTo>
                <a:lnTo>
                  <a:pt x="2613" y="310"/>
                </a:lnTo>
                <a:lnTo>
                  <a:pt x="2613" y="310"/>
                </a:lnTo>
                <a:lnTo>
                  <a:pt x="2595" y="303"/>
                </a:lnTo>
                <a:lnTo>
                  <a:pt x="2577" y="296"/>
                </a:lnTo>
                <a:lnTo>
                  <a:pt x="2566" y="285"/>
                </a:lnTo>
                <a:lnTo>
                  <a:pt x="2566" y="285"/>
                </a:lnTo>
                <a:lnTo>
                  <a:pt x="2563" y="282"/>
                </a:lnTo>
                <a:lnTo>
                  <a:pt x="2556" y="282"/>
                </a:lnTo>
                <a:lnTo>
                  <a:pt x="2538" y="289"/>
                </a:lnTo>
                <a:lnTo>
                  <a:pt x="2520" y="303"/>
                </a:lnTo>
                <a:lnTo>
                  <a:pt x="2520" y="303"/>
                </a:lnTo>
                <a:lnTo>
                  <a:pt x="2520" y="289"/>
                </a:lnTo>
                <a:lnTo>
                  <a:pt x="2520" y="274"/>
                </a:lnTo>
                <a:lnTo>
                  <a:pt x="2516" y="264"/>
                </a:lnTo>
                <a:lnTo>
                  <a:pt x="2509" y="253"/>
                </a:lnTo>
                <a:lnTo>
                  <a:pt x="2506" y="249"/>
                </a:lnTo>
                <a:lnTo>
                  <a:pt x="2502" y="249"/>
                </a:lnTo>
                <a:lnTo>
                  <a:pt x="2495" y="249"/>
                </a:lnTo>
                <a:lnTo>
                  <a:pt x="2488" y="253"/>
                </a:lnTo>
                <a:lnTo>
                  <a:pt x="2467" y="271"/>
                </a:lnTo>
                <a:lnTo>
                  <a:pt x="2467" y="271"/>
                </a:lnTo>
                <a:lnTo>
                  <a:pt x="2456" y="278"/>
                </a:lnTo>
                <a:lnTo>
                  <a:pt x="2442" y="282"/>
                </a:lnTo>
                <a:lnTo>
                  <a:pt x="2424" y="285"/>
                </a:lnTo>
                <a:lnTo>
                  <a:pt x="2406" y="285"/>
                </a:lnTo>
                <a:lnTo>
                  <a:pt x="2392" y="278"/>
                </a:lnTo>
                <a:lnTo>
                  <a:pt x="2385" y="274"/>
                </a:lnTo>
                <a:lnTo>
                  <a:pt x="2377" y="267"/>
                </a:lnTo>
                <a:lnTo>
                  <a:pt x="2370" y="257"/>
                </a:lnTo>
                <a:lnTo>
                  <a:pt x="2367" y="242"/>
                </a:lnTo>
                <a:lnTo>
                  <a:pt x="2367" y="242"/>
                </a:lnTo>
                <a:lnTo>
                  <a:pt x="2352" y="196"/>
                </a:lnTo>
                <a:lnTo>
                  <a:pt x="2342" y="175"/>
                </a:lnTo>
                <a:lnTo>
                  <a:pt x="2335" y="167"/>
                </a:lnTo>
                <a:lnTo>
                  <a:pt x="2335" y="167"/>
                </a:lnTo>
                <a:lnTo>
                  <a:pt x="2335" y="167"/>
                </a:lnTo>
                <a:lnTo>
                  <a:pt x="2342" y="153"/>
                </a:lnTo>
                <a:lnTo>
                  <a:pt x="2352" y="143"/>
                </a:lnTo>
                <a:lnTo>
                  <a:pt x="2356" y="128"/>
                </a:lnTo>
                <a:lnTo>
                  <a:pt x="2356" y="114"/>
                </a:lnTo>
                <a:lnTo>
                  <a:pt x="2352" y="107"/>
                </a:lnTo>
                <a:lnTo>
                  <a:pt x="2345" y="100"/>
                </a:lnTo>
                <a:lnTo>
                  <a:pt x="2335" y="93"/>
                </a:lnTo>
                <a:lnTo>
                  <a:pt x="2324" y="86"/>
                </a:lnTo>
                <a:lnTo>
                  <a:pt x="2285" y="78"/>
                </a:lnTo>
                <a:lnTo>
                  <a:pt x="2270" y="32"/>
                </a:lnTo>
                <a:lnTo>
                  <a:pt x="2238" y="0"/>
                </a:lnTo>
                <a:lnTo>
                  <a:pt x="2238" y="0"/>
                </a:lnTo>
                <a:lnTo>
                  <a:pt x="2238" y="4"/>
                </a:lnTo>
                <a:lnTo>
                  <a:pt x="2238" y="14"/>
                </a:lnTo>
                <a:lnTo>
                  <a:pt x="2231" y="28"/>
                </a:lnTo>
                <a:lnTo>
                  <a:pt x="2213" y="46"/>
                </a:lnTo>
                <a:lnTo>
                  <a:pt x="2213" y="46"/>
                </a:lnTo>
                <a:lnTo>
                  <a:pt x="2185" y="61"/>
                </a:lnTo>
                <a:lnTo>
                  <a:pt x="2160" y="78"/>
                </a:lnTo>
                <a:lnTo>
                  <a:pt x="2153" y="89"/>
                </a:lnTo>
                <a:lnTo>
                  <a:pt x="2142" y="100"/>
                </a:lnTo>
                <a:lnTo>
                  <a:pt x="2139" y="118"/>
                </a:lnTo>
                <a:lnTo>
                  <a:pt x="2139" y="135"/>
                </a:lnTo>
                <a:lnTo>
                  <a:pt x="2139" y="135"/>
                </a:lnTo>
                <a:lnTo>
                  <a:pt x="2128" y="132"/>
                </a:lnTo>
                <a:lnTo>
                  <a:pt x="2117" y="132"/>
                </a:lnTo>
                <a:lnTo>
                  <a:pt x="2103" y="132"/>
                </a:lnTo>
                <a:lnTo>
                  <a:pt x="2092" y="139"/>
                </a:lnTo>
                <a:lnTo>
                  <a:pt x="2078" y="153"/>
                </a:lnTo>
                <a:lnTo>
                  <a:pt x="2071" y="178"/>
                </a:lnTo>
                <a:lnTo>
                  <a:pt x="2067" y="214"/>
                </a:lnTo>
                <a:lnTo>
                  <a:pt x="2053" y="217"/>
                </a:lnTo>
                <a:lnTo>
                  <a:pt x="1950" y="196"/>
                </a:lnTo>
                <a:lnTo>
                  <a:pt x="1950" y="217"/>
                </a:lnTo>
                <a:lnTo>
                  <a:pt x="2010" y="307"/>
                </a:lnTo>
                <a:lnTo>
                  <a:pt x="2010" y="307"/>
                </a:lnTo>
                <a:lnTo>
                  <a:pt x="2010" y="321"/>
                </a:lnTo>
                <a:lnTo>
                  <a:pt x="2014" y="335"/>
                </a:lnTo>
                <a:lnTo>
                  <a:pt x="2017" y="349"/>
                </a:lnTo>
                <a:lnTo>
                  <a:pt x="2028" y="367"/>
                </a:lnTo>
                <a:lnTo>
                  <a:pt x="2042" y="381"/>
                </a:lnTo>
                <a:lnTo>
                  <a:pt x="2060" y="392"/>
                </a:lnTo>
                <a:lnTo>
                  <a:pt x="2085" y="399"/>
                </a:lnTo>
                <a:lnTo>
                  <a:pt x="2085" y="399"/>
                </a:lnTo>
                <a:lnTo>
                  <a:pt x="2089" y="413"/>
                </a:lnTo>
                <a:lnTo>
                  <a:pt x="2089" y="442"/>
                </a:lnTo>
                <a:lnTo>
                  <a:pt x="2085" y="456"/>
                </a:lnTo>
                <a:lnTo>
                  <a:pt x="2078" y="470"/>
                </a:lnTo>
                <a:lnTo>
                  <a:pt x="2067" y="481"/>
                </a:lnTo>
                <a:lnTo>
                  <a:pt x="2049" y="485"/>
                </a:lnTo>
                <a:lnTo>
                  <a:pt x="2049" y="485"/>
                </a:lnTo>
                <a:lnTo>
                  <a:pt x="2039" y="488"/>
                </a:lnTo>
                <a:lnTo>
                  <a:pt x="2032" y="492"/>
                </a:lnTo>
                <a:lnTo>
                  <a:pt x="2021" y="503"/>
                </a:lnTo>
                <a:lnTo>
                  <a:pt x="2010" y="520"/>
                </a:lnTo>
                <a:lnTo>
                  <a:pt x="2007" y="538"/>
                </a:lnTo>
                <a:lnTo>
                  <a:pt x="2000" y="570"/>
                </a:lnTo>
                <a:lnTo>
                  <a:pt x="2000" y="585"/>
                </a:lnTo>
                <a:lnTo>
                  <a:pt x="1960" y="552"/>
                </a:lnTo>
                <a:lnTo>
                  <a:pt x="1950" y="563"/>
                </a:lnTo>
                <a:lnTo>
                  <a:pt x="1946" y="592"/>
                </a:lnTo>
                <a:lnTo>
                  <a:pt x="1946" y="592"/>
                </a:lnTo>
                <a:lnTo>
                  <a:pt x="1914" y="606"/>
                </a:lnTo>
                <a:lnTo>
                  <a:pt x="1889" y="624"/>
                </a:lnTo>
                <a:lnTo>
                  <a:pt x="1882" y="631"/>
                </a:lnTo>
                <a:lnTo>
                  <a:pt x="1878" y="642"/>
                </a:lnTo>
                <a:lnTo>
                  <a:pt x="1861" y="645"/>
                </a:lnTo>
                <a:lnTo>
                  <a:pt x="1846" y="631"/>
                </a:lnTo>
                <a:lnTo>
                  <a:pt x="1846" y="610"/>
                </a:lnTo>
                <a:lnTo>
                  <a:pt x="1846" y="595"/>
                </a:lnTo>
                <a:lnTo>
                  <a:pt x="1839" y="592"/>
                </a:lnTo>
                <a:lnTo>
                  <a:pt x="1825" y="574"/>
                </a:lnTo>
                <a:lnTo>
                  <a:pt x="1825" y="574"/>
                </a:lnTo>
                <a:lnTo>
                  <a:pt x="1836" y="560"/>
                </a:lnTo>
                <a:lnTo>
                  <a:pt x="1846" y="542"/>
                </a:lnTo>
                <a:lnTo>
                  <a:pt x="1857" y="520"/>
                </a:lnTo>
                <a:lnTo>
                  <a:pt x="1864" y="499"/>
                </a:lnTo>
                <a:lnTo>
                  <a:pt x="1864" y="470"/>
                </a:lnTo>
                <a:lnTo>
                  <a:pt x="1864" y="456"/>
                </a:lnTo>
                <a:lnTo>
                  <a:pt x="1857" y="442"/>
                </a:lnTo>
                <a:lnTo>
                  <a:pt x="1846" y="424"/>
                </a:lnTo>
                <a:lnTo>
                  <a:pt x="1836" y="410"/>
                </a:lnTo>
                <a:lnTo>
                  <a:pt x="1821" y="417"/>
                </a:lnTo>
                <a:lnTo>
                  <a:pt x="1807" y="492"/>
                </a:lnTo>
                <a:lnTo>
                  <a:pt x="1807" y="492"/>
                </a:lnTo>
                <a:lnTo>
                  <a:pt x="1796" y="503"/>
                </a:lnTo>
                <a:lnTo>
                  <a:pt x="1771" y="520"/>
                </a:lnTo>
                <a:lnTo>
                  <a:pt x="1764" y="535"/>
                </a:lnTo>
                <a:lnTo>
                  <a:pt x="1764" y="545"/>
                </a:lnTo>
                <a:lnTo>
                  <a:pt x="1768" y="549"/>
                </a:lnTo>
                <a:lnTo>
                  <a:pt x="1771" y="552"/>
                </a:lnTo>
                <a:lnTo>
                  <a:pt x="1793" y="556"/>
                </a:lnTo>
                <a:lnTo>
                  <a:pt x="1793" y="556"/>
                </a:lnTo>
                <a:lnTo>
                  <a:pt x="1796" y="560"/>
                </a:lnTo>
                <a:lnTo>
                  <a:pt x="1807" y="563"/>
                </a:lnTo>
                <a:lnTo>
                  <a:pt x="1807" y="570"/>
                </a:lnTo>
                <a:lnTo>
                  <a:pt x="1803" y="574"/>
                </a:lnTo>
                <a:lnTo>
                  <a:pt x="1800" y="581"/>
                </a:lnTo>
                <a:lnTo>
                  <a:pt x="1789" y="588"/>
                </a:lnTo>
                <a:lnTo>
                  <a:pt x="1789" y="588"/>
                </a:lnTo>
                <a:lnTo>
                  <a:pt x="1771" y="613"/>
                </a:lnTo>
                <a:lnTo>
                  <a:pt x="1764" y="627"/>
                </a:lnTo>
                <a:lnTo>
                  <a:pt x="1761" y="638"/>
                </a:lnTo>
                <a:lnTo>
                  <a:pt x="1761" y="642"/>
                </a:lnTo>
                <a:lnTo>
                  <a:pt x="1750" y="642"/>
                </a:lnTo>
                <a:lnTo>
                  <a:pt x="1721" y="617"/>
                </a:lnTo>
                <a:lnTo>
                  <a:pt x="1721" y="617"/>
                </a:lnTo>
                <a:lnTo>
                  <a:pt x="1714" y="606"/>
                </a:lnTo>
                <a:lnTo>
                  <a:pt x="1707" y="599"/>
                </a:lnTo>
                <a:lnTo>
                  <a:pt x="1697" y="592"/>
                </a:lnTo>
                <a:lnTo>
                  <a:pt x="1686" y="592"/>
                </a:lnTo>
                <a:lnTo>
                  <a:pt x="1682" y="592"/>
                </a:lnTo>
                <a:lnTo>
                  <a:pt x="1675" y="599"/>
                </a:lnTo>
                <a:lnTo>
                  <a:pt x="1668" y="613"/>
                </a:lnTo>
                <a:lnTo>
                  <a:pt x="1661" y="645"/>
                </a:lnTo>
                <a:lnTo>
                  <a:pt x="1615" y="585"/>
                </a:lnTo>
                <a:lnTo>
                  <a:pt x="1615" y="585"/>
                </a:lnTo>
                <a:lnTo>
                  <a:pt x="1607" y="585"/>
                </a:lnTo>
                <a:lnTo>
                  <a:pt x="1590" y="585"/>
                </a:lnTo>
                <a:lnTo>
                  <a:pt x="1579" y="588"/>
                </a:lnTo>
                <a:lnTo>
                  <a:pt x="1568" y="592"/>
                </a:lnTo>
                <a:lnTo>
                  <a:pt x="1561" y="602"/>
                </a:lnTo>
                <a:lnTo>
                  <a:pt x="1561" y="617"/>
                </a:lnTo>
                <a:lnTo>
                  <a:pt x="1565" y="638"/>
                </a:lnTo>
                <a:lnTo>
                  <a:pt x="1575" y="677"/>
                </a:lnTo>
                <a:lnTo>
                  <a:pt x="1575" y="677"/>
                </a:lnTo>
                <a:lnTo>
                  <a:pt x="1582" y="684"/>
                </a:lnTo>
                <a:lnTo>
                  <a:pt x="1590" y="692"/>
                </a:lnTo>
                <a:lnTo>
                  <a:pt x="1597" y="699"/>
                </a:lnTo>
                <a:lnTo>
                  <a:pt x="1597" y="709"/>
                </a:lnTo>
                <a:lnTo>
                  <a:pt x="1593" y="720"/>
                </a:lnTo>
                <a:lnTo>
                  <a:pt x="1575" y="727"/>
                </a:lnTo>
                <a:lnTo>
                  <a:pt x="1547" y="734"/>
                </a:lnTo>
                <a:lnTo>
                  <a:pt x="1550" y="756"/>
                </a:lnTo>
                <a:lnTo>
                  <a:pt x="1550" y="756"/>
                </a:lnTo>
                <a:lnTo>
                  <a:pt x="1561" y="766"/>
                </a:lnTo>
                <a:lnTo>
                  <a:pt x="1572" y="777"/>
                </a:lnTo>
                <a:lnTo>
                  <a:pt x="1582" y="791"/>
                </a:lnTo>
                <a:lnTo>
                  <a:pt x="1586" y="806"/>
                </a:lnTo>
                <a:lnTo>
                  <a:pt x="1586" y="827"/>
                </a:lnTo>
                <a:lnTo>
                  <a:pt x="1582" y="838"/>
                </a:lnTo>
                <a:lnTo>
                  <a:pt x="1579" y="848"/>
                </a:lnTo>
                <a:lnTo>
                  <a:pt x="1572" y="859"/>
                </a:lnTo>
                <a:lnTo>
                  <a:pt x="1561" y="870"/>
                </a:lnTo>
                <a:lnTo>
                  <a:pt x="1561" y="870"/>
                </a:lnTo>
                <a:lnTo>
                  <a:pt x="1550" y="873"/>
                </a:lnTo>
                <a:lnTo>
                  <a:pt x="1533" y="880"/>
                </a:lnTo>
                <a:lnTo>
                  <a:pt x="1518" y="888"/>
                </a:lnTo>
                <a:lnTo>
                  <a:pt x="1511" y="898"/>
                </a:lnTo>
                <a:lnTo>
                  <a:pt x="1500" y="905"/>
                </a:lnTo>
                <a:lnTo>
                  <a:pt x="1497" y="920"/>
                </a:lnTo>
                <a:lnTo>
                  <a:pt x="1497" y="920"/>
                </a:lnTo>
                <a:lnTo>
                  <a:pt x="1486" y="909"/>
                </a:lnTo>
                <a:lnTo>
                  <a:pt x="1451" y="891"/>
                </a:lnTo>
                <a:lnTo>
                  <a:pt x="1433" y="884"/>
                </a:lnTo>
                <a:lnTo>
                  <a:pt x="1411" y="877"/>
                </a:lnTo>
                <a:lnTo>
                  <a:pt x="1390" y="873"/>
                </a:lnTo>
                <a:lnTo>
                  <a:pt x="1376" y="877"/>
                </a:lnTo>
                <a:lnTo>
                  <a:pt x="1376" y="877"/>
                </a:lnTo>
                <a:lnTo>
                  <a:pt x="1372" y="898"/>
                </a:lnTo>
                <a:lnTo>
                  <a:pt x="1372" y="916"/>
                </a:lnTo>
                <a:lnTo>
                  <a:pt x="1369" y="937"/>
                </a:lnTo>
                <a:lnTo>
                  <a:pt x="1361" y="952"/>
                </a:lnTo>
                <a:lnTo>
                  <a:pt x="1354" y="955"/>
                </a:lnTo>
                <a:lnTo>
                  <a:pt x="1351" y="955"/>
                </a:lnTo>
                <a:lnTo>
                  <a:pt x="1344" y="952"/>
                </a:lnTo>
                <a:lnTo>
                  <a:pt x="1333" y="945"/>
                </a:lnTo>
                <a:lnTo>
                  <a:pt x="1315" y="916"/>
                </a:lnTo>
                <a:lnTo>
                  <a:pt x="1315" y="916"/>
                </a:lnTo>
                <a:lnTo>
                  <a:pt x="1297" y="895"/>
                </a:lnTo>
                <a:lnTo>
                  <a:pt x="1279" y="880"/>
                </a:lnTo>
                <a:lnTo>
                  <a:pt x="1272" y="873"/>
                </a:lnTo>
                <a:lnTo>
                  <a:pt x="1262" y="870"/>
                </a:lnTo>
                <a:lnTo>
                  <a:pt x="1258" y="852"/>
                </a:lnTo>
                <a:lnTo>
                  <a:pt x="1258" y="852"/>
                </a:lnTo>
                <a:lnTo>
                  <a:pt x="1226" y="848"/>
                </a:lnTo>
                <a:lnTo>
                  <a:pt x="1205" y="848"/>
                </a:lnTo>
                <a:lnTo>
                  <a:pt x="1197" y="852"/>
                </a:lnTo>
                <a:lnTo>
                  <a:pt x="1190" y="855"/>
                </a:lnTo>
                <a:lnTo>
                  <a:pt x="1190" y="855"/>
                </a:lnTo>
                <a:lnTo>
                  <a:pt x="1187" y="888"/>
                </a:lnTo>
                <a:lnTo>
                  <a:pt x="1183" y="909"/>
                </a:lnTo>
                <a:lnTo>
                  <a:pt x="1133" y="895"/>
                </a:lnTo>
                <a:lnTo>
                  <a:pt x="1133" y="895"/>
                </a:lnTo>
                <a:lnTo>
                  <a:pt x="1140" y="888"/>
                </a:lnTo>
                <a:lnTo>
                  <a:pt x="1144" y="877"/>
                </a:lnTo>
                <a:lnTo>
                  <a:pt x="1151" y="863"/>
                </a:lnTo>
                <a:lnTo>
                  <a:pt x="1151" y="845"/>
                </a:lnTo>
                <a:lnTo>
                  <a:pt x="1151" y="827"/>
                </a:lnTo>
                <a:lnTo>
                  <a:pt x="1144" y="809"/>
                </a:lnTo>
                <a:lnTo>
                  <a:pt x="1126" y="791"/>
                </a:lnTo>
                <a:lnTo>
                  <a:pt x="1126" y="791"/>
                </a:lnTo>
                <a:lnTo>
                  <a:pt x="1080" y="745"/>
                </a:lnTo>
                <a:lnTo>
                  <a:pt x="1069" y="734"/>
                </a:lnTo>
                <a:lnTo>
                  <a:pt x="1055" y="713"/>
                </a:lnTo>
                <a:lnTo>
                  <a:pt x="1030" y="713"/>
                </a:lnTo>
                <a:lnTo>
                  <a:pt x="1016" y="781"/>
                </a:lnTo>
                <a:lnTo>
                  <a:pt x="1016" y="781"/>
                </a:lnTo>
                <a:lnTo>
                  <a:pt x="1016" y="791"/>
                </a:lnTo>
                <a:lnTo>
                  <a:pt x="1012" y="820"/>
                </a:lnTo>
                <a:lnTo>
                  <a:pt x="1009" y="834"/>
                </a:lnTo>
                <a:lnTo>
                  <a:pt x="1001" y="845"/>
                </a:lnTo>
                <a:lnTo>
                  <a:pt x="994" y="852"/>
                </a:lnTo>
                <a:lnTo>
                  <a:pt x="987" y="852"/>
                </a:lnTo>
                <a:lnTo>
                  <a:pt x="987" y="852"/>
                </a:lnTo>
                <a:lnTo>
                  <a:pt x="948" y="845"/>
                </a:lnTo>
                <a:lnTo>
                  <a:pt x="916" y="834"/>
                </a:lnTo>
                <a:lnTo>
                  <a:pt x="884" y="823"/>
                </a:lnTo>
                <a:lnTo>
                  <a:pt x="852" y="809"/>
                </a:lnTo>
                <a:lnTo>
                  <a:pt x="820" y="791"/>
                </a:lnTo>
                <a:lnTo>
                  <a:pt x="795" y="766"/>
                </a:lnTo>
                <a:lnTo>
                  <a:pt x="784" y="752"/>
                </a:lnTo>
                <a:lnTo>
                  <a:pt x="777" y="738"/>
                </a:lnTo>
                <a:lnTo>
                  <a:pt x="777" y="738"/>
                </a:lnTo>
                <a:lnTo>
                  <a:pt x="741" y="720"/>
                </a:lnTo>
                <a:lnTo>
                  <a:pt x="709" y="706"/>
                </a:lnTo>
                <a:lnTo>
                  <a:pt x="684" y="699"/>
                </a:lnTo>
                <a:lnTo>
                  <a:pt x="684" y="699"/>
                </a:lnTo>
                <a:lnTo>
                  <a:pt x="673" y="692"/>
                </a:lnTo>
                <a:lnTo>
                  <a:pt x="648" y="667"/>
                </a:lnTo>
                <a:lnTo>
                  <a:pt x="631" y="649"/>
                </a:lnTo>
                <a:lnTo>
                  <a:pt x="613" y="627"/>
                </a:lnTo>
                <a:lnTo>
                  <a:pt x="595" y="599"/>
                </a:lnTo>
                <a:lnTo>
                  <a:pt x="581" y="570"/>
                </a:lnTo>
                <a:lnTo>
                  <a:pt x="581" y="570"/>
                </a:lnTo>
                <a:lnTo>
                  <a:pt x="538" y="478"/>
                </a:lnTo>
                <a:lnTo>
                  <a:pt x="538" y="478"/>
                </a:lnTo>
                <a:lnTo>
                  <a:pt x="542" y="467"/>
                </a:lnTo>
                <a:lnTo>
                  <a:pt x="542" y="449"/>
                </a:lnTo>
                <a:lnTo>
                  <a:pt x="542" y="435"/>
                </a:lnTo>
                <a:lnTo>
                  <a:pt x="534" y="417"/>
                </a:lnTo>
                <a:lnTo>
                  <a:pt x="524" y="399"/>
                </a:lnTo>
                <a:lnTo>
                  <a:pt x="506" y="385"/>
                </a:lnTo>
                <a:lnTo>
                  <a:pt x="495" y="378"/>
                </a:lnTo>
                <a:lnTo>
                  <a:pt x="481" y="374"/>
                </a:lnTo>
                <a:lnTo>
                  <a:pt x="481" y="374"/>
                </a:lnTo>
                <a:lnTo>
                  <a:pt x="477" y="374"/>
                </a:lnTo>
                <a:lnTo>
                  <a:pt x="463" y="367"/>
                </a:lnTo>
                <a:lnTo>
                  <a:pt x="460" y="360"/>
                </a:lnTo>
                <a:lnTo>
                  <a:pt x="452" y="349"/>
                </a:lnTo>
                <a:lnTo>
                  <a:pt x="449" y="339"/>
                </a:lnTo>
                <a:lnTo>
                  <a:pt x="449" y="324"/>
                </a:lnTo>
                <a:lnTo>
                  <a:pt x="449" y="324"/>
                </a:lnTo>
                <a:lnTo>
                  <a:pt x="452" y="285"/>
                </a:lnTo>
                <a:lnTo>
                  <a:pt x="449" y="264"/>
                </a:lnTo>
                <a:lnTo>
                  <a:pt x="445" y="242"/>
                </a:lnTo>
                <a:lnTo>
                  <a:pt x="438" y="225"/>
                </a:lnTo>
                <a:lnTo>
                  <a:pt x="427" y="210"/>
                </a:lnTo>
                <a:lnTo>
                  <a:pt x="420" y="207"/>
                </a:lnTo>
                <a:lnTo>
                  <a:pt x="410" y="203"/>
                </a:lnTo>
                <a:lnTo>
                  <a:pt x="399" y="203"/>
                </a:lnTo>
                <a:lnTo>
                  <a:pt x="388" y="203"/>
                </a:lnTo>
                <a:lnTo>
                  <a:pt x="388" y="203"/>
                </a:lnTo>
                <a:lnTo>
                  <a:pt x="363" y="207"/>
                </a:lnTo>
                <a:lnTo>
                  <a:pt x="338" y="207"/>
                </a:lnTo>
                <a:lnTo>
                  <a:pt x="317" y="203"/>
                </a:lnTo>
                <a:lnTo>
                  <a:pt x="296" y="200"/>
                </a:lnTo>
                <a:lnTo>
                  <a:pt x="267" y="189"/>
                </a:lnTo>
                <a:lnTo>
                  <a:pt x="256" y="185"/>
                </a:lnTo>
                <a:lnTo>
                  <a:pt x="256" y="185"/>
                </a:lnTo>
                <a:lnTo>
                  <a:pt x="249" y="175"/>
                </a:lnTo>
                <a:lnTo>
                  <a:pt x="235" y="157"/>
                </a:lnTo>
                <a:lnTo>
                  <a:pt x="224" y="150"/>
                </a:lnTo>
                <a:lnTo>
                  <a:pt x="214" y="146"/>
                </a:lnTo>
                <a:lnTo>
                  <a:pt x="199" y="150"/>
                </a:lnTo>
                <a:lnTo>
                  <a:pt x="185" y="164"/>
                </a:lnTo>
                <a:lnTo>
                  <a:pt x="185" y="164"/>
                </a:lnTo>
                <a:lnTo>
                  <a:pt x="164" y="192"/>
                </a:lnTo>
                <a:lnTo>
                  <a:pt x="149" y="203"/>
                </a:lnTo>
                <a:lnTo>
                  <a:pt x="139" y="210"/>
                </a:lnTo>
                <a:lnTo>
                  <a:pt x="139" y="210"/>
                </a:lnTo>
                <a:lnTo>
                  <a:pt x="149" y="239"/>
                </a:lnTo>
                <a:lnTo>
                  <a:pt x="139" y="253"/>
                </a:lnTo>
                <a:lnTo>
                  <a:pt x="142" y="296"/>
                </a:lnTo>
                <a:lnTo>
                  <a:pt x="57" y="317"/>
                </a:lnTo>
                <a:lnTo>
                  <a:pt x="57" y="317"/>
                </a:lnTo>
                <a:lnTo>
                  <a:pt x="50" y="321"/>
                </a:lnTo>
                <a:lnTo>
                  <a:pt x="35" y="331"/>
                </a:lnTo>
                <a:lnTo>
                  <a:pt x="28" y="342"/>
                </a:lnTo>
                <a:lnTo>
                  <a:pt x="25" y="353"/>
                </a:lnTo>
                <a:lnTo>
                  <a:pt x="25" y="371"/>
                </a:lnTo>
                <a:lnTo>
                  <a:pt x="32" y="389"/>
                </a:lnTo>
                <a:lnTo>
                  <a:pt x="32" y="389"/>
                </a:lnTo>
                <a:lnTo>
                  <a:pt x="39" y="410"/>
                </a:lnTo>
                <a:lnTo>
                  <a:pt x="42" y="424"/>
                </a:lnTo>
                <a:lnTo>
                  <a:pt x="42" y="449"/>
                </a:lnTo>
                <a:lnTo>
                  <a:pt x="39" y="467"/>
                </a:lnTo>
                <a:lnTo>
                  <a:pt x="35" y="470"/>
                </a:lnTo>
                <a:lnTo>
                  <a:pt x="78" y="478"/>
                </a:lnTo>
                <a:lnTo>
                  <a:pt x="92" y="528"/>
                </a:lnTo>
                <a:lnTo>
                  <a:pt x="157" y="552"/>
                </a:lnTo>
                <a:lnTo>
                  <a:pt x="157" y="552"/>
                </a:lnTo>
                <a:lnTo>
                  <a:pt x="160" y="556"/>
                </a:lnTo>
                <a:lnTo>
                  <a:pt x="157" y="563"/>
                </a:lnTo>
                <a:lnTo>
                  <a:pt x="157" y="570"/>
                </a:lnTo>
                <a:lnTo>
                  <a:pt x="149" y="574"/>
                </a:lnTo>
                <a:lnTo>
                  <a:pt x="142" y="581"/>
                </a:lnTo>
                <a:lnTo>
                  <a:pt x="128" y="585"/>
                </a:lnTo>
                <a:lnTo>
                  <a:pt x="114" y="610"/>
                </a:lnTo>
                <a:lnTo>
                  <a:pt x="114" y="610"/>
                </a:lnTo>
                <a:lnTo>
                  <a:pt x="114" y="620"/>
                </a:lnTo>
                <a:lnTo>
                  <a:pt x="103" y="642"/>
                </a:lnTo>
                <a:lnTo>
                  <a:pt x="96" y="656"/>
                </a:lnTo>
                <a:lnTo>
                  <a:pt x="85" y="667"/>
                </a:lnTo>
                <a:lnTo>
                  <a:pt x="71" y="681"/>
                </a:lnTo>
                <a:lnTo>
                  <a:pt x="53" y="688"/>
                </a:lnTo>
                <a:lnTo>
                  <a:pt x="99" y="720"/>
                </a:lnTo>
                <a:lnTo>
                  <a:pt x="99" y="720"/>
                </a:lnTo>
                <a:lnTo>
                  <a:pt x="99" y="724"/>
                </a:lnTo>
                <a:lnTo>
                  <a:pt x="96" y="734"/>
                </a:lnTo>
                <a:lnTo>
                  <a:pt x="85" y="749"/>
                </a:lnTo>
                <a:lnTo>
                  <a:pt x="60" y="770"/>
                </a:lnTo>
                <a:lnTo>
                  <a:pt x="60" y="770"/>
                </a:lnTo>
                <a:lnTo>
                  <a:pt x="17" y="798"/>
                </a:lnTo>
                <a:lnTo>
                  <a:pt x="7" y="806"/>
                </a:lnTo>
                <a:lnTo>
                  <a:pt x="7" y="806"/>
                </a:lnTo>
                <a:lnTo>
                  <a:pt x="3" y="813"/>
                </a:lnTo>
                <a:lnTo>
                  <a:pt x="0" y="823"/>
                </a:lnTo>
                <a:lnTo>
                  <a:pt x="0" y="838"/>
                </a:lnTo>
                <a:lnTo>
                  <a:pt x="3" y="855"/>
                </a:lnTo>
                <a:lnTo>
                  <a:pt x="14" y="877"/>
                </a:lnTo>
                <a:lnTo>
                  <a:pt x="35" y="902"/>
                </a:lnTo>
                <a:lnTo>
                  <a:pt x="67" y="927"/>
                </a:lnTo>
                <a:lnTo>
                  <a:pt x="67" y="927"/>
                </a:lnTo>
                <a:lnTo>
                  <a:pt x="135" y="977"/>
                </a:lnTo>
                <a:lnTo>
                  <a:pt x="185" y="1009"/>
                </a:lnTo>
                <a:lnTo>
                  <a:pt x="224" y="1027"/>
                </a:lnTo>
                <a:lnTo>
                  <a:pt x="260" y="1034"/>
                </a:lnTo>
                <a:lnTo>
                  <a:pt x="260" y="1034"/>
                </a:lnTo>
                <a:lnTo>
                  <a:pt x="292" y="1044"/>
                </a:lnTo>
                <a:lnTo>
                  <a:pt x="306" y="1052"/>
                </a:lnTo>
                <a:lnTo>
                  <a:pt x="320" y="1059"/>
                </a:lnTo>
                <a:lnTo>
                  <a:pt x="335" y="1073"/>
                </a:lnTo>
                <a:lnTo>
                  <a:pt x="345" y="1087"/>
                </a:lnTo>
                <a:lnTo>
                  <a:pt x="353" y="1109"/>
                </a:lnTo>
                <a:lnTo>
                  <a:pt x="360" y="1134"/>
                </a:lnTo>
                <a:lnTo>
                  <a:pt x="360" y="1134"/>
                </a:lnTo>
                <a:lnTo>
                  <a:pt x="367" y="1148"/>
                </a:lnTo>
                <a:lnTo>
                  <a:pt x="381" y="1176"/>
                </a:lnTo>
                <a:lnTo>
                  <a:pt x="402" y="1208"/>
                </a:lnTo>
                <a:lnTo>
                  <a:pt x="417" y="1219"/>
                </a:lnTo>
                <a:lnTo>
                  <a:pt x="431" y="1230"/>
                </a:lnTo>
                <a:lnTo>
                  <a:pt x="431" y="1230"/>
                </a:lnTo>
                <a:lnTo>
                  <a:pt x="438" y="1237"/>
                </a:lnTo>
                <a:lnTo>
                  <a:pt x="445" y="1255"/>
                </a:lnTo>
                <a:lnTo>
                  <a:pt x="449" y="1269"/>
                </a:lnTo>
                <a:lnTo>
                  <a:pt x="449" y="1280"/>
                </a:lnTo>
                <a:lnTo>
                  <a:pt x="445" y="1294"/>
                </a:lnTo>
                <a:lnTo>
                  <a:pt x="438" y="1308"/>
                </a:lnTo>
                <a:lnTo>
                  <a:pt x="481" y="1369"/>
                </a:lnTo>
                <a:lnTo>
                  <a:pt x="517" y="1415"/>
                </a:lnTo>
                <a:lnTo>
                  <a:pt x="591" y="1490"/>
                </a:lnTo>
                <a:lnTo>
                  <a:pt x="652" y="1536"/>
                </a:lnTo>
                <a:lnTo>
                  <a:pt x="652" y="1536"/>
                </a:lnTo>
                <a:lnTo>
                  <a:pt x="652" y="1543"/>
                </a:lnTo>
                <a:lnTo>
                  <a:pt x="652" y="1561"/>
                </a:lnTo>
                <a:lnTo>
                  <a:pt x="645" y="1576"/>
                </a:lnTo>
                <a:lnTo>
                  <a:pt x="638" y="1586"/>
                </a:lnTo>
                <a:lnTo>
                  <a:pt x="624" y="1597"/>
                </a:lnTo>
                <a:lnTo>
                  <a:pt x="606" y="1608"/>
                </a:lnTo>
                <a:lnTo>
                  <a:pt x="570" y="1583"/>
                </a:lnTo>
                <a:lnTo>
                  <a:pt x="570" y="1583"/>
                </a:lnTo>
                <a:lnTo>
                  <a:pt x="563" y="1583"/>
                </a:lnTo>
                <a:lnTo>
                  <a:pt x="559" y="1583"/>
                </a:lnTo>
                <a:lnTo>
                  <a:pt x="552" y="1586"/>
                </a:lnTo>
                <a:lnTo>
                  <a:pt x="545" y="1593"/>
                </a:lnTo>
                <a:lnTo>
                  <a:pt x="542" y="1604"/>
                </a:lnTo>
                <a:lnTo>
                  <a:pt x="538" y="1618"/>
                </a:lnTo>
                <a:lnTo>
                  <a:pt x="542" y="1640"/>
                </a:lnTo>
                <a:lnTo>
                  <a:pt x="588" y="1675"/>
                </a:lnTo>
                <a:lnTo>
                  <a:pt x="595" y="1722"/>
                </a:lnTo>
                <a:lnTo>
                  <a:pt x="595" y="1722"/>
                </a:lnTo>
                <a:lnTo>
                  <a:pt x="602" y="1725"/>
                </a:lnTo>
                <a:lnTo>
                  <a:pt x="620" y="1736"/>
                </a:lnTo>
                <a:lnTo>
                  <a:pt x="627" y="1747"/>
                </a:lnTo>
                <a:lnTo>
                  <a:pt x="631" y="1757"/>
                </a:lnTo>
                <a:lnTo>
                  <a:pt x="634" y="1768"/>
                </a:lnTo>
                <a:lnTo>
                  <a:pt x="627" y="1782"/>
                </a:lnTo>
                <a:lnTo>
                  <a:pt x="641" y="1807"/>
                </a:lnTo>
                <a:lnTo>
                  <a:pt x="688" y="1846"/>
                </a:lnTo>
                <a:lnTo>
                  <a:pt x="688" y="1846"/>
                </a:lnTo>
                <a:lnTo>
                  <a:pt x="691" y="1850"/>
                </a:lnTo>
                <a:lnTo>
                  <a:pt x="691" y="1861"/>
                </a:lnTo>
                <a:lnTo>
                  <a:pt x="691" y="1882"/>
                </a:lnTo>
                <a:lnTo>
                  <a:pt x="688" y="1896"/>
                </a:lnTo>
                <a:lnTo>
                  <a:pt x="681" y="1911"/>
                </a:lnTo>
                <a:lnTo>
                  <a:pt x="695" y="1953"/>
                </a:lnTo>
                <a:lnTo>
                  <a:pt x="705" y="2043"/>
                </a:lnTo>
                <a:lnTo>
                  <a:pt x="720" y="2128"/>
                </a:lnTo>
                <a:lnTo>
                  <a:pt x="755" y="2253"/>
                </a:lnTo>
                <a:lnTo>
                  <a:pt x="755" y="2253"/>
                </a:lnTo>
                <a:lnTo>
                  <a:pt x="755" y="2260"/>
                </a:lnTo>
                <a:lnTo>
                  <a:pt x="755" y="2281"/>
                </a:lnTo>
                <a:lnTo>
                  <a:pt x="748" y="2321"/>
                </a:lnTo>
                <a:lnTo>
                  <a:pt x="741" y="2342"/>
                </a:lnTo>
                <a:lnTo>
                  <a:pt x="730" y="2371"/>
                </a:lnTo>
                <a:lnTo>
                  <a:pt x="741" y="2456"/>
                </a:lnTo>
                <a:lnTo>
                  <a:pt x="763" y="2570"/>
                </a:lnTo>
                <a:lnTo>
                  <a:pt x="763" y="2570"/>
                </a:lnTo>
                <a:lnTo>
                  <a:pt x="770" y="2581"/>
                </a:lnTo>
                <a:lnTo>
                  <a:pt x="780" y="2592"/>
                </a:lnTo>
                <a:lnTo>
                  <a:pt x="787" y="2609"/>
                </a:lnTo>
                <a:lnTo>
                  <a:pt x="795" y="2631"/>
                </a:lnTo>
                <a:lnTo>
                  <a:pt x="798" y="2656"/>
                </a:lnTo>
                <a:lnTo>
                  <a:pt x="798" y="2688"/>
                </a:lnTo>
                <a:lnTo>
                  <a:pt x="791" y="2723"/>
                </a:lnTo>
                <a:lnTo>
                  <a:pt x="791" y="2723"/>
                </a:lnTo>
                <a:lnTo>
                  <a:pt x="791" y="2748"/>
                </a:lnTo>
                <a:lnTo>
                  <a:pt x="791" y="2805"/>
                </a:lnTo>
                <a:lnTo>
                  <a:pt x="795" y="2845"/>
                </a:lnTo>
                <a:lnTo>
                  <a:pt x="802" y="2880"/>
                </a:lnTo>
                <a:lnTo>
                  <a:pt x="812" y="2916"/>
                </a:lnTo>
                <a:lnTo>
                  <a:pt x="827" y="2944"/>
                </a:lnTo>
                <a:lnTo>
                  <a:pt x="823" y="3044"/>
                </a:lnTo>
                <a:lnTo>
                  <a:pt x="862" y="3069"/>
                </a:lnTo>
                <a:lnTo>
                  <a:pt x="891" y="3126"/>
                </a:lnTo>
                <a:lnTo>
                  <a:pt x="916" y="3133"/>
                </a:lnTo>
                <a:lnTo>
                  <a:pt x="927" y="3112"/>
                </a:lnTo>
                <a:lnTo>
                  <a:pt x="927" y="3037"/>
                </a:lnTo>
                <a:lnTo>
                  <a:pt x="927" y="3037"/>
                </a:lnTo>
                <a:lnTo>
                  <a:pt x="937" y="3030"/>
                </a:lnTo>
                <a:lnTo>
                  <a:pt x="944" y="3026"/>
                </a:lnTo>
                <a:lnTo>
                  <a:pt x="948" y="3019"/>
                </a:lnTo>
                <a:lnTo>
                  <a:pt x="948" y="3019"/>
                </a:lnTo>
                <a:lnTo>
                  <a:pt x="948" y="2991"/>
                </a:lnTo>
                <a:lnTo>
                  <a:pt x="934" y="2948"/>
                </a:lnTo>
                <a:lnTo>
                  <a:pt x="980" y="2912"/>
                </a:lnTo>
                <a:lnTo>
                  <a:pt x="994" y="2884"/>
                </a:lnTo>
                <a:lnTo>
                  <a:pt x="1012" y="2823"/>
                </a:lnTo>
                <a:lnTo>
                  <a:pt x="1062" y="2788"/>
                </a:lnTo>
                <a:lnTo>
                  <a:pt x="1066" y="2841"/>
                </a:lnTo>
                <a:lnTo>
                  <a:pt x="1066" y="2841"/>
                </a:lnTo>
                <a:lnTo>
                  <a:pt x="1087" y="2855"/>
                </a:lnTo>
                <a:lnTo>
                  <a:pt x="1108" y="2866"/>
                </a:lnTo>
                <a:lnTo>
                  <a:pt x="1130" y="2877"/>
                </a:lnTo>
                <a:lnTo>
                  <a:pt x="1126" y="2916"/>
                </a:lnTo>
                <a:lnTo>
                  <a:pt x="1126" y="2916"/>
                </a:lnTo>
                <a:lnTo>
                  <a:pt x="1133" y="2916"/>
                </a:lnTo>
                <a:lnTo>
                  <a:pt x="1140" y="2916"/>
                </a:lnTo>
                <a:lnTo>
                  <a:pt x="1151" y="2919"/>
                </a:lnTo>
                <a:lnTo>
                  <a:pt x="1162" y="2927"/>
                </a:lnTo>
                <a:lnTo>
                  <a:pt x="1172" y="2937"/>
                </a:lnTo>
                <a:lnTo>
                  <a:pt x="1180" y="2955"/>
                </a:lnTo>
                <a:lnTo>
                  <a:pt x="1183" y="2980"/>
                </a:lnTo>
                <a:lnTo>
                  <a:pt x="1183" y="2980"/>
                </a:lnTo>
                <a:lnTo>
                  <a:pt x="1187" y="2991"/>
                </a:lnTo>
                <a:lnTo>
                  <a:pt x="1201" y="3012"/>
                </a:lnTo>
                <a:lnTo>
                  <a:pt x="1208" y="3023"/>
                </a:lnTo>
                <a:lnTo>
                  <a:pt x="1219" y="3030"/>
                </a:lnTo>
                <a:lnTo>
                  <a:pt x="1230" y="3037"/>
                </a:lnTo>
                <a:lnTo>
                  <a:pt x="1244" y="3041"/>
                </a:lnTo>
                <a:lnTo>
                  <a:pt x="1244" y="3041"/>
                </a:lnTo>
                <a:lnTo>
                  <a:pt x="1247" y="3048"/>
                </a:lnTo>
                <a:lnTo>
                  <a:pt x="1254" y="3062"/>
                </a:lnTo>
                <a:lnTo>
                  <a:pt x="1254" y="3073"/>
                </a:lnTo>
                <a:lnTo>
                  <a:pt x="1251" y="3087"/>
                </a:lnTo>
                <a:lnTo>
                  <a:pt x="1247" y="3101"/>
                </a:lnTo>
                <a:lnTo>
                  <a:pt x="1233" y="3116"/>
                </a:lnTo>
                <a:lnTo>
                  <a:pt x="1233" y="3116"/>
                </a:lnTo>
                <a:lnTo>
                  <a:pt x="1212" y="3144"/>
                </a:lnTo>
                <a:lnTo>
                  <a:pt x="1205" y="3155"/>
                </a:lnTo>
                <a:lnTo>
                  <a:pt x="1205" y="3165"/>
                </a:lnTo>
                <a:lnTo>
                  <a:pt x="1208" y="3176"/>
                </a:lnTo>
                <a:lnTo>
                  <a:pt x="1215" y="3190"/>
                </a:lnTo>
                <a:lnTo>
                  <a:pt x="1247" y="3226"/>
                </a:lnTo>
                <a:lnTo>
                  <a:pt x="1247" y="3226"/>
                </a:lnTo>
                <a:lnTo>
                  <a:pt x="1279" y="3258"/>
                </a:lnTo>
                <a:lnTo>
                  <a:pt x="1301" y="3272"/>
                </a:lnTo>
                <a:lnTo>
                  <a:pt x="1312" y="3276"/>
                </a:lnTo>
                <a:lnTo>
                  <a:pt x="1312" y="3272"/>
                </a:lnTo>
                <a:lnTo>
                  <a:pt x="1322" y="3297"/>
                </a:lnTo>
                <a:lnTo>
                  <a:pt x="1326" y="3337"/>
                </a:lnTo>
                <a:lnTo>
                  <a:pt x="1326" y="3337"/>
                </a:lnTo>
                <a:lnTo>
                  <a:pt x="1326" y="3344"/>
                </a:lnTo>
                <a:lnTo>
                  <a:pt x="1329" y="3347"/>
                </a:lnTo>
                <a:lnTo>
                  <a:pt x="1336" y="3351"/>
                </a:lnTo>
                <a:lnTo>
                  <a:pt x="1344" y="3351"/>
                </a:lnTo>
                <a:lnTo>
                  <a:pt x="1351" y="3347"/>
                </a:lnTo>
                <a:lnTo>
                  <a:pt x="1361" y="3333"/>
                </a:lnTo>
                <a:lnTo>
                  <a:pt x="1379" y="3312"/>
                </a:lnTo>
                <a:lnTo>
                  <a:pt x="1379" y="3312"/>
                </a:lnTo>
                <a:lnTo>
                  <a:pt x="1394" y="3290"/>
                </a:lnTo>
                <a:lnTo>
                  <a:pt x="1404" y="3280"/>
                </a:lnTo>
                <a:lnTo>
                  <a:pt x="1411" y="3272"/>
                </a:lnTo>
                <a:lnTo>
                  <a:pt x="1418" y="3276"/>
                </a:lnTo>
                <a:lnTo>
                  <a:pt x="1426" y="3280"/>
                </a:lnTo>
                <a:lnTo>
                  <a:pt x="1429" y="3287"/>
                </a:lnTo>
                <a:lnTo>
                  <a:pt x="1440" y="3308"/>
                </a:lnTo>
                <a:lnTo>
                  <a:pt x="1500" y="3258"/>
                </a:lnTo>
                <a:lnTo>
                  <a:pt x="1518" y="3294"/>
                </a:lnTo>
                <a:lnTo>
                  <a:pt x="1536" y="3329"/>
                </a:lnTo>
                <a:lnTo>
                  <a:pt x="1536" y="3386"/>
                </a:lnTo>
                <a:lnTo>
                  <a:pt x="1565" y="3383"/>
                </a:lnTo>
                <a:lnTo>
                  <a:pt x="1590" y="3426"/>
                </a:lnTo>
                <a:lnTo>
                  <a:pt x="1590" y="3458"/>
                </a:lnTo>
                <a:lnTo>
                  <a:pt x="1622" y="3468"/>
                </a:lnTo>
                <a:lnTo>
                  <a:pt x="1622" y="3468"/>
                </a:lnTo>
                <a:lnTo>
                  <a:pt x="1632" y="3476"/>
                </a:lnTo>
                <a:lnTo>
                  <a:pt x="1647" y="3486"/>
                </a:lnTo>
                <a:lnTo>
                  <a:pt x="1657" y="3501"/>
                </a:lnTo>
                <a:lnTo>
                  <a:pt x="1668" y="3518"/>
                </a:lnTo>
                <a:lnTo>
                  <a:pt x="1675" y="3540"/>
                </a:lnTo>
                <a:lnTo>
                  <a:pt x="1679" y="3561"/>
                </a:lnTo>
                <a:lnTo>
                  <a:pt x="1675" y="3572"/>
                </a:lnTo>
                <a:lnTo>
                  <a:pt x="1672" y="3586"/>
                </a:lnTo>
                <a:lnTo>
                  <a:pt x="1672" y="3586"/>
                </a:lnTo>
                <a:lnTo>
                  <a:pt x="1682" y="3586"/>
                </a:lnTo>
                <a:lnTo>
                  <a:pt x="1693" y="3586"/>
                </a:lnTo>
                <a:lnTo>
                  <a:pt x="1707" y="3590"/>
                </a:lnTo>
                <a:lnTo>
                  <a:pt x="1718" y="3600"/>
                </a:lnTo>
                <a:lnTo>
                  <a:pt x="1725" y="3615"/>
                </a:lnTo>
                <a:lnTo>
                  <a:pt x="1729" y="3636"/>
                </a:lnTo>
                <a:lnTo>
                  <a:pt x="1725" y="3668"/>
                </a:lnTo>
                <a:lnTo>
                  <a:pt x="1779" y="3711"/>
                </a:lnTo>
                <a:lnTo>
                  <a:pt x="1782" y="3736"/>
                </a:lnTo>
                <a:lnTo>
                  <a:pt x="1846" y="3750"/>
                </a:lnTo>
                <a:lnTo>
                  <a:pt x="1843" y="3818"/>
                </a:lnTo>
                <a:lnTo>
                  <a:pt x="1853" y="3832"/>
                </a:lnTo>
                <a:lnTo>
                  <a:pt x="1893" y="3800"/>
                </a:lnTo>
                <a:lnTo>
                  <a:pt x="1893" y="3800"/>
                </a:lnTo>
                <a:lnTo>
                  <a:pt x="1896" y="3807"/>
                </a:lnTo>
                <a:lnTo>
                  <a:pt x="1900" y="3828"/>
                </a:lnTo>
                <a:lnTo>
                  <a:pt x="1900" y="3843"/>
                </a:lnTo>
                <a:lnTo>
                  <a:pt x="1896" y="3857"/>
                </a:lnTo>
                <a:lnTo>
                  <a:pt x="1889" y="3871"/>
                </a:lnTo>
                <a:lnTo>
                  <a:pt x="1878" y="3882"/>
                </a:lnTo>
                <a:lnTo>
                  <a:pt x="1878" y="3882"/>
                </a:lnTo>
                <a:lnTo>
                  <a:pt x="1857" y="3900"/>
                </a:lnTo>
                <a:lnTo>
                  <a:pt x="1850" y="3907"/>
                </a:lnTo>
                <a:lnTo>
                  <a:pt x="1846" y="3918"/>
                </a:lnTo>
                <a:lnTo>
                  <a:pt x="1846" y="3921"/>
                </a:lnTo>
                <a:lnTo>
                  <a:pt x="1853" y="3928"/>
                </a:lnTo>
                <a:lnTo>
                  <a:pt x="1861" y="3935"/>
                </a:lnTo>
                <a:lnTo>
                  <a:pt x="1878" y="3939"/>
                </a:lnTo>
                <a:lnTo>
                  <a:pt x="1878" y="3939"/>
                </a:lnTo>
                <a:lnTo>
                  <a:pt x="1893" y="3943"/>
                </a:lnTo>
                <a:lnTo>
                  <a:pt x="1910" y="3946"/>
                </a:lnTo>
                <a:lnTo>
                  <a:pt x="1925" y="3950"/>
                </a:lnTo>
                <a:lnTo>
                  <a:pt x="1943" y="3960"/>
                </a:lnTo>
                <a:lnTo>
                  <a:pt x="1957" y="3975"/>
                </a:lnTo>
                <a:lnTo>
                  <a:pt x="1960" y="3982"/>
                </a:lnTo>
                <a:lnTo>
                  <a:pt x="1964" y="3992"/>
                </a:lnTo>
                <a:lnTo>
                  <a:pt x="1967" y="4007"/>
                </a:lnTo>
                <a:lnTo>
                  <a:pt x="1964" y="4017"/>
                </a:lnTo>
                <a:lnTo>
                  <a:pt x="1964" y="4017"/>
                </a:lnTo>
                <a:lnTo>
                  <a:pt x="1953" y="4025"/>
                </a:lnTo>
                <a:lnTo>
                  <a:pt x="1943" y="4028"/>
                </a:lnTo>
                <a:lnTo>
                  <a:pt x="1935" y="4035"/>
                </a:lnTo>
                <a:lnTo>
                  <a:pt x="1935" y="4039"/>
                </a:lnTo>
                <a:lnTo>
                  <a:pt x="1935" y="4042"/>
                </a:lnTo>
                <a:lnTo>
                  <a:pt x="1946" y="4057"/>
                </a:lnTo>
                <a:lnTo>
                  <a:pt x="1967" y="4067"/>
                </a:lnTo>
                <a:lnTo>
                  <a:pt x="2010" y="4082"/>
                </a:lnTo>
                <a:lnTo>
                  <a:pt x="2007" y="4082"/>
                </a:lnTo>
                <a:close/>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Box 42"/>
          <p:cNvSpPr/>
          <p:nvPr/>
        </p:nvSpPr>
        <p:spPr>
          <a:xfrm>
            <a:off x="692280" y="1463760"/>
            <a:ext cx="35719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本平台农产品基地将通过</a:t>
            </a:r>
            <a:r>
              <a:rPr b="1" lang="zh-CN" sz="1200" spc="-1" strike="noStrike">
                <a:solidFill>
                  <a:srgbClr val="dc9f0b"/>
                </a:solidFill>
                <a:latin typeface="微软雅黑"/>
                <a:ea typeface="微软雅黑"/>
              </a:rPr>
              <a:t>四川农村日报</a:t>
            </a:r>
            <a:r>
              <a:rPr b="0" lang="zh-CN" sz="1200" spc="-1" strike="noStrike">
                <a:solidFill>
                  <a:srgbClr val="217435"/>
                </a:solidFill>
                <a:latin typeface="微软雅黑"/>
                <a:ea typeface="微软雅黑"/>
              </a:rPr>
              <a:t>以及</a:t>
            </a:r>
            <a:r>
              <a:rPr b="1" lang="zh-CN" sz="1200" spc="-1" strike="noStrike">
                <a:solidFill>
                  <a:srgbClr val="dc9f0b"/>
                </a:solidFill>
                <a:latin typeface="微软雅黑"/>
                <a:ea typeface="微软雅黑"/>
              </a:rPr>
              <a:t>各当地政府</a:t>
            </a:r>
            <a:r>
              <a:rPr b="0" lang="zh-CN" sz="1200" spc="-1" strike="noStrike">
                <a:solidFill>
                  <a:srgbClr val="217435"/>
                </a:solidFill>
                <a:latin typeface="微软雅黑"/>
                <a:ea typeface="微软雅黑"/>
              </a:rPr>
              <a:t>的力量进行筛选和组合，比传统的基地整合方式，有显著的时间、成本和可信度优势。</a:t>
            </a:r>
            <a:endParaRPr b="0" lang="en-US" sz="1200" spc="-1" strike="noStrike">
              <a:solidFill>
                <a:srgbClr val="000000"/>
              </a:solidFill>
              <a:latin typeface="Arial"/>
            </a:endParaRPr>
          </a:p>
        </p:txBody>
      </p:sp>
      <p:sp>
        <p:nvSpPr>
          <p:cNvPr id="95" name="TextBox 161"/>
          <p:cNvSpPr/>
          <p:nvPr/>
        </p:nvSpPr>
        <p:spPr>
          <a:xfrm>
            <a:off x="4888080" y="3833640"/>
            <a:ext cx="35082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借助媒体以及当地政府的力量，同时通过整合有机资格认证、各类扶持基金申报等基地需求的配套资源，从而在发展初期能够较好地稳定产品供应。</a:t>
            </a:r>
            <a:endParaRPr b="0" lang="en-US" sz="1200" spc="-1" strike="noStrike">
              <a:solidFill>
                <a:srgbClr val="000000"/>
              </a:solidFill>
              <a:latin typeface="Arial"/>
            </a:endParaRPr>
          </a:p>
        </p:txBody>
      </p:sp>
      <p:sp>
        <p:nvSpPr>
          <p:cNvPr id="96" name="TextBox 156"/>
          <p:cNvSpPr/>
          <p:nvPr/>
        </p:nvSpPr>
        <p:spPr>
          <a:xfrm>
            <a:off x="4888080" y="2043000"/>
            <a:ext cx="35082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平台战略协议合作伙伴。省级唯一农业类机关报，发行遍及全省</a:t>
            </a:r>
            <a:r>
              <a:rPr b="0" lang="en-US" sz="1200" spc="-1" strike="noStrike">
                <a:solidFill>
                  <a:srgbClr val="217435"/>
                </a:solidFill>
                <a:latin typeface="微软雅黑"/>
                <a:ea typeface="微软雅黑"/>
              </a:rPr>
              <a:t>180</a:t>
            </a:r>
            <a:r>
              <a:rPr b="0" lang="zh-CN" sz="1200" spc="-1" strike="noStrike">
                <a:solidFill>
                  <a:srgbClr val="217435"/>
                </a:solidFill>
                <a:latin typeface="微软雅黑"/>
                <a:ea typeface="微软雅黑"/>
              </a:rPr>
              <a:t>个区市县，近</a:t>
            </a:r>
            <a:r>
              <a:rPr b="0" lang="en-US" sz="1200" spc="-1" strike="noStrike">
                <a:solidFill>
                  <a:srgbClr val="217435"/>
                </a:solidFill>
                <a:latin typeface="微软雅黑"/>
                <a:ea typeface="微软雅黑"/>
              </a:rPr>
              <a:t>40</a:t>
            </a:r>
            <a:r>
              <a:rPr b="0" lang="zh-CN" sz="1200" spc="-1" strike="noStrike">
                <a:solidFill>
                  <a:srgbClr val="217435"/>
                </a:solidFill>
                <a:latin typeface="微软雅黑"/>
                <a:ea typeface="微软雅黑"/>
              </a:rPr>
              <a:t>万份。有</a:t>
            </a:r>
            <a:r>
              <a:rPr b="0" lang="en-US" sz="1200" spc="-1" strike="noStrike">
                <a:solidFill>
                  <a:srgbClr val="217435"/>
                </a:solidFill>
                <a:latin typeface="微软雅黑"/>
                <a:ea typeface="微软雅黑"/>
              </a:rPr>
              <a:t>100</a:t>
            </a:r>
            <a:r>
              <a:rPr b="0" lang="zh-CN" sz="1200" spc="-1" strike="noStrike">
                <a:solidFill>
                  <a:srgbClr val="217435"/>
                </a:solidFill>
                <a:latin typeface="微软雅黑"/>
                <a:ea typeface="微软雅黑"/>
              </a:rPr>
              <a:t>多位当地政府职员作为特约通讯员，为平台搭建了一个深入地方的信息传送及落地网络</a:t>
            </a:r>
            <a:r>
              <a:rPr b="0" lang="zh-CN" sz="1400" spc="-1" strike="noStrike">
                <a:solidFill>
                  <a:srgbClr val="217435"/>
                </a:solidFill>
                <a:latin typeface="微软雅黑"/>
                <a:ea typeface="微软雅黑"/>
              </a:rPr>
              <a:t>。</a:t>
            </a:r>
            <a:endParaRPr b="0" lang="en-US" sz="1400" spc="-1" strike="noStrike">
              <a:solidFill>
                <a:srgbClr val="000000"/>
              </a:solidFill>
              <a:latin typeface="Arial"/>
            </a:endParaRPr>
          </a:p>
        </p:txBody>
      </p:sp>
      <p:sp>
        <p:nvSpPr>
          <p:cNvPr id="97" name="圆角矩形 154"/>
          <p:cNvSpPr/>
          <p:nvPr/>
        </p:nvSpPr>
        <p:spPr>
          <a:xfrm>
            <a:off x="4888080" y="1574640"/>
            <a:ext cx="2476440" cy="50508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c9f0b"/>
                </a:solidFill>
                <a:latin typeface="微软雅黑"/>
                <a:ea typeface="微软雅黑"/>
              </a:rPr>
              <a:t>四川农村日报</a:t>
            </a:r>
            <a:endParaRPr b="0" lang="en-US" sz="1600" spc="-1" strike="noStrike">
              <a:solidFill>
                <a:srgbClr val="000000"/>
              </a:solidFill>
              <a:latin typeface="Arial"/>
            </a:endParaRPr>
          </a:p>
        </p:txBody>
      </p:sp>
      <p:sp>
        <p:nvSpPr>
          <p:cNvPr id="98" name="圆角矩形 155"/>
          <p:cNvSpPr/>
          <p:nvPr/>
        </p:nvSpPr>
        <p:spPr>
          <a:xfrm>
            <a:off x="4888080" y="3330720"/>
            <a:ext cx="2476440" cy="50292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c9f0b"/>
                </a:solidFill>
                <a:latin typeface="微软雅黑"/>
                <a:ea typeface="微软雅黑"/>
              </a:rPr>
              <a:t>各市县镇政府</a:t>
            </a:r>
            <a:endParaRPr b="0" lang="en-US" sz="1600" spc="-1" strike="noStrike">
              <a:solidFill>
                <a:srgbClr val="000000"/>
              </a:solidFill>
              <a:latin typeface="Arial"/>
            </a:endParaRPr>
          </a:p>
        </p:txBody>
      </p:sp>
      <p:sp>
        <p:nvSpPr>
          <p:cNvPr id="99"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平台优势介绍</a:t>
            </a:r>
            <a:endParaRPr b="0" lang="en-US" sz="2400" spc="-1" strike="noStrike">
              <a:solidFill>
                <a:srgbClr val="000000"/>
              </a:solidFill>
              <a:latin typeface="Arial"/>
            </a:endParaRPr>
          </a:p>
        </p:txBody>
      </p:sp>
      <p:sp>
        <p:nvSpPr>
          <p:cNvPr id="100" name="直接连接符 41"/>
          <p:cNvSpPr/>
          <p:nvPr/>
        </p:nvSpPr>
        <p:spPr>
          <a:xfrm flipV="1">
            <a:off x="692280" y="1437840"/>
            <a:ext cx="7767360" cy="12600"/>
          </a:xfrm>
          <a:prstGeom prst="line">
            <a:avLst/>
          </a:prstGeom>
          <a:ln w="9360">
            <a:solidFill>
              <a:srgbClr val="dc9f0b"/>
            </a:solidFill>
            <a:miter/>
            <a:headEnd len="med" type="oval"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 name="直接连接符 45"/>
          <p:cNvSpPr/>
          <p:nvPr/>
        </p:nvSpPr>
        <p:spPr>
          <a:xfrm>
            <a:off x="4888080" y="2043000"/>
            <a:ext cx="3571560" cy="0"/>
          </a:xfrm>
          <a:prstGeom prst="line">
            <a:avLst/>
          </a:prstGeom>
          <a:ln w="9360">
            <a:solidFill>
              <a:srgbClr val="dc9f0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直接连接符 47"/>
          <p:cNvSpPr/>
          <p:nvPr/>
        </p:nvSpPr>
        <p:spPr>
          <a:xfrm>
            <a:off x="4888080" y="3794040"/>
            <a:ext cx="3571560" cy="0"/>
          </a:xfrm>
          <a:prstGeom prst="line">
            <a:avLst/>
          </a:prstGeom>
          <a:ln w="9360">
            <a:solidFill>
              <a:srgbClr val="dc9f0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圆角矩形 12"/>
          <p:cNvSpPr/>
          <p:nvPr/>
        </p:nvSpPr>
        <p:spPr>
          <a:xfrm>
            <a:off x="692280" y="987480"/>
            <a:ext cx="274140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基地资源</a:t>
            </a:r>
            <a:endParaRPr b="0" lang="en-US" sz="20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104"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平台优势介绍</a:t>
            </a:r>
            <a:endParaRPr b="0" lang="en-US" sz="2400" spc="-1" strike="noStrike">
              <a:solidFill>
                <a:srgbClr val="000000"/>
              </a:solidFill>
              <a:latin typeface="Arial"/>
            </a:endParaRPr>
          </a:p>
        </p:txBody>
      </p:sp>
      <p:sp>
        <p:nvSpPr>
          <p:cNvPr id="105" name="直接连接符 3"/>
          <p:cNvSpPr/>
          <p:nvPr/>
        </p:nvSpPr>
        <p:spPr>
          <a:xfrm>
            <a:off x="692280" y="145080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 name="TextBox 4"/>
          <p:cNvSpPr/>
          <p:nvPr/>
        </p:nvSpPr>
        <p:spPr>
          <a:xfrm>
            <a:off x="692280" y="1488960"/>
            <a:ext cx="77040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在与基地和合作中，除了产品流通以外，平台还组织了服务于基地的技术、基金申报等资源以稳固合作关系。技术主要来自四川省农科院和由以色列商会引进的以色列先进农业技术，相关扶持基金申报由农科院牵头，分别协助各个基地向其对口的扶持单位进行资料报送等。</a:t>
            </a:r>
            <a:endParaRPr b="0" lang="en-US" sz="1200" spc="-1" strike="noStrike">
              <a:solidFill>
                <a:srgbClr val="000000"/>
              </a:solidFill>
              <a:latin typeface="Arial"/>
            </a:endParaRPr>
          </a:p>
        </p:txBody>
      </p:sp>
      <p:pic>
        <p:nvPicPr>
          <p:cNvPr id="107" name="图片 6" descr=""/>
          <p:cNvPicPr/>
          <p:nvPr/>
        </p:nvPicPr>
        <p:blipFill>
          <a:blip r:embed="rId1"/>
          <a:stretch/>
        </p:blipFill>
        <p:spPr>
          <a:xfrm>
            <a:off x="763560" y="2832120"/>
            <a:ext cx="1413000" cy="2041560"/>
          </a:xfrm>
          <a:prstGeom prst="rect">
            <a:avLst/>
          </a:prstGeom>
          <a:ln w="0">
            <a:noFill/>
          </a:ln>
        </p:spPr>
      </p:pic>
      <p:pic>
        <p:nvPicPr>
          <p:cNvPr id="108" name="图片 8" descr=""/>
          <p:cNvPicPr/>
          <p:nvPr/>
        </p:nvPicPr>
        <p:blipFill>
          <a:blip r:embed="rId2"/>
          <a:stretch/>
        </p:blipFill>
        <p:spPr>
          <a:xfrm>
            <a:off x="3757680" y="2832120"/>
            <a:ext cx="1412640" cy="2041560"/>
          </a:xfrm>
          <a:prstGeom prst="rect">
            <a:avLst/>
          </a:prstGeom>
          <a:ln w="0">
            <a:noFill/>
          </a:ln>
        </p:spPr>
      </p:pic>
      <p:pic>
        <p:nvPicPr>
          <p:cNvPr id="109" name="图片 10" descr=""/>
          <p:cNvPicPr/>
          <p:nvPr/>
        </p:nvPicPr>
        <p:blipFill>
          <a:blip r:embed="rId3"/>
          <a:stretch/>
        </p:blipFill>
        <p:spPr>
          <a:xfrm>
            <a:off x="2259000" y="2832120"/>
            <a:ext cx="1413000" cy="2041560"/>
          </a:xfrm>
          <a:prstGeom prst="rect">
            <a:avLst/>
          </a:prstGeom>
          <a:ln w="0">
            <a:noFill/>
          </a:ln>
        </p:spPr>
      </p:pic>
      <p:pic>
        <p:nvPicPr>
          <p:cNvPr id="110" name="图片 12" descr=""/>
          <p:cNvPicPr/>
          <p:nvPr/>
        </p:nvPicPr>
        <p:blipFill>
          <a:blip r:embed="rId4"/>
          <a:stretch/>
        </p:blipFill>
        <p:spPr>
          <a:xfrm>
            <a:off x="5257800" y="2832120"/>
            <a:ext cx="1413000" cy="2041560"/>
          </a:xfrm>
          <a:prstGeom prst="rect">
            <a:avLst/>
          </a:prstGeom>
          <a:ln w="0">
            <a:noFill/>
          </a:ln>
        </p:spPr>
      </p:pic>
      <p:pic>
        <p:nvPicPr>
          <p:cNvPr id="111" name="图片 13" descr=""/>
          <p:cNvPicPr/>
          <p:nvPr/>
        </p:nvPicPr>
        <p:blipFill>
          <a:blip r:embed="rId5"/>
          <a:stretch/>
        </p:blipFill>
        <p:spPr>
          <a:xfrm>
            <a:off x="6759720" y="2833560"/>
            <a:ext cx="1412640" cy="2040120"/>
          </a:xfrm>
          <a:prstGeom prst="rect">
            <a:avLst/>
          </a:prstGeom>
          <a:ln w="0">
            <a:noFill/>
          </a:ln>
        </p:spPr>
      </p:pic>
      <p:sp>
        <p:nvSpPr>
          <p:cNvPr id="112" name="圆角矩形 11"/>
          <p:cNvSpPr/>
          <p:nvPr/>
        </p:nvSpPr>
        <p:spPr>
          <a:xfrm>
            <a:off x="692280" y="987480"/>
            <a:ext cx="274140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配套资源</a:t>
            </a:r>
            <a:endParaRPr b="0" lang="en-US" sz="20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grpSp>
        <p:nvGrpSpPr>
          <p:cNvPr id="113" name=""/>
          <p:cNvGrpSpPr/>
          <p:nvPr/>
        </p:nvGrpSpPr>
        <p:grpSpPr>
          <a:xfrm>
            <a:off x="755640" y="1692360"/>
            <a:ext cx="2930400" cy="2965320"/>
            <a:chOff x="755640" y="1692360"/>
            <a:chExt cx="2930400" cy="2965320"/>
          </a:xfrm>
        </p:grpSpPr>
        <p:sp>
          <p:nvSpPr>
            <p:cNvPr id="114" name="矩形 1"/>
            <p:cNvSpPr/>
            <p:nvPr/>
          </p:nvSpPr>
          <p:spPr>
            <a:xfrm>
              <a:off x="755640" y="1701360"/>
              <a:ext cx="914400" cy="914400"/>
            </a:xfrm>
            <a:prstGeom prst="rect">
              <a:avLst/>
            </a:prstGeom>
            <a:solidFill>
              <a:srgbClr val="217435"/>
            </a:soli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2"/>
            <p:cNvSpPr/>
            <p:nvPr/>
          </p:nvSpPr>
          <p:spPr>
            <a:xfrm>
              <a:off x="1763640" y="1692360"/>
              <a:ext cx="914400" cy="914400"/>
            </a:xfrm>
            <a:prstGeom prst="rect">
              <a:avLst/>
            </a:prstGeom>
            <a:solidFill>
              <a:srgbClr val="31ae50"/>
            </a:soli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3"/>
            <p:cNvSpPr/>
            <p:nvPr/>
          </p:nvSpPr>
          <p:spPr>
            <a:xfrm>
              <a:off x="2771640" y="1701360"/>
              <a:ext cx="914400" cy="914400"/>
            </a:xfrm>
            <a:prstGeom prst="rect">
              <a:avLst/>
            </a:prstGeom>
            <a:solidFill>
              <a:srgbClr val="217435"/>
            </a:soli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4"/>
            <p:cNvSpPr/>
            <p:nvPr/>
          </p:nvSpPr>
          <p:spPr>
            <a:xfrm>
              <a:off x="755640" y="2734920"/>
              <a:ext cx="914400" cy="914400"/>
            </a:xfrm>
            <a:prstGeom prst="rect">
              <a:avLst/>
            </a:prstGeom>
            <a:solidFill>
              <a:srgbClr val="ffc000"/>
            </a:soli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5"/>
            <p:cNvSpPr/>
            <p:nvPr/>
          </p:nvSpPr>
          <p:spPr>
            <a:xfrm>
              <a:off x="1763640" y="2734920"/>
              <a:ext cx="914400" cy="914400"/>
            </a:xfrm>
            <a:prstGeom prst="rect">
              <a:avLst/>
            </a:prstGeom>
            <a:solidFill>
              <a:srgbClr val="217435"/>
            </a:soli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6"/>
            <p:cNvSpPr/>
            <p:nvPr/>
          </p:nvSpPr>
          <p:spPr>
            <a:xfrm>
              <a:off x="2771640" y="2734920"/>
              <a:ext cx="914400" cy="914400"/>
            </a:xfrm>
            <a:prstGeom prst="rect">
              <a:avLst/>
            </a:prstGeom>
            <a:solidFill>
              <a:srgbClr val="9be2ad"/>
            </a:soli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7"/>
            <p:cNvSpPr/>
            <p:nvPr/>
          </p:nvSpPr>
          <p:spPr>
            <a:xfrm>
              <a:off x="755640" y="3743280"/>
              <a:ext cx="914400" cy="914400"/>
            </a:xfrm>
            <a:prstGeom prst="rect">
              <a:avLst/>
            </a:prstGeom>
            <a:solidFill>
              <a:srgbClr val="217435"/>
            </a:soli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8"/>
            <p:cNvSpPr/>
            <p:nvPr/>
          </p:nvSpPr>
          <p:spPr>
            <a:xfrm>
              <a:off x="1763640" y="3743280"/>
              <a:ext cx="914400" cy="914400"/>
            </a:xfrm>
            <a:prstGeom prst="rect">
              <a:avLst/>
            </a:prstGeom>
            <a:solidFill>
              <a:srgbClr val="217435"/>
            </a:soli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9"/>
            <p:cNvSpPr/>
            <p:nvPr/>
          </p:nvSpPr>
          <p:spPr>
            <a:xfrm>
              <a:off x="2771640" y="3743280"/>
              <a:ext cx="914400" cy="914400"/>
            </a:xfrm>
            <a:prstGeom prst="rect">
              <a:avLst/>
            </a:prstGeom>
            <a:solidFill>
              <a:srgbClr val="217435"/>
            </a:soli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图片 11" descr=""/>
            <p:cNvPicPr/>
            <p:nvPr/>
          </p:nvPicPr>
          <p:blipFill>
            <a:blip r:embed="rId1"/>
            <a:stretch/>
          </p:blipFill>
          <p:spPr>
            <a:xfrm>
              <a:off x="755640" y="1692360"/>
              <a:ext cx="914400" cy="923760"/>
            </a:xfrm>
            <a:prstGeom prst="rect">
              <a:avLst/>
            </a:prstGeom>
            <a:ln w="0">
              <a:noFill/>
            </a:ln>
          </p:spPr>
        </p:pic>
        <p:pic>
          <p:nvPicPr>
            <p:cNvPr id="124" name="图片 12" descr=""/>
            <p:cNvPicPr/>
            <p:nvPr/>
          </p:nvPicPr>
          <p:blipFill>
            <a:blip r:embed="rId2"/>
            <a:stretch/>
          </p:blipFill>
          <p:spPr>
            <a:xfrm>
              <a:off x="2771640" y="1692360"/>
              <a:ext cx="914400" cy="922680"/>
            </a:xfrm>
            <a:prstGeom prst="rect">
              <a:avLst/>
            </a:prstGeom>
            <a:ln w="0">
              <a:noFill/>
            </a:ln>
          </p:spPr>
        </p:pic>
        <p:pic>
          <p:nvPicPr>
            <p:cNvPr id="125" name="图片 13" descr=""/>
            <p:cNvPicPr/>
            <p:nvPr/>
          </p:nvPicPr>
          <p:blipFill>
            <a:blip r:embed="rId3"/>
            <a:stretch/>
          </p:blipFill>
          <p:spPr>
            <a:xfrm>
              <a:off x="1763640" y="2734920"/>
              <a:ext cx="914400" cy="914400"/>
            </a:xfrm>
            <a:prstGeom prst="rect">
              <a:avLst/>
            </a:prstGeom>
            <a:ln w="0">
              <a:noFill/>
            </a:ln>
          </p:spPr>
        </p:pic>
        <p:pic>
          <p:nvPicPr>
            <p:cNvPr id="126" name="图片 14" descr=""/>
            <p:cNvPicPr/>
            <p:nvPr/>
          </p:nvPicPr>
          <p:blipFill>
            <a:blip r:embed="rId4"/>
            <a:stretch/>
          </p:blipFill>
          <p:spPr>
            <a:xfrm>
              <a:off x="755640" y="3743280"/>
              <a:ext cx="914400" cy="914400"/>
            </a:xfrm>
            <a:prstGeom prst="rect">
              <a:avLst/>
            </a:prstGeom>
            <a:ln w="0">
              <a:noFill/>
            </a:ln>
          </p:spPr>
        </p:pic>
        <p:pic>
          <p:nvPicPr>
            <p:cNvPr id="127" name="图片 15" descr=""/>
            <p:cNvPicPr/>
            <p:nvPr/>
          </p:nvPicPr>
          <p:blipFill>
            <a:blip r:embed="rId5"/>
            <a:stretch/>
          </p:blipFill>
          <p:spPr>
            <a:xfrm>
              <a:off x="2771640" y="3743280"/>
              <a:ext cx="914400" cy="914400"/>
            </a:xfrm>
            <a:prstGeom prst="rect">
              <a:avLst/>
            </a:prstGeom>
            <a:ln w="0">
              <a:noFill/>
            </a:ln>
          </p:spPr>
        </p:pic>
      </p:grpSp>
      <p:sp>
        <p:nvSpPr>
          <p:cNvPr id="128"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全程质量控制体系</a:t>
            </a:r>
            <a:endParaRPr b="0" lang="en-US" sz="2400" spc="-1" strike="noStrike">
              <a:solidFill>
                <a:srgbClr val="000000"/>
              </a:solidFill>
              <a:latin typeface="Arial"/>
            </a:endParaRPr>
          </a:p>
        </p:txBody>
      </p:sp>
      <p:sp>
        <p:nvSpPr>
          <p:cNvPr id="129" name="线形标注 2(带强调线) 2"/>
          <p:cNvSpPr/>
          <p:nvPr/>
        </p:nvSpPr>
        <p:spPr>
          <a:xfrm>
            <a:off x="4716360" y="1523880"/>
            <a:ext cx="3679920" cy="486000"/>
          </a:xfr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平台合作基地需为国家权威机构认证的绿色、无公害及有机生产基地。</a:t>
            </a:r>
            <a:endParaRPr b="0" lang="en-US" sz="1200" spc="-1" strike="noStrike">
              <a:solidFill>
                <a:srgbClr val="000000"/>
              </a:solidFill>
              <a:latin typeface="Arial"/>
            </a:endParaRPr>
          </a:p>
        </p:txBody>
      </p:sp>
      <p:sp>
        <p:nvSpPr>
          <p:cNvPr id="130" name="线形标注 2(带强调线) 3"/>
          <p:cNvSpPr/>
          <p:nvPr/>
        </p:nvSpPr>
        <p:spPr>
          <a:xfrm>
            <a:off x="4713120" y="2162160"/>
            <a:ext cx="3679920" cy="487440"/>
          </a:xfr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产品采购前需抽样检测，顺利通过检测的产品可以安排进货。</a:t>
            </a:r>
            <a:endParaRPr b="0" lang="en-US" sz="1200" spc="-1" strike="noStrike">
              <a:solidFill>
                <a:srgbClr val="000000"/>
              </a:solidFill>
              <a:latin typeface="Arial"/>
            </a:endParaRPr>
          </a:p>
        </p:txBody>
      </p:sp>
      <p:sp>
        <p:nvSpPr>
          <p:cNvPr id="131" name="线形标注 2(带强调线) 4"/>
          <p:cNvSpPr/>
          <p:nvPr/>
        </p:nvSpPr>
        <p:spPr>
          <a:xfrm>
            <a:off x="4716360" y="2801880"/>
            <a:ext cx="3679920" cy="487440"/>
          </a:xfr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已经入库的每批次产品送样到第三方检测中心，由第三方检测合格，出具产品检测报告。</a:t>
            </a:r>
            <a:endParaRPr b="0" lang="en-US" sz="1200" spc="-1" strike="noStrike">
              <a:solidFill>
                <a:srgbClr val="000000"/>
              </a:solidFill>
              <a:latin typeface="Arial"/>
            </a:endParaRPr>
          </a:p>
        </p:txBody>
      </p:sp>
      <p:sp>
        <p:nvSpPr>
          <p:cNvPr id="132" name="线形标注 2(带强调线) 5"/>
          <p:cNvSpPr/>
          <p:nvPr/>
        </p:nvSpPr>
        <p:spPr>
          <a:xfrm>
            <a:off x="4716360" y="3451320"/>
            <a:ext cx="3679920" cy="485640"/>
          </a:xfr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产品配送前进行二次抽样，顺利通过二次抽样后才会安排进入配送流程。</a:t>
            </a:r>
            <a:endParaRPr b="0" lang="en-US" sz="1200" spc="-1" strike="noStrike">
              <a:solidFill>
                <a:srgbClr val="000000"/>
              </a:solidFill>
              <a:latin typeface="Arial"/>
            </a:endParaRPr>
          </a:p>
        </p:txBody>
      </p:sp>
      <p:sp>
        <p:nvSpPr>
          <p:cNvPr id="133" name="线形标注 2(带强调线) 6"/>
          <p:cNvSpPr/>
          <p:nvPr/>
        </p:nvSpPr>
        <p:spPr>
          <a:xfrm>
            <a:off x="4716360" y="4098960"/>
            <a:ext cx="3679920" cy="487440"/>
          </a:xfrm>
          <a:noFill/>
          <a:ln w="15840">
            <a:solidFill>
              <a:srgbClr val="dc9f0b"/>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最终，有机健康安全营养丰富的食品，会经由物流网络送抵千家万户。</a:t>
            </a:r>
            <a:endParaRPr b="0" lang="en-US" sz="12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sp>
        <p:nvSpPr>
          <p:cNvPr id="134"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平台流通产品计划</a:t>
            </a:r>
            <a:endParaRPr b="0" lang="en-US" sz="2400" spc="-1" strike="noStrike">
              <a:solidFill>
                <a:srgbClr val="000000"/>
              </a:solidFill>
              <a:latin typeface="Arial"/>
            </a:endParaRPr>
          </a:p>
        </p:txBody>
      </p:sp>
      <p:sp>
        <p:nvSpPr>
          <p:cNvPr id="135" name="直接连接符 2"/>
          <p:cNvSpPr/>
          <p:nvPr/>
        </p:nvSpPr>
        <p:spPr>
          <a:xfrm>
            <a:off x="692280" y="145080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圆角矩形 4"/>
          <p:cNvSpPr/>
          <p:nvPr/>
        </p:nvSpPr>
        <p:spPr>
          <a:xfrm>
            <a:off x="692280" y="987480"/>
            <a:ext cx="366372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模式划分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团购模式</a:t>
            </a:r>
            <a:endParaRPr b="0" lang="en-US" sz="2000" spc="-1" strike="noStrike">
              <a:solidFill>
                <a:srgbClr val="000000"/>
              </a:solidFill>
              <a:latin typeface="Arial"/>
            </a:endParaRPr>
          </a:p>
        </p:txBody>
      </p:sp>
      <p:sp>
        <p:nvSpPr>
          <p:cNvPr id="137" name="TextBox 5"/>
          <p:cNvSpPr/>
          <p:nvPr/>
        </p:nvSpPr>
        <p:spPr>
          <a:xfrm>
            <a:off x="692280" y="4094280"/>
            <a:ext cx="77040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由于团购模式的以上优势，在平台成立初期，为了降低管理难度，团购销售将是主打模式，但是纯团购模式无法锁定基地，存在着产品提前被其他销售渠道预定以及团购过程中可能存在的价格变动风险，所以团购模式是多批次销售，但每批次产品数量做不到太大，因为会存在基地供货无法跟上的情况，因此平台要逐渐发展后续模式。</a:t>
            </a:r>
            <a:endParaRPr b="0" lang="en-US" sz="1200" spc="-1" strike="noStrike">
              <a:solidFill>
                <a:srgbClr val="000000"/>
              </a:solidFill>
              <a:latin typeface="Arial"/>
            </a:endParaRPr>
          </a:p>
        </p:txBody>
      </p:sp>
      <p:pic>
        <p:nvPicPr>
          <p:cNvPr id="138" name="图片 6" descr=""/>
          <p:cNvPicPr/>
          <p:nvPr/>
        </p:nvPicPr>
        <p:blipFill>
          <a:blip r:embed="rId1"/>
          <a:stretch/>
        </p:blipFill>
        <p:spPr>
          <a:xfrm>
            <a:off x="755640" y="1698480"/>
            <a:ext cx="903240" cy="1303560"/>
          </a:xfrm>
          <a:prstGeom prst="rect">
            <a:avLst/>
          </a:prstGeom>
          <a:ln w="0">
            <a:noFill/>
          </a:ln>
        </p:spPr>
      </p:pic>
      <p:pic>
        <p:nvPicPr>
          <p:cNvPr id="139" name="图片 7" descr=""/>
          <p:cNvPicPr/>
          <p:nvPr/>
        </p:nvPicPr>
        <p:blipFill>
          <a:blip r:embed="rId2"/>
          <a:stretch/>
        </p:blipFill>
        <p:spPr>
          <a:xfrm>
            <a:off x="2771640" y="1994040"/>
            <a:ext cx="893880" cy="1303200"/>
          </a:xfrm>
          <a:prstGeom prst="rect">
            <a:avLst/>
          </a:prstGeom>
          <a:ln w="0">
            <a:noFill/>
          </a:ln>
        </p:spPr>
      </p:pic>
      <p:pic>
        <p:nvPicPr>
          <p:cNvPr id="140" name="图片 8" descr=""/>
          <p:cNvPicPr/>
          <p:nvPr/>
        </p:nvPicPr>
        <p:blipFill>
          <a:blip r:embed="rId3"/>
          <a:stretch/>
        </p:blipFill>
        <p:spPr>
          <a:xfrm>
            <a:off x="1763640" y="2417760"/>
            <a:ext cx="893880" cy="1303200"/>
          </a:xfrm>
          <a:prstGeom prst="rect">
            <a:avLst/>
          </a:prstGeom>
          <a:ln w="0">
            <a:noFill/>
          </a:ln>
        </p:spPr>
      </p:pic>
      <p:sp>
        <p:nvSpPr>
          <p:cNvPr id="141" name="线形标注 1(带强调线) 10"/>
          <p:cNvSpPr/>
          <p:nvPr/>
        </p:nvSpPr>
        <p:spPr>
          <a:xfrm>
            <a:off x="4356000" y="1692360"/>
            <a:ext cx="4040280" cy="473040"/>
          </a:xfrm>
          <a:custGeom>
            <a:avLst/>
            <a:gdLst/>
            <a:ahLst/>
            <a:rect l="l" t="t" r="r" b="b"/>
            <a:pathLst>
              <a:path stroke="0" w="21600" h="21600">
                <a:moveTo>
                  <a:pt x="0" y="0"/>
                </a:moveTo>
                <a:lnTo>
                  <a:pt x="21600" y="0"/>
                </a:lnTo>
                <a:lnTo>
                  <a:pt x="21600" y="21600"/>
                </a:lnTo>
                <a:lnTo>
                  <a:pt x="0" y="21600"/>
                </a:lnTo>
                <a:close/>
              </a:path>
              <a:path w="21600" h="21600">
                <a:moveTo>
                  <a:pt x="-15087" y="5384"/>
                </a:moveTo>
                <a:lnTo>
                  <a:pt x="-570" y="5984"/>
                </a:lnTo>
              </a:path>
              <a:path w="21600" h="21600">
                <a:moveTo>
                  <a:pt x="-570" y="0"/>
                </a:moveTo>
                <a:lnTo>
                  <a:pt x="-570" y="21600"/>
                </a:lnTo>
              </a:path>
            </a:pathLst>
          </a:custGeo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提前付款</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消费者在团购时需要提前支付购货全款，能够最大限度地减少平台的资金积压。</a:t>
            </a:r>
            <a:endParaRPr b="0" lang="en-US" sz="1200" spc="-1" strike="noStrike">
              <a:solidFill>
                <a:srgbClr val="000000"/>
              </a:solidFill>
              <a:latin typeface="Arial"/>
            </a:endParaRPr>
          </a:p>
        </p:txBody>
      </p:sp>
      <p:sp>
        <p:nvSpPr>
          <p:cNvPr id="142" name="直接连接符 11"/>
          <p:cNvSpPr/>
          <p:nvPr/>
        </p:nvSpPr>
        <p:spPr>
          <a:xfrm>
            <a:off x="692280" y="408132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3" name="线形标注 1(带强调线) 12"/>
          <p:cNvSpPr/>
          <p:nvPr/>
        </p:nvSpPr>
        <p:spPr>
          <a:xfrm>
            <a:off x="4341960" y="2335320"/>
            <a:ext cx="4039920" cy="474480"/>
          </a:xfrm>
          <a:custGeom>
            <a:avLst/>
            <a:gdLst/>
            <a:ahLst/>
            <a:rect l="l" t="t" r="r" b="b"/>
            <a:pathLst>
              <a:path stroke="0" w="21600" h="21600">
                <a:moveTo>
                  <a:pt x="0" y="0"/>
                </a:moveTo>
                <a:lnTo>
                  <a:pt x="21600" y="0"/>
                </a:lnTo>
                <a:lnTo>
                  <a:pt x="21600" y="21600"/>
                </a:lnTo>
                <a:lnTo>
                  <a:pt x="0" y="21600"/>
                </a:lnTo>
                <a:close/>
              </a:path>
              <a:path w="21600" h="21600">
                <a:moveTo>
                  <a:pt x="-4101" y="5384"/>
                </a:moveTo>
                <a:lnTo>
                  <a:pt x="-520" y="5554"/>
                </a:lnTo>
              </a:path>
              <a:path w="21600" h="21600">
                <a:moveTo>
                  <a:pt x="-520" y="0"/>
                </a:moveTo>
                <a:lnTo>
                  <a:pt x="-520" y="21600"/>
                </a:lnTo>
              </a:path>
            </a:pathLst>
          </a:custGeo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物流简便</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团购是将一个时间段的订单信息进行汇总，统一从基地进货再统一配送，避免了散单管理的复杂。</a:t>
            </a:r>
            <a:endParaRPr b="0" lang="en-US" sz="1200" spc="-1" strike="noStrike">
              <a:solidFill>
                <a:srgbClr val="000000"/>
              </a:solidFill>
              <a:latin typeface="Arial"/>
            </a:endParaRPr>
          </a:p>
        </p:txBody>
      </p:sp>
      <p:sp>
        <p:nvSpPr>
          <p:cNvPr id="144" name="线形标注 1(带强调线) 13"/>
          <p:cNvSpPr/>
          <p:nvPr/>
        </p:nvSpPr>
        <p:spPr>
          <a:xfrm>
            <a:off x="4341960" y="2982960"/>
            <a:ext cx="4039920" cy="738000"/>
          </a:xfrm>
          <a:custGeom>
            <a:avLst/>
            <a:gdLst/>
            <a:ahLst/>
            <a:rect l="l" t="t" r="r" b="b"/>
            <a:pathLst>
              <a:path stroke="0" w="21600" h="21600">
                <a:moveTo>
                  <a:pt x="0" y="0"/>
                </a:moveTo>
                <a:lnTo>
                  <a:pt x="21600" y="0"/>
                </a:lnTo>
                <a:lnTo>
                  <a:pt x="21600" y="21600"/>
                </a:lnTo>
                <a:lnTo>
                  <a:pt x="0" y="21600"/>
                </a:lnTo>
                <a:close/>
              </a:path>
              <a:path w="21600" h="21600">
                <a:moveTo>
                  <a:pt x="-9493" y="17632"/>
                </a:moveTo>
                <a:lnTo>
                  <a:pt x="-570" y="18078"/>
                </a:lnTo>
              </a:path>
              <a:path w="21600" h="21600">
                <a:moveTo>
                  <a:pt x="-570" y="0"/>
                </a:moveTo>
                <a:lnTo>
                  <a:pt x="-570" y="21600"/>
                </a:lnTo>
              </a:path>
            </a:pathLst>
          </a:custGeo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销量管理</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团购可以限定某款产品销售的最大值，这就可以根据基地某一批产品的产量进行定制，减少了产能与销售匹配的管理难度。</a:t>
            </a:r>
            <a:endParaRPr b="0" lang="en-US" sz="12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pic>
        <p:nvPicPr>
          <p:cNvPr id="145" name="图片 2" descr=""/>
          <p:cNvPicPr/>
          <p:nvPr/>
        </p:nvPicPr>
        <p:blipFill>
          <a:blip r:embed="rId1"/>
          <a:srcRect l="0" t="0" r="-56" b="0"/>
          <a:stretch/>
        </p:blipFill>
        <p:spPr>
          <a:xfrm>
            <a:off x="4861080" y="3936960"/>
            <a:ext cx="647640" cy="649440"/>
          </a:xfrm>
          <a:prstGeom prst="rect">
            <a:avLst/>
          </a:prstGeom>
          <a:ln w="0">
            <a:noFill/>
          </a:ln>
        </p:spPr>
      </p:pic>
      <p:pic>
        <p:nvPicPr>
          <p:cNvPr id="146" name="图片 3" descr=""/>
          <p:cNvPicPr/>
          <p:nvPr/>
        </p:nvPicPr>
        <p:blipFill>
          <a:blip r:embed="rId2"/>
          <a:stretch/>
        </p:blipFill>
        <p:spPr>
          <a:xfrm>
            <a:off x="7021440" y="3936960"/>
            <a:ext cx="647640" cy="649440"/>
          </a:xfrm>
          <a:prstGeom prst="rect">
            <a:avLst/>
          </a:prstGeom>
          <a:ln w="0">
            <a:noFill/>
          </a:ln>
        </p:spPr>
      </p:pic>
      <p:pic>
        <p:nvPicPr>
          <p:cNvPr id="147" name="图片 4" descr=""/>
          <p:cNvPicPr/>
          <p:nvPr/>
        </p:nvPicPr>
        <p:blipFill>
          <a:blip r:embed="rId3"/>
          <a:stretch/>
        </p:blipFill>
        <p:spPr>
          <a:xfrm>
            <a:off x="5581800" y="3216240"/>
            <a:ext cx="647640" cy="647640"/>
          </a:xfrm>
          <a:prstGeom prst="rect">
            <a:avLst/>
          </a:prstGeom>
          <a:ln w="0">
            <a:noFill/>
          </a:ln>
        </p:spPr>
      </p:pic>
      <p:pic>
        <p:nvPicPr>
          <p:cNvPr id="148" name="图片 5" descr=""/>
          <p:cNvPicPr/>
          <p:nvPr/>
        </p:nvPicPr>
        <p:blipFill>
          <a:blip r:embed="rId4"/>
          <a:stretch/>
        </p:blipFill>
        <p:spPr>
          <a:xfrm>
            <a:off x="6300720" y="3216240"/>
            <a:ext cx="647640" cy="647640"/>
          </a:xfrm>
          <a:prstGeom prst="rect">
            <a:avLst/>
          </a:prstGeom>
          <a:ln w="0">
            <a:noFill/>
          </a:ln>
        </p:spPr>
      </p:pic>
      <p:pic>
        <p:nvPicPr>
          <p:cNvPr id="149" name="图片 6" descr=""/>
          <p:cNvPicPr/>
          <p:nvPr/>
        </p:nvPicPr>
        <p:blipFill>
          <a:blip r:embed="rId5"/>
          <a:stretch/>
        </p:blipFill>
        <p:spPr>
          <a:xfrm>
            <a:off x="4861080" y="2495520"/>
            <a:ext cx="647640" cy="649440"/>
          </a:xfrm>
          <a:prstGeom prst="rect">
            <a:avLst/>
          </a:prstGeom>
          <a:ln w="0">
            <a:noFill/>
          </a:ln>
        </p:spPr>
      </p:pic>
      <p:pic>
        <p:nvPicPr>
          <p:cNvPr id="150" name="图片 7" descr=""/>
          <p:cNvPicPr/>
          <p:nvPr/>
        </p:nvPicPr>
        <p:blipFill>
          <a:blip r:embed="rId6"/>
          <a:stretch/>
        </p:blipFill>
        <p:spPr>
          <a:xfrm>
            <a:off x="5581800" y="2495520"/>
            <a:ext cx="647640" cy="649440"/>
          </a:xfrm>
          <a:prstGeom prst="rect">
            <a:avLst/>
          </a:prstGeom>
          <a:ln w="0">
            <a:noFill/>
          </a:ln>
        </p:spPr>
      </p:pic>
      <p:pic>
        <p:nvPicPr>
          <p:cNvPr id="151" name="图片 8" descr=""/>
          <p:cNvPicPr/>
          <p:nvPr/>
        </p:nvPicPr>
        <p:blipFill>
          <a:blip r:embed="rId7"/>
          <a:stretch/>
        </p:blipFill>
        <p:spPr>
          <a:xfrm>
            <a:off x="7748640" y="1776240"/>
            <a:ext cx="647640" cy="648000"/>
          </a:xfrm>
          <a:prstGeom prst="rect">
            <a:avLst/>
          </a:prstGeom>
          <a:ln w="0">
            <a:noFill/>
          </a:ln>
        </p:spPr>
      </p:pic>
      <p:pic>
        <p:nvPicPr>
          <p:cNvPr id="152" name="图片 9" descr=""/>
          <p:cNvPicPr/>
          <p:nvPr/>
        </p:nvPicPr>
        <p:blipFill>
          <a:blip r:embed="rId8"/>
          <a:stretch/>
        </p:blipFill>
        <p:spPr>
          <a:xfrm>
            <a:off x="7748640" y="2495520"/>
            <a:ext cx="647640" cy="649440"/>
          </a:xfrm>
          <a:prstGeom prst="rect">
            <a:avLst/>
          </a:prstGeom>
          <a:ln w="0">
            <a:noFill/>
          </a:ln>
        </p:spPr>
      </p:pic>
      <p:pic>
        <p:nvPicPr>
          <p:cNvPr id="153" name="图片 10" descr=""/>
          <p:cNvPicPr/>
          <p:nvPr/>
        </p:nvPicPr>
        <p:blipFill>
          <a:blip r:embed="rId9"/>
          <a:stretch/>
        </p:blipFill>
        <p:spPr>
          <a:xfrm>
            <a:off x="7021440" y="2495520"/>
            <a:ext cx="646200" cy="649440"/>
          </a:xfrm>
          <a:prstGeom prst="rect">
            <a:avLst/>
          </a:prstGeom>
          <a:ln w="0">
            <a:noFill/>
          </a:ln>
        </p:spPr>
      </p:pic>
      <p:pic>
        <p:nvPicPr>
          <p:cNvPr id="154" name="图片 11" descr=""/>
          <p:cNvPicPr/>
          <p:nvPr/>
        </p:nvPicPr>
        <p:blipFill>
          <a:blip r:embed="rId10"/>
          <a:stretch/>
        </p:blipFill>
        <p:spPr>
          <a:xfrm>
            <a:off x="6300720" y="1776240"/>
            <a:ext cx="647640" cy="648000"/>
          </a:xfrm>
          <a:prstGeom prst="rect">
            <a:avLst/>
          </a:prstGeom>
          <a:ln w="0">
            <a:noFill/>
          </a:ln>
        </p:spPr>
      </p:pic>
      <p:pic>
        <p:nvPicPr>
          <p:cNvPr id="155" name="图片 12" descr=""/>
          <p:cNvPicPr/>
          <p:nvPr/>
        </p:nvPicPr>
        <p:blipFill>
          <a:blip r:embed="rId11"/>
          <a:stretch/>
        </p:blipFill>
        <p:spPr>
          <a:xfrm>
            <a:off x="5581800" y="1052640"/>
            <a:ext cx="647640" cy="652320"/>
          </a:xfrm>
          <a:prstGeom prst="rect">
            <a:avLst/>
          </a:prstGeom>
          <a:ln w="0">
            <a:noFill/>
          </a:ln>
        </p:spPr>
      </p:pic>
      <p:pic>
        <p:nvPicPr>
          <p:cNvPr id="156" name="图片 13" descr=""/>
          <p:cNvPicPr/>
          <p:nvPr/>
        </p:nvPicPr>
        <p:blipFill>
          <a:blip r:embed="rId12"/>
          <a:stretch/>
        </p:blipFill>
        <p:spPr>
          <a:xfrm>
            <a:off x="6300720" y="1057320"/>
            <a:ext cx="647640" cy="649080"/>
          </a:xfrm>
          <a:prstGeom prst="rect">
            <a:avLst/>
          </a:prstGeom>
          <a:ln w="0">
            <a:noFill/>
          </a:ln>
        </p:spPr>
      </p:pic>
      <p:sp>
        <p:nvSpPr>
          <p:cNvPr id="157" name="矩形 14"/>
          <p:cNvSpPr/>
          <p:nvPr/>
        </p:nvSpPr>
        <p:spPr>
          <a:xfrm>
            <a:off x="7748640" y="1057320"/>
            <a:ext cx="647640" cy="649080"/>
          </a:xfrm>
          <a:prstGeom prst="rect">
            <a:avLst/>
          </a:prstGeom>
          <a:solidFill>
            <a:srgbClr val="9be2a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15"/>
          <p:cNvSpPr/>
          <p:nvPr/>
        </p:nvSpPr>
        <p:spPr>
          <a:xfrm>
            <a:off x="7020000" y="1057320"/>
            <a:ext cx="649080" cy="64908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16"/>
          <p:cNvSpPr/>
          <p:nvPr/>
        </p:nvSpPr>
        <p:spPr>
          <a:xfrm>
            <a:off x="7020000" y="1776240"/>
            <a:ext cx="649080" cy="648000"/>
          </a:xfrm>
          <a:prstGeom prst="rect">
            <a:avLst/>
          </a:prstGeom>
          <a:solidFill>
            <a:srgbClr val="31ae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7"/>
          <p:cNvSpPr/>
          <p:nvPr/>
        </p:nvSpPr>
        <p:spPr>
          <a:xfrm>
            <a:off x="7748640" y="3216240"/>
            <a:ext cx="647640" cy="647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18"/>
          <p:cNvSpPr/>
          <p:nvPr/>
        </p:nvSpPr>
        <p:spPr>
          <a:xfrm>
            <a:off x="7748640" y="3936960"/>
            <a:ext cx="647640" cy="64944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19"/>
          <p:cNvSpPr/>
          <p:nvPr/>
        </p:nvSpPr>
        <p:spPr>
          <a:xfrm>
            <a:off x="4861080" y="1057320"/>
            <a:ext cx="647640" cy="649080"/>
          </a:xfrm>
          <a:prstGeom prst="rect">
            <a:avLst/>
          </a:prstGeom>
          <a:solidFill>
            <a:srgbClr val="dc9f0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20"/>
          <p:cNvSpPr/>
          <p:nvPr/>
        </p:nvSpPr>
        <p:spPr>
          <a:xfrm>
            <a:off x="5580000" y="1776240"/>
            <a:ext cx="649440" cy="648000"/>
          </a:xfrm>
          <a:prstGeom prst="rect">
            <a:avLst/>
          </a:prstGeom>
          <a:solidFill>
            <a:srgbClr val="cbe67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21"/>
          <p:cNvSpPr/>
          <p:nvPr/>
        </p:nvSpPr>
        <p:spPr>
          <a:xfrm>
            <a:off x="6300720" y="2495520"/>
            <a:ext cx="647640" cy="64944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22"/>
          <p:cNvSpPr/>
          <p:nvPr/>
        </p:nvSpPr>
        <p:spPr>
          <a:xfrm>
            <a:off x="7020000" y="3216240"/>
            <a:ext cx="649080" cy="64764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矩形 23"/>
          <p:cNvSpPr/>
          <p:nvPr/>
        </p:nvSpPr>
        <p:spPr>
          <a:xfrm>
            <a:off x="6300720" y="3936960"/>
            <a:ext cx="647640" cy="649440"/>
          </a:xfrm>
          <a:prstGeom prst="rect">
            <a:avLst/>
          </a:prstGeom>
          <a:solidFill>
            <a:srgbClr val="bbecc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24"/>
          <p:cNvSpPr/>
          <p:nvPr/>
        </p:nvSpPr>
        <p:spPr>
          <a:xfrm>
            <a:off x="4861080" y="1776240"/>
            <a:ext cx="647640" cy="6480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25"/>
          <p:cNvSpPr/>
          <p:nvPr/>
        </p:nvSpPr>
        <p:spPr>
          <a:xfrm>
            <a:off x="4861080" y="3216240"/>
            <a:ext cx="647640" cy="647640"/>
          </a:xfrm>
          <a:prstGeom prst="rect">
            <a:avLst/>
          </a:prstGeom>
          <a:solidFill>
            <a:srgbClr val="7b9c1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26"/>
          <p:cNvSpPr/>
          <p:nvPr/>
        </p:nvSpPr>
        <p:spPr>
          <a:xfrm>
            <a:off x="5581800" y="3936960"/>
            <a:ext cx="647640" cy="64944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平台流通产品计划</a:t>
            </a:r>
            <a:endParaRPr b="0" lang="en-US" sz="2400" spc="-1" strike="noStrike">
              <a:solidFill>
                <a:srgbClr val="000000"/>
              </a:solidFill>
              <a:latin typeface="Arial"/>
            </a:endParaRPr>
          </a:p>
        </p:txBody>
      </p:sp>
      <p:sp>
        <p:nvSpPr>
          <p:cNvPr id="171" name="直接连接符 2"/>
          <p:cNvSpPr/>
          <p:nvPr/>
        </p:nvSpPr>
        <p:spPr>
          <a:xfrm>
            <a:off x="692280" y="1450800"/>
            <a:ext cx="3448080" cy="1800"/>
          </a:xfrm>
          <a:prstGeom prst="line">
            <a:avLst/>
          </a:prstGeom>
          <a:ln w="9360">
            <a:solidFill>
              <a:srgbClr val="dc9f0b"/>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2" name="圆角矩形 3"/>
          <p:cNvSpPr/>
          <p:nvPr/>
        </p:nvSpPr>
        <p:spPr>
          <a:xfrm>
            <a:off x="692280" y="987480"/>
            <a:ext cx="366372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模式划分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委托种植、养殖</a:t>
            </a:r>
            <a:endParaRPr b="0" lang="en-US" sz="2000" spc="-1" strike="noStrike">
              <a:solidFill>
                <a:srgbClr val="000000"/>
              </a:solidFill>
              <a:latin typeface="Arial"/>
            </a:endParaRPr>
          </a:p>
        </p:txBody>
      </p:sp>
      <p:sp>
        <p:nvSpPr>
          <p:cNvPr id="173" name="TextBox 4"/>
          <p:cNvSpPr/>
          <p:nvPr/>
        </p:nvSpPr>
        <p:spPr>
          <a:xfrm>
            <a:off x="692280" y="1450800"/>
            <a:ext cx="3663720" cy="1067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委托模式是消费者交一部分定金，锁定基地的部分产品，从种植、养殖阶段中开始到产品长成到约定标准之后购买的模式。此种模式适合的产品主要是日常需求量大的常规品种，而非偶尔消费的特色产品。为了形成比较完善的供应体系，平台需要将不同的基地进行组合，</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包括肉禽蛋乳等，蔬菜和水果属于其中消费频次最高的种类，对配送压力大，在发展前期暂不推出蔬菜类和水果类的产品。</a:t>
            </a:r>
            <a:endParaRPr b="0" lang="en-US" sz="12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0T20:52:03Z</dcterms:created>
  <dc:creator/>
  <dc:description/>
  <cp:keywords/>
  <dc:language>en-US</dc:language>
  <cp:lastModifiedBy>GZB</cp:lastModifiedBy>
  <cp:lastPrinted>1899-12-30T00:00:00Z</cp:lastPrinted>
  <dcterms:modified xsi:type="dcterms:W3CDTF">2012-03-26T02:17:35Z</dcterms:modified>
  <cp:revision>154</cp:revision>
  <dc:subject/>
  <dc:title>www.glzy8.com提供海量PPT模板免费下载！</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