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463-CC10-4188-8CA0-662AAB16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35A-0332-47A0-847A-8124C8E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D60-0DCE-46BE-90C2-3E25985C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1EE-0842-4E93-8A55-3F25A5E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99F-A527-4576-BD93-40B3E86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091-1C52-49B1-B552-272672B4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AF6-4DBA-41D4-9C80-970EE93B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89E-9650-4820-8853-8FC3267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6E0-5CD0-4CC0-AA10-3A4307E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126-9F31-469F-8D33-098BB23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BD2-8DD6-442B-B77A-5DD5CE0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581-814F-4E91-80B4-3C00A1F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8597-3E34-4A1A-B9E2-77953054D7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9A6-6852-4460-9E80-B90534AC1F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924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 Unicode MS"/>
              </a:rPr>
              <a:t>愚人节快乐！</a:t>
            </a:r>
            <a:endParaRPr b="0" lang="en-US" sz="48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91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cc6600"/>
              </a:solidFill>
              <a:latin typeface="Arial Unicode MS"/>
              <a:ea typeface="Arial Unicode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cc6600"/>
              </a:solidFill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6:00Z</dcterms:created>
  <dc:creator/>
  <dc:description/>
  <cp:keywords/>
  <dc:language>en-US</dc:language>
  <cp:lastModifiedBy>Sky123.Org</cp:lastModifiedBy>
  <cp:lastPrinted>1899-12-30T00:00:00Z</cp:lastPrinted>
  <dcterms:modified xsi:type="dcterms:W3CDTF">2015-08-06T03:15:24Z</dcterms:modified>
  <cp:revision>2</cp:revision>
  <dc:subject/>
  <dc:title>愚人节快乐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90</vt:lpwstr>
  </property>
</Properties>
</file>