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ACD-F34F-4241-9ACA-D5CF7906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B2A-A737-49E1-B95C-A97BCC56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D80-D547-4A61-B0B1-8855CB73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D09-C848-4690-9A16-4DD98F24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50F-3EC0-491B-8358-58EBBB5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C90-9D83-4385-9BBA-FA5FF4A3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225-ACA3-48F9-80C0-4C1D8A1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7CA-599A-467E-8FBA-635BE55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673-4F6B-4FFA-8DFA-AC909749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9E8-E80B-40DA-9C7C-DC41F0A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B30-F0FF-4BD4-972B-7F2EAD7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9DB-4AFA-43A8-AFF9-2633C62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849-7054-43C3-902D-6DFDB6F85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6846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ff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ff99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45080" y="2997360"/>
            <a:ext cx="25243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9:35:01Z</dcterms:created>
  <dc:creator>111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88</vt:lpwstr>
  </property>
</Properties>
</file>