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091-E1FC-491A-B517-17CC3085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B74-66D8-4B6C-BF75-C77AF339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95D-9F48-49F8-956D-30E5B192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6D1-AB3D-4D5D-AC64-81E3B891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5408-BDD1-4537-8880-21D8808D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28A6-E787-411A-8914-6FE7203D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ED46-5E72-4618-8017-5DAD1C7F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6A16-2B6C-4E4A-9131-1A1F3504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8E1B-C2E9-42F5-A86A-1710AE51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284040"/>
            <a:ext cx="67341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5F87-FA5D-4437-8E7E-A8626AAD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3186-CD40-433C-BBDD-A9A545D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4CF-DBCF-433F-AAB5-D2279520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FAB5-E1BB-486D-84C3-11AD41ED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7C8E-D205-469A-8D42-DB2F984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EAC2-9F8A-41F3-BC70-D7C23D63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4304-F474-4033-87E6-40356524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C4D9-7129-4748-8281-8DF9FDB2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791-3621-4D03-A283-A521260A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9CF-AD6E-4AED-BACC-DA9EFCCE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B71-E262-412B-AEFD-C2B29683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8760" y="284040"/>
            <a:ext cx="67341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437-A539-4240-BD8E-78DDA63D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593-349E-4C61-B4E2-5CB71D7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23A-2FD7-40A0-B449-42F1CC49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0A8-AA61-4CE9-A29D-BD2C916F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295200" y="343080"/>
            <a:ext cx="8848800" cy="6514920"/>
          </a:xfrm>
          <a:custGeom>
            <a:avLst/>
            <a:gdLst>
              <a:gd name="textAreaLeft" fmla="*/ 0 w 8848800"/>
              <a:gd name="textAreaRight" fmla="*/ 8849160 w 8848800"/>
              <a:gd name="textAreaTop" fmla="*/ 0 h 6514920"/>
              <a:gd name="textAreaBottom" fmla="*/ 6515280 h 6514920"/>
            </a:gdLst>
            <a:ahLst/>
            <a:rect l="textAreaLeft" t="textAreaTop" r="textAreaRight" b="textAreaBottom"/>
            <a:pathLst>
              <a:path w="5574" h="4104">
                <a:moveTo>
                  <a:pt x="5574" y="4104"/>
                </a:moveTo>
                <a:lnTo>
                  <a:pt x="5574" y="24"/>
                </a:lnTo>
                <a:cubicBezTo>
                  <a:pt x="4920" y="0"/>
                  <a:pt x="4738" y="24"/>
                  <a:pt x="4194" y="24"/>
                </a:cubicBezTo>
                <a:cubicBezTo>
                  <a:pt x="3650" y="24"/>
                  <a:pt x="2983" y="29"/>
                  <a:pt x="2310" y="24"/>
                </a:cubicBezTo>
                <a:cubicBezTo>
                  <a:pt x="1637" y="19"/>
                  <a:pt x="520" y="18"/>
                  <a:pt x="144" y="42"/>
                </a:cubicBezTo>
                <a:cubicBezTo>
                  <a:pt x="24" y="60"/>
                  <a:pt x="20" y="67"/>
                  <a:pt x="16" y="202"/>
                </a:cubicBezTo>
                <a:cubicBezTo>
                  <a:pt x="12" y="337"/>
                  <a:pt x="15" y="418"/>
                  <a:pt x="16" y="835"/>
                </a:cubicBezTo>
                <a:cubicBezTo>
                  <a:pt x="13" y="1258"/>
                  <a:pt x="12" y="2156"/>
                  <a:pt x="12" y="2700"/>
                </a:cubicBezTo>
                <a:cubicBezTo>
                  <a:pt x="12" y="3244"/>
                  <a:pt x="0" y="3600"/>
                  <a:pt x="6" y="4104"/>
                </a:cubicBezTo>
                <a:cubicBezTo>
                  <a:pt x="2790" y="4104"/>
                  <a:pt x="5574" y="4104"/>
                  <a:pt x="5574" y="4104"/>
                </a:cubicBezTo>
                <a:close/>
              </a:path>
            </a:pathLst>
          </a:custGeom>
          <a:gradFill rotWithShape="0">
            <a:gsLst>
              <a:gs pos="0">
                <a:srgbClr val="e6e6e6">
                  <a:alpha val="70196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8"/>
          <p:cNvSpPr/>
          <p:nvPr/>
        </p:nvSpPr>
        <p:spPr>
          <a:xfrm>
            <a:off x="328680" y="0"/>
            <a:ext cx="8821800" cy="314280"/>
          </a:xfrm>
          <a:custGeom>
            <a:avLst/>
            <a:gdLst>
              <a:gd name="textAreaLeft" fmla="*/ 0 w 8821800"/>
              <a:gd name="textAreaRight" fmla="*/ 8822160 w 88218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9"/>
          <p:cNvSpPr/>
          <p:nvPr/>
        </p:nvSpPr>
        <p:spPr>
          <a:xfrm>
            <a:off x="-1440" y="393840"/>
            <a:ext cx="242640" cy="6468840"/>
          </a:xfrm>
          <a:custGeom>
            <a:avLst/>
            <a:gdLst>
              <a:gd name="textAreaLeft" fmla="*/ 0 w 242640"/>
              <a:gd name="textAreaRight" fmla="*/ 243000 w 242640"/>
              <a:gd name="textAreaTop" fmla="*/ 0 h 6468840"/>
              <a:gd name="textAreaBottom" fmla="*/ 6469200 h 6468840"/>
            </a:gdLst>
            <a:ahLst/>
            <a:rect l="textAreaLeft" t="textAreaTop" r="textAreaRight" b="textAreaBottom"/>
            <a:pathLst>
              <a:path w="153" h="4067">
                <a:moveTo>
                  <a:pt x="0" y="4061"/>
                </a:moveTo>
                <a:lnTo>
                  <a:pt x="145" y="4064"/>
                </a:lnTo>
                <a:cubicBezTo>
                  <a:pt x="141" y="4067"/>
                  <a:pt x="145" y="3766"/>
                  <a:pt x="149" y="3364"/>
                </a:cubicBezTo>
                <a:cubicBezTo>
                  <a:pt x="153" y="2962"/>
                  <a:pt x="143" y="2090"/>
                  <a:pt x="137" y="1651"/>
                </a:cubicBezTo>
                <a:cubicBezTo>
                  <a:pt x="131" y="1212"/>
                  <a:pt x="138" y="971"/>
                  <a:pt x="139" y="710"/>
                </a:cubicBezTo>
                <a:cubicBezTo>
                  <a:pt x="141" y="448"/>
                  <a:pt x="136" y="184"/>
                  <a:pt x="136" y="65"/>
                </a:cubicBezTo>
                <a:cubicBezTo>
                  <a:pt x="136" y="30"/>
                  <a:pt x="102" y="18"/>
                  <a:pt x="102" y="18"/>
                </a:cubicBezTo>
                <a:cubicBezTo>
                  <a:pt x="41" y="0"/>
                  <a:pt x="1" y="7"/>
                  <a:pt x="1" y="7"/>
                </a:cubicBezTo>
                <a:lnTo>
                  <a:pt x="0" y="4061"/>
                </a:lnTo>
                <a:close/>
              </a:path>
            </a:pathLst>
          </a:custGeom>
          <a:solidFill>
            <a:srgbClr val="5cb1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"/>
          <p:cNvSpPr/>
          <p:nvPr/>
        </p:nvSpPr>
        <p:spPr>
          <a:xfrm>
            <a:off x="-3240" y="0"/>
            <a:ext cx="247680" cy="326880"/>
          </a:xfrm>
          <a:custGeom>
            <a:avLst/>
            <a:gdLst>
              <a:gd name="textAreaLeft" fmla="*/ 0 w 247680"/>
              <a:gd name="textAreaRight" fmla="*/ 248040 w 24768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56" h="206">
                <a:moveTo>
                  <a:pt x="2" y="0"/>
                </a:moveTo>
                <a:lnTo>
                  <a:pt x="150" y="0"/>
                </a:lnTo>
                <a:cubicBezTo>
                  <a:pt x="156" y="71"/>
                  <a:pt x="144" y="149"/>
                  <a:pt x="144" y="149"/>
                </a:cubicBezTo>
                <a:cubicBezTo>
                  <a:pt x="133" y="181"/>
                  <a:pt x="111" y="189"/>
                  <a:pt x="87" y="197"/>
                </a:cubicBezTo>
                <a:cubicBezTo>
                  <a:pt x="44" y="206"/>
                  <a:pt x="0" y="197"/>
                  <a:pt x="0" y="197"/>
                </a:cubicBezTo>
                <a:lnTo>
                  <a:pt x="2" y="0"/>
                </a:lnTo>
                <a:close/>
              </a:path>
            </a:pathLst>
          </a:custGeom>
          <a:solidFill>
            <a:srgbClr val="ffc31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1"/>
          <p:cNvGrpSpPr/>
          <p:nvPr/>
        </p:nvGrpSpPr>
        <p:grpSpPr>
          <a:xfrm>
            <a:off x="7343640" y="133200"/>
            <a:ext cx="1692000" cy="1160280"/>
            <a:chOff x="7343640" y="133200"/>
            <a:chExt cx="1692000" cy="1160280"/>
          </a:xfrm>
        </p:grpSpPr>
        <p:sp>
          <p:nvSpPr>
            <p:cNvPr id="5" name="Freeform 12"/>
            <p:cNvSpPr/>
            <p:nvPr/>
          </p:nvSpPr>
          <p:spPr>
            <a:xfrm>
              <a:off x="7343640" y="133200"/>
              <a:ext cx="817560" cy="53964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718" h="1134">
                  <a:moveTo>
                    <a:pt x="32" y="70"/>
                  </a:moveTo>
                  <a:cubicBezTo>
                    <a:pt x="52" y="36"/>
                    <a:pt x="74" y="25"/>
                    <a:pt x="138" y="20"/>
                  </a:cubicBezTo>
                  <a:cubicBezTo>
                    <a:pt x="202" y="15"/>
                    <a:pt x="310" y="34"/>
                    <a:pt x="412" y="32"/>
                  </a:cubicBezTo>
                  <a:cubicBezTo>
                    <a:pt x="514" y="30"/>
                    <a:pt x="574" y="12"/>
                    <a:pt x="682" y="11"/>
                  </a:cubicBezTo>
                  <a:cubicBezTo>
                    <a:pt x="790" y="10"/>
                    <a:pt x="923" y="13"/>
                    <a:pt x="1010" y="17"/>
                  </a:cubicBezTo>
                  <a:cubicBezTo>
                    <a:pt x="1097" y="21"/>
                    <a:pt x="1206" y="33"/>
                    <a:pt x="1276" y="30"/>
                  </a:cubicBezTo>
                  <a:cubicBezTo>
                    <a:pt x="1346" y="27"/>
                    <a:pt x="1405" y="13"/>
                    <a:pt x="1462" y="11"/>
                  </a:cubicBezTo>
                  <a:cubicBezTo>
                    <a:pt x="1519" y="9"/>
                    <a:pt x="1579" y="0"/>
                    <a:pt x="1618" y="18"/>
                  </a:cubicBezTo>
                  <a:cubicBezTo>
                    <a:pt x="1657" y="36"/>
                    <a:pt x="1690" y="67"/>
                    <a:pt x="1704" y="120"/>
                  </a:cubicBezTo>
                  <a:cubicBezTo>
                    <a:pt x="1718" y="173"/>
                    <a:pt x="1700" y="232"/>
                    <a:pt x="1700" y="338"/>
                  </a:cubicBezTo>
                  <a:cubicBezTo>
                    <a:pt x="1700" y="444"/>
                    <a:pt x="1710" y="577"/>
                    <a:pt x="1708" y="665"/>
                  </a:cubicBezTo>
                  <a:cubicBezTo>
                    <a:pt x="1706" y="753"/>
                    <a:pt x="1696" y="789"/>
                    <a:pt x="1698" y="857"/>
                  </a:cubicBezTo>
                  <a:cubicBezTo>
                    <a:pt x="1700" y="925"/>
                    <a:pt x="1717" y="1007"/>
                    <a:pt x="1710" y="1043"/>
                  </a:cubicBezTo>
                  <a:cubicBezTo>
                    <a:pt x="1703" y="1079"/>
                    <a:pt x="1693" y="1106"/>
                    <a:pt x="1656" y="1120"/>
                  </a:cubicBezTo>
                  <a:cubicBezTo>
                    <a:pt x="1619" y="1134"/>
                    <a:pt x="1537" y="1124"/>
                    <a:pt x="1480" y="1122"/>
                  </a:cubicBezTo>
                  <a:cubicBezTo>
                    <a:pt x="1423" y="1120"/>
                    <a:pt x="1347" y="1110"/>
                    <a:pt x="1254" y="1111"/>
                  </a:cubicBezTo>
                  <a:cubicBezTo>
                    <a:pt x="1161" y="1112"/>
                    <a:pt x="1032" y="1126"/>
                    <a:pt x="920" y="1126"/>
                  </a:cubicBezTo>
                  <a:cubicBezTo>
                    <a:pt x="808" y="1126"/>
                    <a:pt x="679" y="1111"/>
                    <a:pt x="584" y="1109"/>
                  </a:cubicBezTo>
                  <a:cubicBezTo>
                    <a:pt x="489" y="1107"/>
                    <a:pt x="408" y="1120"/>
                    <a:pt x="322" y="1123"/>
                  </a:cubicBezTo>
                  <a:cubicBezTo>
                    <a:pt x="236" y="1126"/>
                    <a:pt x="144" y="1132"/>
                    <a:pt x="88" y="1116"/>
                  </a:cubicBezTo>
                  <a:cubicBezTo>
                    <a:pt x="32" y="1100"/>
                    <a:pt x="17" y="1070"/>
                    <a:pt x="14" y="1029"/>
                  </a:cubicBezTo>
                  <a:cubicBezTo>
                    <a:pt x="11" y="988"/>
                    <a:pt x="19" y="925"/>
                    <a:pt x="23" y="847"/>
                  </a:cubicBezTo>
                  <a:cubicBezTo>
                    <a:pt x="27" y="769"/>
                    <a:pt x="26" y="734"/>
                    <a:pt x="20" y="657"/>
                  </a:cubicBezTo>
                  <a:cubicBezTo>
                    <a:pt x="14" y="580"/>
                    <a:pt x="0" y="497"/>
                    <a:pt x="4" y="405"/>
                  </a:cubicBezTo>
                  <a:cubicBezTo>
                    <a:pt x="8" y="313"/>
                    <a:pt x="17" y="276"/>
                    <a:pt x="20" y="222"/>
                  </a:cubicBezTo>
                  <a:cubicBezTo>
                    <a:pt x="23" y="168"/>
                    <a:pt x="12" y="104"/>
                    <a:pt x="32" y="7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8218080" y="133200"/>
              <a:ext cx="817560" cy="54108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712" h="1134">
                  <a:moveTo>
                    <a:pt x="20" y="62"/>
                  </a:moveTo>
                  <a:cubicBezTo>
                    <a:pt x="40" y="28"/>
                    <a:pt x="68" y="25"/>
                    <a:pt x="132" y="20"/>
                  </a:cubicBezTo>
                  <a:cubicBezTo>
                    <a:pt x="196" y="15"/>
                    <a:pt x="304" y="34"/>
                    <a:pt x="406" y="32"/>
                  </a:cubicBezTo>
                  <a:cubicBezTo>
                    <a:pt x="508" y="30"/>
                    <a:pt x="638" y="9"/>
                    <a:pt x="746" y="8"/>
                  </a:cubicBezTo>
                  <a:cubicBezTo>
                    <a:pt x="854" y="7"/>
                    <a:pt x="967" y="22"/>
                    <a:pt x="1054" y="26"/>
                  </a:cubicBezTo>
                  <a:cubicBezTo>
                    <a:pt x="1141" y="30"/>
                    <a:pt x="1200" y="33"/>
                    <a:pt x="1270" y="30"/>
                  </a:cubicBezTo>
                  <a:cubicBezTo>
                    <a:pt x="1340" y="27"/>
                    <a:pt x="1417" y="8"/>
                    <a:pt x="1474" y="6"/>
                  </a:cubicBezTo>
                  <a:cubicBezTo>
                    <a:pt x="1531" y="4"/>
                    <a:pt x="1573" y="0"/>
                    <a:pt x="1612" y="18"/>
                  </a:cubicBezTo>
                  <a:cubicBezTo>
                    <a:pt x="1651" y="36"/>
                    <a:pt x="1684" y="67"/>
                    <a:pt x="1698" y="120"/>
                  </a:cubicBezTo>
                  <a:cubicBezTo>
                    <a:pt x="1712" y="173"/>
                    <a:pt x="1694" y="232"/>
                    <a:pt x="1694" y="338"/>
                  </a:cubicBezTo>
                  <a:cubicBezTo>
                    <a:pt x="1694" y="444"/>
                    <a:pt x="1706" y="662"/>
                    <a:pt x="1704" y="750"/>
                  </a:cubicBezTo>
                  <a:cubicBezTo>
                    <a:pt x="1702" y="838"/>
                    <a:pt x="1695" y="854"/>
                    <a:pt x="1694" y="902"/>
                  </a:cubicBezTo>
                  <a:cubicBezTo>
                    <a:pt x="1693" y="950"/>
                    <a:pt x="1703" y="1002"/>
                    <a:pt x="1696" y="1038"/>
                  </a:cubicBezTo>
                  <a:cubicBezTo>
                    <a:pt x="1689" y="1074"/>
                    <a:pt x="1687" y="1106"/>
                    <a:pt x="1650" y="1120"/>
                  </a:cubicBezTo>
                  <a:cubicBezTo>
                    <a:pt x="1613" y="1134"/>
                    <a:pt x="1531" y="1124"/>
                    <a:pt x="1474" y="1122"/>
                  </a:cubicBezTo>
                  <a:cubicBezTo>
                    <a:pt x="1417" y="1120"/>
                    <a:pt x="1343" y="1101"/>
                    <a:pt x="1250" y="1102"/>
                  </a:cubicBezTo>
                  <a:cubicBezTo>
                    <a:pt x="1157" y="1103"/>
                    <a:pt x="1026" y="1126"/>
                    <a:pt x="914" y="1126"/>
                  </a:cubicBezTo>
                  <a:cubicBezTo>
                    <a:pt x="802" y="1126"/>
                    <a:pt x="675" y="1102"/>
                    <a:pt x="580" y="1100"/>
                  </a:cubicBezTo>
                  <a:cubicBezTo>
                    <a:pt x="485" y="1098"/>
                    <a:pt x="430" y="1113"/>
                    <a:pt x="344" y="1116"/>
                  </a:cubicBezTo>
                  <a:cubicBezTo>
                    <a:pt x="258" y="1119"/>
                    <a:pt x="120" y="1132"/>
                    <a:pt x="64" y="1116"/>
                  </a:cubicBezTo>
                  <a:cubicBezTo>
                    <a:pt x="8" y="1100"/>
                    <a:pt x="16" y="1063"/>
                    <a:pt x="8" y="1020"/>
                  </a:cubicBezTo>
                  <a:cubicBezTo>
                    <a:pt x="0" y="977"/>
                    <a:pt x="15" y="938"/>
                    <a:pt x="16" y="860"/>
                  </a:cubicBezTo>
                  <a:cubicBezTo>
                    <a:pt x="17" y="782"/>
                    <a:pt x="18" y="629"/>
                    <a:pt x="16" y="550"/>
                  </a:cubicBezTo>
                  <a:cubicBezTo>
                    <a:pt x="14" y="471"/>
                    <a:pt x="2" y="439"/>
                    <a:pt x="2" y="384"/>
                  </a:cubicBezTo>
                  <a:cubicBezTo>
                    <a:pt x="2" y="329"/>
                    <a:pt x="11" y="276"/>
                    <a:pt x="14" y="222"/>
                  </a:cubicBezTo>
                  <a:cubicBezTo>
                    <a:pt x="17" y="168"/>
                    <a:pt x="0" y="96"/>
                    <a:pt x="20" y="62"/>
                  </a:cubicBez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343640" y="752400"/>
              <a:ext cx="817560" cy="53964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718" h="1134">
                  <a:moveTo>
                    <a:pt x="32" y="70"/>
                  </a:moveTo>
                  <a:cubicBezTo>
                    <a:pt x="52" y="36"/>
                    <a:pt x="74" y="25"/>
                    <a:pt x="138" y="20"/>
                  </a:cubicBezTo>
                  <a:cubicBezTo>
                    <a:pt x="202" y="15"/>
                    <a:pt x="310" y="34"/>
                    <a:pt x="412" y="32"/>
                  </a:cubicBezTo>
                  <a:cubicBezTo>
                    <a:pt x="514" y="30"/>
                    <a:pt x="574" y="12"/>
                    <a:pt x="682" y="11"/>
                  </a:cubicBezTo>
                  <a:cubicBezTo>
                    <a:pt x="790" y="10"/>
                    <a:pt x="923" y="13"/>
                    <a:pt x="1010" y="17"/>
                  </a:cubicBezTo>
                  <a:cubicBezTo>
                    <a:pt x="1097" y="21"/>
                    <a:pt x="1206" y="33"/>
                    <a:pt x="1276" y="30"/>
                  </a:cubicBezTo>
                  <a:cubicBezTo>
                    <a:pt x="1346" y="27"/>
                    <a:pt x="1405" y="13"/>
                    <a:pt x="1462" y="11"/>
                  </a:cubicBezTo>
                  <a:cubicBezTo>
                    <a:pt x="1519" y="9"/>
                    <a:pt x="1579" y="0"/>
                    <a:pt x="1618" y="18"/>
                  </a:cubicBezTo>
                  <a:cubicBezTo>
                    <a:pt x="1657" y="36"/>
                    <a:pt x="1690" y="67"/>
                    <a:pt x="1704" y="120"/>
                  </a:cubicBezTo>
                  <a:cubicBezTo>
                    <a:pt x="1718" y="173"/>
                    <a:pt x="1700" y="232"/>
                    <a:pt x="1700" y="338"/>
                  </a:cubicBezTo>
                  <a:cubicBezTo>
                    <a:pt x="1700" y="444"/>
                    <a:pt x="1710" y="577"/>
                    <a:pt x="1708" y="665"/>
                  </a:cubicBezTo>
                  <a:cubicBezTo>
                    <a:pt x="1706" y="753"/>
                    <a:pt x="1696" y="789"/>
                    <a:pt x="1698" y="857"/>
                  </a:cubicBezTo>
                  <a:cubicBezTo>
                    <a:pt x="1700" y="925"/>
                    <a:pt x="1717" y="1007"/>
                    <a:pt x="1710" y="1043"/>
                  </a:cubicBezTo>
                  <a:cubicBezTo>
                    <a:pt x="1703" y="1079"/>
                    <a:pt x="1693" y="1106"/>
                    <a:pt x="1656" y="1120"/>
                  </a:cubicBezTo>
                  <a:cubicBezTo>
                    <a:pt x="1619" y="1134"/>
                    <a:pt x="1537" y="1124"/>
                    <a:pt x="1480" y="1122"/>
                  </a:cubicBezTo>
                  <a:cubicBezTo>
                    <a:pt x="1423" y="1120"/>
                    <a:pt x="1347" y="1110"/>
                    <a:pt x="1254" y="1111"/>
                  </a:cubicBezTo>
                  <a:cubicBezTo>
                    <a:pt x="1161" y="1112"/>
                    <a:pt x="1032" y="1126"/>
                    <a:pt x="920" y="1126"/>
                  </a:cubicBezTo>
                  <a:cubicBezTo>
                    <a:pt x="808" y="1126"/>
                    <a:pt x="679" y="1111"/>
                    <a:pt x="584" y="1109"/>
                  </a:cubicBezTo>
                  <a:cubicBezTo>
                    <a:pt x="489" y="1107"/>
                    <a:pt x="408" y="1120"/>
                    <a:pt x="322" y="1123"/>
                  </a:cubicBezTo>
                  <a:cubicBezTo>
                    <a:pt x="236" y="1126"/>
                    <a:pt x="144" y="1132"/>
                    <a:pt x="88" y="1116"/>
                  </a:cubicBezTo>
                  <a:cubicBezTo>
                    <a:pt x="32" y="1100"/>
                    <a:pt x="17" y="1070"/>
                    <a:pt x="14" y="1029"/>
                  </a:cubicBezTo>
                  <a:cubicBezTo>
                    <a:pt x="11" y="988"/>
                    <a:pt x="19" y="925"/>
                    <a:pt x="23" y="847"/>
                  </a:cubicBezTo>
                  <a:cubicBezTo>
                    <a:pt x="27" y="769"/>
                    <a:pt x="26" y="734"/>
                    <a:pt x="20" y="657"/>
                  </a:cubicBezTo>
                  <a:cubicBezTo>
                    <a:pt x="14" y="580"/>
                    <a:pt x="0" y="497"/>
                    <a:pt x="4" y="405"/>
                  </a:cubicBezTo>
                  <a:cubicBezTo>
                    <a:pt x="8" y="313"/>
                    <a:pt x="17" y="276"/>
                    <a:pt x="20" y="222"/>
                  </a:cubicBezTo>
                  <a:cubicBezTo>
                    <a:pt x="23" y="168"/>
                    <a:pt x="12" y="104"/>
                    <a:pt x="32" y="70"/>
                  </a:cubicBez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218080" y="752400"/>
              <a:ext cx="817560" cy="54108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712" h="1134">
                  <a:moveTo>
                    <a:pt x="20" y="62"/>
                  </a:moveTo>
                  <a:cubicBezTo>
                    <a:pt x="40" y="28"/>
                    <a:pt x="68" y="25"/>
                    <a:pt x="132" y="20"/>
                  </a:cubicBezTo>
                  <a:cubicBezTo>
                    <a:pt x="196" y="15"/>
                    <a:pt x="304" y="34"/>
                    <a:pt x="406" y="32"/>
                  </a:cubicBezTo>
                  <a:cubicBezTo>
                    <a:pt x="508" y="30"/>
                    <a:pt x="638" y="9"/>
                    <a:pt x="746" y="8"/>
                  </a:cubicBezTo>
                  <a:cubicBezTo>
                    <a:pt x="854" y="7"/>
                    <a:pt x="967" y="22"/>
                    <a:pt x="1054" y="26"/>
                  </a:cubicBezTo>
                  <a:cubicBezTo>
                    <a:pt x="1141" y="30"/>
                    <a:pt x="1200" y="33"/>
                    <a:pt x="1270" y="30"/>
                  </a:cubicBezTo>
                  <a:cubicBezTo>
                    <a:pt x="1340" y="27"/>
                    <a:pt x="1417" y="8"/>
                    <a:pt x="1474" y="6"/>
                  </a:cubicBezTo>
                  <a:cubicBezTo>
                    <a:pt x="1531" y="4"/>
                    <a:pt x="1573" y="0"/>
                    <a:pt x="1612" y="18"/>
                  </a:cubicBezTo>
                  <a:cubicBezTo>
                    <a:pt x="1651" y="36"/>
                    <a:pt x="1684" y="67"/>
                    <a:pt x="1698" y="120"/>
                  </a:cubicBezTo>
                  <a:cubicBezTo>
                    <a:pt x="1712" y="173"/>
                    <a:pt x="1694" y="232"/>
                    <a:pt x="1694" y="338"/>
                  </a:cubicBezTo>
                  <a:cubicBezTo>
                    <a:pt x="1694" y="444"/>
                    <a:pt x="1706" y="662"/>
                    <a:pt x="1704" y="750"/>
                  </a:cubicBezTo>
                  <a:cubicBezTo>
                    <a:pt x="1702" y="838"/>
                    <a:pt x="1695" y="854"/>
                    <a:pt x="1694" y="902"/>
                  </a:cubicBezTo>
                  <a:cubicBezTo>
                    <a:pt x="1693" y="950"/>
                    <a:pt x="1703" y="1002"/>
                    <a:pt x="1696" y="1038"/>
                  </a:cubicBezTo>
                  <a:cubicBezTo>
                    <a:pt x="1689" y="1074"/>
                    <a:pt x="1687" y="1106"/>
                    <a:pt x="1650" y="1120"/>
                  </a:cubicBezTo>
                  <a:cubicBezTo>
                    <a:pt x="1613" y="1134"/>
                    <a:pt x="1531" y="1124"/>
                    <a:pt x="1474" y="1122"/>
                  </a:cubicBezTo>
                  <a:cubicBezTo>
                    <a:pt x="1417" y="1120"/>
                    <a:pt x="1343" y="1101"/>
                    <a:pt x="1250" y="1102"/>
                  </a:cubicBezTo>
                  <a:cubicBezTo>
                    <a:pt x="1157" y="1103"/>
                    <a:pt x="1026" y="1126"/>
                    <a:pt x="914" y="1126"/>
                  </a:cubicBezTo>
                  <a:cubicBezTo>
                    <a:pt x="802" y="1126"/>
                    <a:pt x="675" y="1102"/>
                    <a:pt x="580" y="1100"/>
                  </a:cubicBezTo>
                  <a:cubicBezTo>
                    <a:pt x="485" y="1098"/>
                    <a:pt x="430" y="1113"/>
                    <a:pt x="344" y="1116"/>
                  </a:cubicBezTo>
                  <a:cubicBezTo>
                    <a:pt x="258" y="1119"/>
                    <a:pt x="120" y="1132"/>
                    <a:pt x="64" y="1116"/>
                  </a:cubicBezTo>
                  <a:cubicBezTo>
                    <a:pt x="8" y="1100"/>
                    <a:pt x="16" y="1063"/>
                    <a:pt x="8" y="1020"/>
                  </a:cubicBezTo>
                  <a:cubicBezTo>
                    <a:pt x="0" y="977"/>
                    <a:pt x="15" y="938"/>
                    <a:pt x="16" y="860"/>
                  </a:cubicBezTo>
                  <a:cubicBezTo>
                    <a:pt x="17" y="782"/>
                    <a:pt x="18" y="629"/>
                    <a:pt x="16" y="550"/>
                  </a:cubicBezTo>
                  <a:cubicBezTo>
                    <a:pt x="14" y="471"/>
                    <a:pt x="2" y="439"/>
                    <a:pt x="2" y="384"/>
                  </a:cubicBezTo>
                  <a:cubicBezTo>
                    <a:pt x="2" y="329"/>
                    <a:pt x="11" y="276"/>
                    <a:pt x="14" y="222"/>
                  </a:cubicBezTo>
                  <a:cubicBezTo>
                    <a:pt x="17" y="168"/>
                    <a:pt x="0" y="96"/>
                    <a:pt x="20" y="62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Picture 16" descr="1"/>
          <p:cNvPicPr/>
          <p:nvPr/>
        </p:nvPicPr>
        <p:blipFill>
          <a:blip r:embed="rId4"/>
          <a:stretch/>
        </p:blipFill>
        <p:spPr>
          <a:xfrm rot="21003000">
            <a:off x="8754840" y="36000"/>
            <a:ext cx="182520" cy="603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1E24-843D-4ABA-A484-FC939D3B11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0"/>
          <p:cNvSpPr/>
          <p:nvPr/>
        </p:nvSpPr>
        <p:spPr>
          <a:xfrm>
            <a:off x="3244680" y="2398680"/>
            <a:ext cx="2718000" cy="1800360"/>
          </a:xfrm>
          <a:custGeom>
            <a:avLst/>
            <a:gdLst>
              <a:gd name="textAreaLeft" fmla="*/ 0 w 2718000"/>
              <a:gd name="textAreaRight" fmla="*/ 2718360 w 2718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1"/>
          <p:cNvSpPr/>
          <p:nvPr/>
        </p:nvSpPr>
        <p:spPr>
          <a:xfrm>
            <a:off x="6153120" y="369720"/>
            <a:ext cx="2730600" cy="180828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1808280"/>
              <a:gd name="textAreaBottom" fmla="*/ 1808640 h 1808280"/>
            </a:gdLst>
            <a:ahLst/>
            <a:rect l="textAreaLeft" t="textAreaTop" r="textAreaRight" b="textAreaBottom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2"/>
          <p:cNvSpPr/>
          <p:nvPr/>
        </p:nvSpPr>
        <p:spPr>
          <a:xfrm>
            <a:off x="324000" y="378000"/>
            <a:ext cx="2717640" cy="1800000"/>
          </a:xfrm>
          <a:custGeom>
            <a:avLst/>
            <a:gdLst>
              <a:gd name="textAreaLeft" fmla="*/ 0 w 2717640"/>
              <a:gd name="textAreaRight" fmla="*/ 2717640 w 27176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3"/>
          <p:cNvSpPr/>
          <p:nvPr/>
        </p:nvSpPr>
        <p:spPr>
          <a:xfrm>
            <a:off x="324000" y="4441680"/>
            <a:ext cx="2717640" cy="1800360"/>
          </a:xfrm>
          <a:custGeom>
            <a:avLst/>
            <a:gdLst>
              <a:gd name="textAreaLeft" fmla="*/ 0 w 2717640"/>
              <a:gd name="textAreaRight" fmla="*/ 2717640 w 27176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4"/>
          <p:cNvSpPr/>
          <p:nvPr/>
        </p:nvSpPr>
        <p:spPr>
          <a:xfrm>
            <a:off x="3236760" y="2394000"/>
            <a:ext cx="2725920" cy="1811160"/>
          </a:xfrm>
          <a:custGeom>
            <a:avLst/>
            <a:gdLst>
              <a:gd name="textAreaLeft" fmla="*/ 0 w 2725920"/>
              <a:gd name="textAreaRight" fmla="*/ 2725920 w 2725920"/>
              <a:gd name="textAreaTop" fmla="*/ 0 h 1811160"/>
              <a:gd name="textAreaBottom" fmla="*/ 1811520 h 1811160"/>
            </a:gdLst>
            <a:ahLst/>
            <a:rect l="textAreaLeft" t="textAreaTop" r="textAreaRight" b="textAreaBottom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5"/>
          <p:cNvSpPr/>
          <p:nvPr/>
        </p:nvSpPr>
        <p:spPr>
          <a:xfrm>
            <a:off x="3235320" y="378000"/>
            <a:ext cx="2727360" cy="1800000"/>
          </a:xfrm>
          <a:custGeom>
            <a:avLst/>
            <a:gdLst>
              <a:gd name="textAreaLeft" fmla="*/ 0 w 2727360"/>
              <a:gd name="textAreaRight" fmla="*/ 2727720 w 2727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6"/>
          <p:cNvSpPr/>
          <p:nvPr/>
        </p:nvSpPr>
        <p:spPr>
          <a:xfrm>
            <a:off x="6151680" y="378000"/>
            <a:ext cx="2732040" cy="1809720"/>
          </a:xfrm>
          <a:custGeom>
            <a:avLst/>
            <a:gdLst>
              <a:gd name="textAreaLeft" fmla="*/ 0 w 2732040"/>
              <a:gd name="textAreaRight" fmla="*/ 2732040 w 2732040"/>
              <a:gd name="textAreaTop" fmla="*/ 0 h 1809720"/>
              <a:gd name="textAreaBottom" fmla="*/ 1810080 h 1809720"/>
            </a:gdLst>
            <a:ahLst/>
            <a:rect l="textAreaLeft" t="textAreaTop" r="textAreaRight" b="textAreaBottom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7"/>
          <p:cNvSpPr/>
          <p:nvPr/>
        </p:nvSpPr>
        <p:spPr>
          <a:xfrm>
            <a:off x="6156360" y="2398680"/>
            <a:ext cx="2727360" cy="1800360"/>
          </a:xfrm>
          <a:custGeom>
            <a:avLst/>
            <a:gdLst>
              <a:gd name="textAreaLeft" fmla="*/ 0 w 2727360"/>
              <a:gd name="textAreaRight" fmla="*/ 2727720 w 2727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8"/>
          <p:cNvSpPr/>
          <p:nvPr/>
        </p:nvSpPr>
        <p:spPr>
          <a:xfrm>
            <a:off x="314280" y="372960"/>
            <a:ext cx="2732040" cy="1809720"/>
          </a:xfrm>
          <a:custGeom>
            <a:avLst/>
            <a:gdLst>
              <a:gd name="textAreaLeft" fmla="*/ 0 w 2732040"/>
              <a:gd name="textAreaRight" fmla="*/ 2732040 w 2732040"/>
              <a:gd name="textAreaTop" fmla="*/ 0 h 1809720"/>
              <a:gd name="textAreaBottom" fmla="*/ 1810080 h 1809720"/>
            </a:gdLst>
            <a:ahLst/>
            <a:rect l="textAreaLeft" t="textAreaTop" r="textAreaRight" b="textAreaBottom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9"/>
          <p:cNvSpPr/>
          <p:nvPr/>
        </p:nvSpPr>
        <p:spPr>
          <a:xfrm>
            <a:off x="314280" y="2398680"/>
            <a:ext cx="2727360" cy="1800360"/>
          </a:xfrm>
          <a:custGeom>
            <a:avLst/>
            <a:gdLst>
              <a:gd name="textAreaLeft" fmla="*/ 0 w 2727360"/>
              <a:gd name="textAreaRight" fmla="*/ 2727720 w 2727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0"/>
          <p:cNvSpPr/>
          <p:nvPr/>
        </p:nvSpPr>
        <p:spPr>
          <a:xfrm>
            <a:off x="320760" y="4437000"/>
            <a:ext cx="2733480" cy="1811520"/>
          </a:xfrm>
          <a:custGeom>
            <a:avLst/>
            <a:gdLst>
              <a:gd name="textAreaLeft" fmla="*/ 0 w 2733480"/>
              <a:gd name="textAreaRight" fmla="*/ 2733480 w 2733480"/>
              <a:gd name="textAreaTop" fmla="*/ 0 h 1811520"/>
              <a:gd name="textAreaBottom" fmla="*/ 1811880 h 1811520"/>
            </a:gdLst>
            <a:ahLst/>
            <a:rect l="textAreaLeft" t="textAreaTop" r="textAreaRight" b="textAreaBottom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1" descr="1"/>
          <p:cNvPicPr/>
          <p:nvPr/>
        </p:nvPicPr>
        <p:blipFill>
          <a:blip r:embed="rId9"/>
          <a:stretch/>
        </p:blipFill>
        <p:spPr>
          <a:xfrm rot="1593600">
            <a:off x="746280" y="4217760"/>
            <a:ext cx="604800" cy="1996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7472880" y="169560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0828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73EE-C2A4-44BD-9A1A-0AA37690B1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6191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15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362320" y="48546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 rot="3418800">
            <a:off x="2077920" y="4277880"/>
            <a:ext cx="479160" cy="52056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b5276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135520" y="432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430440" y="18511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2362320" y="31780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 rot="3418800">
            <a:off x="2077560" y="2602080"/>
            <a:ext cx="479520" cy="52056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65a0c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2363760" y="4014720"/>
            <a:ext cx="479916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 rot="3418800">
            <a:off x="2077560" y="3440160"/>
            <a:ext cx="479520" cy="52056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e6013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13552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>
            <a:off x="2362320" y="57150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 rot="3418800">
            <a:off x="2077920" y="5138280"/>
            <a:ext cx="479160" cy="5205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213552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3430440" y="27129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3430440" y="35528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430440" y="43941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3430440" y="52452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 flipV="1">
            <a:off x="3413160" y="2755080"/>
            <a:ext cx="2262240" cy="1817640"/>
          </a:xfrm>
          <a:prstGeom prst="upArrow">
            <a:avLst>
              <a:gd name="adj1" fmla="val 66602"/>
              <a:gd name="adj2" fmla="val 48259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609480" y="280980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2879640" y="2104920"/>
            <a:ext cx="3380040" cy="1133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2892600" y="2125800"/>
            <a:ext cx="3340080" cy="46008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1400040" y="4871880"/>
            <a:ext cx="6294600" cy="1452600"/>
          </a:xfrm>
          <a:prstGeom prst="ellipse">
            <a:avLst/>
          </a:prstGeom>
          <a:solidFill>
            <a:srgbClr val="ff6161">
              <a:alpha val="3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 rot="5400000">
            <a:off x="2124720" y="2437560"/>
            <a:ext cx="86544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rot="16200000">
            <a:off x="6147720" y="248328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794040" y="213840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2928960" y="271296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2933640" y="257184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609480" y="185904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6899400" y="279864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fc319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6904080" y="186696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fc319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7032600" y="20541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7032600" y="29844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735120" y="20638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735120" y="300348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451240" y="3376440"/>
            <a:ext cx="1900080" cy="137664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4370400" y="331164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5"/>
          <p:cNvSpPr/>
          <p:nvPr/>
        </p:nvSpPr>
        <p:spPr>
          <a:xfrm flipH="1">
            <a:off x="4769640" y="3376440"/>
            <a:ext cx="1900440" cy="137664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2089080" y="2178000"/>
            <a:ext cx="1361520" cy="1321560"/>
            <a:chOff x="2089080" y="2178000"/>
            <a:chExt cx="1361520" cy="1321560"/>
          </a:xfrm>
        </p:grpSpPr>
        <p:sp>
          <p:nvSpPr>
            <p:cNvPr id="152" name="AutoShape 7"/>
            <p:cNvSpPr/>
            <p:nvPr/>
          </p:nvSpPr>
          <p:spPr>
            <a:xfrm>
              <a:off x="2089080" y="2178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b2444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2174760" y="2263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2b2"/>
                </a:gs>
                <a:gs pos="50000">
                  <a:srgbClr val="ff6161">
                    <a:alpha val="0"/>
                  </a:srgbClr>
                </a:gs>
                <a:gs pos="100000">
                  <a:srgbClr val="ff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9"/>
          <p:cNvSpPr/>
          <p:nvPr/>
        </p:nvSpPr>
        <p:spPr>
          <a:xfrm>
            <a:off x="2315160" y="25588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868560" y="2178000"/>
            <a:ext cx="1361520" cy="1321560"/>
            <a:chOff x="3868560" y="2178000"/>
            <a:chExt cx="1361520" cy="1321560"/>
          </a:xfrm>
        </p:grpSpPr>
        <p:sp>
          <p:nvSpPr>
            <p:cNvPr id="156" name="AutoShape 11"/>
            <p:cNvSpPr/>
            <p:nvPr/>
          </p:nvSpPr>
          <p:spPr>
            <a:xfrm>
              <a:off x="3868560" y="2178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c319"/>
                </a:gs>
                <a:gs pos="100000">
                  <a:srgbClr val="b2881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3954240" y="2263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28f"/>
                </a:gs>
                <a:gs pos="50000">
                  <a:srgbClr val="ffc319">
                    <a:alpha val="0"/>
                  </a:srgbClr>
                </a:gs>
                <a:gs pos="100000">
                  <a:srgbClr val="ffe2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3"/>
          <p:cNvGrpSpPr/>
          <p:nvPr/>
        </p:nvGrpSpPr>
        <p:grpSpPr>
          <a:xfrm>
            <a:off x="5656320" y="2187720"/>
            <a:ext cx="1361160" cy="1321560"/>
            <a:chOff x="5656320" y="2187720"/>
            <a:chExt cx="1361160" cy="1321560"/>
          </a:xfrm>
        </p:grpSpPr>
        <p:sp>
          <p:nvSpPr>
            <p:cNvPr id="159" name="AutoShape 14"/>
            <p:cNvSpPr/>
            <p:nvPr/>
          </p:nvSpPr>
          <p:spPr>
            <a:xfrm>
              <a:off x="5656320" y="2187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75911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5742000" y="227340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5e897"/>
                </a:gs>
                <a:gs pos="50000">
                  <a:srgbClr val="a8d02a">
                    <a:alpha val="0"/>
                  </a:srgbClr>
                </a:gs>
                <a:gs pos="100000">
                  <a:srgbClr val="d5e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6"/>
          <p:cNvSpPr/>
          <p:nvPr/>
        </p:nvSpPr>
        <p:spPr>
          <a:xfrm>
            <a:off x="4050360" y="25588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5868000" y="256860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838080" y="4692600"/>
            <a:ext cx="7021800" cy="1936800"/>
            <a:chOff x="838080" y="4692600"/>
            <a:chExt cx="7021800" cy="1936800"/>
          </a:xfrm>
        </p:grpSpPr>
        <p:sp>
          <p:nvSpPr>
            <p:cNvPr id="164" name="AutoShape 20"/>
            <p:cNvSpPr/>
            <p:nvPr/>
          </p:nvSpPr>
          <p:spPr>
            <a:xfrm>
              <a:off x="2311560" y="5006880"/>
              <a:ext cx="5548320" cy="124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cb1fe"/>
                </a:gs>
                <a:gs pos="50000">
                  <a:srgbClr val="badeff"/>
                </a:gs>
                <a:gs pos="100000">
                  <a:srgbClr val="5cb1fe"/>
                </a:gs>
              </a:gsLst>
              <a:lin ang="5400000"/>
            </a:gra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2830680" y="5148360"/>
              <a:ext cx="4700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22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6926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23"/>
            <p:cNvSpPr/>
            <p:nvPr/>
          </p:nvSpPr>
          <p:spPr>
            <a:xfrm>
              <a:off x="1146240" y="534204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1811160" y="1317600"/>
            <a:ext cx="5569200" cy="5311800"/>
          </a:xfrm>
          <a:prstGeom prst="diamond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3200400" y="259236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3200400" y="405612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4660920" y="259236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ffc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4660920" y="4056120"/>
            <a:ext cx="129708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273480" y="2954160"/>
            <a:ext cx="11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729320" y="2954160"/>
            <a:ext cx="11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273480" y="4373640"/>
            <a:ext cx="11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729320" y="4373640"/>
            <a:ext cx="11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3932280" y="18907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3855960" y="564984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113520" y="3720960"/>
            <a:ext cx="9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2049480" y="3720960"/>
            <a:ext cx="11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577800" y="2120760"/>
            <a:ext cx="30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530680" y="2120760"/>
            <a:ext cx="307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01480" y="5168880"/>
            <a:ext cx="307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5607000" y="5168880"/>
            <a:ext cx="30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4457880" y="1752480"/>
            <a:ext cx="3341520" cy="427320"/>
          </a:xfrm>
          <a:prstGeom prst="bevel">
            <a:avLst>
              <a:gd name="adj" fmla="val 12639"/>
            </a:avLst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3457440" y="2930400"/>
            <a:ext cx="3341880" cy="427320"/>
          </a:xfrm>
          <a:prstGeom prst="bevel">
            <a:avLst>
              <a:gd name="adj" fmla="val 12639"/>
            </a:avLst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2421000" y="4100400"/>
            <a:ext cx="3341520" cy="427320"/>
          </a:xfrm>
          <a:prstGeom prst="bevel">
            <a:avLst>
              <a:gd name="adj" fmla="val 10407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498680" y="5291280"/>
            <a:ext cx="3341520" cy="426960"/>
          </a:xfrm>
          <a:prstGeom prst="bevel">
            <a:avLst>
              <a:gd name="adj" fmla="val 12639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7"/>
          <p:cNvSpPr/>
          <p:nvPr/>
        </p:nvSpPr>
        <p:spPr>
          <a:xfrm flipH="1" rot="18321000">
            <a:off x="3349440" y="2152800"/>
            <a:ext cx="1074600" cy="601560"/>
          </a:xfrm>
          <a:custGeom>
            <a:avLst/>
            <a:gdLst>
              <a:gd name="textAreaLeft" fmla="*/ -360 w 1074600"/>
              <a:gd name="textAreaRight" fmla="*/ 1074600 w 1074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8"/>
          <p:cNvSpPr/>
          <p:nvPr/>
        </p:nvSpPr>
        <p:spPr>
          <a:xfrm flipH="1" rot="18321000">
            <a:off x="2312640" y="3316320"/>
            <a:ext cx="1074600" cy="601560"/>
          </a:xfrm>
          <a:custGeom>
            <a:avLst/>
            <a:gdLst>
              <a:gd name="textAreaLeft" fmla="*/ -360 w 1074600"/>
              <a:gd name="textAreaRight" fmla="*/ 1074600 w 1074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9"/>
          <p:cNvSpPr/>
          <p:nvPr/>
        </p:nvSpPr>
        <p:spPr>
          <a:xfrm flipH="1" rot="18321000">
            <a:off x="1377720" y="4525920"/>
            <a:ext cx="1074600" cy="601560"/>
          </a:xfrm>
          <a:custGeom>
            <a:avLst/>
            <a:gdLst>
              <a:gd name="textAreaLeft" fmla="*/ -360 w 1074600"/>
              <a:gd name="textAreaRight" fmla="*/ 1074600 w 1074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3565440" y="2990880"/>
            <a:ext cx="2043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4564080" y="1819440"/>
            <a:ext cx="2043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2529000" y="4152960"/>
            <a:ext cx="2043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576440" y="5353200"/>
            <a:ext cx="2043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4457880" y="22194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3457440" y="341964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2498760" y="459108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5838840" y="22194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9"/>
          <p:cNvSpPr/>
          <p:nvPr/>
        </p:nvSpPr>
        <p:spPr>
          <a:xfrm>
            <a:off x="4838760" y="341964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3879720" y="4591080"/>
            <a:ext cx="168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 flipH="1">
            <a:off x="5409360" y="559440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5410080" y="6396120"/>
            <a:ext cx="18543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5410080" y="5584680"/>
            <a:ext cx="23925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190520" y="2370240"/>
            <a:ext cx="4191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190520" y="3087720"/>
            <a:ext cx="4267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190520" y="3916440"/>
            <a:ext cx="38102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90520" y="475632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1190520" y="559440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 flipH="1">
            <a:off x="1190160" y="6396120"/>
            <a:ext cx="18543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1190520" y="5584680"/>
            <a:ext cx="23925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 flipH="1">
            <a:off x="1190520" y="4743360"/>
            <a:ext cx="28101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 flipH="1">
            <a:off x="1190160" y="3914640"/>
            <a:ext cx="328788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 flipH="1">
            <a:off x="1190520" y="3081240"/>
            <a:ext cx="376560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1190520" y="2370240"/>
            <a:ext cx="418464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1428840" y="2370240"/>
            <a:ext cx="1440" cy="7110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1428840" y="308124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1428840" y="3922560"/>
            <a:ext cx="1440" cy="8416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1428840" y="476424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1"/>
          <p:cNvSpPr/>
          <p:nvPr/>
        </p:nvSpPr>
        <p:spPr>
          <a:xfrm>
            <a:off x="1428840" y="5605560"/>
            <a:ext cx="1440" cy="7761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1481760" y="2568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1481760" y="33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481760" y="4211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1481760" y="50338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1481760" y="58561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7"/>
          <p:cNvGrpSpPr/>
          <p:nvPr/>
        </p:nvGrpSpPr>
        <p:grpSpPr>
          <a:xfrm>
            <a:off x="3073320" y="2370240"/>
            <a:ext cx="5079600" cy="4030200"/>
            <a:chOff x="3073320" y="2370240"/>
            <a:chExt cx="5079600" cy="4030200"/>
          </a:xfrm>
        </p:grpSpPr>
        <p:sp>
          <p:nvSpPr>
            <p:cNvPr id="230" name="Freeform 28"/>
            <p:cNvSpPr/>
            <p:nvPr/>
          </p:nvSpPr>
          <p:spPr>
            <a:xfrm>
              <a:off x="7256880" y="5163840"/>
              <a:ext cx="896040" cy="1235160"/>
            </a:xfrm>
            <a:custGeom>
              <a:avLst/>
              <a:gdLst>
                <a:gd name="textAreaLeft" fmla="*/ 0 w 896040"/>
                <a:gd name="textAreaRight" fmla="*/ 896400 w 89604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75911d"/>
                </a:gs>
                <a:gs pos="100000">
                  <a:srgbClr val="a8d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3479400" y="5163840"/>
              <a:ext cx="4174560" cy="526320"/>
            </a:xfrm>
            <a:custGeom>
              <a:avLst/>
              <a:gdLst>
                <a:gd name="textAreaLeft" fmla="*/ 0 w 4174560"/>
                <a:gd name="textAreaRight" fmla="*/ 4174920 w 4174560"/>
                <a:gd name="textAreaTop" fmla="*/ 0 h 526320"/>
                <a:gd name="textAreaBottom" fmla="*/ 526680 h 52632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6b84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0"/>
            <p:cNvSpPr/>
            <p:nvPr/>
          </p:nvSpPr>
          <p:spPr>
            <a:xfrm>
              <a:off x="3073320" y="5687280"/>
              <a:ext cx="4608000" cy="713160"/>
            </a:xfrm>
            <a:custGeom>
              <a:avLst/>
              <a:gdLst>
                <a:gd name="textAreaLeft" fmla="*/ 0 w 4608000"/>
                <a:gd name="textAreaRight" fmla="*/ 4608360 w 460800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a8d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1"/>
            <p:cNvSpPr/>
            <p:nvPr/>
          </p:nvSpPr>
          <p:spPr>
            <a:xfrm>
              <a:off x="6789240" y="4464720"/>
              <a:ext cx="791640" cy="1118160"/>
            </a:xfrm>
            <a:custGeom>
              <a:avLst/>
              <a:gdLst>
                <a:gd name="textAreaLeft" fmla="*/ 0 w 791640"/>
                <a:gd name="textAreaRight" fmla="*/ 792000 w 79164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ba8e12"/>
                </a:gs>
                <a:gs pos="100000">
                  <a:srgbClr val="ffc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2"/>
            <p:cNvSpPr/>
            <p:nvPr/>
          </p:nvSpPr>
          <p:spPr>
            <a:xfrm>
              <a:off x="3953520" y="4464720"/>
              <a:ext cx="3135960" cy="393480"/>
            </a:xfrm>
            <a:custGeom>
              <a:avLst/>
              <a:gdLst>
                <a:gd name="textAreaLeft" fmla="*/ 0 w 3135960"/>
                <a:gd name="textAreaRight" fmla="*/ 3136320 w 313596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ffc319"/>
                </a:gs>
                <a:gs pos="100000">
                  <a:srgbClr val="71560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3"/>
            <p:cNvSpPr/>
            <p:nvPr/>
          </p:nvSpPr>
          <p:spPr>
            <a:xfrm>
              <a:off x="3556800" y="4857120"/>
              <a:ext cx="3640680" cy="725760"/>
            </a:xfrm>
            <a:custGeom>
              <a:avLst/>
              <a:gdLst>
                <a:gd name="textAreaLeft" fmla="*/ 0 w 3640680"/>
                <a:gd name="textAreaRight" fmla="*/ 3641040 w 364068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6321240" y="3772440"/>
              <a:ext cx="693000" cy="97128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971280"/>
                <a:gd name="textAreaBottom" fmla="*/ 971640 h 9712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7b981f"/>
                </a:gs>
                <a:gs pos="100000">
                  <a:srgbClr val="a8d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5"/>
            <p:cNvSpPr/>
            <p:nvPr/>
          </p:nvSpPr>
          <p:spPr>
            <a:xfrm>
              <a:off x="4425480" y="3772440"/>
              <a:ext cx="2093760" cy="262440"/>
            </a:xfrm>
            <a:custGeom>
              <a:avLst/>
              <a:gdLst>
                <a:gd name="textAreaLeft" fmla="*/ 0 w 2093760"/>
                <a:gd name="textAreaRight" fmla="*/ 2094120 w 20937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a8d02a"/>
                </a:gs>
                <a:gs pos="100000">
                  <a:srgbClr val="5063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6"/>
            <p:cNvSpPr/>
            <p:nvPr/>
          </p:nvSpPr>
          <p:spPr>
            <a:xfrm>
              <a:off x="4021920" y="4033800"/>
              <a:ext cx="2709360" cy="710280"/>
            </a:xfrm>
            <a:custGeom>
              <a:avLst/>
              <a:gdLst>
                <a:gd name="textAreaLeft" fmla="*/ 0 w 2709360"/>
                <a:gd name="textAreaRight" fmla="*/ 2709360 w 270936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a8d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7"/>
            <p:cNvSpPr/>
            <p:nvPr/>
          </p:nvSpPr>
          <p:spPr>
            <a:xfrm>
              <a:off x="5848200" y="307080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a9a14"/>
                </a:gs>
                <a:gs pos="100000">
                  <a:srgbClr val="ffc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8"/>
            <p:cNvSpPr/>
            <p:nvPr/>
          </p:nvSpPr>
          <p:spPr>
            <a:xfrm>
              <a:off x="4905000" y="3070800"/>
              <a:ext cx="1044720" cy="126720"/>
            </a:xfrm>
            <a:custGeom>
              <a:avLst/>
              <a:gdLst>
                <a:gd name="textAreaLeft" fmla="*/ 0 w 1044720"/>
                <a:gd name="textAreaRight" fmla="*/ 1045080 w 1044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ffc319"/>
                </a:gs>
                <a:gs pos="100000">
                  <a:srgbClr val="82630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9"/>
            <p:cNvSpPr/>
            <p:nvPr/>
          </p:nvSpPr>
          <p:spPr>
            <a:xfrm>
              <a:off x="4493880" y="3196440"/>
              <a:ext cx="1764360" cy="720360"/>
            </a:xfrm>
            <a:custGeom>
              <a:avLst/>
              <a:gdLst>
                <a:gd name="textAreaLeft" fmla="*/ 0 w 1764360"/>
                <a:gd name="textAreaRight" fmla="*/ 1764720 w 176436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0"/>
            <p:cNvSpPr/>
            <p:nvPr/>
          </p:nvSpPr>
          <p:spPr>
            <a:xfrm>
              <a:off x="5371560" y="2370240"/>
              <a:ext cx="504360" cy="71604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85a521"/>
                </a:gs>
                <a:gs pos="100000">
                  <a:srgbClr val="a8d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1"/>
            <p:cNvSpPr/>
            <p:nvPr/>
          </p:nvSpPr>
          <p:spPr>
            <a:xfrm>
              <a:off x="4962960" y="2370240"/>
              <a:ext cx="817920" cy="716040"/>
            </a:xfrm>
            <a:custGeom>
              <a:avLst/>
              <a:gdLst>
                <a:gd name="textAreaLeft" fmla="*/ 0 w 817920"/>
                <a:gd name="textAreaRight" fmla="*/ 818280 w 81792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a8d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2"/>
            <p:cNvSpPr/>
            <p:nvPr/>
          </p:nvSpPr>
          <p:spPr>
            <a:xfrm>
              <a:off x="5077440" y="27241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43"/>
            <p:cNvSpPr/>
            <p:nvPr/>
          </p:nvSpPr>
          <p:spPr>
            <a:xfrm>
              <a:off x="5077440" y="3478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4"/>
            <p:cNvSpPr/>
            <p:nvPr/>
          </p:nvSpPr>
          <p:spPr>
            <a:xfrm>
              <a:off x="5051160" y="4274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45"/>
            <p:cNvSpPr/>
            <p:nvPr/>
          </p:nvSpPr>
          <p:spPr>
            <a:xfrm>
              <a:off x="5025600" y="50724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6"/>
            <p:cNvSpPr/>
            <p:nvPr/>
          </p:nvSpPr>
          <p:spPr>
            <a:xfrm>
              <a:off x="4973760" y="584712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2209680" y="2441520"/>
            <a:ext cx="3961800" cy="3729960"/>
            <a:chOff x="2209680" y="2441520"/>
            <a:chExt cx="3961800" cy="3729960"/>
          </a:xfrm>
        </p:grpSpPr>
        <p:sp>
          <p:nvSpPr>
            <p:cNvPr id="250" name="Freeform 3"/>
            <p:cNvSpPr/>
            <p:nvPr/>
          </p:nvSpPr>
          <p:spPr>
            <a:xfrm>
              <a:off x="2209680" y="2454120"/>
              <a:ext cx="2405880" cy="2942280"/>
            </a:xfrm>
            <a:custGeom>
              <a:avLst/>
              <a:gdLst>
                <a:gd name="textAreaLeft" fmla="*/ 0 w 2405880"/>
                <a:gd name="textAreaRight" fmla="*/ 2406240 w 2405880"/>
                <a:gd name="textAreaTop" fmla="*/ 0 h 2942280"/>
                <a:gd name="textAreaBottom" fmla="*/ 2942640 h 294228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4184280" y="2441520"/>
              <a:ext cx="1987200" cy="2261520"/>
            </a:xfrm>
            <a:custGeom>
              <a:avLst/>
              <a:gdLst>
                <a:gd name="textAreaLeft" fmla="*/ 0 w 1987200"/>
                <a:gd name="textAreaRight" fmla="*/ 1987560 w 1987200"/>
                <a:gd name="textAreaTop" fmla="*/ 0 h 2261520"/>
                <a:gd name="textAreaBottom" fmla="*/ 2261880 h 226152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3047040" y="4340520"/>
              <a:ext cx="3117960" cy="1830960"/>
            </a:xfrm>
            <a:custGeom>
              <a:avLst/>
              <a:gdLst>
                <a:gd name="textAreaLeft" fmla="*/ 0 w 3117960"/>
                <a:gd name="textAreaRight" fmla="*/ 3118320 w 3117960"/>
                <a:gd name="textAreaTop" fmla="*/ 0 h 1830960"/>
                <a:gd name="textAreaBottom" fmla="*/ 1831320 h 183096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8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67341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7"/>
          <p:cNvGrpSpPr/>
          <p:nvPr/>
        </p:nvGrpSpPr>
        <p:grpSpPr>
          <a:xfrm>
            <a:off x="2666880" y="2822400"/>
            <a:ext cx="3202920" cy="3015720"/>
            <a:chOff x="2666880" y="2822400"/>
            <a:chExt cx="3202920" cy="3015720"/>
          </a:xfrm>
        </p:grpSpPr>
        <p:sp>
          <p:nvSpPr>
            <p:cNvPr id="255" name="Freeform 8"/>
            <p:cNvSpPr/>
            <p:nvPr/>
          </p:nvSpPr>
          <p:spPr>
            <a:xfrm>
              <a:off x="2666880" y="2832480"/>
              <a:ext cx="1945080" cy="2379240"/>
            </a:xfrm>
            <a:custGeom>
              <a:avLst/>
              <a:gdLst>
                <a:gd name="textAreaLeft" fmla="*/ 0 w 1945080"/>
                <a:gd name="textAreaRight" fmla="*/ 1945440 w 1945080"/>
                <a:gd name="textAreaTop" fmla="*/ 0 h 2379240"/>
                <a:gd name="textAreaBottom" fmla="*/ 2379600 h 2379240"/>
              </a:gdLst>
              <a:ahLst/>
              <a:rect l="textAreaLeft" t="textAreaTop" r="textAreaRight" b="textAreaBottom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96d"/>
                </a:gs>
                <a:gs pos="100000">
                  <a:srgbClr val="ffc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4263120" y="2822400"/>
              <a:ext cx="1606680" cy="182880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ffc319"/>
                </a:gs>
                <a:gs pos="100000">
                  <a:srgbClr val="ffd5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3343680" y="4357800"/>
              <a:ext cx="2521080" cy="1480320"/>
            </a:xfrm>
            <a:custGeom>
              <a:avLst/>
              <a:gdLst>
                <a:gd name="textAreaLeft" fmla="*/ 0 w 2521080"/>
                <a:gd name="textAreaRight" fmla="*/ 2521440 w 2521080"/>
                <a:gd name="textAreaTop" fmla="*/ 0 h 1480320"/>
                <a:gd name="textAreaBottom" fmla="*/ 1480680 h 1480320"/>
              </a:gdLst>
              <a:ahLst/>
              <a:rect l="textAreaLeft" t="textAreaTop" r="textAreaRight" b="textAreaBottom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c19413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11"/>
          <p:cNvSpPr/>
          <p:nvPr/>
        </p:nvSpPr>
        <p:spPr>
          <a:xfrm>
            <a:off x="3734640" y="397656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5442480" y="2683440"/>
            <a:ext cx="398880" cy="406800"/>
            <a:chOff x="5442480" y="2683440"/>
            <a:chExt cx="398880" cy="406800"/>
          </a:xfrm>
        </p:grpSpPr>
        <p:pic>
          <p:nvPicPr>
            <p:cNvPr id="260" name="Picture 13" descr="circuler_1"/>
            <p:cNvPicPr/>
            <p:nvPr/>
          </p:nvPicPr>
          <p:blipFill>
            <a:blip r:embed="rId1"/>
            <a:stretch/>
          </p:blipFill>
          <p:spPr>
            <a:xfrm rot="4978200">
              <a:off x="5501520" y="274680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1" name="Oval 14"/>
            <p:cNvGrpSpPr/>
            <p:nvPr/>
          </p:nvGrpSpPr>
          <p:grpSpPr>
            <a:xfrm>
              <a:off x="5501160" y="2738880"/>
              <a:ext cx="285480" cy="285480"/>
              <a:chOff x="5501160" y="2738880"/>
              <a:chExt cx="285480" cy="285480"/>
            </a:xfrm>
          </p:grpSpPr>
          <p:pic>
            <p:nvPicPr>
              <p:cNvPr id="262" name="Oval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501160" y="2738880"/>
                <a:ext cx="28548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4976400">
                <a:off x="5544360" y="2787120"/>
                <a:ext cx="19368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"/>
            <p:cNvGrpSpPr/>
            <p:nvPr/>
          </p:nvGrpSpPr>
          <p:grpSpPr>
            <a:xfrm>
              <a:off x="5492520" y="2775960"/>
              <a:ext cx="108720" cy="241920"/>
              <a:chOff x="5492520" y="2775960"/>
              <a:chExt cx="108720" cy="241920"/>
            </a:xfrm>
          </p:grpSpPr>
          <p:grpSp>
            <p:nvGrpSpPr>
              <p:cNvPr id="265" name="Group 16"/>
              <p:cNvGrpSpPr/>
              <p:nvPr/>
            </p:nvGrpSpPr>
            <p:grpSpPr>
              <a:xfrm>
                <a:off x="5495400" y="2820600"/>
                <a:ext cx="105840" cy="197280"/>
                <a:chOff x="5495400" y="2820600"/>
                <a:chExt cx="105840" cy="197280"/>
              </a:xfrm>
            </p:grpSpPr>
            <p:sp>
              <p:nvSpPr>
                <p:cNvPr id="266" name="AutoShape 17"/>
                <p:cNvSpPr/>
                <p:nvPr/>
              </p:nvSpPr>
              <p:spPr>
                <a:xfrm flipH="1" flipV="1" rot="8941800">
                  <a:off x="5530320" y="28717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AutoShape 18"/>
                <p:cNvSpPr/>
                <p:nvPr/>
              </p:nvSpPr>
              <p:spPr>
                <a:xfrm flipH="1" flipV="1" rot="9757200">
                  <a:off x="5518800" y="28512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19"/>
                <p:cNvSpPr/>
                <p:nvPr/>
              </p:nvSpPr>
              <p:spPr>
                <a:xfrm flipH="1" flipV="1" rot="10053000">
                  <a:off x="5515920" y="28371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20"/>
                <p:cNvSpPr/>
                <p:nvPr/>
              </p:nvSpPr>
              <p:spPr>
                <a:xfrm flipH="1" flipV="1" rot="10585200">
                  <a:off x="5512320" y="28209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21"/>
              <p:cNvGrpSpPr/>
              <p:nvPr/>
            </p:nvGrpSpPr>
            <p:grpSpPr>
              <a:xfrm>
                <a:off x="5492520" y="2775960"/>
                <a:ext cx="82080" cy="202680"/>
                <a:chOff x="5492520" y="2775960"/>
                <a:chExt cx="82080" cy="202680"/>
              </a:xfrm>
            </p:grpSpPr>
            <p:sp>
              <p:nvSpPr>
                <p:cNvPr id="271" name="AutoShape 22"/>
                <p:cNvSpPr/>
                <p:nvPr/>
              </p:nvSpPr>
              <p:spPr>
                <a:xfrm flipH="1" flipV="1" rot="10294800">
                  <a:off x="5513400" y="28317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23"/>
                <p:cNvSpPr/>
                <p:nvPr/>
              </p:nvSpPr>
              <p:spPr>
                <a:xfrm flipH="1" flipV="1" rot="11110200">
                  <a:off x="5511240" y="28076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24"/>
                <p:cNvSpPr/>
                <p:nvPr/>
              </p:nvSpPr>
              <p:spPr>
                <a:xfrm flipH="1" flipV="1" rot="11406000">
                  <a:off x="5511600" y="27939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25"/>
                <p:cNvSpPr/>
                <p:nvPr/>
              </p:nvSpPr>
              <p:spPr>
                <a:xfrm flipH="1" flipV="1" rot="11938200">
                  <a:off x="5515200" y="27777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Arc 26"/>
            <p:cNvSpPr/>
            <p:nvPr/>
          </p:nvSpPr>
          <p:spPr>
            <a:xfrm flipH="1" rot="1129200">
              <a:off x="5486040" y="272484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Picture 27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3600">
              <a:off x="5578200" y="276192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Group 28"/>
          <p:cNvGrpSpPr/>
          <p:nvPr/>
        </p:nvGrpSpPr>
        <p:grpSpPr>
          <a:xfrm>
            <a:off x="2473920" y="3186720"/>
            <a:ext cx="398880" cy="406800"/>
            <a:chOff x="2473920" y="3186720"/>
            <a:chExt cx="398880" cy="406800"/>
          </a:xfrm>
        </p:grpSpPr>
        <p:pic>
          <p:nvPicPr>
            <p:cNvPr id="278" name="Picture 29" descr="circuler_1"/>
            <p:cNvPicPr/>
            <p:nvPr/>
          </p:nvPicPr>
          <p:blipFill>
            <a:blip r:embed="rId4"/>
            <a:stretch/>
          </p:blipFill>
          <p:spPr>
            <a:xfrm rot="4978200">
              <a:off x="2532960" y="325008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Oval 30"/>
            <p:cNvGrpSpPr/>
            <p:nvPr/>
          </p:nvGrpSpPr>
          <p:grpSpPr>
            <a:xfrm>
              <a:off x="2531160" y="3243240"/>
              <a:ext cx="285480" cy="285840"/>
              <a:chOff x="2531160" y="3243240"/>
              <a:chExt cx="285480" cy="285840"/>
            </a:xfrm>
          </p:grpSpPr>
          <p:pic>
            <p:nvPicPr>
              <p:cNvPr id="280" name="Oval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531160" y="3243240"/>
                <a:ext cx="28548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 rot="4976400">
                <a:off x="2574720" y="3288960"/>
                <a:ext cx="19368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31"/>
            <p:cNvGrpSpPr/>
            <p:nvPr/>
          </p:nvGrpSpPr>
          <p:grpSpPr>
            <a:xfrm>
              <a:off x="2523960" y="3279240"/>
              <a:ext cx="108720" cy="241920"/>
              <a:chOff x="2523960" y="3279240"/>
              <a:chExt cx="108720" cy="241920"/>
            </a:xfrm>
          </p:grpSpPr>
          <p:grpSp>
            <p:nvGrpSpPr>
              <p:cNvPr id="283" name="Group 32"/>
              <p:cNvGrpSpPr/>
              <p:nvPr/>
            </p:nvGrpSpPr>
            <p:grpSpPr>
              <a:xfrm>
                <a:off x="2526840" y="3323880"/>
                <a:ext cx="105840" cy="197280"/>
                <a:chOff x="2526840" y="3323880"/>
                <a:chExt cx="105840" cy="197280"/>
              </a:xfrm>
            </p:grpSpPr>
            <p:sp>
              <p:nvSpPr>
                <p:cNvPr id="284" name="AutoShape 33"/>
                <p:cNvSpPr/>
                <p:nvPr/>
              </p:nvSpPr>
              <p:spPr>
                <a:xfrm flipH="1" flipV="1" rot="8941800">
                  <a:off x="2561760" y="33750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34"/>
                <p:cNvSpPr/>
                <p:nvPr/>
              </p:nvSpPr>
              <p:spPr>
                <a:xfrm flipH="1" flipV="1" rot="9757200">
                  <a:off x="2550240" y="33544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35"/>
                <p:cNvSpPr/>
                <p:nvPr/>
              </p:nvSpPr>
              <p:spPr>
                <a:xfrm flipH="1" flipV="1" rot="10053000">
                  <a:off x="2547360" y="33404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AutoShape 36"/>
                <p:cNvSpPr/>
                <p:nvPr/>
              </p:nvSpPr>
              <p:spPr>
                <a:xfrm flipH="1" flipV="1" rot="10585200">
                  <a:off x="2543760" y="33242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37"/>
              <p:cNvGrpSpPr/>
              <p:nvPr/>
            </p:nvGrpSpPr>
            <p:grpSpPr>
              <a:xfrm>
                <a:off x="2523960" y="3279240"/>
                <a:ext cx="82080" cy="202680"/>
                <a:chOff x="2523960" y="3279240"/>
                <a:chExt cx="82080" cy="202680"/>
              </a:xfrm>
            </p:grpSpPr>
            <p:sp>
              <p:nvSpPr>
                <p:cNvPr id="289" name="AutoShape 38"/>
                <p:cNvSpPr/>
                <p:nvPr/>
              </p:nvSpPr>
              <p:spPr>
                <a:xfrm flipH="1" flipV="1" rot="10294800">
                  <a:off x="2544840" y="333504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39"/>
                <p:cNvSpPr/>
                <p:nvPr/>
              </p:nvSpPr>
              <p:spPr>
                <a:xfrm flipH="1" flipV="1" rot="11110200">
                  <a:off x="2542680" y="33109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AutoShape 40"/>
                <p:cNvSpPr/>
                <p:nvPr/>
              </p:nvSpPr>
              <p:spPr>
                <a:xfrm flipH="1" flipV="1" rot="11406000">
                  <a:off x="2543040" y="32972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AutoShape 41"/>
                <p:cNvSpPr/>
                <p:nvPr/>
              </p:nvSpPr>
              <p:spPr>
                <a:xfrm flipH="1" flipV="1" rot="11938200">
                  <a:off x="2546640" y="32810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3" name="Arc 42"/>
            <p:cNvSpPr/>
            <p:nvPr/>
          </p:nvSpPr>
          <p:spPr>
            <a:xfrm flipH="1" rot="1129200">
              <a:off x="2517480" y="322812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4" name="Picture 43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2609640" y="326520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5" name="Group 44"/>
          <p:cNvGrpSpPr/>
          <p:nvPr/>
        </p:nvGrpSpPr>
        <p:grpSpPr>
          <a:xfrm>
            <a:off x="4447080" y="5632920"/>
            <a:ext cx="398880" cy="406800"/>
            <a:chOff x="4447080" y="5632920"/>
            <a:chExt cx="398880" cy="406800"/>
          </a:xfrm>
        </p:grpSpPr>
        <p:pic>
          <p:nvPicPr>
            <p:cNvPr id="296" name="Picture 45" descr="circuler_1"/>
            <p:cNvPicPr/>
            <p:nvPr/>
          </p:nvPicPr>
          <p:blipFill>
            <a:blip r:embed="rId7"/>
            <a:stretch/>
          </p:blipFill>
          <p:spPr>
            <a:xfrm rot="4978200">
              <a:off x="4506120" y="569628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Oval 46"/>
            <p:cNvGrpSpPr/>
            <p:nvPr/>
          </p:nvGrpSpPr>
          <p:grpSpPr>
            <a:xfrm>
              <a:off x="4507200" y="5686560"/>
              <a:ext cx="280440" cy="285840"/>
              <a:chOff x="4507200" y="5686560"/>
              <a:chExt cx="280440" cy="285840"/>
            </a:xfrm>
          </p:grpSpPr>
          <p:pic>
            <p:nvPicPr>
              <p:cNvPr id="298" name="Oval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507200" y="5686560"/>
                <a:ext cx="28044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4976400">
                <a:off x="4549320" y="5733720"/>
                <a:ext cx="19368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47"/>
            <p:cNvGrpSpPr/>
            <p:nvPr/>
          </p:nvGrpSpPr>
          <p:grpSpPr>
            <a:xfrm>
              <a:off x="4497120" y="5725440"/>
              <a:ext cx="108720" cy="241920"/>
              <a:chOff x="4497120" y="5725440"/>
              <a:chExt cx="108720" cy="241920"/>
            </a:xfrm>
          </p:grpSpPr>
          <p:grpSp>
            <p:nvGrpSpPr>
              <p:cNvPr id="301" name="Group 48"/>
              <p:cNvGrpSpPr/>
              <p:nvPr/>
            </p:nvGrpSpPr>
            <p:grpSpPr>
              <a:xfrm>
                <a:off x="4500000" y="5770080"/>
                <a:ext cx="105840" cy="197280"/>
                <a:chOff x="4500000" y="5770080"/>
                <a:chExt cx="105840" cy="197280"/>
              </a:xfrm>
            </p:grpSpPr>
            <p:sp>
              <p:nvSpPr>
                <p:cNvPr id="302" name="AutoShape 49"/>
                <p:cNvSpPr/>
                <p:nvPr/>
              </p:nvSpPr>
              <p:spPr>
                <a:xfrm flipH="1" flipV="1" rot="8941800">
                  <a:off x="4534920" y="58212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AutoShape 50"/>
                <p:cNvSpPr/>
                <p:nvPr/>
              </p:nvSpPr>
              <p:spPr>
                <a:xfrm flipH="1" flipV="1" rot="9757200">
                  <a:off x="4523400" y="58006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51"/>
                <p:cNvSpPr/>
                <p:nvPr/>
              </p:nvSpPr>
              <p:spPr>
                <a:xfrm flipH="1" flipV="1" rot="10053000">
                  <a:off x="4520520" y="57866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52"/>
                <p:cNvSpPr/>
                <p:nvPr/>
              </p:nvSpPr>
              <p:spPr>
                <a:xfrm flipH="1" flipV="1" rot="10585200">
                  <a:off x="4516920" y="57704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53"/>
              <p:cNvGrpSpPr/>
              <p:nvPr/>
            </p:nvGrpSpPr>
            <p:grpSpPr>
              <a:xfrm>
                <a:off x="4497120" y="5725440"/>
                <a:ext cx="82080" cy="202680"/>
                <a:chOff x="4497120" y="5725440"/>
                <a:chExt cx="82080" cy="202680"/>
              </a:xfrm>
            </p:grpSpPr>
            <p:sp>
              <p:nvSpPr>
                <p:cNvPr id="307" name="AutoShape 54"/>
                <p:cNvSpPr/>
                <p:nvPr/>
              </p:nvSpPr>
              <p:spPr>
                <a:xfrm flipH="1" flipV="1" rot="10294800">
                  <a:off x="4518000" y="578124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55"/>
                <p:cNvSpPr/>
                <p:nvPr/>
              </p:nvSpPr>
              <p:spPr>
                <a:xfrm flipH="1" flipV="1" rot="11110200">
                  <a:off x="4515840" y="57571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56"/>
                <p:cNvSpPr/>
                <p:nvPr/>
              </p:nvSpPr>
              <p:spPr>
                <a:xfrm flipH="1" flipV="1" rot="11406000">
                  <a:off x="4516200" y="5743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AutoShape 57"/>
                <p:cNvSpPr/>
                <p:nvPr/>
              </p:nvSpPr>
              <p:spPr>
                <a:xfrm flipH="1" flipV="1" rot="11938200">
                  <a:off x="4519800" y="572724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Arc 58"/>
            <p:cNvSpPr/>
            <p:nvPr/>
          </p:nvSpPr>
          <p:spPr>
            <a:xfrm flipH="1" rot="1129200">
              <a:off x="4490640" y="5674320"/>
              <a:ext cx="311040" cy="323640"/>
            </a:xfrm>
            <a:custGeom>
              <a:avLst/>
              <a:gdLst>
                <a:gd name="textAreaLeft" fmla="*/ 360 w 311040"/>
                <a:gd name="textAreaRight" fmla="*/ 311760 w 3110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Picture 59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4582800" y="571140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Text Box 60"/>
          <p:cNvSpPr/>
          <p:nvPr/>
        </p:nvSpPr>
        <p:spPr>
          <a:xfrm>
            <a:off x="332172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1"/>
          <p:cNvSpPr/>
          <p:nvPr/>
        </p:nvSpPr>
        <p:spPr>
          <a:xfrm>
            <a:off x="4748760" y="3556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2"/>
          <p:cNvSpPr/>
          <p:nvPr/>
        </p:nvSpPr>
        <p:spPr>
          <a:xfrm>
            <a:off x="4258080" y="48546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63"/>
          <p:cNvSpPr/>
          <p:nvPr/>
        </p:nvSpPr>
        <p:spPr>
          <a:xfrm>
            <a:off x="6796080" y="2376360"/>
            <a:ext cx="150984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4"/>
          <p:cNvSpPr/>
          <p:nvPr/>
        </p:nvSpPr>
        <p:spPr>
          <a:xfrm>
            <a:off x="5857920" y="5521320"/>
            <a:ext cx="150984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5"/>
          <p:cNvSpPr/>
          <p:nvPr/>
        </p:nvSpPr>
        <p:spPr>
          <a:xfrm>
            <a:off x="289080" y="3006720"/>
            <a:ext cx="150948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29200" y="58672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15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6:41:26Z</dcterms:created>
  <dc:creator>微软中国</dc:creator>
  <dc:description/>
  <dc:language>en-US</dc:language>
  <cp:lastModifiedBy>Administrator</cp:lastModifiedBy>
  <dcterms:modified xsi:type="dcterms:W3CDTF">2015-06-29T03:48:25Z</dcterms:modified>
  <cp:revision>3</cp:revision>
  <dc:subject/>
  <dc:title>PowerTemplate</dc:title>
</cp:coreProperties>
</file>