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F037-96D9-49FA-BD4D-86B93717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BF28-BCD2-42A7-9827-04EFB7B3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043-6063-4088-9857-0097DBF7B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0442-BE3F-45E9-A769-8FB91DCB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7211-EA7C-4E9F-B644-0E58714F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829-FB50-4C03-A493-BE1426CA5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F2D0-C80B-4D49-9340-3C4998E7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A1D3-09AC-4529-B934-83B482D2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07B-4FF6-4E22-8A6D-7E7D8D5E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050-23FE-44F5-BEF2-4C266BBF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E14-857E-4CAC-A5EB-E44595FB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CB57-47C7-4578-864A-E5AEB59E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C1A3-0C3C-43B0-815C-EA88810B6C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baidu.com/link?url=9-MJGJqjJ4zBBpC8yDF8xDh7dySjAFF9SmUAbEkHZc38N6cxUGALlPRHITfLxpvOVTjCKUnjglQv" TargetMode="External"/><Relationship Id="rId3" Type="http://schemas.openxmlformats.org/officeDocument/2006/relationships/hyperlink" Target="http://www.baidu.com/link?url=9-MJGJqjJ4zBBpC8yDF8xDh7dySjAFF9SmUAbEkHZc38N6cxUGALlPRHITfLxpvOVTjCKUnjglQv" TargetMode="External"/><Relationship Id="rId4" Type="http://schemas.openxmlformats.org/officeDocument/2006/relationships/hyperlink" Target="http://www.baidu.com/link?url=9-MJGJqjJ4zBBpC8yDF8xDh7dySjAFF9SmUAbEkHZc38N6cxUGALlPRHITfLxpvOVTjCKUnjglQv" TargetMode="External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v.youku.com/v_show/id_XMTYwOTUxODgw.html" TargetMode="External"/><Relationship Id="rId3" Type="http://schemas.openxmlformats.org/officeDocument/2006/relationships/hyperlink" Target="http://v.ku6.com/show/idsKVw9-vzRXwT6TidDGIw...html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475920"/>
            <a:ext cx="66596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cc00"/>
                </a:solidFill>
                <a:latin typeface="Arial"/>
              </a:rPr>
              <a:t>OPPO   </a:t>
            </a:r>
            <a:r>
              <a:rPr b="0" lang="zh-CN" sz="4800" spc="-1" strike="noStrike">
                <a:solidFill>
                  <a:srgbClr val="00cc00"/>
                </a:solidFill>
                <a:latin typeface="Arial"/>
              </a:rPr>
              <a:t>手机</a:t>
            </a:r>
            <a:r>
              <a:rPr b="0" lang="zh-CN" sz="6000" spc="-1" strike="noStrike">
                <a:solidFill>
                  <a:srgbClr val="00cc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47640" y="2205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案 例 分 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http://v.ku6.com/show/KCgpYO3Fa1QIdLXQdWjS3A...html?nr=1&amp;nv=1&amp;loc=tashangchua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9640" y="1628640"/>
            <a:ext cx="3333600" cy="4464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5003640" y="1916280"/>
            <a:ext cx="333396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论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PP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唯美的广告画面，亦或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PP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手机的音效质感，并选择作为青春时尚代表的优质偶像代言，无疑是最完美的契合。上市以来，颇受时尚潮人的青睐和好评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PP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手机广告，成为了步步高锤炼自己的品牌形象，引领大家延续唯美之旅又一张王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谢谢观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cc00"/>
                </a:solidFill>
                <a:latin typeface="Arial"/>
              </a:rPr>
              <a:t>OPPO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步步高的华丽转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世间自有公道，付出总有回报，说到不如做到，做就要做最好。步步高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······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随着时间的流逝，“步步高”这个品牌的形象都过于固化，它几乎已经成为了部分小家电的代名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为了打破“步步高”品牌给人一向做小家电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VD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电话机、复读机等）的印象束缚，在当年步步高视听电子有限公司着手策划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PPO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个品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0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，以“我的音乐梦想”为主题的广告开始播出；并在湖南卫视的超级女声中投放广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an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广告到新闻插页广告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PP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将网络像电视一样运用得非常到位。而且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PPO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新浪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网络歌曲排行榜”更是搞得轰轰烈烈，吸引了不知多少网名的眼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189080" y="2602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cc00"/>
                </a:solidFill>
                <a:latin typeface="Arial"/>
              </a:rPr>
              <a:t>OPPO  </a:t>
            </a:r>
            <a:r>
              <a:rPr b="0" lang="zh-CN" sz="3600" spc="-1" strike="noStrike">
                <a:solidFill>
                  <a:srgbClr val="00cc00"/>
                </a:solidFill>
                <a:latin typeface="Arial"/>
              </a:rPr>
              <a:t>步步高的洋派闺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韩系风范  唯美广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PP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广告导演和演员均是来自韩国，拍摄也是按照韩国偶像剧的标准进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精工时尚  独具慧眼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PP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做工选料上，均是精工细作独辟蹊径，市面上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PP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款机器，各有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坚定高端  细分人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对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PP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价格成为其塑造高端品牌的一个元素，他的价格定位当之无愧的稳居第一阵营；其目标消费群是喜欢时尚的年轻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2920" y="1844280"/>
            <a:ext cx="40388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颠覆渠道  欲在通吃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PP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摒弃行业一般采用区域代理形式，而是选择先在各地家电市场开设专柜、专卖店。用行业人士的话来说，就是“用销售家电产品的方式来销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M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锤炼文化  沉淀品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知名度短期提升的同时，品牌形象的培育却需要更长的时间，需要企业为其持续不断的注入文化、时尚等元素，向世人展示产品的灵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   步步高推出了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PPO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音乐手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637000"/>
            <a:ext cx="8229600" cy="37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创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52360" y="260280"/>
            <a:ext cx="518472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PPO  Real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PP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旗下最为年轻和潮流的系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SLOGA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ive  For 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世界太烦扰复杂，成年人的生活太多压力，我是与众不同的，喜欢莫名其妙的崇拜自己，我有个性我爱张扬，就算最平凡的生活我也能够实现自我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ea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每一款手机都代表了一种生活态度，年轻人喜欢新奇的娱乐方式，喜欢无拘无束的生活，喜欢肆意的宣扬自己的性格，喜欢精美的外观和个性的设计，这些就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Re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宋体"/>
                <a:hlinkClick r:id="rId2"/>
              </a:rPr>
              <a:t>http://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宋体"/>
                <a:hlinkClick r:id="rId3"/>
              </a:rPr>
              <a:t>www.baidu.com/link?url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宋体"/>
                <a:hlinkClick r:id="rId4"/>
              </a:rPr>
              <a:t>=9-MJGJqjJ4zBBpC8yDF8xDh7dySjAFF9SmUAbEkHZc38N6cxUGALlPRHITfLxpvOVTjCKUnjglQ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68360" y="1628640"/>
            <a:ext cx="4032360" cy="208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4716360" y="1600200"/>
            <a:ext cx="3888000" cy="2185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468360" y="4005360"/>
            <a:ext cx="403236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4716360" y="4076640"/>
            <a:ext cx="388800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OPPO  Ulike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OPP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旗下的新锐高端女性系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You think you’ve got Ulike Sty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Ulike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无既定的中文意思，如果它有一种定义，那便是她的归属，她只属于内心自由的女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颗自由不羁的灵魂才是你永恒的身份标签，这就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Ulike Styl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追求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                  </a:t>
            </a: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OP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99ff"/>
                </a:solidFill>
                <a:latin typeface="Arial"/>
              </a:rPr>
              <a:t>倡导以自由、风尚和美型为主的都市定位，为年轻时尚人士带来一系列设计至臻考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v.youku.com/v_show/id_XMTYwOTUxODgw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v.ku6.com/show/idsKVw9-vzRXwT6TidDGIw..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OPPO  Find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系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作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PPO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品牌旗下最重要的分品牌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Fin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将为都市年轻人提供与众不同的品牌体验和品质卓越的智能手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年轻消费者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PPO Fin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代表了源自探索和想象的智慧、自由和自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OPPO FIN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认为：在纷繁复杂的现实社会中，我们必须不断的去探索世界，追寻事物的真相，探究自我，才能完善自己的内心和精神。并在探索的过程中增长智慧，获得更大程度的自由。并且，探索是永恒的主题，因为我们对自己和世界的认知远远不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08:00:53Z</dcterms:created>
  <dc:creator>微软用户</dc:creator>
  <dc:description/>
  <dc:language>en-US</dc:language>
  <cp:lastModifiedBy>微软用户</cp:lastModifiedBy>
  <dcterms:modified xsi:type="dcterms:W3CDTF">2013-04-11T10:44:11Z</dcterms:modified>
  <cp:revision>3</cp:revision>
  <dc:subject/>
  <dc:title>OPPO</dc:title>
</cp:coreProperties>
</file>