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32E438-D3AA-4FD9-AC2E-6BF49245EC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D2B21C-EF42-4634-9403-868FE0CD92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A1EE11-6701-4B27-9C2F-A63ECF931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12BFF6-4F37-4F4A-9197-4F7B5C6F2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B8581-DA54-44DB-AD20-C455ED312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EDC75-3268-4526-901C-443DE1F1A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409E19-FC71-489D-A034-9C19C3599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3BD43B-0E7C-4EE6-9CC1-EF95649864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BF4D5B-38DF-4B12-9342-0914B84D5F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EDAA27-2A04-4DB7-B3E3-43B834015F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78D044-B929-46A3-A3F2-7B8EF93F98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6ACDAD-10C2-4DDF-8C27-6C3F779FA9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9CCC0D-990F-4221-812F-F942F607C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B5D888-9D1A-42D0-9187-949009D2EB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F53CB0-597B-4370-BA13-2B8D9304F7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DE55D0-29B2-4688-9DD1-9695D98F0A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F3D69E-05FA-4FBA-A632-BE051D7262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7536FB-54E7-4CE9-92F3-2956DF7E5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152F48-E84C-4DBC-A97D-8BC72637C6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0912B2-F595-4DA4-8463-89FAFECC09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1DFDAC-B64D-4013-96F1-285EAFB8DD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52ADCB-BD3C-467C-84E0-23C24CC838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671AF2-EF66-45E8-A951-3408CFFD6E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99CE69-E5EA-4412-AC2A-CB028D786C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A69CC1-017C-4719-87E1-5EC87FDA24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15F44B-6E6B-437E-BBBA-638CBF21EC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DD2BA8-00E6-4139-90BC-E82EBCDD43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57CCEE-3F66-41A7-ADA2-376F6C42AB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43CE20-FD0B-45DC-97CB-09BFCA1ECA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1D7549-187B-4BB2-A913-9BD6D35D64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56C6A-F75A-4DE1-98A5-96983F409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1C159F-39A1-472D-8FAC-1DC9920661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71E1E8-A849-4939-BA93-4256374C3F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2943F8-4E4B-4FAE-825A-7C97FA7BCA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8616C6-CBCE-4769-9640-348511F633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C400CF-B596-416F-AA28-EA78894ACA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4F6AB0-D73F-4A4F-A4C3-B66D5781DB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186423-6BA0-4911-A64E-96E65B4F9E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862B63-A46F-495B-94F0-5720B2A348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332640-0CC3-45D5-94FF-5CBED54985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736229-D3F7-48C5-A10B-C3EBF9E623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E4421-E44C-498D-92A5-E48EA2D2C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8BDFC5-79C5-49CB-8DF1-0F8E6A4BB7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17F254-6CEE-4920-BC79-E9EE353E6B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9B5F89-3FD4-4659-ADEA-D6BEC3884D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072718-787E-4D63-B6CB-0BE7D05FAF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5A1D88-6C85-4773-8072-10EE78FAC0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39CF9E-E962-4815-9D86-3795CAE2CF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A5AD2F-4B9A-4416-9896-34C2DC69FD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1848E1-1A5B-4288-8FAA-165915BC56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FA6AEA-AF90-4985-9394-31B1E6849E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C0E68C-DDE9-4E43-A556-EED33DF679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CEB6A-ADCA-4A68-AA84-E56AE6E73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3788B0-FFFD-4E76-9AE5-B773957FF3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41493E-2C47-465E-B4E7-A591385BC1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B3E289-2943-4365-857A-B348DD2ABF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10D0BC-B520-4867-8CEB-7C6B851C4F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8B0387-6A90-4F01-AD1C-1141E77BC6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81A1E7-6F8A-4655-B63A-5222250CFA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99FE0A-F247-404B-889E-84AD6DD599D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BABD3-AABB-4FBB-8F43-815748BD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E899F-FBF9-41A3-9BE8-F580869CB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BF1D0-8428-4A9B-9D82-019461AC2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E54E-B025-4516-964A-CBCC03188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92AA-E22A-44E0-819A-C37E2212B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87CD6-D94A-4E5A-B901-52DD086F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C12C-3B16-4D7D-90FE-289712B38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115A4-4EBF-43EA-AAB2-9956753DB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E1E33-C15A-4625-A871-E070B98AD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B03AD-C067-4D11-87AC-FA5FA7A35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C4ED1-7AE8-44C6-8DA9-EC8F97800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13C4E-E1F0-441E-A4A8-50BB47CFB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62039-9AD4-42CA-A09A-9869D8B78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3769A-CECA-4E03-8C4F-C674F471A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CE826-52DC-45BD-9435-2CE5CB912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4FF2D-681E-4DA3-A0A2-EF140EFDD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2A0AC-A54E-417F-B8F3-5E7B3D4BE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7F7F0-53B1-4F16-9530-E212B455D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EF077-9488-4199-B75A-683BF33E0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32273-2C6C-47E1-8DE2-8151DD94C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03781-B91C-4F86-A066-F5788B442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73302C-939B-4687-A0B8-AAA087DC21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BA42A-A557-436B-90F5-A0B1EAF5A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11BAC-071B-44E4-843B-D91085FFA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41F7C-8C5A-402B-9D19-342BBDAE4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06B36-3805-4404-A60A-71F0C5E69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EC7C9C-2E75-4865-8901-BF8F5CB6A8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535E3-828E-4CFB-8A35-D4AC7C482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CB413-303C-4105-B128-E03BC7828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B9F89-06F0-45F8-B8A6-B73E68A2A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033DC5-85EC-49E5-855D-2C2EA51DA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1438CF-CC3B-41BC-B78C-34A760976D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9ECCE8-2E31-4883-BBEB-C71E6A496A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011DB4-3558-44D1-9200-9A70025494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FFF5D-1FD9-4AFB-B95B-071BAEC27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6DF0E-4FDE-448F-8021-FFB1C90E5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3845AF-1133-44AF-A4B3-D57E18481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08D75-5F94-44AF-9CA9-FCF5732F8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4487E-7B55-483D-8EAD-E61A67301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23226-9767-4546-9135-0614CE0FA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3627D-EDCE-4278-9A57-0C2E7936B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9C5EF-F76C-4B9F-9CE1-707D4BCA3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0C100-2069-4B76-A17A-AB4FED7E9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016993-E8F8-4590-B5B7-8EBBD953D3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840EDA-DE06-4165-8BD4-A40733C3AF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A89051-718D-47EA-98AD-3848234E5E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10C15-B573-4A59-B201-7DDCAF645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A7FE68-5728-42C3-95D4-3ACF167D20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3063BA-6EE1-438E-A05B-C48ADA394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A1904-6CA6-455C-B776-22092924C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C63FE-AB68-4ACA-BE73-A5EDF8A53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93957-CFBD-400C-A7F9-AD118825D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F7A42-9C49-46B7-AAD7-02B1224D1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B686D-5115-4EB5-90F1-89062914F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32995-D11F-45D8-9958-8BE5D19BA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44AC40-CFD9-4B03-ADDE-F53492AEB0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05D7E6-16B7-41B4-964A-36CA03F800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54A1C0-21CD-4DD1-8D9B-4E373227DC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3956E8-9F20-4628-8379-0FF802FDD2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7C9B5-B9BD-4967-84E7-F921864A4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63FBC6-3111-4036-A0CC-3592108B6E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E6F03A-81B1-48E7-8E37-4C94DA6A6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78FDBE-19DA-4F2D-9291-2CB4124142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F8A22-7591-4E68-8871-459B2BFFB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EDAA4-5575-4A80-8896-6EDA8EEAFB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1352A-AF81-48CD-AC84-279DE17491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0FD27B-BA86-4558-B783-F6CF132CB2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2BEFB6-4E83-4F5C-9B5F-2002FE3217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B5C14A-151B-4161-8E39-2DDBAC54AE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17D0F6-09A9-4D4C-AACA-22633D04B1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B23917-580B-495F-98D1-63A2DC970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135365-4768-46D1-8F1F-D123E6DD9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FA2FB-2961-4A5F-AA32-05FB2B7719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8D9EE5-04E4-44F5-A914-C11278083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309D6A-EA1A-462D-92E4-F0D81F5A20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586A3-5676-44E9-AD56-982649C10E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E201B-7F03-4016-B62F-8972E01F19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9A45AE-1563-4C9B-9F20-C870154437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FD1415-4667-4498-BBF4-C64785B7B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37483-8B63-4F25-981D-AC9C598E99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0A45F2-75D5-4EE3-A9C2-182580C820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05A7FA-FF14-4E72-B8A0-FF5F2EDDA7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9D2E64-F19B-4B95-B672-8DBF425F15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FF654A-5AF9-424D-A2F5-3B83531856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PlaceHolder 1"/>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3"/>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8C37-A222-4F9C-BB0E-F26FEF5E7CF3}"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PlaceHolder 1"/>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3"/>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A091-5256-48E4-8F3B-11B562CE2815}"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PlaceHolder 1"/>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3"/>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B6C7-2A60-4107-8645-0AB5D0A339B2}"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5" name="PlaceHolder 1"/>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3"/>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74FB-E601-45FC-BB49-FD2FFCA0A05F}"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4D91-2A80-49C1-916F-2A48EE49C366}"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B941-2E55-4075-98CF-6A9C74FF3E34}"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340B-232E-422B-8AEB-B9C6405F93E1}"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4284-B4A0-401F-A7E4-94C4EDEC14F8}"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5FDF-622F-4634-B99B-DF2468DBC940}"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13F9-CD95-45EA-9938-2D2B50854338}"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AE3D-D72F-4539-A808-056B49E54495}"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3"/>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14B8-F956-4894-8741-B8C6B2A46E0E}"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565080" y="2130120"/>
            <a:ext cx="4894200" cy="1082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欧冠足球幻灯片模板</a:t>
            </a:r>
            <a:endParaRPr b="0" lang="en-US" sz="4000" spc="-1" strike="noStrike">
              <a:solidFill>
                <a:srgbClr val="000000"/>
              </a:solidFill>
              <a:latin typeface="Arial"/>
            </a:endParaRPr>
          </a:p>
        </p:txBody>
      </p:sp>
      <p:sp>
        <p:nvSpPr>
          <p:cNvPr id="507" name="PlaceHolder 2"/>
          <p:cNvSpPr>
            <a:spLocks noGrp="1"/>
          </p:cNvSpPr>
          <p:nvPr>
            <p:ph type="subTitle"/>
          </p:nvPr>
        </p:nvSpPr>
        <p:spPr>
          <a:xfrm>
            <a:off x="3563640" y="3141720"/>
            <a:ext cx="4895640" cy="5032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Lst>
            </a:pPr>
            <a:r>
              <a:rPr b="0" lang="zh-CN" sz="2000" spc="-1" strike="noStrike">
                <a:solidFill>
                  <a:srgbClr val="ffffff"/>
                </a:solidFill>
                <a:latin typeface="华文细黑"/>
                <a:ea typeface="华文细黑"/>
              </a:rPr>
              <a:t>西西软件园，</a:t>
            </a:r>
            <a:r>
              <a:rPr b="0" lang="en-US" sz="2000" spc="-1" strike="noStrike">
                <a:solidFill>
                  <a:srgbClr val="ffffff"/>
                </a:solidFill>
                <a:latin typeface="华文细黑"/>
                <a:ea typeface="华文细黑"/>
              </a:rPr>
              <a:t>WWW.CR173.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402920" y="274320"/>
            <a:ext cx="742644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509" name="PlaceHolder 2"/>
          <p:cNvSpPr>
            <a:spLocks noGrp="1"/>
          </p:cNvSpPr>
          <p:nvPr>
            <p:ph/>
          </p:nvPr>
        </p:nvSpPr>
        <p:spPr>
          <a:xfrm>
            <a:off x="1393920" y="1701720"/>
            <a:ext cx="7426080" cy="4175280"/>
          </a:xfrm>
          <a:prstGeom prst="rect">
            <a:avLst/>
          </a:prstGeom>
          <a:noFill/>
          <a:ln w="0">
            <a:noFill/>
          </a:ln>
        </p:spPr>
        <p:txBody>
          <a:bodyPr lIns="0" rIns="0" tIns="0" bIns="0" anchor="t">
            <a:normAutofit/>
          </a:bodyPr>
          <a:p>
            <a:pPr marL="343080" indent="0">
              <a:spcBef>
                <a:spcPts val="799"/>
              </a:spcBef>
              <a:buNone/>
              <a:tabLst>
                <a:tab algn="l" pos="0"/>
              </a:tabLst>
            </a:pPr>
            <a:endParaRPr b="0" lang="zh-CN"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430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ackslash"/>
              </a:rPr>
              <a:t>Thank you!</a:t>
            </a:r>
            <a:endParaRPr b="0" lang="en-US" sz="6600" spc="-1" strike="noStrike">
              <a:solidFill>
                <a:srgbClr val="000000"/>
              </a:solidFill>
              <a:latin typeface="Arial"/>
            </a:endParaRPr>
          </a:p>
        </p:txBody>
      </p:sp>
      <p:sp>
        <p:nvSpPr>
          <p:cNvPr id="511" name="矩形 3"/>
          <p:cNvSpPr/>
          <p:nvPr/>
        </p:nvSpPr>
        <p:spPr>
          <a:xfrm>
            <a:off x="301680" y="55944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c1c1d"/>
                </a:solidFill>
                <a:latin typeface="Arial"/>
              </a:rPr>
              <a:t>PPT</a:t>
            </a:r>
            <a:r>
              <a:rPr b="0" lang="zh-CN" sz="100" spc="-1" strike="noStrike">
                <a:solidFill>
                  <a:srgbClr val="0c1c1d"/>
                </a:solidFill>
                <a:latin typeface="Arial"/>
              </a:rPr>
              <a:t>模板下载：</a:t>
            </a:r>
            <a:r>
              <a:rPr b="0" lang="en-US" sz="100" spc="-1" strike="noStrike">
                <a:solidFill>
                  <a:srgbClr val="0c1c1d"/>
                </a:solidFill>
                <a:latin typeface="Arial"/>
              </a:rPr>
              <a:t>www.1ppt.com/moban/     </a:t>
            </a:r>
            <a:r>
              <a:rPr b="0" lang="zh-CN" sz="100" spc="-1" strike="noStrike">
                <a:solidFill>
                  <a:srgbClr val="0c1c1d"/>
                </a:solidFill>
                <a:latin typeface="Arial"/>
              </a:rPr>
              <a:t>行业</a:t>
            </a:r>
            <a:r>
              <a:rPr b="0" lang="en-US" sz="100" spc="-1" strike="noStrike">
                <a:solidFill>
                  <a:srgbClr val="0c1c1d"/>
                </a:solidFill>
                <a:latin typeface="Arial"/>
              </a:rPr>
              <a:t>PPT</a:t>
            </a:r>
            <a:r>
              <a:rPr b="0" lang="zh-CN" sz="100" spc="-1" strike="noStrike">
                <a:solidFill>
                  <a:srgbClr val="0c1c1d"/>
                </a:solidFill>
                <a:latin typeface="Arial"/>
              </a:rPr>
              <a:t>模板：</a:t>
            </a:r>
            <a:r>
              <a:rPr b="0" lang="en-US" sz="100" spc="-1" strike="noStrike">
                <a:solidFill>
                  <a:srgbClr val="0c1c1d"/>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c1c1d"/>
                </a:solidFill>
                <a:latin typeface="Arial"/>
              </a:rPr>
              <a:t>节日</a:t>
            </a:r>
            <a:r>
              <a:rPr b="0" lang="en-US" sz="100" spc="-1" strike="noStrike">
                <a:solidFill>
                  <a:srgbClr val="0c1c1d"/>
                </a:solidFill>
                <a:latin typeface="Arial"/>
              </a:rPr>
              <a:t>PPT</a:t>
            </a:r>
            <a:r>
              <a:rPr b="0" lang="zh-CN" sz="100" spc="-1" strike="noStrike">
                <a:solidFill>
                  <a:srgbClr val="0c1c1d"/>
                </a:solidFill>
                <a:latin typeface="Arial"/>
              </a:rPr>
              <a:t>模板：</a:t>
            </a:r>
            <a:r>
              <a:rPr b="0" lang="en-US" sz="100" spc="-1" strike="noStrike">
                <a:solidFill>
                  <a:srgbClr val="0c1c1d"/>
                </a:solidFill>
                <a:latin typeface="Arial"/>
              </a:rPr>
              <a:t>www.1ppt.com/jieri/           PPT</a:t>
            </a:r>
            <a:r>
              <a:rPr b="0" lang="zh-CN" sz="100" spc="-1" strike="noStrike">
                <a:solidFill>
                  <a:srgbClr val="0c1c1d"/>
                </a:solidFill>
                <a:latin typeface="Arial"/>
              </a:rPr>
              <a:t>素材下载：</a:t>
            </a:r>
            <a:r>
              <a:rPr b="0" lang="en-US" sz="100" spc="-1" strike="noStrike">
                <a:solidFill>
                  <a:srgbClr val="0c1c1d"/>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c1c1d"/>
                </a:solidFill>
                <a:latin typeface="Arial"/>
              </a:rPr>
              <a:t>PPT</a:t>
            </a:r>
            <a:r>
              <a:rPr b="0" lang="zh-CN" sz="100" spc="-1" strike="noStrike">
                <a:solidFill>
                  <a:srgbClr val="0c1c1d"/>
                </a:solidFill>
                <a:latin typeface="Arial"/>
              </a:rPr>
              <a:t>背景图片：</a:t>
            </a:r>
            <a:r>
              <a:rPr b="0" lang="en-US" sz="100" spc="-1" strike="noStrike">
                <a:solidFill>
                  <a:srgbClr val="0c1c1d"/>
                </a:solidFill>
                <a:latin typeface="Arial"/>
              </a:rPr>
              <a:t>www.1ppt.com/beijing/      PPT</a:t>
            </a:r>
            <a:r>
              <a:rPr b="0" lang="zh-CN" sz="100" spc="-1" strike="noStrike">
                <a:solidFill>
                  <a:srgbClr val="0c1c1d"/>
                </a:solidFill>
                <a:latin typeface="Arial"/>
              </a:rPr>
              <a:t>图表下载：</a:t>
            </a:r>
            <a:r>
              <a:rPr b="0" lang="en-US" sz="100" spc="-1" strike="noStrike">
                <a:solidFill>
                  <a:srgbClr val="0c1c1d"/>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c1c1d"/>
                </a:solidFill>
                <a:latin typeface="Arial"/>
              </a:rPr>
              <a:t>优秀</a:t>
            </a:r>
            <a:r>
              <a:rPr b="0" lang="en-US" sz="100" spc="-1" strike="noStrike">
                <a:solidFill>
                  <a:srgbClr val="0c1c1d"/>
                </a:solidFill>
                <a:latin typeface="Arial"/>
              </a:rPr>
              <a:t>PPT</a:t>
            </a:r>
            <a:r>
              <a:rPr b="0" lang="zh-CN" sz="100" spc="-1" strike="noStrike">
                <a:solidFill>
                  <a:srgbClr val="0c1c1d"/>
                </a:solidFill>
                <a:latin typeface="Arial"/>
              </a:rPr>
              <a:t>下载：</a:t>
            </a:r>
            <a:r>
              <a:rPr b="0" lang="en-US" sz="100" spc="-1" strike="noStrike">
                <a:solidFill>
                  <a:srgbClr val="0c1c1d"/>
                </a:solidFill>
                <a:latin typeface="Arial"/>
              </a:rPr>
              <a:t>www.1ppt.com/xiazai/        PPT</a:t>
            </a:r>
            <a:r>
              <a:rPr b="0" lang="zh-CN" sz="100" spc="-1" strike="noStrike">
                <a:solidFill>
                  <a:srgbClr val="0c1c1d"/>
                </a:solidFill>
                <a:latin typeface="Arial"/>
              </a:rPr>
              <a:t>教程： </a:t>
            </a:r>
            <a:r>
              <a:rPr b="0" lang="en-US" sz="100" spc="-1" strike="noStrike">
                <a:solidFill>
                  <a:srgbClr val="0c1c1d"/>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c1c1d"/>
                </a:solidFill>
                <a:latin typeface="Arial"/>
              </a:rPr>
              <a:t>Word</a:t>
            </a:r>
            <a:r>
              <a:rPr b="0" lang="zh-CN" sz="100" spc="-1" strike="noStrike">
                <a:solidFill>
                  <a:srgbClr val="0c1c1d"/>
                </a:solidFill>
                <a:latin typeface="Arial"/>
              </a:rPr>
              <a:t>教程： </a:t>
            </a:r>
            <a:r>
              <a:rPr b="0" lang="en-US" sz="100" spc="-1" strike="noStrike">
                <a:solidFill>
                  <a:srgbClr val="0c1c1d"/>
                </a:solidFill>
                <a:latin typeface="Arial"/>
              </a:rPr>
              <a:t>www.1ppt.com/word/              Excel</a:t>
            </a:r>
            <a:r>
              <a:rPr b="0" lang="zh-CN" sz="100" spc="-1" strike="noStrike">
                <a:solidFill>
                  <a:srgbClr val="0c1c1d"/>
                </a:solidFill>
                <a:latin typeface="Arial"/>
              </a:rPr>
              <a:t>教程：</a:t>
            </a:r>
            <a:r>
              <a:rPr b="0" lang="en-US" sz="100" spc="-1" strike="noStrike">
                <a:solidFill>
                  <a:srgbClr val="0c1c1d"/>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c1c1d"/>
                </a:solidFill>
                <a:latin typeface="Arial"/>
              </a:rPr>
              <a:t>资料下载：</a:t>
            </a:r>
            <a:r>
              <a:rPr b="0" lang="en-US" sz="100" spc="-1" strike="noStrike">
                <a:solidFill>
                  <a:srgbClr val="0c1c1d"/>
                </a:solidFill>
                <a:latin typeface="Arial"/>
              </a:rPr>
              <a:t>www.1ppt.com/ziliao/                PPT</a:t>
            </a:r>
            <a:r>
              <a:rPr b="0" lang="zh-CN" sz="100" spc="-1" strike="noStrike">
                <a:solidFill>
                  <a:srgbClr val="0c1c1d"/>
                </a:solidFill>
                <a:latin typeface="Arial"/>
              </a:rPr>
              <a:t>课件下载：</a:t>
            </a:r>
            <a:r>
              <a:rPr b="0" lang="en-US" sz="100" spc="-1" strike="noStrike">
                <a:solidFill>
                  <a:srgbClr val="0c1c1d"/>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c1c1d"/>
                </a:solidFill>
                <a:latin typeface="Arial"/>
              </a:rPr>
              <a:t>范文下载：</a:t>
            </a:r>
            <a:r>
              <a:rPr b="0" lang="en-US" sz="100" spc="-1" strike="noStrike">
                <a:solidFill>
                  <a:srgbClr val="0c1c1d"/>
                </a:solidFill>
                <a:latin typeface="Arial"/>
              </a:rPr>
              <a:t>www.1ppt.com/fanwen/             </a:t>
            </a:r>
            <a:r>
              <a:rPr b="0" lang="zh-CN" sz="100" spc="-1" strike="noStrike">
                <a:solidFill>
                  <a:srgbClr val="0c1c1d"/>
                </a:solidFill>
                <a:latin typeface="Arial"/>
              </a:rPr>
              <a:t>试卷下载：</a:t>
            </a:r>
            <a:r>
              <a:rPr b="0" lang="en-US" sz="100" spc="-1" strike="noStrike">
                <a:solidFill>
                  <a:srgbClr val="0c1c1d"/>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c1c1d"/>
                </a:solidFill>
                <a:latin typeface="Arial"/>
              </a:rPr>
              <a:t>教案下载：</a:t>
            </a:r>
            <a:r>
              <a:rPr b="0" lang="en-US" sz="100" spc="-1" strike="noStrike">
                <a:solidFill>
                  <a:srgbClr val="0c1c1d"/>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c1c1d"/>
                </a:solidFill>
                <a:latin typeface="Arial"/>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6T05:56:00Z</dcterms:created>
  <dc:creator>for_yang@qq.com</dc:creator>
  <dc:description>Made by Leawo Software. To find more free PowerPoint templates, please visit http://www.leawo.com/free-powerpoint-templates/</dc:description>
  <cp:keywords>UEFA Euro 2012 UEFA Euro 2012 PowerPoint template soccer PowerPoint template football PowerPoint template sports PowerPoint template free PowerPoint template download PPT template PowerPoint templates slideshow template POT POTX Power Point template slide show template</cp:keywords>
  <dc:language>en-US</dc:language>
  <cp:lastModifiedBy>Administrator</cp:lastModifiedBy>
  <dcterms:modified xsi:type="dcterms:W3CDTF">2015-07-10T02:31:09Z</dcterms:modified>
  <cp:revision>5</cp:revision>
  <dc:subject>PowerPoint template, UEFA Euro 2012</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67</vt:lpwstr>
  </property>
</Properties>
</file>