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A6D-D573-4200-81E8-5312E85D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E2E-4D42-4B39-A018-E5A3FA4A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4FC-4233-4A7B-9228-58EA40F9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B61-CA64-4E31-9ECA-96B627D6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495-B88D-4425-8CD2-B3849781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29F-BE8F-4850-9A33-6B0B986D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367-6F50-4D2C-B742-A28D2EFF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F40-3EE2-4DF7-A5ED-FCC6D96E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891-235B-4FA1-BE79-7C357197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B5D-4E99-4FF5-BEBC-8788B460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AF6-2D81-4458-9AF3-A5BF543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D6F-704F-48E2-B247-0A540829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078F-3D6E-46A1-9A41-2D8A111F1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200832213948268_2"/>
          <p:cNvPicPr/>
          <p:nvPr/>
        </p:nvPicPr>
        <p:blipFill>
          <a:blip r:embed="rId1"/>
          <a:srcRect l="0" t="0" r="11131" b="0"/>
          <a:stretch/>
        </p:blipFill>
        <p:spPr>
          <a:xfrm>
            <a:off x="0" y="-38160"/>
            <a:ext cx="9215280" cy="6896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run"/>
          <p:cNvPicPr/>
          <p:nvPr/>
        </p:nvPicPr>
        <p:blipFill>
          <a:blip r:embed="rId2"/>
          <a:stretch/>
        </p:blipFill>
        <p:spPr>
          <a:xfrm>
            <a:off x="1332000" y="1197000"/>
            <a:ext cx="3076560" cy="453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un"/>
          <p:cNvPicPr/>
          <p:nvPr/>
        </p:nvPicPr>
        <p:blipFill>
          <a:blip r:embed="rId3"/>
          <a:stretch/>
        </p:blipFill>
        <p:spPr>
          <a:xfrm>
            <a:off x="-252360" y="1700280"/>
            <a:ext cx="2585880" cy="3816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7"/>
          <p:cNvSpPr/>
          <p:nvPr/>
        </p:nvSpPr>
        <p:spPr>
          <a:xfrm>
            <a:off x="1790640" y="5805360"/>
            <a:ext cx="5634000" cy="703440"/>
          </a:xfrm>
          <a:prstGeom prst="rect">
            <a:avLst/>
          </a:prstGeom>
          <a:gradFill rotWithShape="0">
            <a:gsLst>
              <a:gs pos="0">
                <a:srgbClr val="262673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真广标"/>
                <a:ea typeface="汉真广标"/>
              </a:rPr>
              <a:t>给跑步新手的十条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http://my.inmagine.com/600wmz/30486c2a2e3e755f68/tetraimages/tt072/tt070229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全身心的爱去迎接每一天，每一个人，每一件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http://my.inmagine.com/600wmz/5963383e7970564d3e/ojoimages/oj066/pe0061091.jpg"/>
          <p:cNvPicPr/>
          <p:nvPr/>
        </p:nvPicPr>
        <p:blipFill>
          <a:blip r:embed="rId10"/>
          <a:srcRect l="0" t="0" r="60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621504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生中总要做几件有趣的事，试着去跑一次马拉松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Peace__Love__and_Running_by_FuzzyYellowDuckl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0" y="619128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得买双合适的鞋子，一定要呵护好你的双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8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http://my.inmagine.com/600wmz/30486c767542252a29/tetraimages/tt071/tt0138455.jpg"/>
          <p:cNvPicPr/>
          <p:nvPr/>
        </p:nvPicPr>
        <p:blipFill>
          <a:blip r:embed="rId1"/>
          <a:stretch/>
        </p:blipFill>
        <p:spPr>
          <a:xfrm>
            <a:off x="10717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不是运动员，别跑那么快，让身体决定速度和强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2393474195_451bdbc4f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0" y="142920"/>
            <a:ext cx="932508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须要有明确的目标，然后制定计划，并严格地去执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http://my.inmagine.com/600wmz/30486c2a2e3e753560/tetraimages/tt072/tt07022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自己找一个坚持的理由，用它来击败所有放弃的念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http://my.inmagine.com/600wmz/3b5a615a265075556a7b/cultura/culs035/culs035024.jpg"/>
          <p:cNvPicPr/>
          <p:nvPr/>
        </p:nvPicPr>
        <p:blipFill>
          <a:blip r:embed="rId1"/>
          <a:srcRect l="66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会调整自己的身体，合理地补充营养、水分和电解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http://my.inmagine.com/600wmz/5963383e793620573a/ojoimages/oj078/pe0063198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0" y="621504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心感受跑步的快乐，分享给自己的家人和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http://my.inmagine.com/600wmz/3b5a615a26642e313356/cultura/culs056/culs056080.jpg"/>
          <p:cNvPicPr/>
          <p:nvPr/>
        </p:nvPicPr>
        <p:blipFill>
          <a:blip r:embed="rId1"/>
          <a:srcRect l="0" t="0" r="622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偶尔改变一次跑步路线，可以看到不同的人，还有风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6" descr="http://my.inmagine.com/600wmz/3b5a615a263e4a7b3163/cultura/culs048/culs048158.jpg"/>
          <p:cNvPicPr/>
          <p:nvPr/>
        </p:nvPicPr>
        <p:blipFill>
          <a:blip r:embed="rId1"/>
          <a:srcRect l="0" t="0" r="44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"/>
          <p:cNvSpPr/>
          <p:nvPr/>
        </p:nvSpPr>
        <p:spPr>
          <a:xfrm>
            <a:off x="0" y="619596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跑步日记，和其他的跑步者交流经验，相互鼓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7:59:51Z</dcterms:created>
  <dc:creator>j</dc:creator>
  <dc:description/>
  <dc:language>en-US</dc:language>
  <cp:lastModifiedBy>Administrator</cp:lastModifiedBy>
  <dcterms:modified xsi:type="dcterms:W3CDTF">2015-07-10T03:19:16Z</dcterms:modified>
  <cp:revision>17</cp:revision>
  <dc:subject/>
  <dc:title>爱护你的脚，买一双合适的鞋子，它们是你最大的支持。</dc:title>
</cp:coreProperties>
</file>