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2ADF-3B58-42ED-945D-33DFBE085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F16E-EBFB-41BE-A8C2-BEACE81F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D944-D586-4A1B-B0B1-4501CD2E4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2F70C-5859-429F-97E1-477F9FE5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13AEF-896E-4487-A26E-511C36EE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23608-B8FF-432D-82BD-B0C7C14A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D929-4DD9-48B2-8E1B-5D9DD106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4E6C-1DE5-49BB-AB43-0D2182E4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C9CE-29A2-4C10-AB57-56D21B44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5680-98BE-4055-B057-A39D3709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39B2-6B16-4ACA-A026-1FE2C5B8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BB6-59A4-4BCB-ADEB-4ABD641E0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532B-4E43-4B11-9A24-BBB61F0D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385A-DC73-4E45-9151-E6CDFDBD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AF1E-73FA-4084-9708-2A7C3A9D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CA19-9ECC-43B2-A184-8D2F1DF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6F8E-C07B-48F7-B7D1-B1BF70D8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E14C-9C0A-416A-9055-68C5827C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BB49-A96A-4A42-8B1E-B19498544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ABC6-C795-42A5-BC61-93C84D0B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2E8A-3B31-49A0-A836-3434AF92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F480-B67C-40F0-BF42-2009E85D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C55A-E722-42FD-AFFC-DCB1CF38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F7E17-06AC-4AFD-A228-5E5902EB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76B16-F567-45A9-9E1D-AF5E8603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7B3D-B321-4510-9796-33209F8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86D8-5797-47B0-9E61-DD59D201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1576-ECAA-4801-935D-F60781273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D701-5AE0-4016-998D-F1596AB002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24080" y="1752480"/>
            <a:ext cx="60199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PDCA</a:t>
            </a:r>
            <a:r>
              <a:rPr b="0" lang="zh-CN" sz="50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循环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038480" y="2895480"/>
            <a:ext cx="4876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在工作中的应用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2006628146249"/>
          <p:cNvPicPr/>
          <p:nvPr/>
        </p:nvPicPr>
        <p:blipFill>
          <a:blip r:embed="rId1"/>
          <a:stretch/>
        </p:blipFill>
        <p:spPr>
          <a:xfrm>
            <a:off x="5715000" y="449568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是计划，是目标，是制定目标的能力，是策划部门。我们将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”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又分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找标杆，对标；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2 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策划，制定自己的目标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了明确的目标，我们才能对各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业务单元进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P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考核设计与分解，各系统的目标才能与公司战略目标相契合，少走弯路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609480" y="1143000"/>
            <a:ext cx="990720" cy="380880"/>
          </a:xfrm>
          <a:custGeom>
            <a:avLst/>
            <a:gdLst>
              <a:gd name="textAreaLeft" fmla="*/ 123840 w 990720"/>
              <a:gd name="textAreaRight" fmla="*/ 866880 w 990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676520" y="9907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U-B1X"/>
                <a:ea typeface="EU-B1X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EU-B1X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EU-B1X"/>
                <a:ea typeface="EU-B1X"/>
              </a:rPr>
              <a:t>Plan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执行指的是制定计划和管控计划的能力，也就是执行力。执行力是管理工作当中要求最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于中兴公司来讲，不断实践“周清周升”的管理理念，建立并实施各部门的周例会制度，是我们当前的重要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划既然制定了，就需要运用科学的工作方法对计划进行管控，然后一件一件的完成，不要拖拉和互相推诿扯皮，要在最快的时间内完成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533520" y="914400"/>
            <a:ext cx="990360" cy="380880"/>
          </a:xfrm>
          <a:custGeom>
            <a:avLst/>
            <a:gdLst>
              <a:gd name="textAreaLeft" fmla="*/ 123840 w 990360"/>
              <a:gd name="textAreaRight" fmla="*/ 866880 w 9903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752480" y="762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U-B1X"/>
                <a:ea typeface="EU-B1X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EU-B1X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EU-B1X"/>
                <a:ea typeface="EU-B1X"/>
              </a:rPr>
              <a:t>Do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执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8"/>
          <p:cNvGrpSpPr/>
          <p:nvPr/>
        </p:nvGrpSpPr>
        <p:grpSpPr>
          <a:xfrm>
            <a:off x="457200" y="4038480"/>
            <a:ext cx="8305920" cy="2057400"/>
            <a:chOff x="457200" y="4038480"/>
            <a:chExt cx="8305920" cy="2057400"/>
          </a:xfrm>
        </p:grpSpPr>
        <p:sp>
          <p:nvSpPr>
            <p:cNvPr id="209" name="AutoShape 12"/>
            <p:cNvSpPr/>
            <p:nvPr/>
          </p:nvSpPr>
          <p:spPr>
            <a:xfrm>
              <a:off x="457200" y="4038480"/>
              <a:ext cx="8305920" cy="2057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27"/>
            <p:cNvGrpSpPr/>
            <p:nvPr/>
          </p:nvGrpSpPr>
          <p:grpSpPr>
            <a:xfrm>
              <a:off x="3200400" y="4343400"/>
              <a:ext cx="990720" cy="1523880"/>
              <a:chOff x="3200400" y="4343400"/>
              <a:chExt cx="990720" cy="1523880"/>
            </a:xfrm>
          </p:grpSpPr>
          <p:sp>
            <p:nvSpPr>
              <p:cNvPr id="211" name="AutoShape 24"/>
              <p:cNvSpPr/>
              <p:nvPr/>
            </p:nvSpPr>
            <p:spPr>
              <a:xfrm>
                <a:off x="3200400" y="4343400"/>
                <a:ext cx="976320" cy="333360"/>
              </a:xfrm>
              <a:prstGeom prst="rightArrow">
                <a:avLst>
                  <a:gd name="adj1" fmla="val 50000"/>
                  <a:gd name="adj2" fmla="val 7321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330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25"/>
              <p:cNvSpPr/>
              <p:nvPr/>
            </p:nvSpPr>
            <p:spPr>
              <a:xfrm>
                <a:off x="3214800" y="4952880"/>
                <a:ext cx="976320" cy="333360"/>
              </a:xfrm>
              <a:prstGeom prst="rightArrow">
                <a:avLst>
                  <a:gd name="adj1" fmla="val 50000"/>
                  <a:gd name="adj2" fmla="val 7321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330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26"/>
              <p:cNvSpPr/>
              <p:nvPr/>
            </p:nvSpPr>
            <p:spPr>
              <a:xfrm>
                <a:off x="3200400" y="5533920"/>
                <a:ext cx="976320" cy="333360"/>
              </a:xfrm>
              <a:prstGeom prst="rightArrow">
                <a:avLst>
                  <a:gd name="adj1" fmla="val 50000"/>
                  <a:gd name="adj2" fmla="val 73218"/>
                </a:avLst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330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AutoShape 4"/>
          <p:cNvSpPr/>
          <p:nvPr/>
        </p:nvSpPr>
        <p:spPr>
          <a:xfrm>
            <a:off x="685800" y="914400"/>
            <a:ext cx="990720" cy="380880"/>
          </a:xfrm>
          <a:custGeom>
            <a:avLst/>
            <a:gdLst>
              <a:gd name="textAreaLeft" fmla="*/ 123840 w 990720"/>
              <a:gd name="textAreaRight" fmla="*/ 866880 w 990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905120" y="76212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U-B1X"/>
                <a:ea typeface="EU-B1X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EU-B1X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EU-B1X"/>
                <a:ea typeface="EU-B1X"/>
              </a:rPr>
              <a:t>Check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WordArt 7"/>
          <p:cNvSpPr txBox="1"/>
          <p:nvPr/>
        </p:nvSpPr>
        <p:spPr>
          <a:xfrm>
            <a:off x="533520" y="2057400"/>
            <a:ext cx="2095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C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64628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C1 </a:t>
            </a:r>
            <a:r>
              <a:rPr b="0" lang="zh-CN" sz="24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测量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C2 </a:t>
            </a:r>
            <a:r>
              <a:rPr b="0" lang="zh-CN" sz="2400" spc="-1" strike="noStrike">
                <a:solidFill>
                  <a:srgbClr val="ff3300"/>
                </a:solidFill>
                <a:latin typeface="方正仿宋简体"/>
                <a:ea typeface="方正仿宋简体"/>
              </a:rPr>
              <a:t>测量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就是对我们计划好的已经安排执行了的工作内容进行测量，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838080" y="182880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838080" y="4191120"/>
            <a:ext cx="807732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已经完成的           测量工作结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在完成的           测量工作进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有进行的           测量为什么还没有执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制定的目标、计划进行月度、季度、年度总结，完善制度和流程，持续改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中兴公司，我们以召开例会、学习小组会议、干部大会及年终大会等形式开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不断总结我们工作中的成功经验和失败教训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685800" y="914400"/>
            <a:ext cx="990720" cy="380880"/>
          </a:xfrm>
          <a:custGeom>
            <a:avLst/>
            <a:gdLst>
              <a:gd name="textAreaLeft" fmla="*/ 123840 w 990720"/>
              <a:gd name="textAreaRight" fmla="*/ 866880 w 990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905120" y="762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U-B1X"/>
                <a:ea typeface="EU-B1X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EU-B1X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EU-B1X"/>
                <a:ea typeface="EU-B1X"/>
              </a:rPr>
              <a:t>Action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总结，持续改进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533520" y="3733920"/>
            <a:ext cx="8076960" cy="2666880"/>
            <a:chOff x="533520" y="3733920"/>
            <a:chExt cx="8076960" cy="2666880"/>
          </a:xfrm>
        </p:grpSpPr>
        <p:sp>
          <p:nvSpPr>
            <p:cNvPr id="224" name="AutoShape 6"/>
            <p:cNvSpPr/>
            <p:nvPr/>
          </p:nvSpPr>
          <p:spPr>
            <a:xfrm>
              <a:off x="533520" y="3733920"/>
              <a:ext cx="8076960" cy="26668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990360" y="3886200"/>
              <a:ext cx="739116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成功了        我们要找到成功的轨迹总结成为科学的方法，把它标准化向全公司推广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失败了        我们要认真分析，寻找真因，通过找奶酪的方式，学习改进，积极改正，进行到下一个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PDCA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循环中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8"/>
            <p:cNvSpPr/>
            <p:nvPr/>
          </p:nvSpPr>
          <p:spPr>
            <a:xfrm>
              <a:off x="2742840" y="4010040"/>
              <a:ext cx="975960" cy="333360"/>
            </a:xfrm>
            <a:prstGeom prst="rightArrow">
              <a:avLst>
                <a:gd name="adj1" fmla="val 50000"/>
                <a:gd name="adj2" fmla="val 7319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33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9"/>
            <p:cNvSpPr/>
            <p:nvPr/>
          </p:nvSpPr>
          <p:spPr>
            <a:xfrm>
              <a:off x="2742840" y="5153040"/>
              <a:ext cx="975960" cy="333360"/>
            </a:xfrm>
            <a:prstGeom prst="rightArrow">
              <a:avLst>
                <a:gd name="adj1" fmla="val 50000"/>
                <a:gd name="adj2" fmla="val 73191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ff330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4"/>
          <p:cNvSpPr/>
          <p:nvPr/>
        </p:nvSpPr>
        <p:spPr>
          <a:xfrm>
            <a:off x="457200" y="4708440"/>
            <a:ext cx="830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建立企业满意责任制体系，对相关责任单位（执行部门）进行指标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解、落实到绩效方案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建立提升企业满意的相关管理流程及制度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为相关责任单位提供人、机、料、法、环等方面的环境支持，保证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标的达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案例分析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方正美黑简体"/>
              </a:rPr>
              <a:t>——</a:t>
            </a:r>
            <a:r>
              <a:rPr b="0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PDCA</a:t>
            </a:r>
            <a:r>
              <a:rPr b="0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在财务总监职能中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7"/>
          <p:cNvGrpSpPr/>
          <p:nvPr/>
        </p:nvGrpSpPr>
        <p:grpSpPr>
          <a:xfrm>
            <a:off x="380880" y="1523880"/>
            <a:ext cx="1600200" cy="838440"/>
            <a:chOff x="380880" y="1523880"/>
            <a:chExt cx="1600200" cy="838440"/>
          </a:xfrm>
        </p:grpSpPr>
        <p:pic>
          <p:nvPicPr>
            <p:cNvPr id="231" name="Picture 35" descr="Start_Job-Shape 2 copy"/>
            <p:cNvPicPr/>
            <p:nvPr/>
          </p:nvPicPr>
          <p:blipFill>
            <a:blip r:embed="rId1"/>
            <a:stretch/>
          </p:blipFill>
          <p:spPr>
            <a:xfrm>
              <a:off x="380880" y="1523880"/>
              <a:ext cx="160020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16"/>
            <p:cNvSpPr/>
            <p:nvPr/>
          </p:nvSpPr>
          <p:spPr>
            <a:xfrm>
              <a:off x="914400" y="1676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380880" y="3886200"/>
            <a:ext cx="1600200" cy="837720"/>
            <a:chOff x="380880" y="3886200"/>
            <a:chExt cx="1600200" cy="837720"/>
          </a:xfrm>
        </p:grpSpPr>
        <p:pic>
          <p:nvPicPr>
            <p:cNvPr id="234" name="Picture 34" descr="Start_Job-Shape 2"/>
            <p:cNvPicPr/>
            <p:nvPr/>
          </p:nvPicPr>
          <p:blipFill>
            <a:blip r:embed="rId2"/>
            <a:stretch/>
          </p:blipFill>
          <p:spPr>
            <a:xfrm>
              <a:off x="380880" y="3886200"/>
              <a:ext cx="1600200" cy="83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18"/>
            <p:cNvSpPr/>
            <p:nvPr/>
          </p:nvSpPr>
          <p:spPr>
            <a:xfrm>
              <a:off x="914400" y="4053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26"/>
          <p:cNvSpPr/>
          <p:nvPr/>
        </p:nvSpPr>
        <p:spPr>
          <a:xfrm>
            <a:off x="457200" y="236232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预算管理科、产品规划部等（策划部门），进行企业满意相关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面的信息搜集、整理、分析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企业满意相关业务单元进行对标工作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完成建立企业满意业务链目标的策划并建立目标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组织导入提升企业满意的管理方法及工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业务链测量关系，组织业务链月度绩效测量、评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457200" y="838080"/>
            <a:ext cx="1752480" cy="838440"/>
            <a:chOff x="457200" y="838080"/>
            <a:chExt cx="1752480" cy="838440"/>
          </a:xfrm>
        </p:grpSpPr>
        <p:pic>
          <p:nvPicPr>
            <p:cNvPr id="239" name="Picture 36" descr="Start_Job-Shape 2 copy 2"/>
            <p:cNvPicPr/>
            <p:nvPr/>
          </p:nvPicPr>
          <p:blipFill>
            <a:blip r:embed="rId1"/>
            <a:stretch/>
          </p:blipFill>
          <p:spPr>
            <a:xfrm>
              <a:off x="457200" y="838080"/>
              <a:ext cx="17524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1066680" y="990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457200" y="2590920"/>
            <a:ext cx="1676520" cy="838080"/>
            <a:chOff x="457200" y="2590920"/>
            <a:chExt cx="1676520" cy="838080"/>
          </a:xfrm>
        </p:grpSpPr>
        <p:pic>
          <p:nvPicPr>
            <p:cNvPr id="242" name="Picture 36" descr="Start_Job-Shape 2 copy 2"/>
            <p:cNvPicPr/>
            <p:nvPr/>
          </p:nvPicPr>
          <p:blipFill>
            <a:blip r:embed="rId2"/>
            <a:stretch/>
          </p:blipFill>
          <p:spPr>
            <a:xfrm>
              <a:off x="457200" y="2590920"/>
              <a:ext cx="167652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9"/>
            <p:cNvSpPr/>
            <p:nvPr/>
          </p:nvSpPr>
          <p:spPr>
            <a:xfrm>
              <a:off x="1066680" y="27432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0"/>
          <p:cNvSpPr/>
          <p:nvPr/>
        </p:nvSpPr>
        <p:spPr>
          <a:xfrm>
            <a:off x="457200" y="373392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合相关管理案例，完善制度和流程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合公司发展战略及外部竞争情况制定目标和责任制体系的持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改善计划，保持企业满意的竞争优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先进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4"/>
          <p:cNvSpPr/>
          <p:nvPr/>
        </p:nvSpPr>
        <p:spPr>
          <a:xfrm>
            <a:off x="380880" y="457200"/>
            <a:ext cx="5867640" cy="289548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综艺简体"/>
              </a:rPr>
              <a:t>特别提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3657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PDCA</a:t>
            </a:r>
            <a:r>
              <a:rPr b="1" lang="zh-CN" sz="32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模式中每一个环节都极其重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瘦金书简体"/>
                <a:ea typeface="方正瘦金书简体"/>
              </a:rPr>
              <a:t>对每一个环节的理解上，侧重点也不同，要具体问题具体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7"/>
          <p:cNvGrpSpPr/>
          <p:nvPr/>
        </p:nvGrpSpPr>
        <p:grpSpPr>
          <a:xfrm>
            <a:off x="457200" y="533520"/>
            <a:ext cx="8305920" cy="5638680"/>
            <a:chOff x="457200" y="533520"/>
            <a:chExt cx="8305920" cy="5638680"/>
          </a:xfrm>
        </p:grpSpPr>
        <p:sp>
          <p:nvSpPr>
            <p:cNvPr id="248" name="Oval 6"/>
            <p:cNvSpPr/>
            <p:nvPr/>
          </p:nvSpPr>
          <p:spPr>
            <a:xfrm>
              <a:off x="457200" y="533520"/>
              <a:ext cx="8305920" cy="5638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4"/>
            <p:cNvSpPr/>
            <p:nvPr/>
          </p:nvSpPr>
          <p:spPr>
            <a:xfrm>
              <a:off x="1219320" y="762120"/>
              <a:ext cx="7010280" cy="27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27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结束语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zh-CN" sz="2800" spc="-1" strike="noStrike">
                  <a:solidFill>
                    <a:srgbClr val="ff3300"/>
                  </a:solidFill>
                  <a:latin typeface="方正仿宋简体"/>
                  <a:ea typeface="方正仿宋简体"/>
                </a:rPr>
                <a:t>我们需要牢记的是：制定好目标，做好计划，然后马上用适当的方法去做，中间注意检查多多关注，最后过问结果，针对不同结果进行处理改进</a:t>
              </a:r>
              <a:r>
                <a:rPr b="1" lang="en-US" sz="2800" spc="-1" strike="noStrike">
                  <a:solidFill>
                    <a:srgbClr val="ff3300"/>
                  </a:solidFill>
                  <a:latin typeface="Arial"/>
                  <a:ea typeface="方正仿宋简体"/>
                </a:rPr>
                <a:t>……</a:t>
              </a:r>
              <a:r>
                <a:rPr b="1" lang="en-US" sz="2800" spc="-1" strike="noStrike">
                  <a:solidFill>
                    <a:srgbClr val="ff3300"/>
                  </a:solidFill>
                  <a:latin typeface="方正仿宋简体"/>
                  <a:ea typeface="方正仿宋简体"/>
                </a:rPr>
                <a:t>..</a:t>
              </a:r>
              <a:r>
                <a:rPr b="1" lang="zh-CN" sz="2800" spc="-1" strike="noStrike">
                  <a:solidFill>
                    <a:srgbClr val="ff3300"/>
                  </a:solidFill>
                  <a:latin typeface="方正仿宋简体"/>
                  <a:ea typeface="方正仿宋简体"/>
                </a:rPr>
                <a:t>这是适用于任何一件事，适用于每一天，是保证能够让你得到收益的工作方法。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9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e9e9f4"/>
                </a:gs>
                <a:gs pos="100000">
                  <a:srgbClr val="9999cc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9999c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"/>
            <p:cNvSpPr/>
            <p:nvPr/>
          </p:nvSpPr>
          <p:spPr>
            <a:xfrm>
              <a:off x="2743200" y="20797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前       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2289600" y="200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9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24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e9e9ff"/>
                </a:gs>
                <a:gs pos="100000">
                  <a:srgbClr val="9999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2"/>
            <p:cNvSpPr/>
            <p:nvPr/>
          </p:nvSpPr>
          <p:spPr>
            <a:xfrm>
              <a:off x="2743200" y="291780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DC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循环的基本理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3"/>
            <p:cNvSpPr/>
            <p:nvPr/>
          </p:nvSpPr>
          <p:spPr>
            <a:xfrm>
              <a:off x="2289600" y="2841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14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9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99"/>
                </a:gs>
                <a:gs pos="50000">
                  <a:srgbClr val="dfdfe9"/>
                </a:gs>
                <a:gs pos="100000">
                  <a:srgbClr val="6666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6669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7"/>
            <p:cNvSpPr/>
            <p:nvPr/>
          </p:nvSpPr>
          <p:spPr>
            <a:xfrm>
              <a:off x="2743200" y="37558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DC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在中兴的应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8"/>
            <p:cNvSpPr/>
            <p:nvPr/>
          </p:nvSpPr>
          <p:spPr>
            <a:xfrm>
              <a:off x="228960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9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34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e6"/>
                </a:gs>
                <a:gs pos="50000">
                  <a:srgbClr val="f4f4fa"/>
                </a:gs>
                <a:gs pos="100000">
                  <a:srgbClr val="cccce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cccce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2"/>
            <p:cNvSpPr/>
            <p:nvPr/>
          </p:nvSpPr>
          <p:spPr>
            <a:xfrm>
              <a:off x="2743200" y="46702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案例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3"/>
            <p:cNvSpPr/>
            <p:nvPr/>
          </p:nvSpPr>
          <p:spPr>
            <a:xfrm>
              <a:off x="2289600" y="459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工作中自己往往费尽心力的做了，但是得不到领导的肯定，事倍功半不说，还影 响自己的工作激情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3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盲目的工作会带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不自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找不准自己的定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问题在哪里？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这一切是因为我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09480" y="1143000"/>
            <a:ext cx="2438640" cy="83808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动没有目标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09480" y="1905120"/>
            <a:ext cx="2438640" cy="83808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行动没有计划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609480" y="2666880"/>
            <a:ext cx="3353040" cy="8384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过且过，责任心不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09480" y="3809880"/>
            <a:ext cx="7162920" cy="8384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究竟该如何有效率、有效果的工作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609480" y="4648320"/>
            <a:ext cx="7620120" cy="121896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遵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管理模式，基本上可以解决这些困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4495680" y="68580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PDCA</a:t>
            </a:r>
            <a:r>
              <a:rPr b="1" lang="zh-CN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循环的基本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循环的基本理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来源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609480" y="4038480"/>
            <a:ext cx="80773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DC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含义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PLAN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DO)     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HECK)  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CTION)  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0"/>
          <p:cNvSpPr/>
          <p:nvPr/>
        </p:nvSpPr>
        <p:spPr>
          <a:xfrm>
            <a:off x="2895480" y="4419720"/>
            <a:ext cx="1752840" cy="4572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1"/>
          <p:cNvSpPr/>
          <p:nvPr/>
        </p:nvSpPr>
        <p:spPr>
          <a:xfrm>
            <a:off x="2895480" y="5943600"/>
            <a:ext cx="1752840" cy="457200"/>
          </a:xfrm>
          <a:prstGeom prst="ellipse">
            <a:avLst/>
          </a:prstGeom>
          <a:gradFill rotWithShape="0">
            <a:gsLst>
              <a:gs pos="0">
                <a:srgbClr val="5e765e"/>
              </a:gs>
              <a:gs pos="50000">
                <a:srgbClr val="ccffcc"/>
              </a:gs>
              <a:gs pos="100000">
                <a:srgbClr val="5e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2"/>
          <p:cNvSpPr/>
          <p:nvPr/>
        </p:nvSpPr>
        <p:spPr>
          <a:xfrm>
            <a:off x="2895480" y="5410080"/>
            <a:ext cx="1752840" cy="457200"/>
          </a:xfrm>
          <a:prstGeom prst="ellipse">
            <a:avLst/>
          </a:prstGeom>
          <a:gradFill rotWithShape="0">
            <a:gsLst>
              <a:gs pos="0">
                <a:srgbClr val="ccffcc"/>
              </a:gs>
              <a:gs pos="50000">
                <a:srgbClr val="5e765e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3"/>
          <p:cNvSpPr/>
          <p:nvPr/>
        </p:nvSpPr>
        <p:spPr>
          <a:xfrm>
            <a:off x="2895480" y="4952880"/>
            <a:ext cx="1752840" cy="457200"/>
          </a:xfrm>
          <a:prstGeom prst="ellipse">
            <a:avLst/>
          </a:prstGeom>
          <a:gradFill rotWithShape="0">
            <a:gsLst>
              <a:gs pos="0">
                <a:srgbClr val="5e765e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4" descr="2006628146249"/>
          <p:cNvPicPr/>
          <p:nvPr/>
        </p:nvPicPr>
        <p:blipFill>
          <a:blip r:embed="rId1"/>
          <a:stretch/>
        </p:blipFill>
        <p:spPr>
          <a:xfrm>
            <a:off x="5867280" y="40384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5"/>
          <p:cNvSpPr/>
          <p:nvPr/>
        </p:nvSpPr>
        <p:spPr>
          <a:xfrm>
            <a:off x="609480" y="2057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最早由美国质量管理专家戴明提出来的，所以又称为“戴明环”。它是全面质量管理所应遵循的科学程序。全面质量管理活动的全部过程，就是计划的制订和组织实现的过程，这个过程就是按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循环，不停地周而复始地运转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09120" y="2178000"/>
            <a:ext cx="800100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循环的基本理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28"/>
          <p:cNvSpPr/>
          <p:nvPr/>
        </p:nvSpPr>
        <p:spPr>
          <a:xfrm>
            <a:off x="533520" y="1828800"/>
            <a:ext cx="550800" cy="533520"/>
          </a:xfrm>
          <a:prstGeom prst="hexagon">
            <a:avLst>
              <a:gd name="adj" fmla="val 2581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6"/>
          <p:cNvSpPr/>
          <p:nvPr/>
        </p:nvSpPr>
        <p:spPr>
          <a:xfrm>
            <a:off x="1143000" y="1828800"/>
            <a:ext cx="5943600" cy="504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现状，发现问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6"/>
          <p:cNvSpPr/>
          <p:nvPr/>
        </p:nvSpPr>
        <p:spPr>
          <a:xfrm>
            <a:off x="1143000" y="2438280"/>
            <a:ext cx="5943600" cy="5050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问题中各种影响因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6"/>
          <p:cNvSpPr/>
          <p:nvPr/>
        </p:nvSpPr>
        <p:spPr>
          <a:xfrm>
            <a:off x="1143000" y="3581280"/>
            <a:ext cx="5943600" cy="5050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影响问题的主要原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06"/>
          <p:cNvSpPr/>
          <p:nvPr/>
        </p:nvSpPr>
        <p:spPr>
          <a:xfrm>
            <a:off x="1143000" y="4219560"/>
            <a:ext cx="5943600" cy="504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针对主要原因，采取解决的措施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6"/>
          <p:cNvSpPr/>
          <p:nvPr/>
        </p:nvSpPr>
        <p:spPr>
          <a:xfrm>
            <a:off x="1143000" y="4800600"/>
            <a:ext cx="2879640" cy="42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什么要制定这个措施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28"/>
          <p:cNvSpPr/>
          <p:nvPr/>
        </p:nvSpPr>
        <p:spPr>
          <a:xfrm>
            <a:off x="533520" y="2438280"/>
            <a:ext cx="550800" cy="533520"/>
          </a:xfrm>
          <a:prstGeom prst="hexagon">
            <a:avLst>
              <a:gd name="adj" fmla="val 2581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8"/>
          <p:cNvSpPr/>
          <p:nvPr/>
        </p:nvSpPr>
        <p:spPr>
          <a:xfrm>
            <a:off x="533520" y="4191120"/>
            <a:ext cx="550800" cy="533160"/>
          </a:xfrm>
          <a:prstGeom prst="hexagon">
            <a:avLst>
              <a:gd name="adj" fmla="val 25827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28"/>
          <p:cNvSpPr/>
          <p:nvPr/>
        </p:nvSpPr>
        <p:spPr>
          <a:xfrm>
            <a:off x="533520" y="3581280"/>
            <a:ext cx="550800" cy="533520"/>
          </a:xfrm>
          <a:prstGeom prst="hexagon">
            <a:avLst>
              <a:gd name="adj" fmla="val 2581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6"/>
          <p:cNvSpPr/>
          <p:nvPr/>
        </p:nvSpPr>
        <p:spPr>
          <a:xfrm>
            <a:off x="4191120" y="4800600"/>
            <a:ext cx="2879640" cy="42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达到什么目标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06"/>
          <p:cNvSpPr/>
          <p:nvPr/>
        </p:nvSpPr>
        <p:spPr>
          <a:xfrm>
            <a:off x="4191120" y="5257800"/>
            <a:ext cx="2879640" cy="42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由谁负责完成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6"/>
          <p:cNvSpPr/>
          <p:nvPr/>
        </p:nvSpPr>
        <p:spPr>
          <a:xfrm>
            <a:off x="1143000" y="5257800"/>
            <a:ext cx="2879640" cy="42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在何处执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06"/>
          <p:cNvSpPr/>
          <p:nvPr/>
        </p:nvSpPr>
        <p:spPr>
          <a:xfrm>
            <a:off x="1143000" y="5715000"/>
            <a:ext cx="2879640" cy="42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什么时间完成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6"/>
          <p:cNvSpPr/>
          <p:nvPr/>
        </p:nvSpPr>
        <p:spPr>
          <a:xfrm>
            <a:off x="4191120" y="5715000"/>
            <a:ext cx="2879640" cy="428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怎样执行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361520" y="3006360"/>
            <a:ext cx="402480" cy="497880"/>
          </a:xfrm>
          <a:custGeom>
            <a:avLst/>
            <a:gdLst>
              <a:gd name="textAreaLeft" fmla="*/ 19440 w 402480"/>
              <a:gd name="textAreaRight" fmla="*/ 383040 w 402480"/>
              <a:gd name="textAreaTop" fmla="*/ 19440 h 497880"/>
              <a:gd name="textAreaBottom" fmla="*/ 478440 h 497880"/>
            </a:gdLst>
            <a:ahLst/>
            <a:rect l="textAreaLeft" t="textAreaTop" r="textAreaRight" b="textAreaBottom"/>
            <a:pathLst>
              <a:path w="21600" h="26715">
                <a:moveTo>
                  <a:pt x="3600" y="0"/>
                </a:moveTo>
                <a:arcTo wR="3600" hR="3600" stAng="16200000" swAng="-5400000"/>
                <a:lnTo>
                  <a:pt x="0" y="23115"/>
                </a:lnTo>
                <a:arcTo wR="3600" hR="3600" stAng="10800000" swAng="-5400000"/>
                <a:lnTo>
                  <a:pt x="18000" y="26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1"/>
          <p:cNvSpPr/>
          <p:nvPr/>
        </p:nvSpPr>
        <p:spPr>
          <a:xfrm>
            <a:off x="2580840" y="3006360"/>
            <a:ext cx="402480" cy="497880"/>
          </a:xfrm>
          <a:custGeom>
            <a:avLst/>
            <a:gdLst>
              <a:gd name="textAreaLeft" fmla="*/ 19440 w 402480"/>
              <a:gd name="textAreaRight" fmla="*/ 383040 w 402480"/>
              <a:gd name="textAreaTop" fmla="*/ 19440 h 497880"/>
              <a:gd name="textAreaBottom" fmla="*/ 478440 h 497880"/>
            </a:gdLst>
            <a:ahLst/>
            <a:rect l="textAreaLeft" t="textAreaTop" r="textAreaRight" b="textAreaBottom"/>
            <a:pathLst>
              <a:path w="21600" h="26715">
                <a:moveTo>
                  <a:pt x="3600" y="0"/>
                </a:moveTo>
                <a:arcTo wR="3600" hR="3600" stAng="16200000" swAng="-5400000"/>
                <a:lnTo>
                  <a:pt x="0" y="23115"/>
                </a:lnTo>
                <a:arcTo wR="3600" hR="3600" stAng="10800000" swAng="-5400000"/>
                <a:lnTo>
                  <a:pt x="18000" y="26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2"/>
          <p:cNvSpPr/>
          <p:nvPr/>
        </p:nvSpPr>
        <p:spPr>
          <a:xfrm>
            <a:off x="3876120" y="3006360"/>
            <a:ext cx="402480" cy="497880"/>
          </a:xfrm>
          <a:custGeom>
            <a:avLst/>
            <a:gdLst>
              <a:gd name="textAreaLeft" fmla="*/ 19440 w 402480"/>
              <a:gd name="textAreaRight" fmla="*/ 383040 w 402480"/>
              <a:gd name="textAreaTop" fmla="*/ 19440 h 497880"/>
              <a:gd name="textAreaBottom" fmla="*/ 478440 h 497880"/>
            </a:gdLst>
            <a:ahLst/>
            <a:rect l="textAreaLeft" t="textAreaTop" r="textAreaRight" b="textAreaBottom"/>
            <a:pathLst>
              <a:path w="21600" h="26715">
                <a:moveTo>
                  <a:pt x="3600" y="0"/>
                </a:moveTo>
                <a:arcTo wR="3600" hR="3600" stAng="16200000" swAng="-5400000"/>
                <a:lnTo>
                  <a:pt x="0" y="23115"/>
                </a:lnTo>
                <a:arcTo wR="3600" hR="3600" stAng="10800000" swAng="-5400000"/>
                <a:lnTo>
                  <a:pt x="18000" y="26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5093640" y="3006360"/>
            <a:ext cx="402480" cy="497880"/>
          </a:xfrm>
          <a:custGeom>
            <a:avLst/>
            <a:gdLst>
              <a:gd name="textAreaLeft" fmla="*/ 19440 w 402480"/>
              <a:gd name="textAreaRight" fmla="*/ 383040 w 402480"/>
              <a:gd name="textAreaTop" fmla="*/ 19440 h 497880"/>
              <a:gd name="textAreaBottom" fmla="*/ 478440 h 497880"/>
            </a:gdLst>
            <a:ahLst/>
            <a:rect l="textAreaLeft" t="textAreaTop" r="textAreaRight" b="textAreaBottom"/>
            <a:pathLst>
              <a:path w="21600" h="26715">
                <a:moveTo>
                  <a:pt x="3600" y="0"/>
                </a:moveTo>
                <a:arcTo wR="3600" hR="3600" stAng="16200000" swAng="-5400000"/>
                <a:lnTo>
                  <a:pt x="0" y="23115"/>
                </a:lnTo>
                <a:arcTo wR="3600" hR="3600" stAng="10800000" swAng="-5400000"/>
                <a:lnTo>
                  <a:pt x="18000" y="26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4"/>
          <p:cNvSpPr/>
          <p:nvPr/>
        </p:nvSpPr>
        <p:spPr>
          <a:xfrm>
            <a:off x="6389280" y="3006360"/>
            <a:ext cx="402480" cy="497880"/>
          </a:xfrm>
          <a:custGeom>
            <a:avLst/>
            <a:gdLst>
              <a:gd name="textAreaLeft" fmla="*/ 19440 w 402480"/>
              <a:gd name="textAreaRight" fmla="*/ 383040 w 402480"/>
              <a:gd name="textAreaTop" fmla="*/ 19440 h 497880"/>
              <a:gd name="textAreaBottom" fmla="*/ 478440 h 497880"/>
            </a:gdLst>
            <a:ahLst/>
            <a:rect l="textAreaLeft" t="textAreaTop" r="textAreaRight" b="textAreaBottom"/>
            <a:pathLst>
              <a:path w="21600" h="26715">
                <a:moveTo>
                  <a:pt x="3600" y="0"/>
                </a:moveTo>
                <a:arcTo wR="3600" hR="3600" stAng="16200000" swAng="-5400000"/>
                <a:lnTo>
                  <a:pt x="0" y="23115"/>
                </a:lnTo>
                <a:arcTo wR="3600" hR="3600" stAng="10800000" swAng="-5400000"/>
                <a:lnTo>
                  <a:pt x="18000" y="267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7238880" y="1981080"/>
            <a:ext cx="152640" cy="3810240"/>
          </a:xfrm>
          <a:custGeom>
            <a:avLst/>
            <a:gdLst>
              <a:gd name="textAreaLeft" fmla="*/ 0 w 152640"/>
              <a:gd name="textAreaRight" fmla="*/ 55080 w 152640"/>
              <a:gd name="textAreaTop" fmla="*/ 99360 h 3810240"/>
              <a:gd name="textAreaBottom" fmla="*/ 3710880 h 381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81"/>
                </a:lnTo>
                <a:cubicBezTo>
                  <a:pt x="10800" y="9981"/>
                  <a:pt x="16200" y="10881"/>
                  <a:pt x="21600" y="10881"/>
                </a:cubicBezTo>
                <a:cubicBezTo>
                  <a:pt x="16200" y="10881"/>
                  <a:pt x="10800" y="11781"/>
                  <a:pt x="10800" y="1268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8"/>
          <p:cNvSpPr/>
          <p:nvPr/>
        </p:nvSpPr>
        <p:spPr>
          <a:xfrm>
            <a:off x="7620120" y="3581280"/>
            <a:ext cx="609480" cy="609840"/>
          </a:xfrm>
          <a:prstGeom prst="flowChartMerg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7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循环的基本理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28"/>
          <p:cNvSpPr/>
          <p:nvPr/>
        </p:nvSpPr>
        <p:spPr>
          <a:xfrm>
            <a:off x="533520" y="1828800"/>
            <a:ext cx="550800" cy="533520"/>
          </a:xfrm>
          <a:prstGeom prst="hexagon">
            <a:avLst>
              <a:gd name="adj" fmla="val 2581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06"/>
          <p:cNvSpPr/>
          <p:nvPr/>
        </p:nvSpPr>
        <p:spPr>
          <a:xfrm>
            <a:off x="1143000" y="1828800"/>
            <a:ext cx="5943600" cy="504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执行，按措施计划的要求去做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06"/>
          <p:cNvSpPr/>
          <p:nvPr/>
        </p:nvSpPr>
        <p:spPr>
          <a:xfrm>
            <a:off x="1143000" y="2590920"/>
            <a:ext cx="5943600" cy="504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检查，把执行结果与要求达到的目标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6"/>
          <p:cNvSpPr/>
          <p:nvPr/>
        </p:nvSpPr>
        <p:spPr>
          <a:xfrm>
            <a:off x="1143000" y="3886200"/>
            <a:ext cx="5943600" cy="504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标准化，把成功的经验总结出来，制定相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06"/>
          <p:cNvSpPr/>
          <p:nvPr/>
        </p:nvSpPr>
        <p:spPr>
          <a:xfrm>
            <a:off x="1143000" y="5105520"/>
            <a:ext cx="5943600" cy="504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把没有解决或新出现的问题转入下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8"/>
          <p:cNvSpPr/>
          <p:nvPr/>
        </p:nvSpPr>
        <p:spPr>
          <a:xfrm>
            <a:off x="533520" y="2895480"/>
            <a:ext cx="550800" cy="533520"/>
          </a:xfrm>
          <a:prstGeom prst="hexagon">
            <a:avLst>
              <a:gd name="adj" fmla="val 2581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28"/>
          <p:cNvSpPr/>
          <p:nvPr/>
        </p:nvSpPr>
        <p:spPr>
          <a:xfrm>
            <a:off x="533520" y="5334120"/>
            <a:ext cx="550800" cy="533160"/>
          </a:xfrm>
          <a:prstGeom prst="hexagon">
            <a:avLst>
              <a:gd name="adj" fmla="val 25827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28"/>
          <p:cNvSpPr/>
          <p:nvPr/>
        </p:nvSpPr>
        <p:spPr>
          <a:xfrm>
            <a:off x="533520" y="4114800"/>
            <a:ext cx="550800" cy="533520"/>
          </a:xfrm>
          <a:prstGeom prst="hexagon">
            <a:avLst>
              <a:gd name="adj" fmla="val 25810"/>
              <a:gd name="vf" fmla="val 11547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6"/>
          <p:cNvSpPr/>
          <p:nvPr/>
        </p:nvSpPr>
        <p:spPr>
          <a:xfrm>
            <a:off x="1143000" y="5638680"/>
            <a:ext cx="5943600" cy="5050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CA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循环中去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6"/>
          <p:cNvSpPr/>
          <p:nvPr/>
        </p:nvSpPr>
        <p:spPr>
          <a:xfrm>
            <a:off x="1143000" y="4419720"/>
            <a:ext cx="5943600" cy="5047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的标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6"/>
          <p:cNvSpPr/>
          <p:nvPr/>
        </p:nvSpPr>
        <p:spPr>
          <a:xfrm>
            <a:off x="1143000" y="3124080"/>
            <a:ext cx="5943600" cy="5050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对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7238880" y="1905120"/>
            <a:ext cx="228600" cy="304560"/>
          </a:xfrm>
          <a:custGeom>
            <a:avLst/>
            <a:gdLst>
              <a:gd name="textAreaLeft" fmla="*/ 0 w 228600"/>
              <a:gd name="textAreaRight" fmla="*/ 82440 w 22860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8"/>
          <p:cNvSpPr/>
          <p:nvPr/>
        </p:nvSpPr>
        <p:spPr>
          <a:xfrm>
            <a:off x="7238880" y="2743200"/>
            <a:ext cx="304920" cy="685800"/>
          </a:xfrm>
          <a:custGeom>
            <a:avLst/>
            <a:gdLst>
              <a:gd name="textAreaLeft" fmla="*/ 0 w 304920"/>
              <a:gd name="textAreaRight" fmla="*/ 110160 w 3049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7315200" y="3962520"/>
            <a:ext cx="228600" cy="1828800"/>
          </a:xfrm>
          <a:custGeom>
            <a:avLst/>
            <a:gdLst>
              <a:gd name="textAreaLeft" fmla="*/ 0 w 228600"/>
              <a:gd name="textAreaRight" fmla="*/ 8244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7772400" y="1828800"/>
            <a:ext cx="609480" cy="609480"/>
          </a:xfrm>
          <a:prstGeom prst="flowChartMerg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7772400" y="2895480"/>
            <a:ext cx="609480" cy="609840"/>
          </a:xfrm>
          <a:prstGeom prst="flowChartMerg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2"/>
          <p:cNvSpPr/>
          <p:nvPr/>
        </p:nvSpPr>
        <p:spPr>
          <a:xfrm>
            <a:off x="7772400" y="4572000"/>
            <a:ext cx="609480" cy="609480"/>
          </a:xfrm>
          <a:prstGeom prst="flowChartMerg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9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大环带小环。如果把整个企业的工作作为一个大的戴明循环，那么各个部门、小组还有各自小的戴明循环，就像一个行星轮系一样，大环带动小环，一级带一级，有机地构成一个运转的体系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阶梯式上升。戴明循环不是在同一水平上循环，每循环一次，就解决一部分问题，取得一部分成果，工作就前进一步，水平就提高一步。到了下一次循环，又有了新的目标和内容，更上一层楼。下面图表示了这个阶梯式上升的过程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）科学管理方法的综合应用。戴明循环应用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Q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七种工具为主的统计处理方法以及工业工程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(IE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中工作研究的方法，作为进行工作和发现、解决问题的工具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_P2[0D3656Q1134TNQZ_CSM"/>
          <p:cNvPicPr/>
          <p:nvPr/>
        </p:nvPicPr>
        <p:blipFill>
          <a:blip r:embed="rId1"/>
          <a:stretch/>
        </p:blipFill>
        <p:spPr>
          <a:xfrm>
            <a:off x="2971800" y="312408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304920" y="762120"/>
            <a:ext cx="8076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DC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循环的基本理念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03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PDCA</a:t>
            </a:r>
            <a:r>
              <a:rPr b="0" lang="zh-CN" sz="4400" spc="-1" strike="noStrike">
                <a:solidFill>
                  <a:srgbClr val="000000"/>
                </a:solidFill>
                <a:latin typeface="方正美黑简体"/>
                <a:ea typeface="方正美黑简体"/>
              </a:rPr>
              <a:t>在中兴的应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DC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循环既可以作为一种观点，也可以作为 一种方法，用于指导各项日常工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结合中兴公司的实际情况，又赋予了它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9-12T01:53:24Z</dcterms:modified>
  <cp:revision>1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