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ong.wav" ContentType="audio/x-wav"/>
  <Override PartName="/ppt/media/image2.png" ContentType="image/png"/>
  <Override PartName="/ppt/media/image3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gl.wav" ContentType="audio/x-wav"/>
  <Override PartName="/ppt/media/image13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BE9-45D6-4A50-91A3-06EE2D53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C45-8CE6-4E9A-959F-ADDCBC0B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AE6-D23A-47D9-A518-E24843AB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6E7-32D0-418C-B8E1-B8AE60DD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FDB-F7C4-4776-94D4-3810384F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413-3BB5-4131-96D8-61DEEAD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15D-A647-4521-B6CD-5FA2F2AD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326-34E7-4144-AF07-F8D81141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B3C-7432-444B-888B-B1D0CA22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3F3-B998-4C1B-9BA5-FE0A405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00B-A736-4280-AC55-ED79AFA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681-1334-4F53-AA3E-779C5D3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EDD3-B739-4F26-9254-6BAB5DEC8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4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7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20.png"/><Relationship Id="rId36" Type="http://schemas.openxmlformats.org/officeDocument/2006/relationships/image" Target="../media/image18.png"/><Relationship Id="rId37" Type="http://schemas.openxmlformats.org/officeDocument/2006/relationships/image" Target="../media/image21.png"/><Relationship Id="rId38" Type="http://schemas.openxmlformats.org/officeDocument/2006/relationships/image" Target="../media/image17.png"/><Relationship Id="rId39" Type="http://schemas.openxmlformats.org/officeDocument/2006/relationships/image" Target="../media/image20.png"/><Relationship Id="rId4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audio" Target="../media/chong.wav"/><Relationship Id="rId9" Type="http://schemas.openxmlformats.org/officeDocument/2006/relationships/audio" Target="../media/gl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0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泡泡"/>
          <p:cNvPicPr/>
          <p:nvPr/>
        </p:nvPicPr>
        <p:blipFill>
          <a:blip r:embed="rId1"/>
          <a:stretch/>
        </p:blipFill>
        <p:spPr>
          <a:xfrm>
            <a:off x="9144000" y="5229360"/>
            <a:ext cx="685800" cy="67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泡泡"/>
          <p:cNvPicPr/>
          <p:nvPr/>
        </p:nvPicPr>
        <p:blipFill>
          <a:blip r:embed="rId2"/>
          <a:stretch/>
        </p:blipFill>
        <p:spPr>
          <a:xfrm>
            <a:off x="6661080" y="6958080"/>
            <a:ext cx="885960" cy="87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7" descr="泡泡"/>
          <p:cNvPicPr/>
          <p:nvPr/>
        </p:nvPicPr>
        <p:blipFill>
          <a:blip r:embed="rId3"/>
          <a:stretch/>
        </p:blipFill>
        <p:spPr>
          <a:xfrm>
            <a:off x="9109080" y="6093000"/>
            <a:ext cx="644400" cy="63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8" descr="泡泡"/>
          <p:cNvPicPr/>
          <p:nvPr/>
        </p:nvPicPr>
        <p:blipFill>
          <a:blip r:embed="rId4"/>
          <a:stretch/>
        </p:blipFill>
        <p:spPr>
          <a:xfrm>
            <a:off x="9144000" y="909720"/>
            <a:ext cx="685800" cy="67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9" descr="泡泡"/>
          <p:cNvPicPr/>
          <p:nvPr/>
        </p:nvPicPr>
        <p:blipFill>
          <a:blip r:embed="rId5"/>
          <a:stretch/>
        </p:blipFill>
        <p:spPr>
          <a:xfrm>
            <a:off x="-828720" y="-27000"/>
            <a:ext cx="600120" cy="58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0" descr="泡泡"/>
          <p:cNvPicPr/>
          <p:nvPr/>
        </p:nvPicPr>
        <p:blipFill>
          <a:blip r:embed="rId6"/>
          <a:stretch/>
        </p:blipFill>
        <p:spPr>
          <a:xfrm>
            <a:off x="-900000" y="5877000"/>
            <a:ext cx="747720" cy="73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蒲公英2"/>
          <p:cNvPicPr/>
          <p:nvPr/>
        </p:nvPicPr>
        <p:blipFill>
          <a:blip r:embed="rId7"/>
          <a:stretch/>
        </p:blipFill>
        <p:spPr>
          <a:xfrm rot="18180000">
            <a:off x="5960520" y="166680"/>
            <a:ext cx="80352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蒲公英2"/>
          <p:cNvPicPr/>
          <p:nvPr/>
        </p:nvPicPr>
        <p:blipFill>
          <a:blip r:embed="rId8"/>
          <a:stretch/>
        </p:blipFill>
        <p:spPr>
          <a:xfrm rot="18180000">
            <a:off x="3872520" y="2470680"/>
            <a:ext cx="803160" cy="98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5" descr="蒲公英2"/>
          <p:cNvPicPr/>
          <p:nvPr/>
        </p:nvPicPr>
        <p:blipFill>
          <a:blip r:embed="rId9"/>
          <a:stretch/>
        </p:blipFill>
        <p:spPr>
          <a:xfrm rot="18180000">
            <a:off x="776520" y="237600"/>
            <a:ext cx="80316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5" descr="蒲公英2"/>
          <p:cNvPicPr/>
          <p:nvPr/>
        </p:nvPicPr>
        <p:blipFill>
          <a:blip r:embed="rId10"/>
          <a:stretch/>
        </p:blipFill>
        <p:spPr>
          <a:xfrm rot="18180000">
            <a:off x="416160" y="1102680"/>
            <a:ext cx="803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蒲公英2"/>
          <p:cNvPicPr/>
          <p:nvPr/>
        </p:nvPicPr>
        <p:blipFill>
          <a:blip r:embed="rId11"/>
          <a:stretch/>
        </p:blipFill>
        <p:spPr>
          <a:xfrm rot="18180000">
            <a:off x="8049240" y="383040"/>
            <a:ext cx="803160" cy="988920"/>
          </a:xfrm>
          <a:prstGeom prst="rect">
            <a:avLst/>
          </a:prstGeom>
          <a:ln w="0">
            <a:noFill/>
          </a:ln>
        </p:spPr>
      </p:pic>
      <p:sp>
        <p:nvSpPr>
          <p:cNvPr id="52" name="未知"/>
          <p:cNvSpPr/>
          <p:nvPr/>
        </p:nvSpPr>
        <p:spPr>
          <a:xfrm>
            <a:off x="7754760" y="1427040"/>
            <a:ext cx="2198880" cy="4765680"/>
          </a:xfrm>
          <a:custGeom>
            <a:avLst/>
            <a:gdLst>
              <a:gd name="textAreaLeft" fmla="*/ 0 w 2198880"/>
              <a:gd name="textAreaRight" fmla="*/ 2199240 w 2198880"/>
              <a:gd name="textAreaTop" fmla="*/ 0 h 4765680"/>
              <a:gd name="textAreaBottom" fmla="*/ 4766040 h 4765680"/>
            </a:gdLst>
            <a:ahLst/>
            <a:rect l="textAreaLeft" t="textAreaTop" r="textAreaRight" b="textAreaBottom"/>
            <a:pathLst>
              <a:path w="21600" h="21600">
                <a:moveTo>
                  <a:pt x="10949" y="21597"/>
                </a:moveTo>
                <a:cubicBezTo>
                  <a:pt x="11685" y="20725"/>
                  <a:pt x="16109" y="17671"/>
                  <a:pt x="15373" y="16370"/>
                </a:cubicBezTo>
                <a:cubicBezTo>
                  <a:pt x="14637" y="15069"/>
                  <a:pt x="7249" y="14796"/>
                  <a:pt x="6532" y="13786"/>
                </a:cubicBezTo>
                <a:cubicBezTo>
                  <a:pt x="5814" y="12775"/>
                  <a:pt x="8597" y="11345"/>
                  <a:pt x="11062" y="10300"/>
                </a:cubicBezTo>
                <a:cubicBezTo>
                  <a:pt x="13526" y="9255"/>
                  <a:pt x="21019" y="8237"/>
                  <a:pt x="21306" y="7514"/>
                </a:cubicBezTo>
                <a:cubicBezTo>
                  <a:pt x="21593" y="6792"/>
                  <a:pt x="16271" y="6694"/>
                  <a:pt x="12784" y="5972"/>
                </a:cubicBezTo>
                <a:cubicBezTo>
                  <a:pt x="9296" y="5249"/>
                  <a:pt x="754" y="4181"/>
                  <a:pt x="380" y="3186"/>
                </a:cubicBezTo>
                <a:cubicBezTo>
                  <a:pt x="0" y="2190"/>
                  <a:pt x="8828" y="532"/>
                  <a:pt x="10519" y="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未知"/>
          <p:cNvSpPr/>
          <p:nvPr/>
        </p:nvSpPr>
        <p:spPr>
          <a:xfrm>
            <a:off x="7754760" y="1427040"/>
            <a:ext cx="2198880" cy="4765680"/>
          </a:xfrm>
          <a:custGeom>
            <a:avLst/>
            <a:gdLst>
              <a:gd name="textAreaLeft" fmla="*/ 0 w 2198880"/>
              <a:gd name="textAreaRight" fmla="*/ 2199240 w 2198880"/>
              <a:gd name="textAreaTop" fmla="*/ 0 h 4765680"/>
              <a:gd name="textAreaBottom" fmla="*/ 4766040 h 4765680"/>
            </a:gdLst>
            <a:ahLst/>
            <a:rect l="textAreaLeft" t="textAreaTop" r="textAreaRight" b="textAreaBottom"/>
            <a:pathLst>
              <a:path w="21600" h="21600">
                <a:moveTo>
                  <a:pt x="10949" y="21597"/>
                </a:moveTo>
                <a:cubicBezTo>
                  <a:pt x="11685" y="20725"/>
                  <a:pt x="16109" y="17671"/>
                  <a:pt x="15373" y="16370"/>
                </a:cubicBezTo>
                <a:cubicBezTo>
                  <a:pt x="14637" y="15069"/>
                  <a:pt x="7249" y="14796"/>
                  <a:pt x="6532" y="13786"/>
                </a:cubicBezTo>
                <a:cubicBezTo>
                  <a:pt x="5814" y="12775"/>
                  <a:pt x="8597" y="11345"/>
                  <a:pt x="11062" y="10300"/>
                </a:cubicBezTo>
                <a:cubicBezTo>
                  <a:pt x="13526" y="9255"/>
                  <a:pt x="21019" y="8237"/>
                  <a:pt x="21306" y="7514"/>
                </a:cubicBezTo>
                <a:cubicBezTo>
                  <a:pt x="21593" y="6792"/>
                  <a:pt x="16271" y="6694"/>
                  <a:pt x="12784" y="5972"/>
                </a:cubicBezTo>
                <a:cubicBezTo>
                  <a:pt x="9296" y="5249"/>
                  <a:pt x="754" y="4181"/>
                  <a:pt x="380" y="3186"/>
                </a:cubicBezTo>
                <a:cubicBezTo>
                  <a:pt x="0" y="2190"/>
                  <a:pt x="8828" y="532"/>
                  <a:pt x="10519" y="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8"/>
          <p:cNvSpPr/>
          <p:nvPr/>
        </p:nvSpPr>
        <p:spPr>
          <a:xfrm>
            <a:off x="1920960" y="234144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9"/>
          <p:cNvSpPr/>
          <p:nvPr/>
        </p:nvSpPr>
        <p:spPr>
          <a:xfrm>
            <a:off x="2720880" y="285912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0"/>
          <p:cNvSpPr/>
          <p:nvPr/>
        </p:nvSpPr>
        <p:spPr>
          <a:xfrm>
            <a:off x="-1733400" y="4797360"/>
            <a:ext cx="252360" cy="1800"/>
          </a:xfrm>
          <a:prstGeom prst="line">
            <a:avLst/>
          </a:prstGeom>
          <a:ln w="9360">
            <a:solidFill>
              <a:srgbClr val="2e9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8333 0.751759 C 0.036539 0.723734 0.085763 0.625494 0.077569 0.583611 C 0.069374 0.541728 -0.012835 0.533009 -0.020833 0.500463 C -0.028832 0.467917 0.002175 0.42196 0.029583 0.388333 C 0.05699 0.354707 0.140416 0.321913 0.14361 0.298704 C 0.146805 0.275494 0.087569 0.272284 0.048749 0.249074 C 0.00993 0.225864 -0.085105 0.191451 -0.089306 0.159444 C -0.093508 0.127438 0.004733 0.074105 0.023541 0.057037 E">
                                      <p:cBhvr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1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4200000">
                                      <p:cBhvr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3541 0.057037 C 0.004733 0.074105 -0.093508 0.127438 -0.089306 0.159444 C -0.085105 0.191451 0.00993 0.225864 0.048749 0.249074 C 0.087569 0.272284 0.146805 0.275494 0.14361 0.298704 C 0.140416 0.321913 0.05699 0.354707 0.029583 0.388333 C 0.002175 0.42196 -0.028832 0.467917 -0.020833 0.500463 C -0.012835 0.533009 0.069374 0.541728 0.077569 0.583611 C 0.085763 0.625494 0.036539 0.723734 0.028333 0.751759 E">
                                      <p:cBhvr>
                                        <p:cTn id="17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4200000">
                                      <p:cBhvr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0972 0.846203 C -0.002766 0.818179 0.046458 0.719939 0.038264 0.678056 C 0.030069 0.636173 -0.05214 0.627454 -0.060138 0.594908 C -0.068137 0.562362 -0.03713 0.516405 -0.009722 0.482778 C 0.017685 0.449151 0.101111 0.416358 0.104305 0.393149 C 0.1075 0.369939 0.048264 0.366729 0.009444 0.343519 C -0.029375 0.320309 -0.12441 0.285896 -0.128611 0.253889 C -0.132813 0.221883 -0.034572 0.16855 -0.015764 0.151482 E">
                                      <p:cBhvr>
                                        <p:cTn id="2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4200000">
                                      <p:cBhvr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8472 0.751852 C 0.036678 0.723827 0.085902 0.625587 0.077708 0.583704 C 0.069513 0.541821 -0.012696 0.533102 -0.020694 0.500556 C -0.028693 0.46801 0.002314 0.422053 0.029722 0.388426 C 0.057129 0.3548 0.140555 0.322006 0.143749 0.298797 C 0.146944 0.275587 0.087708 0.272377 0.048888 0.249167 C 0.010069 0.225957 -0.084966 0.191544 -0.089167 0.159537 C -0.093369 0.127531 0.004872 0.074198 0.02368 0.05713 E">
                                      <p:cBhvr>
                                        <p:cTn id="35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4200000">
                                      <p:cBhvr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8333 0.751759 C 0.036539 0.723734 0.085763 0.625494 0.077569 0.583611 C 0.069374 0.541728 -0.012835 0.533009 -0.020833 0.500463 C -0.028832 0.467917 0.002175 0.42196 0.029583 0.388333 C 0.05699 0.354707 0.140416 0.321913 0.14361 0.298704 C 0.146805 0.275494 0.087569 0.272284 0.048749 0.249074 C 0.00993 0.225864 -0.085105 0.191451 -0.089306 0.159444 C -0.093508 0.127438 0.004733 0.074105 0.023541 0.057037 E">
                                      <p:cBhvr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4200000"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6528 -0.126852 E">
                                      <p:cBhvr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89 0.0365 L -0.040475 0.0365 L -0.051049 0.032186 C -0.058098 0.029307 -0.070435 0.035066 -0.075722 0.029307 C -0.079247 0.027873 -0.088058 0.00774 -0.098632 0.004872 C -0.109207 0.001993 -0.125068 0.003427 -0.132117 0.004872 C -0.151503 0.012054 -0.167364 0.030752 -0.18675 0.035066 L -0.229047 0.026439 L -0.246671 0.0365 L -0.267818 0.07244 L -0.285442 -0.196419 L -0.301303 0.026439 C -0.324214 0.026439 -0.33655 0.032186 -0.348887 0.032186 C -0.357699 0.032186 -0.377085 0.013499 -0.387659 0.013499 C -0.401757 0.016367 -0.417619 0.0365 -0.431718 0.0365 L -0.461678 0.0365 E">
                                      <p:cBhvr>
                                        <p:cTn id="57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8 0.004444 C -0.019159 0.004444 -0.024171 0.004444 -0.028113 0.004444 C -0.032056 0.004444 -0.036014 0.004444 -0.041025 0.004444 C -0.046037 0.004444 -0.052102 0.004089 -0.058182 0.004444 C -0.064261 0.004799 -0.072132 0.006219 -0.077504 0.006574 C -0.082877 0.006929 -0.085766 0.006574 -0.090417 0.006574 C -0.095067 0.006574 -0.100394 0.006574 -0.105405 0.006574 C -0.110416 0.006574 -0.11618 0.006574 -0.120485 0.006574 C -0.124789 0.006574 -0.127302 0.006574 -0.131229 0.006574 C -0.135157 0.006574 -0.139763 0.00841 -0.144052 0.006574 C -0.14834 0.004737 -0.153383 -0.000772 -0.156964 -0.004445 C -0.160546 -0.008118 -0.162322 -0.012531 -0.165541 -0.015463 C -0.168762 -0.018396 -0.173413 -0.01838 -0.176286 -0.022037 C -0.179161 -0.025695 -0.180636 -0.03301 -0.182788 -0.037408 C -0.184939 -0.041806 -0.187769 -0.044383 -0.189199 -0.048426 C -0.190628 -0.05247 -0.188506 -0.05909 -0.191365 -0.061667 C -0.194226 -0.064244 -0.202066 -0.061683 -0.206355 -0.063889 C -0.210644 -0.066096 -0.214226 -0.071235 -0.2171 -0.074908 C -0.219975 -0.078581 -0.220727 -0.082254 -0.223601 -0.085926 C -0.226476 -0.089599 -0.23078 -0.094383 -0.234346 -0.096945 C -0.237913 -0.099507 -0.241435 -0.100926 -0.245 -0.101297 C -0.248568 -0.101667 -0.251803 -0.099892 -0.255745 -0.099167 C -0.259689 -0.098442 -0.264716 -0.099152 -0.268658 -0.096945 C -0.272601 -0.094738 -0.276544 -0.089599 -0.279403 -0.085926 C -0.282263 -0.082254 -0.284385 -0.078581 -0.285814 -0.074908 C -0.287244 -0.071235 -0.28762 -0.067562 -0.287981 -0.063889 C -0.288343 -0.060217 -0.285468 -0.055803 -0.287981 -0.052871 C -0.290494 -0.049939 -0.298756 -0.047392 -0.30306 -0.046297 C -0.307365 -0.045201 -0.309877 -0.046297 -0.313805 -0.046297 C -0.317733 -0.046297 -0.322339 -0.046297 -0.326627 -0.046297 C -0.330916 -0.046297 -0.335596 -0.044831 -0.33954 -0.046297 C -0.343482 -0.047763 -0.346703 -0.053257 -0.350285 -0.055093 C -0.353866 -0.05693 -0.357448 -0.05659 -0.36103 -0.057315 C -0.364611 -0.058041 -0.36747 -0.058349 -0.371774 -0.059445 C -0.376079 -0.060541 -0.382203 -0.062053 -0.386854 -0.063889 C -0.391504 -0.065726 -0.395025 -0.069723 -0.399676 -0.070463 C -0.404325 -0.071204 -0.411173 -0.070525 -0.414755 -0.068334 C -0.418337 -0.066142 -0.419736 -0.061358 -0.421166 -0.057315 C -0.422595 -0.053272 -0.422611 -0.048118 -0.423332 -0.044075 C -0.424055 -0.040031 -0.425138 -0.036729 -0.4255 -0.033056 C -0.425861 -0.029383 -0.425138 -0.02571 -0.4255 -0.022037 C -0.425861 -0.018365 -0.42696 -0.014692 -0.427667 -0.011019 C -0.428375 -0.007346 -0.427246 -0.002933 -0.429744 0 C -0.432242 0.002932 -0.438713 0.004367 -0.442655 0.006574 C -0.446599 0.00878 -0.44982 0.011774 -0.453401 0.01324 C -0.456983 0.014706 -0.460565 0.015015 -0.464146 0.01537 C -0.467728 0.015725 -0.471309 0.01537 -0.474891 0.01537 C -0.478473 0.01537 -0.482054 0.016836 -0.485636 0.01537 C -0.489218 0.013904 -0.493522 0.009876 -0.496381 0.006574 C -0.499241 0.003271 -0.499211 -0.000417 -0.502792 -0.004445 C -0.506374 -0.008473 -0.515013 -0.013565 -0.517872 -0.017593 C -0.520731 -0.021621 -0.517089 -0.024198 -0.519948 -0.028612 C -0.522807 -0.033025 -0.531445 -0.039661 -0.535027 -0.044075 C -0.538609 -0.048488 -0.540008 -0.05105 -0.541439 -0.055093 C -0.542868 -0.059136 -0.542176 -0.064306 -0.543605 -0.068334 C -0.545035 -0.072362 -0.547864 -0.075232 -0.550016 -0.07926 C -0.552168 -0.083287 -0.554004 -0.088457 -0.556518 -0.0925 C -0.559031 -0.096544 -0.562943 -0.099846 -0.565095 -0.103519 C -0.567247 -0.107192 -0.566916 -0.110124 -0.569429 -0.114537 C -0.571942 -0.118951 -0.577676 -0.125587 -0.580174 -0.13 C -0.582673 -0.134414 -0.583349 -0.137362 -0.584418 -0.141019 C -0.585487 -0.144676 -0.585863 -0.148288 -0.586586 -0.151945 C -0.587307 -0.155602 -0.587684 -0.159291 -0.588752 -0.162963 C -0.589821 -0.166636 -0.591205 -0.170309 -0.592996 -0.173982 C -0.594788 -0.177655 -0.598068 -0.181328 -0.599497 -0.185 C -0.600927 -0.188673 -0.599783 -0.192346 -0.601575 -0.196019 C -0.603365 -0.199692 -0.607022 -0.204831 -0.610242 -0.207037 C -0.613463 -0.209244 -0.617331 -0.208889 -0.620898 -0.20926 C -0.624464 -0.20963 -0.628061 -0.20963 -0.631643 -0.20926 C -0.635224 -0.208889 -0.638806 -0.208504 -0.642387 -0.207037 C -0.645969 -0.205571 -0.650258 -0.203396 -0.653132 -0.200463 C -0.656007 -0.197531 -0.65676 -0.192747 -0.659633 -0.189445 C -0.662508 -0.186142 -0.667519 -0.183951 -0.670378 -0.180649 C -0.673238 -0.177346 -0.673931 -0.173303 -0.67679 -0.16963 C -0.679649 -0.165957 -0.683953 -0.161914 -0.687535 -0.158612 C -0.691116 -0.155309 -0.694698 -0.151652 -0.69828 -0.149815 C -0.701861 -0.147979 -0.705443 -0.147238 -0.709024 -0.147593 C -0.712606 -0.147948 -0.717272 -0.149383 -0.719769 -0.151945 C -0.722269 -0.154507 -0.723306 -0.159291 -0.724013 -0.162963 C -0.724721 -0.166636 -0.724013 -0.170309 -0.724013 -0.173982 C -0.724013 -0.177655 -0.723653 -0.181328 -0.724013 -0.185 C -0.724375 -0.188673 -0.726181 -0.192346 -0.726181 -0.196019 C -0.726181 -0.199692 -0.725082 -0.203365 -0.724013 -0.207037 C -0.722945 -0.21071 -0.720477 -0.214383 -0.719769 -0.218056 C -0.719062 -0.221729 -0.717979 -0.225772 -0.719769 -0.229075 C -0.721561 -0.232377 -0.726934 -0.236034 -0.730515 -0.237871 C -0.734097 -0.239707 -0.737679 -0.239723 -0.74126 -0.240093 C -0.744842 -0.240463 -0.748423 -0.240093 -0.752005 -0.240093 C -0.755587 -0.240093 -0.758461 -0.2423 -0.76275 -0.240093 C -0.76704 -0.237886 -0.774173 -0.230896 -0.777739 -0.226852 C -0.781306 -0.222809 -0.781636 -0.219507 -0.78415 -0.215834 C -0.786663 -0.212161 -0.790305 -0.208488 -0.792818 -0.204815 C -0.795332 -0.201142 -0.798161 -0.197454 -0.799228 -0.193797 C -0.800297 -0.190139 -0.799228 -0.186528 -0.799228 -0.182871 C -0.799228 -0.179213 -0.79959 -0.175525 -0.799228 -0.171852 C -0.798868 -0.16818 -0.797424 -0.164507 -0.797062 -0.160834 C -0.796701 -0.157161 -0.798131 -0.153488 -0.797062 -0.149815 C -0.795993 -0.146142 -0.79172 -0.140633 -0.790651 -0.138797 E">
                                      <p:cBhvr>
                                        <p:cTn id="63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587 0.040066 C 0.714302 0.041315 0.716473 0.045718 0.717879 0.047561 C 0.719285 0.049404 0.720577 0.050242 0.722025 0.051125 C 0.723473 0.052008 0.725058 0.052284 0.726565 0.052861 C 0.728072 0.053437 0.72956 0.054006 0.731067 0.054582 C 0.732574 0.055158 0.733941 0.05568 0.735607 0.056317 C 0.737272 0.056954 0.739396 0.057766 0.741062 0.058403 C 0.742728 0.05904 0.744088 0.05956 0.745602 0.060139 C 0.747115 0.060717 0.748476 0.061238 0.750141 0.061874 C 0.751807 0.062511 0.75393 0.063323 0.755597 0.06396 C 0.757262 0.064597 0.758477 0.065061 0.760136 0.065696 C 0.761795 0.06633 0.763589 0.067016 0.765554 0.067767 C 0.767519 0.068518 0.769953 0.069449 0.771924 0.070203 C 0.773896 0.070956 0.775241 0.070811 0.777379 0.072288 C 0.779519 0.073766 0.782319 0.077475 0.784757 0.079066 C 0.787194 0.080657 0.789888 0.081028 0.792006 0.081838 C 0.794122 0.082647 0.795624 0.082575 0.797461 0.083923 C 0.799297 0.085271 0.801253 0.088272 0.803024 0.089925 C 0.804795 0.091577 0.806527 0.091938 0.808086 0.093839 C 0.809645 0.09574 0.811834 0.098515 0.812378 0.101333 C 0.812921 0.104152 0.811841 0.107669 0.811344 0.110749 C 0.810847 0.113828 0.810263 0.116546 0.809394 0.119814 C 0.808526 0.123082 0.807739 0.126711 0.806136 0.130357 C 0.804533 0.134004 0.801917 0.138582 0.799776 0.141694 C 0.797634 0.144804 0.795665 0.146346 0.793286 0.149023 C 0.790908 0.1517 0.78773 0.15502 0.785505 0.157754 C 0.783279 0.16049 0.781876 0.163237 0.779931 0.165434 C 0.777987 0.167632 0.775869 0.169089 0.773836 0.170936 C 0.7718 0.172783 0.769282 0.173839 0.767723 0.176514 C 0.766164 0.179187 0.766081 0.183347 0.76448 0.186981 C 0.76288 0.190615 0.759786 0.194378 0.75812 0.198317 C 0.756454 0.202255 0.755416 0.207052 0.754485 0.210613 C 0.753554 0.214173 0.752149 0.216905 0.752535 0.219678 C 0.752923 0.22245 0.755341 0.225698 0.756812 0.227249 C 0.758281 0.2288 0.759798 0.227085 0.761352 0.228985 C 0.762903 0.230884 0.764747 0.235173 0.766127 0.238642 C 0.767508 0.24211 0.768486 0.246744 0.769633 0.249792 C 0.77078 0.252843 0.772234 0.253701 0.77301 0.256938 C 0.773787 0.260175 0.773515 0.26598 0.774291 0.269217 C 0.775068 0.272455 0.777277 0.273601 0.777668 0.276361 C 0.778058 0.279121 0.777131 0.282697 0.776634 0.285778 C 0.776136 0.288857 0.775486 0.291879 0.774685 0.294842 C 0.773882 0.297805 0.773247 0.301493 0.771819 0.303558 C 0.770391 0.305622 0.768579 0.304902 0.766116 0.30723 C 0.763654 0.309559 0.76031 0.314519 0.757047 0.317531 C 0.753785 0.320544 0.749308 0.323091 0.74654 0.325304 C 0.743774 0.327516 0.742452 0.328316 0.740445 0.330805 C 0.738437 0.333293 0.736809 0.337851 0.734495 0.340236 C 0.732179 0.342621 0.729043 0.343442 0.726551 0.345114 C 0.724058 0.346786 0.72187 0.348545 0.719539 0.350265 C 0.717208 0.351984 0.715825 0.352431 0.712565 0.355431 C 0.709305 0.358431 0.703595 0.36441 0.69998 0.368262 C 0.696364 0.372115 0.693167 0.375496 0.690873 0.378547 C 0.688579 0.381601 0.687597 0.38319 0.686215 0.386578 C 0.684832 0.389965 0.682324 0.395519 0.68258 0.398873 C 0.682835 0.402228 0.686393 0.40389 0.687749 0.406703 C 0.689105 0.409516 0.689507 0.412995 0.690716 0.415752 C 0.691926 0.418509 0.693359 0.420995 0.695008 0.423246 C 0.696657 0.425498 0.69905 0.427362 0.700609 0.429262 C 0.702168 0.431164 0.702681 0.433352 0.704362 0.434656 C 0.706043 0.435957 0.708883 0.436384 0.710695 0.437077 C 0.712507 0.43777 0.7137 0.437565 0.715235 0.438813 C 0.71677 0.440058 0.718198 0.442597 0.719904 0.444554 C 0.721609 0.446512 0.723244 0.44873 0.725467 0.450556 C 0.727688 0.452381 0.731164 0.453723 0.733237 0.455505 C 0.73531 0.457287 0.736696 0.45849 0.737906 0.461248 C 0.739116 0.464005 0.739308 0.469959 0.740497 0.472049 C 0.741685 0.474139 0.743523 0.473206 0.745037 0.473785 C 0.746549 0.474363 0.748126 0.47465 0.749576 0.47552 C 0.751026 0.47639 0.75242 0.477528 0.753738 0.479008 C 0.755058 0.480488 0.75607 0.481891 0.757492 0.4844 C 0.758914 0.486909 0.760975 0.490953 0.762268 0.494058 C 0.763562 0.497164 0.764389 0.499431 0.765252 0.503031 C 0.766115 0.506631 0.766498 0.511696 0.767449 0.515661 C 0.768399 0.519624 0.770244 0.523269 0.770955 0.526811 C 0.771665 0.530353 0.771759 0.533659 0.771714 0.536913 C 0.771668 0.540165 0.771436 0.542041 0.770679 0.546327 C 0.769923 0.550613 0.768037 0.557079 0.767174 0.562629 C 0.766309 0.568181 0.765889 0.57324 0.765499 0.579633 C 0.765109 0.586023 0.765242 0.595253 0.76483 0.600977 C 0.764419 0.6067 0.76318 0.609455 0.763027 0.613972 C 0.762874 0.618489 0.763335 0.623928 0.763915 0.628079 C 0.764494 0.632231 0.76551 0.63589 0.766505 0.638881 C 0.7675 0.641872 0.768675 0.643283 0.769881 0.646025 C 0.771088 0.648768 0.771884 0.653318 0.773743 0.655333 C 0.7756 0.657348 0.778977 0.657005 0.781029 0.658119 C 0.78308 0.659232 0.784434 0.660424 0.786053 0.662018 C 0.787672 0.663613 0.789178 0.665783 0.790739 0.667684 C 0.792297 0.669586 0.79372 0.672122 0.795407 0.673427 C 0.797094 0.674731 0.799197 0.674876 0.800863 0.675513 C 0.802528 0.676149 0.803823 0.676974 0.805403 0.677248 C 0.806981 0.677522 0.808756 0.676882 0.810335 0.677155 C 0.811913 0.677429 0.813368 0.678315 0.814875 0.678891 C 0.816381 0.679467 0.817565 0.679919 0.819376 0.680612 C 0.821188 0.681305 0.823689 0.681931 0.825747 0.683048 C 0.827806 0.684165 0.830044 0.68601 0.831725 0.687312 C 0.833406 0.688614 0.834368 0.689325 0.835833 0.690861 C 0.837298 0.692397 0.838829 0.695236 0.840518 0.696528 C 0.842209 0.69782 0.84414 0.697253 0.845974 0.698614 C 0.847807 0.699974 0.849447 0.702909 0.851521 0.704692 C 0.853593 0.706473 0.856574 0.707942 0.858413 0.709304 C 0.860253 0.710669 0.861007 0.71097 0.86256 0.712869 C 0.864112 0.714769 0.866177 0.718801 0.867729 0.7207 C 0.869282 0.722598 0.870906 0.721927 0.871876 0.724264 C 0.872846 0.726599 0.872577 0.73239 0.873551 0.734714 C 0.874524 0.737038 0.877192 0.736051 0.877714 0.738202 C 0.878235 0.740352 0.877177 0.744537 0.876679 0.747618 C 0.876182 0.750697 0.875686 0.753777 0.87473 0.756682 C 0.873775 0.759588 0.872508 0.762373 0.870949 0.765048 C 0.86939 0.767721 0.866928 0.77005 0.865376 0.772727 C 0.863823 0.775404 0.863186 0.778431 0.861633 0.781107 C 0.860081 0.783783 0.857924 0.786229 0.856059 0.788786 C 0.854195 0.791344 0.851382 0.795174 0.850447 0.796452 E">
                                      <p:cBhvr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18 -0.038825 C -0.010671 -0.03751 -0.01623 -0.03291 -0.019937 -0.030938 C -0.023644 -0.028966 -0.027349 -0.030909 -0.031056 -0.026993 C -0.034761 -0.023078 -0.038468 -0.010698 -0.042175 -0.007439 C -0.04588 -0.004179 -0.048839 -0.007439 -0.053293 -0.007439 C -0.057747 -0.007439 -0.063711 -0.008069 -0.068897 -0.007439 C -0.074083 -0.006809 -0.079222 -0.004289 -0.084407 -0.003659 C -0.089593 -0.003029 -0.095558 -0.003659 -0.100011 -0.003659 C -0.104465 -0.003659 -0.107066 -0.003659 -0.11113 -0.003659 C -0.115193 -0.003659 -0.119959 -0.003659 -0.124397 -0.003659 C -0.128835 -0.003659 -0.133304 -0.003659 -0.137758 -0.003659 C -0.142213 -0.003659 -0.146308 -0.003029 -0.15112 -0.003659 C -0.155931 -0.004289 -0.162191 -0.006153 -0.16663 -0.007439 C -0.171068 -0.008726 -0.173668 -0.009411 -0.177749 -0.011383 C -0.181829 -0.013354 -0.18703 -0.017298 -0.19111 -0.019269 C -0.195191 -0.021243 -0.198522 -0.022556 -0.202229 -0.023214 C -0.205935 -0.023871 -0.209641 -0.023214 -0.213347 -0.023214 C -0.217054 -0.023214 -0.220759 -0.018668 -0.224466 -0.023214 C -0.228173 -0.027759 -0.233 -0.042686 -0.235585 -0.050491 C -0.23817 -0.058297 -0.237765 -0.063528 -0.239977 -0.070047 C -0.242188 -0.076563 -0.245878 -0.090915 -0.248853 -0.0896 C -0.251826 -0.088285 -0.255595 -0.070622 -0.257821 -0.062158 C -0.260049 -0.053697 -0.261108 -0.04663 -0.262213 -0.038825 C -0.263319 -0.03102 -0.264082 -0.023816 -0.264456 -0.015326 C -0.26483 -0.006836 -0.262977 0.002996 -0.264456 0.012116 C -0.265936 0.021236 -0.27148 0.030931 -0.273332 0.039393 C -0.275186 0.047857 -0.274469 0.055717 -0.275576 0.062892 C -0.276681 0.070067 -0.27886 0.082445 -0.279967 0.082445 C -0.281072 0.082445 -0.281836 0.070067 -0.282208 0.062892 C -0.282582 0.055717 -0.282208 0.047227 -0.282208 0.039393 C -0.282208 0.031559 -0.282208 0.023069 -0.282208 0.015894 C -0.282208 0.008719 -0.282208 0.004146 -0.282208 -0.003659 C -0.282208 -0.011464 -0.282208 -0.023131 -0.282208 -0.030938 C -0.282208 -0.038743 -0.282208 -0.043973 -0.282208 -0.050491 C -0.282208 -0.05701 -0.281462 -0.063528 -0.282208 -0.070047 C -0.282956 -0.076563 -0.285214 -0.082425 -0.286694 -0.0896 C -0.288173 -0.096775 -0.289606 -0.105924 -0.291086 -0.113099 C -0.292564 -0.120274 -0.292969 -0.131366 -0.29557 -0.132653 C -0.298171 -0.133941 -0.30225 -0.127998 -0.306689 -0.120823 C -0.311128 -0.113647 -0.315908 -0.101322 -0.3222 -0.0896 C -0.32849 -0.077878 -0.338877 -0.059612 -0.344436 -0.050491 C -0.349995 -0.041371 -0.352582 -0.040741 -0.355555 -0.034881 C -0.358529 -0.029019 -0.360803 -0.021844 -0.362282 -0.015326 C -0.363762 -0.008807 -0.36222 0.002914 -0.364432 0.004228 C -0.366642 0.005543 -0.373696 -0.001577 -0.375549 -0.007439 C -0.377403 -0.013299 -0.373696 -0.022448 -0.375549 -0.030938 C -0.377403 -0.039428 -0.383337 -0.04926 -0.386669 -0.05838 C -0.390001 -0.067498 -0.392945 -0.077852 -0.395546 -0.085657 C -0.398146 -0.093461 -0.400779 -0.105211 -0.402273 -0.105211 C -0.403768 -0.105211 -0.403409 -0.093461 -0.404514 -0.085657 C -0.405621 -0.077852 -0.407054 -0.066185 -0.408907 -0.05838 C -0.410759 -0.050573 -0.413033 -0.045343 -0.415634 -0.038825 C -0.418234 -0.032306 -0.421178 -0.025788 -0.42451 -0.019269 C -0.427842 -0.012753 -0.431923 -0.006234 -0.435627 0.000284 C -0.439335 0.006803 -0.443415 0.013321 -0.446747 0.019839 C -0.450081 0.026356 -0.452293 0.033533 -0.455624 0.039393 C -0.458956 0.045253 -0.463783 0.049143 -0.466743 0.055003 C -0.469701 0.060865 -0.470418 0.069327 -0.473377 0.074559 C -0.476335 0.079788 -0.481163 0.079872 -0.484496 0.08639 C -0.487828 0.092907 -0.490413 0.105862 -0.493371 0.113667 C -0.496331 0.121473 -0.498168 0.126046 -0.502248 0.133221 C -0.506329 0.140398 -0.513398 0.150201 -0.517851 0.15672 C -0.522306 0.163238 -0.525264 0.173645 -0.528969 0.17233 C -0.532676 0.171017 -0.53713 0.156008 -0.540089 0.148833 C -0.543048 0.141656 -0.544511 0.135796 -0.546723 0.129278 C -0.548934 0.122759 -0.551877 0.116241 -0.553356 0.109724 C -0.554836 0.103206 -0.555226 0.097317 -0.5556 0.090169 C -0.555974 0.08302 -0.555226 0.073984 -0.5556 0.066835 C -0.555974 0.059687 -0.557468 0.054457 -0.557842 0.047282 C -0.558215 0.040105 -0.557842 0.032273 -0.557842 0.023783 C -0.557842 0.015293 -0.557842 0.004173 -0.557842 -0.003659 C -0.557842 -0.011493 -0.557842 -0.016723 -0.557842 -0.023214 C -0.557842 -0.029704 -0.557468 -0.036113 -0.557842 -0.042605 C -0.558215 -0.049095 -0.559711 -0.054327 -0.560084 -0.062158 C -0.560458 -0.069992 -0.560084 -0.08111 -0.560084 -0.0896 C -0.560084 -0.09809 -0.560084 -0.104636 -0.560084 -0.113099 C -0.560084 -0.121561 -0.560084 -0.132571 -0.560084 -0.140375 C -0.560084 -0.14818 -0.560084 -0.153412 -0.560084 -0.15993 C -0.560084 -0.16645 -0.560458 -0.172967 -0.560084 -0.179485 C -0.559711 -0.186003 -0.557842 -0.192522 -0.557842 -0.19904 C -0.557842 -0.205559 -0.558606 -0.212077 -0.560084 -0.218594 C -0.561564 -0.225112 -0.564865 -0.230974 -0.566718 -0.238149 C -0.568571 -0.245324 -0.570082 -0.253841 -0.571203 -0.261648 C -0.572323 -0.269453 -0.572714 -0.277833 -0.573446 -0.284981 C -0.574177 -0.292127 -0.573383 -0.303877 -0.575594 -0.304535 C -0.577806 -0.305192 -0.58226 -0.29673 -0.586713 -0.288925 C -0.591167 -0.28112 -0.598983 -0.266823 -0.602317 -0.257703 C -0.605649 -0.248584 -0.602644 -0.243983 -0.606708 -0.234205 C -0.610773 -0.224427 -0.62077 -0.210104 -0.626704 -0.19904 C -0.632636 -0.187975 -0.638959 -0.176282 -0.642307 -0.167818 C -0.645655 -0.159356 -0.645312 -0.156096 -0.646792 -0.148265 C -0.648271 -0.14043 -0.650452 -0.129943 -0.651183 -0.120823 C -0.651916 -0.111702 -0.650436 -0.102007 -0.651183 -0.093544 C -0.651931 -0.085082 -0.654547 -0.077878 -0.655669 -0.070047 C -0.656789 -0.062213 -0.655699 -0.053067 -0.657911 -0.046548 C -0.660121 -0.04003 -0.665245 -0.030938 -0.668935 -0.030938 C -0.672627 -0.030938 -0.677079 -0.040686 -0.680055 -0.046548 C -0.68303 -0.052408 -0.684928 -0.059585 -0.686782 -0.066102 C -0.688635 -0.07262 -0.688947 -0.079139 -0.691174 -0.085657 C -0.6934 -0.092176 -0.697169 -0.098694 -0.700142 -0.105211 C -0.703117 -0.111729 -0.705687 -0.120193 -0.70902 -0.124766 C -0.712353 -0.129339 -0.716075 -0.13331 -0.720139 -0.132653 C -0.724203 -0.131995 -0.729341 -0.122794 -0.733406 -0.120823 C -0.737469 -0.118851 -0.740818 -0.120823 -0.744526 -0.120823 C -0.748231 -0.120823 -0.751938 -0.121479 -0.755643 -0.120823 C -0.75935 -0.120164 -0.762682 -0.118822 -0.766762 -0.116877 C -0.770843 -0.114934 -0.775312 -0.111757 -0.780124 -0.109156 C -0.784935 -0.106554 -0.790821 -0.102582 -0.795634 -0.101267 C -0.800445 -0.099954 -0.804915 -0.101267 -0.808995 -0.101267 C -0.813075 -0.101267 -0.81826 -0.101267 -0.820114 -0.101267 E">
                                      <p:cBhvr>
                                        <p:cTn id="6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806 0.005093 C -0.003183 0.005093 -0.007315 0.005093 -0.01007 0.005093 C -0.012825 0.005093 -0.015579 0.005093 -0.018334 0.005093 C -0.021088 0.005093 -0.023843 0.005093 -0.026598 0.005093 C -0.029352 0.005093 -0.031829 0.006189 -0.034862 0.005093 C -0.037894 0.003997 -0.041216 -1.5E-005 -0.044792 -0.001481 C -0.048369 -0.002947 -0.053021 -0.002237 -0.05632 -0.003703 C -0.059619 -0.005169 -0.062651 -0.007345 -0.064584 -0.010277 C -0.066517 -0.013209 -0.066806 -0.017253 -0.067917 -0.021296 C -0.069028 -0.025339 -0.069595 -0.030493 -0.07125 -0.034537 C -0.072906 -0.03858 -0.076204 -0.041882 -0.077848 -0.045555 C -0.079491 -0.049228 -0.080568 -0.052531 -0.081112 -0.056574 C -0.081656 -0.060617 -0.080278 -0.065401 -0.081112 -0.069814 C -0.081945 -0.074228 -0.085278 -0.078287 -0.086112 -0.083055 C -0.086945 -0.087824 -0.085568 -0.093287 -0.086112 -0.098426 C -0.086656 -0.103564 -0.087998 -0.108009 -0.089375 -0.113888 C -0.090753 -0.119768 -0.093276 -0.127839 -0.094375 -0.133703 C -0.095475 -0.139568 -0.095706 -0.144305 -0.095973 -0.149074 C -0.096239 -0.153842 -0.095973 -0.157901 -0.095973 -0.162314 C -0.095973 -0.166728 -0.095417 -0.170787 -0.095973 -0.175555 C -0.096528 -0.180324 -0.098751 -0.186527 -0.099306 -0.190926 C -0.099862 -0.195324 -0.099306 -0.197531 -0.099306 -0.201944 C -0.099306 -0.206358 -0.099306 -0.212268 -0.099306 -0.217407 C -0.099306 -0.222546 -0.098751 -0.227639 -0.099306 -0.232777 C -0.099862 -0.237916 -0.10154 -0.243827 -0.102639 -0.24824 C -0.103739 -0.252654 -0.104538 -0.255586 -0.105903 -0.259259 C -0.107269 -0.262932 -0.109179 -0.26662 -0.110834 -0.270277 C -0.112489 -0.273935 -0.113623 -0.278271 -0.115834 -0.281203 C -0.118044 -0.284135 -0.121343 -0.286034 -0.124098 -0.28787 C -0.126852 -0.289706 -0.129885 -0.28966 -0.132362 -0.292222 C -0.134838 -0.294784 -0.136482 -0.301404 -0.138959 -0.30324 C -0.141436 -0.305077 -0.144468 -0.30287 -0.147223 -0.30324 C -0.149977 -0.303611 -0.152732 -0.305092 -0.155487 -0.305463 C -0.158241 -0.305833 -0.160996 -0.306188 -0.16375 -0.305463 C -0.166505 -0.304737 -0.168994 -0.302206 -0.172014 -0.301111 C -0.175035 -0.300015 -0.178299 -0.301095 -0.181875 -0.298888 C -0.185452 -0.296682 -0.190163 -0.291172 -0.193473 -0.28787 C -0.196783 -0.284568 -0.198982 -0.281281 -0.201737 -0.279074 C -0.204491 -0.276867 -0.207246 -0.276095 -0.21 -0.274629 C -0.212755 -0.273163 -0.21551 -0.271743 -0.218264 -0.270277 C -0.221019 -0.268811 -0.223774 -0.266944 -0.226528 -0.265833 C -0.229283 -0.264722 -0.232038 -0.264706 -0.234792 -0.263611 C -0.237547 -0.262515 -0.240301 -0.259984 -0.243056 -0.259259 C -0.245811 -0.258534 -0.248577 -0.259629 -0.25132 -0.259259 C -0.254063 -0.258889 -0.256771 -0.257407 -0.259514 -0.257037 C -0.262257 -0.256666 -0.265024 -0.257037 -0.267778 -0.257037 C -0.270533 -0.257037 -0.273288 -0.257037 -0.276042 -0.257037 C -0.278797 -0.257037 -0.281551 -0.257037 -0.284306 -0.257037 C -0.287061 -0.257037 -0.289538 -0.257777 -0.29257 -0.257037 C -0.295602 -0.256296 -0.299468 -0.253333 -0.3025 -0.252592 C -0.305533 -0.251852 -0.30801 -0.252592 -0.310764 -0.252592 C -0.313519 -0.252592 -0.31573 -0.252592 -0.319028 -0.252592 C -0.322327 -0.252592 -0.32698 -0.252592 -0.330556 -0.252592 C -0.334132 -0.252592 -0.336899 -0.252592 -0.340487 -0.252592 C -0.344075 -0.252592 -0.348507 -0.252592 -0.352084 -0.252592 C -0.35566 -0.252592 -0.358924 -0.252963 -0.361945 -0.252592 C -0.364966 -0.252222 -0.367176 -0.251095 -0.370209 -0.25037 C -0.373241 -0.249645 -0.377385 -0.250432 -0.380139 -0.24824 C -0.382894 -0.246049 -0.384538 -0.241265 -0.386737 -0.237222 C -0.388936 -0.233179 -0.390857 -0.227654 -0.393334 -0.223981 C -0.395811 -0.220308 -0.398843 -0.218117 -0.401598 -0.215185 C -0.404352 -0.212253 -0.407651 -0.209691 -0.409862 -0.206388 C -0.412072 -0.203086 -0.413206 -0.199043 -0.414862 -0.19537 C -0.416517 -0.191697 -0.417593 -0.186929 -0.419792 -0.184351 C -0.421991 -0.181774 -0.424757 -0.181018 -0.428056 -0.179907 C -0.431355 -0.178796 -0.436007 -0.178055 -0.439584 -0.177685 C -0.44316 -0.177314 -0.446482 -0.17841 -0.449514 -0.177685 C -0.452547 -0.176959 -0.454746 -0.174058 -0.457778 -0.173333 C -0.460811 -0.172608 -0.464399 -0.173333 -0.467709 -0.173333 C -0.471019 -0.173333 -0.474063 -0.173333 -0.477639 -0.173333 C -0.481216 -0.173333 -0.485591 -0.173333 -0.489167 -0.173333 C -0.492744 -0.173333 -0.495788 -0.173333 -0.499098 -0.173333 C -0.502408 -0.173333 -0.504629 -0.173333 -0.509028 -0.173333 C -0.513426 -0.173333 -0.520254 -0.173333 -0.525487 -0.173333 C -0.530717 -0.173333 -0.53573 -0.173333 -0.540417 -0.173333 C -0.545105 -0.173333 -0.549213 -0.173333 -0.553612 -0.173333 C -0.55801 -0.173333 -0.562952 -0.173333 -0.566806 -0.173333 C -0.57066 -0.173333 -0.573426 -0.173333 -0.576737 -0.173333 C -0.580047 -0.173333 -0.583369 -0.173333 -0.586667 -0.173333 C -0.589966 -0.173333 -0.593507 -0.173333 -0.596528 -0.173333 C -0.599549 -0.173333 -0.601482 -0.173333 -0.604792 -0.173333 C -0.608102 -0.173333 -0.613079 -0.172963 -0.616389 -0.173333 C -0.6197 -0.173703 -0.621899 -0.174459 -0.624653 -0.175555 C -0.627408 -0.176651 -0.629619 -0.179182 -0.632917 -0.179907 C -0.636216 -0.180632 -0.640325 -0.179907 -0.644445 -0.179907 C -0.648564 -0.179907 -0.654062 -0.179907 -0.657638 -0.179907 C -0.661216 -0.179907 -0.663148 -0.181373 -0.665903 -0.179907 C -0.668658 -0.178441 -0.671413 -0.173672 -0.674167 -0.171111 C -0.676922 -0.168549 -0.679676 -0.166743 -0.682431 -0.164537 C -0.685186 -0.16233 -0.68794 -0.159336 -0.690695 -0.15787 C -0.69345 -0.156404 -0.695648 -0.15537 -0.698959 -0.15574 C -0.702269 -0.156111 -0.707246 -0.15679 -0.710556 -0.160092 C -0.713866 -0.163395 -0.715521 -0.172623 -0.71882 -0.175555 C -0.722118 -0.178487 -0.727593 -0.175493 -0.730348 -0.177685 C -0.733102 -0.179876 -0.733693 -0.185031 -0.735348 -0.188703 C -0.737002 -0.192376 -0.738635 -0.195679 -0.740278 -0.199722 C -0.741922 -0.203765 -0.744387 -0.208919 -0.745209 -0.212963 C -0.746031 -0.217006 -0.743831 -0.220308 -0.745209 -0.223981 C -0.746585 -0.227654 -0.752094 -0.231327 -0.753473 -0.235 C -0.75485 -0.238672 -0.753195 -0.240879 -0.753473 -0.246018 C -0.753749 -0.251157 -0.754583 -0.260694 -0.755139 -0.265833 C -0.755695 -0.270972 -0.756528 -0.273179 -0.756806 -0.276851 C -0.757083 -0.280524 -0.757083 -0.283827 -0.756806 -0.28787 C -0.756528 -0.291913 -0.755417 -0.297068 -0.755139 -0.301111 C -0.754862 -0.305154 -0.755139 -0.308102 -0.755139 -0.312129 C -0.755139 -0.316157 -0.755139 -0.320509 -0.755139 -0.325277 C -0.755139 -0.330046 -0.756517 -0.337438 -0.755139 -0.34074 C -0.753762 -0.344043 -0.750174 -0.344367 -0.746875 -0.345092 C -0.743577 -0.345818 -0.738645 -0.344722 -0.735348 -0.345092 C -0.732049 -0.345463 -0.729838 -0.346944 -0.727084 -0.347314 C -0.724329 -0.347685 -0.72213 -0.347314 -0.71882 -0.347314 C -0.71551 -0.347314 -0.710533 -0.347314 -0.707223 -0.347314 C -0.703912 -0.347314 -0.702257 -0.346944 -0.698959 -0.347314 C -0.69566 -0.347685 -0.690729 -0.348441 -0.687431 -0.349537 C -0.684132 -0.350632 -0.682477 -0.352052 -0.679167 -0.353888 C -0.675857 -0.355725 -0.670879 -0.357978 -0.66757 -0.360555 C -0.66426 -0.363132 -0.66206 -0.366419 -0.659306 -0.369351 C -0.656551 -0.372284 -0.653797 -0.377407 -0.651042 -0.378148 C -0.648287 -0.378888 -0.644422 -0.376358 -0.642778 -0.373796 C -0.641135 -0.371234 -0.641725 -0.36645 -0.641181 -0.362777 C -0.640637 -0.359105 -0.639792 -0.355432 -0.639514 -0.351759 C -0.639237 -0.348086 -0.639514 -0.344413 -0.639514 -0.34074 C -0.639514 -0.337068 -0.639514 -0.333395 -0.639514 -0.329722 C -0.639514 -0.326049 -0.639237 -0.322376 -0.639514 -0.318703 C -0.639792 -0.315031 -0.640637 -0.311358 -0.641181 -0.307685 C -0.641725 -0.304012 -0.642512 -0.300339 -0.642778 -0.296666 C -0.643043 -0.292993 -0.642778 -0.290046 -0.642778 -0.285648 C -0.642778 -0.28125 -0.644422 -0.27395 -0.642778 -0.270277 C -0.641135 -0.266605 -0.634561 -0.264722 -0.632917 -0.263611 E">
                                      <p:cBhvr>
                                        <p:cTn id="6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445640" y="494280"/>
            <a:ext cx="397440" cy="397440"/>
            <a:chOff x="4445640" y="494280"/>
            <a:chExt cx="397440" cy="397440"/>
          </a:xfrm>
        </p:grpSpPr>
        <p:sp>
          <p:nvSpPr>
            <p:cNvPr id="58" name=""/>
            <p:cNvSpPr/>
            <p:nvPr/>
          </p:nvSpPr>
          <p:spPr>
            <a:xfrm rot="3419400">
              <a:off x="4500360" y="549000"/>
              <a:ext cx="287280" cy="28728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280"/>
                <a:gd name="textAreaBottom" fmla="*/ 179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900000">
              <a:off x="4500720" y="549360"/>
              <a:ext cx="280080" cy="280080"/>
            </a:xfrm>
            <a:custGeom>
              <a:avLst/>
              <a:gdLst>
                <a:gd name="textAreaLeft" fmla="*/ 111600 w 280080"/>
                <a:gd name="textAreaRight" fmla="*/ 168480 w 28008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>
                    <a:alpha val="80392"/>
                  </a:srgbClr>
                </a:gs>
                <a:gs pos="100000">
                  <a:srgbClr val="66cc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311920" y="1313640"/>
            <a:ext cx="199800" cy="200160"/>
            <a:chOff x="2311920" y="1313640"/>
            <a:chExt cx="199800" cy="200160"/>
          </a:xfrm>
        </p:grpSpPr>
        <p:sp>
          <p:nvSpPr>
            <p:cNvPr id="61" name=""/>
            <p:cNvSpPr/>
            <p:nvPr/>
          </p:nvSpPr>
          <p:spPr>
            <a:xfrm rot="3419400">
              <a:off x="2339280" y="134136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900000">
              <a:off x="2339640" y="134100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65000" y="1888560"/>
            <a:ext cx="199800" cy="199800"/>
            <a:chOff x="3465000" y="1888560"/>
            <a:chExt cx="199800" cy="199800"/>
          </a:xfrm>
        </p:grpSpPr>
        <p:sp>
          <p:nvSpPr>
            <p:cNvPr id="64" name=""/>
            <p:cNvSpPr/>
            <p:nvPr/>
          </p:nvSpPr>
          <p:spPr>
            <a:xfrm rot="3419400">
              <a:off x="3492720" y="1915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900000">
              <a:off x="3492000" y="1916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940920" y="1968840"/>
            <a:ext cx="100800" cy="100800"/>
            <a:chOff x="3940920" y="1968840"/>
            <a:chExt cx="100800" cy="100800"/>
          </a:xfrm>
        </p:grpSpPr>
        <p:sp>
          <p:nvSpPr>
            <p:cNvPr id="67" name=""/>
            <p:cNvSpPr/>
            <p:nvPr/>
          </p:nvSpPr>
          <p:spPr>
            <a:xfrm rot="3419400">
              <a:off x="3954600" y="1982880"/>
              <a:ext cx="73080" cy="7272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2720"/>
                <a:gd name="textAreaBottom" fmla="*/ 4536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00000">
              <a:off x="3954600" y="1982880"/>
              <a:ext cx="70920" cy="71280"/>
            </a:xfrm>
            <a:custGeom>
              <a:avLst/>
              <a:gdLst>
                <a:gd name="textAreaLeft" fmla="*/ 28080 w 70920"/>
                <a:gd name="textAreaRight" fmla="*/ 42840 w 7092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153880" y="292320"/>
            <a:ext cx="298440" cy="298440"/>
            <a:chOff x="2153880" y="292320"/>
            <a:chExt cx="298440" cy="298440"/>
          </a:xfrm>
        </p:grpSpPr>
        <p:sp>
          <p:nvSpPr>
            <p:cNvPr id="70" name=""/>
            <p:cNvSpPr/>
            <p:nvPr/>
          </p:nvSpPr>
          <p:spPr>
            <a:xfrm rot="3419400">
              <a:off x="2194920" y="333720"/>
              <a:ext cx="216000" cy="21564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000 h 215640"/>
                <a:gd name="textAreaBottom" fmla="*/ 1346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00000">
              <a:off x="2195640" y="333000"/>
              <a:ext cx="210240" cy="210600"/>
            </a:xfrm>
            <a:custGeom>
              <a:avLst/>
              <a:gdLst>
                <a:gd name="textAreaLeft" fmla="*/ 83880 w 210240"/>
                <a:gd name="textAreaRight" fmla="*/ 126360 w 21024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51680" y="147600"/>
            <a:ext cx="298440" cy="298440"/>
            <a:chOff x="5251680" y="147600"/>
            <a:chExt cx="298440" cy="298440"/>
          </a:xfrm>
        </p:grpSpPr>
        <p:sp>
          <p:nvSpPr>
            <p:cNvPr id="73" name=""/>
            <p:cNvSpPr/>
            <p:nvPr/>
          </p:nvSpPr>
          <p:spPr>
            <a:xfrm rot="3419400">
              <a:off x="5293080" y="188640"/>
              <a:ext cx="215640" cy="216000"/>
            </a:xfrm>
            <a:custGeom>
              <a:avLst/>
              <a:gdLst>
                <a:gd name="textAreaLeft" fmla="*/ 81000 w 215640"/>
                <a:gd name="textAreaRight" fmla="*/ 134640 w 21564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900000">
              <a:off x="5292720" y="188640"/>
              <a:ext cx="210600" cy="21024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240"/>
                <a:gd name="textAreaBottom" fmla="*/ 126360 h 21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177360" y="1314000"/>
            <a:ext cx="197640" cy="197640"/>
            <a:chOff x="3177360" y="1314000"/>
            <a:chExt cx="197640" cy="197640"/>
          </a:xfrm>
        </p:grpSpPr>
        <p:sp>
          <p:nvSpPr>
            <p:cNvPr id="76" name=""/>
            <p:cNvSpPr/>
            <p:nvPr/>
          </p:nvSpPr>
          <p:spPr>
            <a:xfrm rot="3419400">
              <a:off x="3204720" y="134136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900000">
              <a:off x="3205080" y="134136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407920" y="1529640"/>
            <a:ext cx="199440" cy="199800"/>
            <a:chOff x="5407920" y="1529640"/>
            <a:chExt cx="199440" cy="199800"/>
          </a:xfrm>
        </p:grpSpPr>
        <p:sp>
          <p:nvSpPr>
            <p:cNvPr id="79" name=""/>
            <p:cNvSpPr/>
            <p:nvPr/>
          </p:nvSpPr>
          <p:spPr>
            <a:xfrm rot="3419400">
              <a:off x="5435280" y="155700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00000">
              <a:off x="5435280" y="155700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734880" y="912240"/>
            <a:ext cx="496440" cy="496440"/>
            <a:chOff x="6734880" y="912240"/>
            <a:chExt cx="496440" cy="496440"/>
          </a:xfrm>
        </p:grpSpPr>
        <p:sp>
          <p:nvSpPr>
            <p:cNvPr id="82" name=""/>
            <p:cNvSpPr/>
            <p:nvPr/>
          </p:nvSpPr>
          <p:spPr>
            <a:xfrm rot="3419400">
              <a:off x="6803640" y="981000"/>
              <a:ext cx="358920" cy="358920"/>
            </a:xfrm>
            <a:custGeom>
              <a:avLst/>
              <a:gdLst>
                <a:gd name="textAreaLeft" fmla="*/ 135000 w 358920"/>
                <a:gd name="textAreaRight" fmla="*/ 223920 w 358920"/>
                <a:gd name="textAreaTop" fmla="*/ 135000 h 358920"/>
                <a:gd name="textAreaBottom" fmla="*/ 22392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ea5d">
                    <a:alpha val="52156"/>
                  </a:srgbClr>
                </a:gs>
                <a:gs pos="100000">
                  <a:srgbClr val="eff3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900000">
              <a:off x="6803640" y="981000"/>
              <a:ext cx="349920" cy="349920"/>
            </a:xfrm>
            <a:custGeom>
              <a:avLst/>
              <a:gdLst>
                <a:gd name="textAreaLeft" fmla="*/ 139680 w 349920"/>
                <a:gd name="textAreaRight" fmla="*/ 210240 w 349920"/>
                <a:gd name="textAreaTop" fmla="*/ 139680 h 349920"/>
                <a:gd name="textAreaBottom" fmla="*/ 210240 h 34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ea5d">
                    <a:alpha val="80392"/>
                  </a:srgbClr>
                </a:gs>
                <a:gs pos="100000">
                  <a:srgbClr val="eff339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852560" y="1789560"/>
            <a:ext cx="397800" cy="397440"/>
            <a:chOff x="1852560" y="1789560"/>
            <a:chExt cx="397800" cy="397440"/>
          </a:xfrm>
        </p:grpSpPr>
        <p:sp>
          <p:nvSpPr>
            <p:cNvPr id="85" name=""/>
            <p:cNvSpPr/>
            <p:nvPr/>
          </p:nvSpPr>
          <p:spPr>
            <a:xfrm rot="3419400">
              <a:off x="1907640" y="1844280"/>
              <a:ext cx="287280" cy="28764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640"/>
                <a:gd name="textAreaBottom" fmla="*/ 17964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00000">
              <a:off x="1908000" y="1844640"/>
              <a:ext cx="280440" cy="280080"/>
            </a:xfrm>
            <a:custGeom>
              <a:avLst/>
              <a:gdLst>
                <a:gd name="textAreaLeft" fmla="*/ 111960 w 280440"/>
                <a:gd name="textAreaRight" fmla="*/ 168480 w 28044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599560" y="2536200"/>
            <a:ext cx="199440" cy="199800"/>
            <a:chOff x="2599560" y="2536200"/>
            <a:chExt cx="199440" cy="199800"/>
          </a:xfrm>
        </p:grpSpPr>
        <p:sp>
          <p:nvSpPr>
            <p:cNvPr id="88" name=""/>
            <p:cNvSpPr/>
            <p:nvPr/>
          </p:nvSpPr>
          <p:spPr>
            <a:xfrm rot="3419400">
              <a:off x="2626920" y="256356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00000">
              <a:off x="2626920" y="256356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200280" y="2680560"/>
            <a:ext cx="199800" cy="199800"/>
            <a:chOff x="6200280" y="2680560"/>
            <a:chExt cx="199800" cy="199800"/>
          </a:xfrm>
        </p:grpSpPr>
        <p:sp>
          <p:nvSpPr>
            <p:cNvPr id="91" name=""/>
            <p:cNvSpPr/>
            <p:nvPr/>
          </p:nvSpPr>
          <p:spPr>
            <a:xfrm rot="3419400">
              <a:off x="6228000" y="2707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00000">
              <a:off x="6227280" y="2708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5920" y="2393280"/>
            <a:ext cx="199800" cy="199800"/>
            <a:chOff x="4615920" y="2393280"/>
            <a:chExt cx="199800" cy="199800"/>
          </a:xfrm>
        </p:grpSpPr>
        <p:sp>
          <p:nvSpPr>
            <p:cNvPr id="94" name=""/>
            <p:cNvSpPr/>
            <p:nvPr/>
          </p:nvSpPr>
          <p:spPr>
            <a:xfrm rot="3419400">
              <a:off x="4643640" y="242064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900000">
              <a:off x="4642920" y="242100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72280" y="1961280"/>
            <a:ext cx="200160" cy="200160"/>
            <a:chOff x="872280" y="1961280"/>
            <a:chExt cx="200160" cy="200160"/>
          </a:xfrm>
        </p:grpSpPr>
        <p:sp>
          <p:nvSpPr>
            <p:cNvPr id="97" name=""/>
            <p:cNvSpPr/>
            <p:nvPr/>
          </p:nvSpPr>
          <p:spPr>
            <a:xfrm rot="3419400">
              <a:off x="899640" y="1989000"/>
              <a:ext cx="144720" cy="14472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900000">
              <a:off x="899640" y="1989000"/>
              <a:ext cx="141120" cy="14112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14240" y="1658880"/>
            <a:ext cx="298800" cy="298800"/>
            <a:chOff x="714240" y="1658880"/>
            <a:chExt cx="298800" cy="298800"/>
          </a:xfrm>
        </p:grpSpPr>
        <p:sp>
          <p:nvSpPr>
            <p:cNvPr id="100" name=""/>
            <p:cNvSpPr/>
            <p:nvPr/>
          </p:nvSpPr>
          <p:spPr>
            <a:xfrm rot="3419400">
              <a:off x="755280" y="170028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00000">
              <a:off x="755640" y="169992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38080" y="2680920"/>
            <a:ext cx="197280" cy="197640"/>
            <a:chOff x="1738080" y="2680920"/>
            <a:chExt cx="197280" cy="197640"/>
          </a:xfrm>
        </p:grpSpPr>
        <p:sp>
          <p:nvSpPr>
            <p:cNvPr id="103" name=""/>
            <p:cNvSpPr/>
            <p:nvPr/>
          </p:nvSpPr>
          <p:spPr>
            <a:xfrm rot="3419400">
              <a:off x="1765080" y="2708280"/>
              <a:ext cx="142920" cy="14256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560"/>
                <a:gd name="textAreaBottom" fmla="*/ 88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00000">
              <a:off x="1765440" y="2708280"/>
              <a:ext cx="138960" cy="139320"/>
            </a:xfrm>
            <a:custGeom>
              <a:avLst/>
              <a:gdLst>
                <a:gd name="textAreaLeft" fmla="*/ 55440 w 138960"/>
                <a:gd name="textAreaRight" fmla="*/ 83520 w 13896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89000" y="448560"/>
            <a:ext cx="199440" cy="199800"/>
            <a:chOff x="6489000" y="448560"/>
            <a:chExt cx="199440" cy="199800"/>
          </a:xfrm>
        </p:grpSpPr>
        <p:sp>
          <p:nvSpPr>
            <p:cNvPr id="106" name=""/>
            <p:cNvSpPr/>
            <p:nvPr/>
          </p:nvSpPr>
          <p:spPr>
            <a:xfrm rot="3419400">
              <a:off x="6516360" y="475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900000">
              <a:off x="6516360" y="475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869600" y="744840"/>
            <a:ext cx="101160" cy="101160"/>
            <a:chOff x="7869600" y="744840"/>
            <a:chExt cx="101160" cy="101160"/>
          </a:xfrm>
        </p:grpSpPr>
        <p:sp>
          <p:nvSpPr>
            <p:cNvPr id="109" name=""/>
            <p:cNvSpPr/>
            <p:nvPr/>
          </p:nvSpPr>
          <p:spPr>
            <a:xfrm rot="3419400">
              <a:off x="7883280" y="758520"/>
              <a:ext cx="73080" cy="7308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00000">
              <a:off x="7883640" y="758880"/>
              <a:ext cx="71280" cy="71280"/>
            </a:xfrm>
            <a:custGeom>
              <a:avLst/>
              <a:gdLst>
                <a:gd name="textAreaLeft" fmla="*/ 28440 w 71280"/>
                <a:gd name="textAreaRight" fmla="*/ 42840 w 7128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60640" y="1888560"/>
            <a:ext cx="199440" cy="199800"/>
            <a:chOff x="8360640" y="1888560"/>
            <a:chExt cx="199440" cy="199800"/>
          </a:xfrm>
        </p:grpSpPr>
        <p:sp>
          <p:nvSpPr>
            <p:cNvPr id="112" name=""/>
            <p:cNvSpPr/>
            <p:nvPr/>
          </p:nvSpPr>
          <p:spPr>
            <a:xfrm rot="3419400">
              <a:off x="8388000" y="1915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00000">
              <a:off x="8388000" y="1915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639560" y="1600920"/>
            <a:ext cx="199800" cy="200160"/>
            <a:chOff x="7639560" y="1600920"/>
            <a:chExt cx="199800" cy="200160"/>
          </a:xfrm>
        </p:grpSpPr>
        <p:sp>
          <p:nvSpPr>
            <p:cNvPr id="115" name=""/>
            <p:cNvSpPr/>
            <p:nvPr/>
          </p:nvSpPr>
          <p:spPr>
            <a:xfrm rot="3419400">
              <a:off x="7666920" y="162864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00000">
              <a:off x="7667280" y="162828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81000" y="1024920"/>
            <a:ext cx="199440" cy="199800"/>
            <a:chOff x="5481000" y="1024920"/>
            <a:chExt cx="199440" cy="199800"/>
          </a:xfrm>
        </p:grpSpPr>
        <p:sp>
          <p:nvSpPr>
            <p:cNvPr id="118" name=""/>
            <p:cNvSpPr/>
            <p:nvPr/>
          </p:nvSpPr>
          <p:spPr>
            <a:xfrm rot="3419400">
              <a:off x="5508360" y="105228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00000">
              <a:off x="5508360" y="105228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28280" y="664560"/>
            <a:ext cx="199440" cy="199800"/>
            <a:chOff x="2528280" y="664560"/>
            <a:chExt cx="199440" cy="199800"/>
          </a:xfrm>
        </p:grpSpPr>
        <p:sp>
          <p:nvSpPr>
            <p:cNvPr id="121" name=""/>
            <p:cNvSpPr/>
            <p:nvPr/>
          </p:nvSpPr>
          <p:spPr>
            <a:xfrm rot="3419400">
              <a:off x="2555640" y="691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00000">
              <a:off x="2555640" y="691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93360" y="664920"/>
            <a:ext cx="197640" cy="197640"/>
            <a:chOff x="3393360" y="664920"/>
            <a:chExt cx="197640" cy="197640"/>
          </a:xfrm>
        </p:grpSpPr>
        <p:sp>
          <p:nvSpPr>
            <p:cNvPr id="124" name=""/>
            <p:cNvSpPr/>
            <p:nvPr/>
          </p:nvSpPr>
          <p:spPr>
            <a:xfrm rot="3419400">
              <a:off x="3420720" y="69228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00000">
              <a:off x="3421080" y="69228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59920" y="521640"/>
            <a:ext cx="199800" cy="199800"/>
            <a:chOff x="1159920" y="521640"/>
            <a:chExt cx="199800" cy="199800"/>
          </a:xfrm>
        </p:grpSpPr>
        <p:sp>
          <p:nvSpPr>
            <p:cNvPr id="127" name=""/>
            <p:cNvSpPr/>
            <p:nvPr/>
          </p:nvSpPr>
          <p:spPr>
            <a:xfrm rot="3419400">
              <a:off x="1187640" y="54900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00000">
              <a:off x="1186920" y="54936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4280" y="880200"/>
            <a:ext cx="199800" cy="200160"/>
            <a:chOff x="1664280" y="880200"/>
            <a:chExt cx="199800" cy="200160"/>
          </a:xfrm>
        </p:grpSpPr>
        <p:sp>
          <p:nvSpPr>
            <p:cNvPr id="130" name=""/>
            <p:cNvSpPr/>
            <p:nvPr/>
          </p:nvSpPr>
          <p:spPr>
            <a:xfrm rot="3419400">
              <a:off x="1691640" y="90792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00000">
              <a:off x="1692000" y="90756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15920" y="1456560"/>
            <a:ext cx="199800" cy="199800"/>
            <a:chOff x="4615920" y="1456560"/>
            <a:chExt cx="199800" cy="199800"/>
          </a:xfrm>
        </p:grpSpPr>
        <p:sp>
          <p:nvSpPr>
            <p:cNvPr id="133" name=""/>
            <p:cNvSpPr/>
            <p:nvPr/>
          </p:nvSpPr>
          <p:spPr>
            <a:xfrm rot="3419400">
              <a:off x="4643640" y="1483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900000">
              <a:off x="4642920" y="1484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77640" y="2005560"/>
            <a:ext cx="397440" cy="397440"/>
            <a:chOff x="6677640" y="2005560"/>
            <a:chExt cx="397440" cy="397440"/>
          </a:xfrm>
        </p:grpSpPr>
        <p:sp>
          <p:nvSpPr>
            <p:cNvPr id="136" name=""/>
            <p:cNvSpPr/>
            <p:nvPr/>
          </p:nvSpPr>
          <p:spPr>
            <a:xfrm rot="3419400">
              <a:off x="6732360" y="2060280"/>
              <a:ext cx="287280" cy="287280"/>
            </a:xfrm>
            <a:custGeom>
              <a:avLst/>
              <a:gdLst>
                <a:gd name="textAreaLeft" fmla="*/ 108000 w 287280"/>
                <a:gd name="textAreaRight" fmla="*/ 179280 w 287280"/>
                <a:gd name="textAreaTop" fmla="*/ 108000 h 287280"/>
                <a:gd name="textAreaBottom" fmla="*/ 179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900000">
              <a:off x="6732720" y="2060640"/>
              <a:ext cx="280080" cy="280080"/>
            </a:xfrm>
            <a:custGeom>
              <a:avLst/>
              <a:gdLst>
                <a:gd name="textAreaLeft" fmla="*/ 111600 w 280080"/>
                <a:gd name="textAreaRight" fmla="*/ 168480 w 280080"/>
                <a:gd name="textAreaTop" fmla="*/ 111600 h 280080"/>
                <a:gd name="textAreaBottom" fmla="*/ 16848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87200" y="3688560"/>
            <a:ext cx="199800" cy="199800"/>
            <a:chOff x="2887200" y="3688560"/>
            <a:chExt cx="199800" cy="199800"/>
          </a:xfrm>
        </p:grpSpPr>
        <p:sp>
          <p:nvSpPr>
            <p:cNvPr id="139" name=""/>
            <p:cNvSpPr/>
            <p:nvPr/>
          </p:nvSpPr>
          <p:spPr>
            <a:xfrm rot="3419400">
              <a:off x="2914920" y="371592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900000">
              <a:off x="2914200" y="371628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72280" y="3257280"/>
            <a:ext cx="197640" cy="197640"/>
            <a:chOff x="872280" y="3257280"/>
            <a:chExt cx="197640" cy="197640"/>
          </a:xfrm>
        </p:grpSpPr>
        <p:sp>
          <p:nvSpPr>
            <p:cNvPr id="142" name=""/>
            <p:cNvSpPr/>
            <p:nvPr/>
          </p:nvSpPr>
          <p:spPr>
            <a:xfrm rot="3419400">
              <a:off x="899640" y="328464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00000">
              <a:off x="900000" y="328464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465000" y="2969640"/>
            <a:ext cx="199800" cy="199800"/>
            <a:chOff x="3465000" y="2969640"/>
            <a:chExt cx="199800" cy="199800"/>
          </a:xfrm>
        </p:grpSpPr>
        <p:sp>
          <p:nvSpPr>
            <p:cNvPr id="145" name=""/>
            <p:cNvSpPr/>
            <p:nvPr/>
          </p:nvSpPr>
          <p:spPr>
            <a:xfrm rot="3419400">
              <a:off x="3492720" y="299700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00000">
              <a:off x="3492000" y="299736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10880" y="3359880"/>
            <a:ext cx="498240" cy="498600"/>
            <a:chOff x="5510880" y="3359880"/>
            <a:chExt cx="498240" cy="498600"/>
          </a:xfrm>
        </p:grpSpPr>
        <p:sp>
          <p:nvSpPr>
            <p:cNvPr id="148" name=""/>
            <p:cNvSpPr/>
            <p:nvPr/>
          </p:nvSpPr>
          <p:spPr>
            <a:xfrm rot="3419400">
              <a:off x="5579640" y="3428640"/>
              <a:ext cx="360360" cy="360360"/>
            </a:xfrm>
            <a:custGeom>
              <a:avLst/>
              <a:gdLst>
                <a:gd name="textAreaLeft" fmla="*/ 135360 w 360360"/>
                <a:gd name="textAreaRight" fmla="*/ 225000 w 360360"/>
                <a:gd name="textAreaTop" fmla="*/ 135360 h 360360"/>
                <a:gd name="textAreaBottom" fmla="*/ 225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00000">
              <a:off x="5580000" y="3428640"/>
              <a:ext cx="351360" cy="351360"/>
            </a:xfrm>
            <a:custGeom>
              <a:avLst/>
              <a:gdLst>
                <a:gd name="textAreaLeft" fmla="*/ 140040 w 351360"/>
                <a:gd name="textAreaRight" fmla="*/ 211320 w 351360"/>
                <a:gd name="textAreaTop" fmla="*/ 140040 h 351360"/>
                <a:gd name="textAreaBottom" fmla="*/ 211320 h 3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7c7c">
                    <a:alpha val="80392"/>
                  </a:srgbClr>
                </a:gs>
                <a:gs pos="100000">
                  <a:srgbClr val="cfb4b1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409920" y="2193840"/>
            <a:ext cx="597240" cy="597240"/>
            <a:chOff x="3409920" y="2193840"/>
            <a:chExt cx="597240" cy="597240"/>
          </a:xfrm>
        </p:grpSpPr>
        <p:sp>
          <p:nvSpPr>
            <p:cNvPr id="151" name=""/>
            <p:cNvSpPr/>
            <p:nvPr/>
          </p:nvSpPr>
          <p:spPr>
            <a:xfrm rot="3419400">
              <a:off x="3492360" y="2276280"/>
              <a:ext cx="431640" cy="432000"/>
            </a:xfrm>
            <a:custGeom>
              <a:avLst/>
              <a:gdLst>
                <a:gd name="textAreaLeft" fmla="*/ 162360 w 431640"/>
                <a:gd name="textAreaRight" fmla="*/ 269280 w 431640"/>
                <a:gd name="textAreaTop" fmla="*/ 162360 h 432000"/>
                <a:gd name="textAreaBottom" fmla="*/ 2696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00000">
              <a:off x="3492000" y="2276640"/>
              <a:ext cx="420840" cy="420480"/>
            </a:xfrm>
            <a:custGeom>
              <a:avLst/>
              <a:gdLst>
                <a:gd name="textAreaLeft" fmla="*/ 167760 w 420840"/>
                <a:gd name="textAreaRight" fmla="*/ 253080 w 420840"/>
                <a:gd name="textAreaTop" fmla="*/ 167760 h 420480"/>
                <a:gd name="textAreaBottom" fmla="*/ 25272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49360" y="2680560"/>
            <a:ext cx="199440" cy="199800"/>
            <a:chOff x="6849360" y="2680560"/>
            <a:chExt cx="199440" cy="199800"/>
          </a:xfrm>
        </p:grpSpPr>
        <p:sp>
          <p:nvSpPr>
            <p:cNvPr id="154" name=""/>
            <p:cNvSpPr/>
            <p:nvPr/>
          </p:nvSpPr>
          <p:spPr>
            <a:xfrm rot="3419400">
              <a:off x="6876720" y="2707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900000">
              <a:off x="6876720" y="2707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24920" y="2760840"/>
            <a:ext cx="101160" cy="101160"/>
            <a:chOff x="7324920" y="2760840"/>
            <a:chExt cx="101160" cy="101160"/>
          </a:xfrm>
        </p:grpSpPr>
        <p:sp>
          <p:nvSpPr>
            <p:cNvPr id="157" name=""/>
            <p:cNvSpPr/>
            <p:nvPr/>
          </p:nvSpPr>
          <p:spPr>
            <a:xfrm rot="3419400">
              <a:off x="7338600" y="2774520"/>
              <a:ext cx="73080" cy="73080"/>
            </a:xfrm>
            <a:custGeom>
              <a:avLst/>
              <a:gdLst>
                <a:gd name="textAreaLeft" fmla="*/ 27360 w 73080"/>
                <a:gd name="textAreaRight" fmla="*/ 45720 w 73080"/>
                <a:gd name="textAreaTop" fmla="*/ 2736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900000">
              <a:off x="7338960" y="2774880"/>
              <a:ext cx="71280" cy="71280"/>
            </a:xfrm>
            <a:custGeom>
              <a:avLst/>
              <a:gdLst>
                <a:gd name="textAreaLeft" fmla="*/ 28440 w 71280"/>
                <a:gd name="textAreaRight" fmla="*/ 42840 w 71280"/>
                <a:gd name="textAreaTop" fmla="*/ 28440 h 71280"/>
                <a:gd name="textAreaBottom" fmla="*/ 428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999920" y="3185280"/>
            <a:ext cx="199800" cy="200160"/>
            <a:chOff x="7999920" y="3185280"/>
            <a:chExt cx="199800" cy="200160"/>
          </a:xfrm>
        </p:grpSpPr>
        <p:sp>
          <p:nvSpPr>
            <p:cNvPr id="160" name=""/>
            <p:cNvSpPr/>
            <p:nvPr/>
          </p:nvSpPr>
          <p:spPr>
            <a:xfrm rot="3419400">
              <a:off x="8027280" y="321300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00000">
              <a:off x="8027640" y="321264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065000" y="3472560"/>
            <a:ext cx="199800" cy="200160"/>
            <a:chOff x="7065000" y="3472560"/>
            <a:chExt cx="199800" cy="200160"/>
          </a:xfrm>
        </p:grpSpPr>
        <p:sp>
          <p:nvSpPr>
            <p:cNvPr id="163" name=""/>
            <p:cNvSpPr/>
            <p:nvPr/>
          </p:nvSpPr>
          <p:spPr>
            <a:xfrm rot="3419400">
              <a:off x="7092360" y="3500280"/>
              <a:ext cx="144720" cy="144360"/>
            </a:xfrm>
            <a:custGeom>
              <a:avLst/>
              <a:gdLst>
                <a:gd name="textAreaLeft" fmla="*/ 54360 w 144720"/>
                <a:gd name="textAreaRight" fmla="*/ 90360 w 14472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900000">
              <a:off x="7092720" y="3499920"/>
              <a:ext cx="140760" cy="14112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1120"/>
                <a:gd name="textAreaBottom" fmla="*/ 849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777720" y="1456920"/>
            <a:ext cx="197640" cy="197640"/>
            <a:chOff x="6777720" y="1456920"/>
            <a:chExt cx="197640" cy="197640"/>
          </a:xfrm>
        </p:grpSpPr>
        <p:sp>
          <p:nvSpPr>
            <p:cNvPr id="166" name=""/>
            <p:cNvSpPr/>
            <p:nvPr/>
          </p:nvSpPr>
          <p:spPr>
            <a:xfrm rot="3419400">
              <a:off x="6805080" y="1484280"/>
              <a:ext cx="142920" cy="14292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00000">
              <a:off x="6805440" y="1484280"/>
              <a:ext cx="139320" cy="13932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986600" y="2450880"/>
            <a:ext cx="298800" cy="298800"/>
            <a:chOff x="7986600" y="2450880"/>
            <a:chExt cx="298800" cy="298800"/>
          </a:xfrm>
        </p:grpSpPr>
        <p:sp>
          <p:nvSpPr>
            <p:cNvPr id="169" name=""/>
            <p:cNvSpPr/>
            <p:nvPr/>
          </p:nvSpPr>
          <p:spPr>
            <a:xfrm rot="3419400">
              <a:off x="8027640" y="249228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900000">
              <a:off x="8028000" y="249192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45000" y="4338000"/>
            <a:ext cx="199800" cy="199800"/>
            <a:chOff x="8145000" y="4338000"/>
            <a:chExt cx="199800" cy="199800"/>
          </a:xfrm>
        </p:grpSpPr>
        <p:sp>
          <p:nvSpPr>
            <p:cNvPr id="172" name=""/>
            <p:cNvSpPr/>
            <p:nvPr/>
          </p:nvSpPr>
          <p:spPr>
            <a:xfrm rot="3419400">
              <a:off x="8172720" y="436536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900000">
              <a:off x="8172000" y="436572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634240" y="723600"/>
            <a:ext cx="298800" cy="298800"/>
            <a:chOff x="8634240" y="723600"/>
            <a:chExt cx="298800" cy="298800"/>
          </a:xfrm>
        </p:grpSpPr>
        <p:sp>
          <p:nvSpPr>
            <p:cNvPr id="175" name=""/>
            <p:cNvSpPr/>
            <p:nvPr/>
          </p:nvSpPr>
          <p:spPr>
            <a:xfrm rot="3419400">
              <a:off x="8675280" y="76500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900000">
              <a:off x="8675640" y="76464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863920" y="3401280"/>
            <a:ext cx="199440" cy="199800"/>
            <a:chOff x="8863920" y="3401280"/>
            <a:chExt cx="199440" cy="199800"/>
          </a:xfrm>
        </p:grpSpPr>
        <p:sp>
          <p:nvSpPr>
            <p:cNvPr id="178" name=""/>
            <p:cNvSpPr/>
            <p:nvPr/>
          </p:nvSpPr>
          <p:spPr>
            <a:xfrm rot="3419400">
              <a:off x="8891280" y="342864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900000">
              <a:off x="8891280" y="342864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6840" y="537840"/>
            <a:ext cx="597600" cy="597600"/>
            <a:chOff x="456840" y="537840"/>
            <a:chExt cx="597600" cy="597600"/>
          </a:xfrm>
        </p:grpSpPr>
        <p:sp>
          <p:nvSpPr>
            <p:cNvPr id="181" name=""/>
            <p:cNvSpPr/>
            <p:nvPr/>
          </p:nvSpPr>
          <p:spPr>
            <a:xfrm rot="3419400">
              <a:off x="539280" y="620640"/>
              <a:ext cx="432000" cy="432000"/>
            </a:xfrm>
            <a:custGeom>
              <a:avLst/>
              <a:gdLst>
                <a:gd name="textAreaLeft" fmla="*/ 162360 w 432000"/>
                <a:gd name="textAreaRight" fmla="*/ 269640 w 432000"/>
                <a:gd name="textAreaTop" fmla="*/ 162360 h 432000"/>
                <a:gd name="textAreaBottom" fmla="*/ 2696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00000">
              <a:off x="539280" y="620640"/>
              <a:ext cx="420840" cy="420840"/>
            </a:xfrm>
            <a:custGeom>
              <a:avLst/>
              <a:gdLst>
                <a:gd name="textAreaLeft" fmla="*/ 167760 w 420840"/>
                <a:gd name="textAreaRight" fmla="*/ 253080 w 420840"/>
                <a:gd name="textAreaTop" fmla="*/ 167760 h 420840"/>
                <a:gd name="textAreaBottom" fmla="*/ 253080 h 4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8120" y="2248920"/>
            <a:ext cx="199440" cy="199800"/>
            <a:chOff x="1158120" y="2248920"/>
            <a:chExt cx="199440" cy="199800"/>
          </a:xfrm>
        </p:grpSpPr>
        <p:sp>
          <p:nvSpPr>
            <p:cNvPr id="184" name=""/>
            <p:cNvSpPr/>
            <p:nvPr/>
          </p:nvSpPr>
          <p:spPr>
            <a:xfrm rot="3419400">
              <a:off x="1185480" y="227628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52156"/>
                  </a:srgbClr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900000">
              <a:off x="1185480" y="227628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80392"/>
                  </a:srgbClr>
                </a:gs>
                <a:gs pos="100000">
                  <a:srgbClr val="ff3300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640" y="2393640"/>
            <a:ext cx="197280" cy="197640"/>
            <a:chOff x="296640" y="2393640"/>
            <a:chExt cx="197280" cy="197640"/>
          </a:xfrm>
        </p:grpSpPr>
        <p:sp>
          <p:nvSpPr>
            <p:cNvPr id="187" name=""/>
            <p:cNvSpPr/>
            <p:nvPr/>
          </p:nvSpPr>
          <p:spPr>
            <a:xfrm rot="3419400">
              <a:off x="323640" y="2421000"/>
              <a:ext cx="142920" cy="142560"/>
            </a:xfrm>
            <a:custGeom>
              <a:avLst/>
              <a:gdLst>
                <a:gd name="textAreaLeft" fmla="*/ 53640 w 142920"/>
                <a:gd name="textAreaRight" fmla="*/ 89280 w 142920"/>
                <a:gd name="textAreaTop" fmla="*/ 53640 h 142560"/>
                <a:gd name="textAreaBottom" fmla="*/ 88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00000">
              <a:off x="324000" y="2421000"/>
              <a:ext cx="138960" cy="139320"/>
            </a:xfrm>
            <a:custGeom>
              <a:avLst/>
              <a:gdLst>
                <a:gd name="textAreaLeft" fmla="*/ 55440 w 138960"/>
                <a:gd name="textAreaRight" fmla="*/ 83520 w 138960"/>
                <a:gd name="textAreaTop" fmla="*/ 55440 h 139320"/>
                <a:gd name="textAreaBottom" fmla="*/ 83880 h 13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rot="3518400">
            <a:off x="7218360" y="-2025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518400">
            <a:off x="7291080" y="-173808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518400">
            <a:off x="3617640" y="-1666800"/>
            <a:ext cx="3672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518400">
            <a:off x="9234360" y="-19540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3518400">
            <a:off x="10421640" y="-173808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3247800">
            <a:off x="10296360" y="367920"/>
            <a:ext cx="7128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3518400">
            <a:off x="10926720" y="-6552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7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7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7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4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1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1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17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6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6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7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7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7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9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6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42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2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4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4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7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7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7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7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7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7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4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9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7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7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7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4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2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2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7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7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39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69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34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4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15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-0.79132 0.66922 E">
                                      <p:cBhvr>
                                        <p:cTn id="324" dur="17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7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-0.88212 0.76366 E">
                                      <p:cBhvr>
                                        <p:cTn id="329" dur="16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9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85185E-006 L -0.62205 0.51088 E">
                                      <p:cBhvr>
                                        <p:cTn id="334" dur="14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8778E-017 L -1.01181 0.98426 E">
                                      <p:cBhvr>
                                        <p:cTn id="339" dur="13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73229 0.64746 E">
                                      <p:cBhvr>
                                        <p:cTn id="344" dur="18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56684 0.56181 E">
                                      <p:cBhvr>
                                        <p:cTn id="349" dur="9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9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7323 0.64745 E">
                                      <p:cBhvr>
                                        <p:cTn id="354" dur="13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3" descr="14.png"/>
          <p:cNvPicPr/>
          <p:nvPr/>
        </p:nvPicPr>
        <p:blipFill>
          <a:blip r:embed="rId1"/>
          <a:stretch/>
        </p:blipFill>
        <p:spPr>
          <a:xfrm>
            <a:off x="4429080" y="85716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9" descr="14.png"/>
          <p:cNvPicPr/>
          <p:nvPr/>
        </p:nvPicPr>
        <p:blipFill>
          <a:blip r:embed="rId2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" descr="14.png"/>
          <p:cNvPicPr/>
          <p:nvPr/>
        </p:nvPicPr>
        <p:blipFill>
          <a:blip r:embed="rId3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1" descr="14.png"/>
          <p:cNvPicPr/>
          <p:nvPr/>
        </p:nvPicPr>
        <p:blipFill>
          <a:blip r:embed="rId4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2" descr="14.png"/>
          <p:cNvPicPr/>
          <p:nvPr/>
        </p:nvPicPr>
        <p:blipFill>
          <a:blip r:embed="rId5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3" descr="14.png"/>
          <p:cNvPicPr/>
          <p:nvPr/>
        </p:nvPicPr>
        <p:blipFill>
          <a:blip r:embed="rId6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4" descr="14.png"/>
          <p:cNvPicPr/>
          <p:nvPr/>
        </p:nvPicPr>
        <p:blipFill>
          <a:blip r:embed="rId7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5" descr="14.png"/>
          <p:cNvPicPr/>
          <p:nvPr/>
        </p:nvPicPr>
        <p:blipFill>
          <a:blip r:embed="rId8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6" descr="14.png"/>
          <p:cNvPicPr/>
          <p:nvPr/>
        </p:nvPicPr>
        <p:blipFill>
          <a:blip r:embed="rId9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7" descr="14.png"/>
          <p:cNvPicPr/>
          <p:nvPr/>
        </p:nvPicPr>
        <p:blipFill>
          <a:blip r:embed="rId10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8" descr="14.png"/>
          <p:cNvPicPr/>
          <p:nvPr/>
        </p:nvPicPr>
        <p:blipFill>
          <a:blip r:embed="rId11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9" descr="14.png"/>
          <p:cNvPicPr/>
          <p:nvPr/>
        </p:nvPicPr>
        <p:blipFill>
          <a:blip r:embed="rId12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0" descr="14.png"/>
          <p:cNvPicPr/>
          <p:nvPr/>
        </p:nvPicPr>
        <p:blipFill>
          <a:blip r:embed="rId13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1" descr="14.png"/>
          <p:cNvPicPr/>
          <p:nvPr/>
        </p:nvPicPr>
        <p:blipFill>
          <a:blip r:embed="rId14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22" descr="14.png"/>
          <p:cNvPicPr/>
          <p:nvPr/>
        </p:nvPicPr>
        <p:blipFill>
          <a:blip r:embed="rId15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5" descr="14.png"/>
          <p:cNvPicPr/>
          <p:nvPr/>
        </p:nvPicPr>
        <p:blipFill>
          <a:blip r:embed="rId16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0" descr="14.png"/>
          <p:cNvPicPr/>
          <p:nvPr/>
        </p:nvPicPr>
        <p:blipFill>
          <a:blip r:embed="rId17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3" descr="14.png"/>
          <p:cNvPicPr/>
          <p:nvPr/>
        </p:nvPicPr>
        <p:blipFill>
          <a:blip r:embed="rId18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4" descr="14.png"/>
          <p:cNvPicPr/>
          <p:nvPr/>
        </p:nvPicPr>
        <p:blipFill>
          <a:blip r:embed="rId19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5" descr="14.png"/>
          <p:cNvPicPr/>
          <p:nvPr/>
        </p:nvPicPr>
        <p:blipFill>
          <a:blip r:embed="rId20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6" descr="14.png"/>
          <p:cNvPicPr/>
          <p:nvPr/>
        </p:nvPicPr>
        <p:blipFill>
          <a:blip r:embed="rId21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7" descr="14.png"/>
          <p:cNvPicPr/>
          <p:nvPr/>
        </p:nvPicPr>
        <p:blipFill>
          <a:blip r:embed="rId22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38" descr="14.png"/>
          <p:cNvPicPr/>
          <p:nvPr/>
        </p:nvPicPr>
        <p:blipFill>
          <a:blip r:embed="rId23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39" descr="14.png"/>
          <p:cNvPicPr/>
          <p:nvPr/>
        </p:nvPicPr>
        <p:blipFill>
          <a:blip r:embed="rId24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40" descr="14.png"/>
          <p:cNvPicPr/>
          <p:nvPr/>
        </p:nvPicPr>
        <p:blipFill>
          <a:blip r:embed="rId25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41" descr="14.png"/>
          <p:cNvPicPr/>
          <p:nvPr/>
        </p:nvPicPr>
        <p:blipFill>
          <a:blip r:embed="rId26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42" descr="14.png"/>
          <p:cNvPicPr/>
          <p:nvPr/>
        </p:nvPicPr>
        <p:blipFill>
          <a:blip r:embed="rId27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3" descr="14.png"/>
          <p:cNvPicPr/>
          <p:nvPr/>
        </p:nvPicPr>
        <p:blipFill>
          <a:blip r:embed="rId28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44" descr="14.png"/>
          <p:cNvPicPr/>
          <p:nvPr/>
        </p:nvPicPr>
        <p:blipFill>
          <a:blip r:embed="rId29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45" descr="14.png"/>
          <p:cNvPicPr/>
          <p:nvPr/>
        </p:nvPicPr>
        <p:blipFill>
          <a:blip r:embed="rId30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46" descr="14.png"/>
          <p:cNvPicPr/>
          <p:nvPr/>
        </p:nvPicPr>
        <p:blipFill>
          <a:blip r:embed="rId31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47" descr="14.png"/>
          <p:cNvPicPr/>
          <p:nvPr/>
        </p:nvPicPr>
        <p:blipFill>
          <a:blip r:embed="rId32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48" descr="14.png"/>
          <p:cNvPicPr/>
          <p:nvPr/>
        </p:nvPicPr>
        <p:blipFill>
          <a:blip r:embed="rId33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9" descr="14.png"/>
          <p:cNvPicPr/>
          <p:nvPr/>
        </p:nvPicPr>
        <p:blipFill>
          <a:blip r:embed="rId34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50" descr="14.png"/>
          <p:cNvPicPr/>
          <p:nvPr/>
        </p:nvPicPr>
        <p:blipFill>
          <a:blip r:embed="rId35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51" descr="14.png"/>
          <p:cNvPicPr/>
          <p:nvPr/>
        </p:nvPicPr>
        <p:blipFill>
          <a:blip r:embed="rId36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52" descr="14.png"/>
          <p:cNvPicPr/>
          <p:nvPr/>
        </p:nvPicPr>
        <p:blipFill>
          <a:blip r:embed="rId37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53" descr="14.png"/>
          <p:cNvPicPr/>
          <p:nvPr/>
        </p:nvPicPr>
        <p:blipFill>
          <a:blip r:embed="rId38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4" descr="14.png"/>
          <p:cNvPicPr/>
          <p:nvPr/>
        </p:nvPicPr>
        <p:blipFill>
          <a:blip r:embed="rId39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5" descr="14.png"/>
          <p:cNvPicPr/>
          <p:nvPr/>
        </p:nvPicPr>
        <p:blipFill>
          <a:blip r:embed="rId40"/>
          <a:stretch/>
        </p:blipFill>
        <p:spPr>
          <a:xfrm>
            <a:off x="457200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56" descr="14.png"/>
          <p:cNvPicPr/>
          <p:nvPr/>
        </p:nvPicPr>
        <p:blipFill>
          <a:blip r:embed="rId41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57" descr="14.png"/>
          <p:cNvPicPr/>
          <p:nvPr/>
        </p:nvPicPr>
        <p:blipFill>
          <a:blip r:embed="rId42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58" descr="14.png"/>
          <p:cNvPicPr/>
          <p:nvPr/>
        </p:nvPicPr>
        <p:blipFill>
          <a:blip r:embed="rId43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59" descr="14.png"/>
          <p:cNvPicPr/>
          <p:nvPr/>
        </p:nvPicPr>
        <p:blipFill>
          <a:blip r:embed="rId44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60" descr="14.png"/>
          <p:cNvPicPr/>
          <p:nvPr/>
        </p:nvPicPr>
        <p:blipFill>
          <a:blip r:embed="rId45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61" descr="14.png"/>
          <p:cNvPicPr/>
          <p:nvPr/>
        </p:nvPicPr>
        <p:blipFill>
          <a:blip r:embed="rId46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62" descr="14.png"/>
          <p:cNvPicPr/>
          <p:nvPr/>
        </p:nvPicPr>
        <p:blipFill>
          <a:blip r:embed="rId47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63" descr="14.png"/>
          <p:cNvPicPr/>
          <p:nvPr/>
        </p:nvPicPr>
        <p:blipFill>
          <a:blip r:embed="rId48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64" descr="14.png"/>
          <p:cNvPicPr/>
          <p:nvPr/>
        </p:nvPicPr>
        <p:blipFill>
          <a:blip r:embed="rId49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5" descr="14.png"/>
          <p:cNvPicPr/>
          <p:nvPr/>
        </p:nvPicPr>
        <p:blipFill>
          <a:blip r:embed="rId50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66" descr="14.png"/>
          <p:cNvPicPr/>
          <p:nvPr/>
        </p:nvPicPr>
        <p:blipFill>
          <a:blip r:embed="rId51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67" descr="14.png"/>
          <p:cNvPicPr/>
          <p:nvPr/>
        </p:nvPicPr>
        <p:blipFill>
          <a:blip r:embed="rId52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68" descr="14.png"/>
          <p:cNvPicPr/>
          <p:nvPr/>
        </p:nvPicPr>
        <p:blipFill>
          <a:blip r:embed="rId53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69" descr="14.png"/>
          <p:cNvPicPr/>
          <p:nvPr/>
        </p:nvPicPr>
        <p:blipFill>
          <a:blip r:embed="rId54"/>
          <a:stretch/>
        </p:blipFill>
        <p:spPr>
          <a:xfrm>
            <a:off x="4564080" y="1000080"/>
            <a:ext cx="2221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2031 0.83263 E">
                                      <p:cBhvr>
                                        <p:cTn id="363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6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6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4.07407E-006 L -0.12257 0.82199 E">
                                      <p:cBhvr>
                                        <p:cTn id="370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4.07407E-006 L -0.16198 0.83263 E">
                                      <p:cBhvr>
                                        <p:cTn id="372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4.07407E-006 L 0.18455 0.83263 E">
                                      <p:cBhvr>
                                        <p:cTn id="374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4.07407E-006 L -0.09114 0.84305 E">
                                      <p:cBhvr>
                                        <p:cTn id="376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4.07407E-006 L -0.10694 0.83263 E">
                                      <p:cBhvr>
                                        <p:cTn id="378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4.07407E-006 L -0.03611 0.83263 E">
                                      <p:cBhvr>
                                        <p:cTn id="380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-3.3395E-006 L -0.22395 0.88391 E">
                                      <p:cBhvr>
                                        <p:cTn id="382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4.07407E-006 L 0.0033 0.84305 E">
                                      <p:cBhvr>
                                        <p:cTn id="384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4.07407E-006 L 0.0191 0.84305 E">
                                      <p:cBhvr>
                                        <p:cTn id="38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6 4.07407E-006 L 0.07431 0.84305 E">
                                      <p:cBhvr>
                                        <p:cTn id="388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4.07407E-006 L -0.04392 0.82199 E">
                                      <p:cBhvr>
                                        <p:cTn id="390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4.07407E-006 L 0.22379 0.84305 E">
                                      <p:cBhvr>
                                        <p:cTn id="392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4.07407E-006 L 0.10573 0.82199 E">
                                      <p:cBhvr>
                                        <p:cTn id="394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4.07407E-006 L -0.06753 0.83263 E">
                                      <p:cBhvr>
                                        <p:cTn id="396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3142 0.83982 E">
                                      <p:cBhvr>
                                        <p:cTn id="398" dur="3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6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6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.03142 0.83982 E">
                                      <p:cBhvr>
                                        <p:cTn id="405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5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50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3142 0.83982 E">
                                      <p:cBhvr>
                                        <p:cTn id="412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7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7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7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56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03142 0.83982 E">
                                      <p:cBhvr>
                                        <p:cTn id="419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5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53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.83982 E">
                                      <p:cBhvr>
                                        <p:cTn id="426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6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6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-2.59259E-006 L -0.01215 0.84306 E">
                                      <p:cBhvr>
                                        <p:cTn id="433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3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3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52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-2.59259E-006 L 0.07448 0.83264 E">
                                      <p:cBhvr>
                                        <p:cTn id="440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53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2.59259E-006 L -0.06736 0.84306 E">
                                      <p:cBhvr>
                                        <p:cTn id="447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47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7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1" dur="47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6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0.25556 0.83264 E">
                                      <p:cBhvr>
                                        <p:cTn id="454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4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8" dur="4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3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3.3395E-006 L 0.05087 0.83788 E">
                                      <p:cBhvr>
                                        <p:cTn id="461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46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6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46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5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-2.59259E-006 L 0.01927 0.84306 E">
                                      <p:cBhvr>
                                        <p:cTn id="468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47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7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2" dur="47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6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0.16893 0.84306 E">
                                      <p:cBhvr>
                                        <p:cTn id="47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46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6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46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5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-3.3395E-006 L 0.03507 0.87327 E">
                                      <p:cBhvr>
                                        <p:cTn id="482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6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6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6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5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6 -2.59259E-006 L 0.00365 0.83264 E">
                                      <p:cBhvr>
                                        <p:cTn id="489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49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9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49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8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-2.59259E-006 L 0.22413 0.84306 E">
                                      <p:cBhvr>
                                        <p:cTn id="496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9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9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9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8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-2.59259E-006 L -0.01215 0.84306 E">
                                      <p:cBhvr>
                                        <p:cTn id="503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38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8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3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95E-006 L 0.18473 0.89431 E">
                                      <p:cBhvr>
                                        <p:cTn id="510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2.59259E-006 L 0.17691 0.84306 E">
                                      <p:cBhvr>
                                        <p:cTn id="517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49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49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8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-2.59259E-006 L -0.1776 0.84306 E">
                                      <p:cBhvr>
                                        <p:cTn id="524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42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2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4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1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0.20834 0.85371 E">
                                      <p:cBhvr>
                                        <p:cTn id="531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-2.59259E-006 L 0.1217 0.83264 E">
                                      <p:cBhvr>
                                        <p:cTn id="533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-2.59259E-006 L 0.09809 0.84306 E">
                                      <p:cBhvr>
                                        <p:cTn id="535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-2.59259E-006 L -0.04357 0.82222 E">
                                      <p:cBhvr>
                                        <p:cTn id="537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61111E-006 4.07407E-006 L 0.10607 0.90601 E">
                                      <p:cBhvr>
                                        <p:cTn id="539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61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1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6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60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61111E-006 4.07407E-006 L 0.02725 0.91666 E">
                                      <p:cBhvr>
                                        <p:cTn id="546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61111E-006 4.07407E-006 L -0.01997 0.91666 E">
                                      <p:cBhvr>
                                        <p:cTn id="548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61111E-006 4.07407E-006 L -0.15382 0.88495 E">
                                      <p:cBhvr>
                                        <p:cTn id="550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-0.19323 0.87453 E">
                                      <p:cBhvr>
                                        <p:cTn id="552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4.07407E-006 L -0.13021 0.88495 E">
                                      <p:cBhvr>
                                        <p:cTn id="55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61111E-006 4.07407E-006 L -0.1066 0.87453 E">
                                      <p:cBhvr>
                                        <p:cTn id="556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4.07407E-006 L -0.075 0.88495 E">
                                      <p:cBhvr>
                                        <p:cTn id="558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4.07407E-006 L -0.04358 0.8956 E">
                                      <p:cBhvr>
                                        <p:cTn id="560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61111E-006 4.07407E-006 L 0.01163 0.8956 E">
                                      <p:cBhvr>
                                        <p:cTn id="56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-3.3395E-006 L -0.24045 0.86286 E">
                                      <p:cBhvr>
                                        <p:cTn id="564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4.07407E-006 L 0.22413 0.88495 E">
                                      <p:cBhvr>
                                        <p:cTn id="566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61111E-006 4.07407E-006 L 0.12968 0.90601 E">
                                      <p:cBhvr>
                                        <p:cTn id="568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61111E-006 4.07407E-006 L 0.16111 0.90601 E">
                                      <p:cBhvr>
                                        <p:cTn id="570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06666 0.90601 E">
                                      <p:cBhvr>
                                        <p:cTn id="572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46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6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4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5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42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2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4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1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4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4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4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1" dur="4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53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6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43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3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4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53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3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53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3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3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4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6" dur="4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4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1" dur="4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39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9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39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3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3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3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3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3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3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3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53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3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1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2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2" descr="热气球.png"/>
          <p:cNvPicPr/>
          <p:nvPr/>
        </p:nvPicPr>
        <p:blipFill>
          <a:blip r:embed="rId1"/>
          <a:stretch/>
        </p:blipFill>
        <p:spPr>
          <a:xfrm>
            <a:off x="0" y="2441520"/>
            <a:ext cx="1341360" cy="22017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热气球.png"/>
          <p:cNvPicPr/>
          <p:nvPr/>
        </p:nvPicPr>
        <p:blipFill>
          <a:blip r:embed="rId2"/>
          <a:stretch/>
        </p:blipFill>
        <p:spPr>
          <a:xfrm>
            <a:off x="2441520" y="952560"/>
            <a:ext cx="917640" cy="178596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" descr="热气球.png"/>
          <p:cNvPicPr/>
          <p:nvPr/>
        </p:nvPicPr>
        <p:blipFill>
          <a:blip r:embed="rId3"/>
          <a:stretch/>
        </p:blipFill>
        <p:spPr>
          <a:xfrm>
            <a:off x="5105520" y="1190520"/>
            <a:ext cx="698400" cy="14288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6" descr="热气球.png"/>
          <p:cNvPicPr/>
          <p:nvPr/>
        </p:nvPicPr>
        <p:blipFill>
          <a:blip r:embed="rId4"/>
          <a:stretch/>
        </p:blipFill>
        <p:spPr>
          <a:xfrm>
            <a:off x="5803920" y="255600"/>
            <a:ext cx="1511280" cy="25700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7" descr="热气球.png"/>
          <p:cNvPicPr/>
          <p:nvPr/>
        </p:nvPicPr>
        <p:blipFill>
          <a:blip r:embed="rId5"/>
          <a:stretch/>
        </p:blipFill>
        <p:spPr>
          <a:xfrm>
            <a:off x="7415280" y="3286080"/>
            <a:ext cx="885600" cy="17146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8" descr="热气球.png"/>
          <p:cNvPicPr/>
          <p:nvPr/>
        </p:nvPicPr>
        <p:blipFill>
          <a:blip r:embed="rId6"/>
          <a:stretch/>
        </p:blipFill>
        <p:spPr>
          <a:xfrm>
            <a:off x="7924680" y="476280"/>
            <a:ext cx="579600" cy="11602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5" descr="热气球.png"/>
          <p:cNvPicPr/>
          <p:nvPr/>
        </p:nvPicPr>
        <p:blipFill>
          <a:blip r:embed="rId7"/>
          <a:stretch/>
        </p:blipFill>
        <p:spPr>
          <a:xfrm>
            <a:off x="2590920" y="6858000"/>
            <a:ext cx="2881080" cy="28274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6" descr="热气球.png"/>
          <p:cNvPicPr/>
          <p:nvPr/>
        </p:nvPicPr>
        <p:blipFill>
          <a:blip r:embed="rId8"/>
          <a:stretch/>
        </p:blipFill>
        <p:spPr>
          <a:xfrm>
            <a:off x="1743120" y="1987560"/>
            <a:ext cx="817560" cy="13842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2" descr="热气球.png"/>
          <p:cNvPicPr/>
          <p:nvPr/>
        </p:nvPicPr>
        <p:blipFill>
          <a:blip r:embed="rId9"/>
          <a:stretch/>
        </p:blipFill>
        <p:spPr>
          <a:xfrm>
            <a:off x="8381880" y="1700280"/>
            <a:ext cx="914400" cy="149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233 0.96204 C 0.00816 0.88426 0.01129 0.79306 0.01459 0.71574 C 0.01406 0.66736 0.01545 0.61898 0.01233 0.57107 C 0.01025 0.54051 0.00573 0.51042 0.00365 0.4794 C 0.00486 0.37199 -0.00521 0.25093 0.00851 0.14931 C 0.00938 0.12801 0.01042 0.11273 0.01337 0.09329 C 0.01302 0.07408 0.01302 0.05463 0.01233 0.03565 C 0.01146 0.01597 0.00452 -0.00278 0.00226 -0.02245 C -0.00069 -0.04676 -0.00278 -0.07245 -0.00503 -0.09722 C -0.00451 -0.13565 -0.00642 -0.17523 -0.0026 -0.2125 C -0.00243 -0.21528 -0.00017 -0.21551 0.00104 -0.21736 C 0.00556 -0.25162 0.00608 -0.26366 0.00608 -0.30416 E">
                                      <p:cBhvr>
                                        <p:cTn id="744" dur="32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7 0.90255 C -0.0257 0.89607 -0.02917 0.89144 -0.03143 0.88588 C -0.03229 0.88334 -0.03212 0.8801 -0.03281 0.87755 C -0.03629 0.86598 -0.03768 0.86135 -0.03924 0.84792 C -0.03889 0.7838 -0.04341 0.64792 -0.03281 0.56181 C -0.02986 0.48218 -0.05035 0.38635 -0.02327 0.31991 C -0.0217 0.30602 -0.01893 0.29908 -0.01528 0.28727 C -0.01129 0.25579 -0.01268 0.27061 -0.01059 0.24098 C -0.00938 0.15811 -0.01146 0.17084 -0.00591 0.12385 C -0.0033 0.07639 -0.00174 0.04121 -0.00417 -0.00949 C -0.00486 -0.02569 -0.01163 -0.03912 -0.01528 -0.05347 C -0.02084 -0.0743 -0.02257 -0.09884 -0.025 -0.12106 C -0.02587 -0.13032 -0.02813 -0.14814 -0.02813 -0.14791 C -0.02743 -0.19467 -0.02813 -0.2405 -0.02656 -0.28657 C -0.02639 -0.29513 -0.02275 -0.30231 -0.0217 -0.31088 C -0.02066 -0.31875 -0.01858 -0.33518 -0.01858 -0.33472 C -0.01945 -0.3787 -0.01823 -0.41064 -0.02327 -0.44976 C -0.02709 -0.47963 -0.02275 -0.46944 -0.02969 -0.48217 C -0.03281 -0.49722 -0.03716 -0.51412 -0.0441 -0.525 C -0.04809 -0.54838 -0.04254 -0.52106 -0.04879 -0.53912 C -0.05104 -0.5456 -0.05643 -0.5706 -0.0566 -0.57986 C -0.05695 -0.59884 -0.0566 -0.61782 -0.0566 -0.6375 E">
                                      <p:cBhvr>
                                        <p:cTn id="749" dur="32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1232 0.41551 C -0.01666 0.40833 -0.01874 0.40324 -0.01997 0.39398 C -0.02152 0.38009 -0.02447 0.35347 -0.02447 0.3537 C -0.02395 0.32153 -0.02691 0.2412 -0.01997 0.19884 C -0.01857 0.17593 -0.02032 0.1287 -0.01232 0.11088 C -0.01007 0.09537 -0.00659 0.08125 -0.00487 0.06551 C -0.0019 1.11022302462516E-016 -0.00069 -0.08426 -0.02447 -0.14352 C -0.025 -0.14977 -0.025 -0.15602 -0.02605 -0.16227 C -0.02656 -0.16597 -0.02847 -0.16829 -0.029 -0.17199 C -0.03072 -0.18287 -0.03091 -0.19421 -0.03212 -0.20532 C -0.03108 -0.30139 -0.03645 -0.34421 -0.01997 -0.41944 C -0.01615 -0.46042 -0.01753 -0.49329 -0.01388 -0.53796 C -0.01285 -0.55093 -0.00487 -0.5625 -0.00017 -0.5713 C 0.00105 -0.58032 0.00469 -0.59167 0.00886 -0.59792 C 0.01337 -0.61898 0.0066 -0.58565 0.01337 -0.63565 C 0.01476 -0.6463 0.01754 -0.65648 0.01945 -0.66713 C 0.01823 -0.7206 0.01876 -0.77384 0.0165 -0.82801 C 0.0158 -0.84398 0.00747 -0.86829 0.00278 -0.88241 C 0.00174 -0.88588 -0.00121 -0.89699 -0.00329 -0.89699 E">
                                      <p:cBhvr>
                                        <p:cTn id="754" dur="32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302 1.06875 C 0.01354 0.98658 0.00955 0.79375 0.02048 0.69792 C 0.01909 0.57292 0.01823 0.44885 0.01632 0.32408 C 0.01614 0.30324 0.01128 0.28102 0.00746 0.26065 C 0.00573 0.25162 0.00139 0.23311 0.00139 0.23334 C 0.00278 0.16713 0.00416 0.11505 0.01302 0.05301 C 0.01406 0.03264 0.01684 0.01574 0.01823 -0.00463 C 0.01771 -0.03657 0.01753 -0.06759 0.01632 -0.09884 C 0.01597 -0.10995 0.01423 -0.12083 0.01302 -0.13194 C 0.0118 -0.13981 0.00885 -0.15439 0.00885 -0.15393 C 0.00555 -0.20602 -0.00938 -0.25972 -0.00938 -0.31134 C -0.00938 -0.36134 -0.00938 -0.41203 -0.00938 -0.46319 E">
                                      <p:cBhvr>
                                        <p:cTn id="759" dur="32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1.54487E-006 C -0.00209 -0.01897 -0.00434 -0.03747 -0.00608 -0.05689 C -0.00712 -0.06961 -0.0092 -0.09482 -0.0092 -0.09459 C -0.00868 -0.12974 -0.0158 -0.23451 0.00312 -0.27498 C 0.00712 -0.29834 0.00121 -0.26804 0.00937 -0.29371 C 0.01024 -0.29672 0.00989 -0.30042 0.01076 -0.30342 C 0.0125 -0.31013 0.01493 -0.31591 0.01701 -0.32216 C 0.01979 -0.33071 0.02031 -0.34181 0.02309 -0.35083 C 0.02534 -0.37396 0.03038 -0.39454 0.03385 -0.41698 C 0.03524 -0.4253 0.03593 -0.43386 0.03698 -0.44242 C 0.0375 -0.44658 0.03854 -0.4549 0.03854 -0.45444 C 0.03767 -0.53955 0.03906 -0.56522 0.03385 -0.62835 C 0.03298 -0.66698 0.03316 -0.69218 0.02934 -0.72641 C 0.02639 -0.75347 0.02968 -0.73058 0.02465 -0.76133 C 0.02343 -0.7685 0.01857 -0.7803 0.01857 -0.77984 C 0.01527 -0.8062 0.01962 -0.77984 0.01232 -0.80227 C 0.0092 -0.81198 0.00347 -0.83858 0.00156 -0.84644 C -0.00365 -0.86818 -0.00643 -0.89246 -0.0092 -0.91605 C -0.00868 -0.94403 -0.00816 -1.00393 -0.00608 -1.03885 C -0.00365 -1.07956 -0.00868 -1.07308 0.00156 -1.08025 C 0.00486 -1.1006 0.00955 -1.1124 0.01701 -1.12766 C 0.01979 -1.14431 0.02014 -1.15611 0.02621 -1.1686 C 0.02725 -1.21184 0.02916 -1.25185 0.0309 -1.29464 C 0.03003 -1.34043 0.03246 -1.42068 0.01389 -1.45884 C 0.01128 -1.47456 0.00486 -1.48381 3.05556E-006 -1.49653 C -0.00486 -1.50948 -0.00834 -1.52267 -0.01077 -1.53793 C -0.0092 -1.57262 -0.00782 -1.60754 -0.00608 -1.642 C -0.00556 -1.65194 -0.00052 -1.6642 0.00156 -1.67045 C 0.00521 -1.68201 0.00156 -1.69797 0.00156 -1.71161 E">
                                      <p:cBhvr>
                                        <p:cTn id="761" dur="32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538 0.89097 C -0.00434 0.86713 -0.00347 0.85324 0.00208 0.83356 C 0.00729 0.76458 0.00972 0.69375 0.00069 0.62546 C 0.00017 0.61134 0.00034 0.59722 -0.00087 0.58379 C -0.00122 0.5787 -0.004 0.57569 -0.004 0.57083 C -0.004 0.47801 -0.00156 0.37801 0.00208 0.28495 C 0.00139 0.22361 0.00659 -0.0044 -0.00087 -0.05348 C -0.00191 -0.12292 -0.00278 -0.1463 -0.00695 -0.20162 C -0.00747 -0.2625 -0.00747 -0.32269 -0.00851 -0.38334 C -0.00868 -0.39607 -0.0132 -0.41898 -0.01459 -0.4301 C -0.01788 -0.45672 -0.01962 -0.48426 -0.02361 -0.51088 C -0.02413 -0.5213 -0.02518 -0.54236 -0.02518 -0.54167 E">
                                      <p:cBhvr>
                                        <p:cTn id="766" dur="3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2969 0.5939 C -0.02865 0.53261 -0.02951 0.46901 -0.025 0.40819 C -0.02361 0.36818 -0.02396 0.32794 -0.02205 0.28816 C -0.0217 0.2803 -0.01146 0.25093 -0.00833 0.24306 C -0.00642 0.23243 -0.00434 0.22202 -0.00243 0.21138 C -0.00347 0.09343 0.00312 0.04186 -0.02361 -0.0518 C -0.02917 -0.09227 -0.03854 -0.13575 -0.05382 -0.16882 C -0.0592 -0.19519 -0.0651 -0.21831 -0.07205 -0.24352 C -0.06875 -0.27821 -0.07066 -0.26804 -0.06302 -0.28839 C -0.06007 -0.33464 -0.06181 -0.30134 -0.0599 -0.37604 C -0.05938 -0.39755 -0.06372 -0.42807 -0.05382 -0.44519 C -0.0533 -0.45212 -0.05365 -0.45953 -0.05243 -0.46646 C -0.05208 -0.46924 -0.05 -0.4697 -0.04931 -0.47178 C -0.04844 -0.4741 -0.04861 -0.4771 -0.04774 -0.47988 C -0.04462 -0.48774 -0.03976 -0.49653 -0.03576 -0.50393 C -0.03316 -0.52567 -0.03611 -0.51387 -0.02361 -0.53561 L -0.02361 -0.53538 C -0.01823 -0.55388 -0.0092 -0.56891 -0.00538 -0.58857 C -0.00434 -0.60939 -0.0033 -0.62696 -0.00087 -0.64662 C -0.00035 -0.67484 -0.00017 -0.70305 0.00069 -0.73126 C 0.00087 -0.73982 0.00243 -0.75855 0.00365 -0.7685 C 0.00451 -0.77567 0.00677 -0.79001 0.00677 -0.78978 C 0.00851 -0.82354 0.00833 -0.80943 0.00833 -0.83279 E">
                                      <p:cBhvr>
                                        <p:cTn id="771" dur="32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7 0.90255 C -0.0257 0.89607 -0.02917 0.89144 -0.03143 0.88588 C -0.03229 0.88334 -0.03212 0.8801 -0.03281 0.87755 C -0.03629 0.86598 -0.03768 0.86135 -0.03924 0.84792 C -0.03889 0.7838 -0.04341 0.64792 -0.03281 0.56181 C -0.02986 0.48218 -0.05035 0.38635 -0.02327 0.31991 C -0.0217 0.30602 -0.01893 0.29908 -0.01528 0.28727 C -0.01129 0.25579 -0.01268 0.27061 -0.01059 0.24098 C -0.00938 0.15811 -0.01146 0.17084 -0.00591 0.12385 C -0.0033 0.07639 -0.00174 0.04121 -0.00417 -0.00949 C -0.00486 -0.02569 -0.01163 -0.03912 -0.01528 -0.05347 C -0.02084 -0.0743 -0.02257 -0.09884 -0.025 -0.12106 C -0.02587 -0.13032 -0.02813 -0.14814 -0.02813 -0.14791 C -0.02743 -0.19467 -0.02813 -0.2405 -0.02656 -0.28657 C -0.02639 -0.29513 -0.02275 -0.30231 -0.0217 -0.31088 C -0.02066 -0.31875 -0.01858 -0.33518 -0.01858 -0.33472 C -0.01945 -0.3787 -0.01823 -0.41064 -0.02327 -0.44976 C -0.02709 -0.47963 -0.02275 -0.46944 -0.02969 -0.48217 C -0.03281 -0.49722 -0.03716 -0.51412 -0.0441 -0.525 C -0.04809 -0.54838 -0.04254 -0.52106 -0.04879 -0.53912 C -0.05104 -0.5456 -0.05643 -0.5706 -0.0566 -0.57986 C -0.05695 -0.59884 -0.0566 -0.61782 -0.0566 -0.6375 E">
                                      <p:cBhvr>
                                        <p:cTn id="776" dur="32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2969 0.5939 C -0.02865 0.53261 -0.02951 0.46901 -0.025 0.40819 C -0.02361 0.36818 -0.02396 0.32794 -0.02205 0.28816 C -0.0217 0.2803 -0.01146 0.25093 -0.00833 0.24306 C -0.00642 0.23243 -0.00434 0.22202 -0.00243 0.21138 C -0.00347 0.09343 0.00312 0.04186 -0.02361 -0.0518 C -0.02917 -0.09227 -0.03854 -0.13575 -0.05382 -0.16882 C -0.0592 -0.19519 -0.0651 -0.21831 -0.07205 -0.24352 C -0.06875 -0.27821 -0.07066 -0.26804 -0.06302 -0.28839 C -0.06007 -0.33464 -0.06181 -0.30134 -0.0599 -0.37604 C -0.05938 -0.39755 -0.06372 -0.42807 -0.05382 -0.44519 C -0.0533 -0.45212 -0.05365 -0.45953 -0.05243 -0.46646 C -0.05208 -0.46924 -0.05 -0.4697 -0.04931 -0.47178 C -0.04844 -0.4741 -0.04861 -0.4771 -0.04774 -0.47988 C -0.04462 -0.48774 -0.03976 -0.49653 -0.03576 -0.50393 C -0.03316 -0.52567 -0.03611 -0.51387 -0.02361 -0.53561 L -0.02361 -0.53538 C -0.01823 -0.55388 -0.0092 -0.56891 -0.00538 -0.58857 C -0.00434 -0.60939 -0.0033 -0.62696 -0.00087 -0.64662 C -0.00035 -0.67484 -0.00017 -0.70305 0.00069 -0.73126 C 0.00087 -0.73982 0.00243 -0.75855 0.00365 -0.7685 C 0.00451 -0.77567 0.00677 -0.79001 0.00677 -0.78978 C 0.00851 -0.82354 0.00833 -0.80943 0.00833 -0.83279 E">
                                      <p:cBhvr>
                                        <p:cTn id="781" dur="32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7" descr="23.png"/>
          <p:cNvPicPr/>
          <p:nvPr/>
        </p:nvPicPr>
        <p:blipFill>
          <a:blip r:embed="rId1"/>
          <a:stretch/>
        </p:blipFill>
        <p:spPr>
          <a:xfrm>
            <a:off x="3571920" y="-428760"/>
            <a:ext cx="433440" cy="4287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8" descr="23.png"/>
          <p:cNvPicPr/>
          <p:nvPr/>
        </p:nvPicPr>
        <p:blipFill>
          <a:blip r:embed="rId2"/>
          <a:stretch/>
        </p:blipFill>
        <p:spPr>
          <a:xfrm>
            <a:off x="2857680" y="-428760"/>
            <a:ext cx="433080" cy="4287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9" descr="23.png"/>
          <p:cNvPicPr/>
          <p:nvPr/>
        </p:nvPicPr>
        <p:blipFill>
          <a:blip r:embed="rId3"/>
          <a:stretch/>
        </p:blipFill>
        <p:spPr>
          <a:xfrm>
            <a:off x="2214720" y="-5810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0" descr="23.png"/>
          <p:cNvPicPr/>
          <p:nvPr/>
        </p:nvPicPr>
        <p:blipFill>
          <a:blip r:embed="rId4"/>
          <a:stretch/>
        </p:blipFill>
        <p:spPr>
          <a:xfrm>
            <a:off x="5078520" y="-56520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1" descr="23.png"/>
          <p:cNvPicPr/>
          <p:nvPr/>
        </p:nvPicPr>
        <p:blipFill>
          <a:blip r:embed="rId5"/>
          <a:stretch/>
        </p:blipFill>
        <p:spPr>
          <a:xfrm>
            <a:off x="6143760" y="-56520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2" descr="23.png"/>
          <p:cNvPicPr/>
          <p:nvPr/>
        </p:nvPicPr>
        <p:blipFill>
          <a:blip r:embed="rId6"/>
          <a:stretch/>
        </p:blipFill>
        <p:spPr>
          <a:xfrm>
            <a:off x="1428840" y="-42876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3" descr="23.png"/>
          <p:cNvPicPr/>
          <p:nvPr/>
        </p:nvPicPr>
        <p:blipFill>
          <a:blip r:embed="rId7"/>
          <a:stretch/>
        </p:blipFill>
        <p:spPr>
          <a:xfrm>
            <a:off x="2071800" y="-28584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4" descr="23.png"/>
          <p:cNvPicPr/>
          <p:nvPr/>
        </p:nvPicPr>
        <p:blipFill>
          <a:blip r:embed="rId8"/>
          <a:stretch/>
        </p:blipFill>
        <p:spPr>
          <a:xfrm>
            <a:off x="2643120" y="-57168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5" descr="23.png"/>
          <p:cNvPicPr/>
          <p:nvPr/>
        </p:nvPicPr>
        <p:blipFill>
          <a:blip r:embed="rId9"/>
          <a:stretch/>
        </p:blipFill>
        <p:spPr>
          <a:xfrm>
            <a:off x="3286080" y="-2858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6" descr="23.png"/>
          <p:cNvPicPr/>
          <p:nvPr/>
        </p:nvPicPr>
        <p:blipFill>
          <a:blip r:embed="rId10"/>
          <a:stretch/>
        </p:blipFill>
        <p:spPr>
          <a:xfrm>
            <a:off x="4282920" y="-2858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7" descr="23.png"/>
          <p:cNvPicPr/>
          <p:nvPr/>
        </p:nvPicPr>
        <p:blipFill>
          <a:blip r:embed="rId11"/>
          <a:stretch/>
        </p:blipFill>
        <p:spPr>
          <a:xfrm>
            <a:off x="5786280" y="-42876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8" descr="23.png"/>
          <p:cNvPicPr/>
          <p:nvPr/>
        </p:nvPicPr>
        <p:blipFill>
          <a:blip r:embed="rId12"/>
          <a:stretch/>
        </p:blipFill>
        <p:spPr>
          <a:xfrm>
            <a:off x="6858000" y="-2858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29" descr="23.png"/>
          <p:cNvPicPr/>
          <p:nvPr/>
        </p:nvPicPr>
        <p:blipFill>
          <a:blip r:embed="rId13"/>
          <a:stretch/>
        </p:blipFill>
        <p:spPr>
          <a:xfrm>
            <a:off x="7643880" y="-50004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0" descr="23.png"/>
          <p:cNvPicPr/>
          <p:nvPr/>
        </p:nvPicPr>
        <p:blipFill>
          <a:blip r:embed="rId14"/>
          <a:stretch/>
        </p:blipFill>
        <p:spPr>
          <a:xfrm>
            <a:off x="7358040" y="-2858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1" descr="23.png"/>
          <p:cNvPicPr/>
          <p:nvPr/>
        </p:nvPicPr>
        <p:blipFill>
          <a:blip r:embed="rId15"/>
          <a:stretch/>
        </p:blipFill>
        <p:spPr>
          <a:xfrm>
            <a:off x="8143920" y="-42876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32" descr="23.png"/>
          <p:cNvPicPr/>
          <p:nvPr/>
        </p:nvPicPr>
        <p:blipFill>
          <a:blip r:embed="rId16"/>
          <a:stretch/>
        </p:blipFill>
        <p:spPr>
          <a:xfrm>
            <a:off x="8572680" y="-28584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3" descr="23.png"/>
          <p:cNvPicPr/>
          <p:nvPr/>
        </p:nvPicPr>
        <p:blipFill>
          <a:blip r:embed="rId17"/>
          <a:stretch/>
        </p:blipFill>
        <p:spPr>
          <a:xfrm>
            <a:off x="6715080" y="-64296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4" descr="23.png"/>
          <p:cNvPicPr/>
          <p:nvPr/>
        </p:nvPicPr>
        <p:blipFill>
          <a:blip r:embed="rId18"/>
          <a:stretch/>
        </p:blipFill>
        <p:spPr>
          <a:xfrm>
            <a:off x="8854920" y="-5000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5" descr="23.png"/>
          <p:cNvPicPr/>
          <p:nvPr/>
        </p:nvPicPr>
        <p:blipFill>
          <a:blip r:embed="rId19"/>
          <a:stretch/>
        </p:blipFill>
        <p:spPr>
          <a:xfrm>
            <a:off x="7715160" y="-5652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6" descr="23.png"/>
          <p:cNvPicPr/>
          <p:nvPr/>
        </p:nvPicPr>
        <p:blipFill>
          <a:blip r:embed="rId20"/>
          <a:stretch/>
        </p:blipFill>
        <p:spPr>
          <a:xfrm>
            <a:off x="6929280" y="-714240"/>
            <a:ext cx="571680" cy="5648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37" descr="23.png"/>
          <p:cNvPicPr/>
          <p:nvPr/>
        </p:nvPicPr>
        <p:blipFill>
          <a:blip r:embed="rId21"/>
          <a:stretch/>
        </p:blipFill>
        <p:spPr>
          <a:xfrm>
            <a:off x="785880" y="-56520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38" descr="23.png"/>
          <p:cNvPicPr/>
          <p:nvPr/>
        </p:nvPicPr>
        <p:blipFill>
          <a:blip r:embed="rId22"/>
          <a:stretch/>
        </p:blipFill>
        <p:spPr>
          <a:xfrm>
            <a:off x="571680" y="-500040"/>
            <a:ext cx="28872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9" descr="23.png"/>
          <p:cNvPicPr/>
          <p:nvPr/>
        </p:nvPicPr>
        <p:blipFill>
          <a:blip r:embed="rId23"/>
          <a:stretch/>
        </p:blipFill>
        <p:spPr>
          <a:xfrm>
            <a:off x="0" y="-42876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40" descr="23.png"/>
          <p:cNvPicPr/>
          <p:nvPr/>
        </p:nvPicPr>
        <p:blipFill>
          <a:blip r:embed="rId24"/>
          <a:stretch/>
        </p:blipFill>
        <p:spPr>
          <a:xfrm>
            <a:off x="201600" y="-5652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41" descr="23.png"/>
          <p:cNvPicPr/>
          <p:nvPr/>
        </p:nvPicPr>
        <p:blipFill>
          <a:blip r:embed="rId25"/>
          <a:stretch/>
        </p:blipFill>
        <p:spPr>
          <a:xfrm>
            <a:off x="1571760" y="-56520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42" descr="23.png"/>
          <p:cNvPicPr/>
          <p:nvPr/>
        </p:nvPicPr>
        <p:blipFill>
          <a:blip r:embed="rId26"/>
          <a:stretch/>
        </p:blipFill>
        <p:spPr>
          <a:xfrm>
            <a:off x="1143000" y="-428760"/>
            <a:ext cx="433440" cy="428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43" descr="23.png"/>
          <p:cNvPicPr/>
          <p:nvPr/>
        </p:nvPicPr>
        <p:blipFill>
          <a:blip r:embed="rId27"/>
          <a:stretch/>
        </p:blipFill>
        <p:spPr>
          <a:xfrm>
            <a:off x="3857760" y="-56520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44" descr="23.png"/>
          <p:cNvPicPr/>
          <p:nvPr/>
        </p:nvPicPr>
        <p:blipFill>
          <a:blip r:embed="rId28"/>
          <a:stretch/>
        </p:blipFill>
        <p:spPr>
          <a:xfrm>
            <a:off x="4929120" y="-2858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45" descr="23.png"/>
          <p:cNvPicPr/>
          <p:nvPr/>
        </p:nvPicPr>
        <p:blipFill>
          <a:blip r:embed="rId29"/>
          <a:stretch/>
        </p:blipFill>
        <p:spPr>
          <a:xfrm>
            <a:off x="5572080" y="-714240"/>
            <a:ext cx="433440" cy="4284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46" descr="23.png"/>
          <p:cNvPicPr/>
          <p:nvPr/>
        </p:nvPicPr>
        <p:blipFill>
          <a:blip r:embed="rId30"/>
          <a:stretch/>
        </p:blipFill>
        <p:spPr>
          <a:xfrm>
            <a:off x="5929200" y="-428760"/>
            <a:ext cx="433440" cy="428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47" descr="23.png"/>
          <p:cNvPicPr/>
          <p:nvPr/>
        </p:nvPicPr>
        <p:blipFill>
          <a:blip r:embed="rId31"/>
          <a:stretch/>
        </p:blipFill>
        <p:spPr>
          <a:xfrm>
            <a:off x="8358120" y="-714240"/>
            <a:ext cx="433440" cy="428400"/>
          </a:xfrm>
          <a:prstGeom prst="rect">
            <a:avLst/>
          </a:prstGeom>
          <a:ln w="0">
            <a:noFill/>
          </a:ln>
        </p:spPr>
      </p:pic>
      <p:pic>
        <p:nvPicPr>
          <p:cNvPr id="290" name="P1" descr="F:\临时\amy\模板\圣诞\场景\7.png"/>
          <p:cNvPicPr/>
          <p:nvPr/>
        </p:nvPicPr>
        <p:blipFill>
          <a:blip r:embed="rId32"/>
          <a:stretch/>
        </p:blipFill>
        <p:spPr>
          <a:xfrm>
            <a:off x="2571840" y="-347760"/>
            <a:ext cx="214200" cy="219240"/>
          </a:xfrm>
          <a:prstGeom prst="rect">
            <a:avLst/>
          </a:prstGeom>
          <a:ln w="0">
            <a:noFill/>
          </a:ln>
        </p:spPr>
      </p:pic>
      <p:pic>
        <p:nvPicPr>
          <p:cNvPr id="291" name="P2" descr="F:\临时\amy\模板\圣诞\场景\7.png"/>
          <p:cNvPicPr/>
          <p:nvPr/>
        </p:nvPicPr>
        <p:blipFill>
          <a:blip r:embed="rId33"/>
          <a:stretch/>
        </p:blipFill>
        <p:spPr>
          <a:xfrm>
            <a:off x="357120" y="-571680"/>
            <a:ext cx="285840" cy="290520"/>
          </a:xfrm>
          <a:prstGeom prst="rect">
            <a:avLst/>
          </a:prstGeom>
          <a:ln w="0">
            <a:noFill/>
          </a:ln>
        </p:spPr>
      </p:pic>
      <p:pic>
        <p:nvPicPr>
          <p:cNvPr id="292" name="P3" descr="F:\临时\amy\模板\圣诞\场景\7.png"/>
          <p:cNvPicPr/>
          <p:nvPr/>
        </p:nvPicPr>
        <p:blipFill>
          <a:blip r:embed="rId34"/>
          <a:stretch/>
        </p:blipFill>
        <p:spPr>
          <a:xfrm>
            <a:off x="5149800" y="-436680"/>
            <a:ext cx="428760" cy="436680"/>
          </a:xfrm>
          <a:prstGeom prst="rect">
            <a:avLst/>
          </a:prstGeom>
          <a:ln w="0">
            <a:noFill/>
          </a:ln>
        </p:spPr>
      </p:pic>
      <p:pic>
        <p:nvPicPr>
          <p:cNvPr id="293" name="P4" descr="F:\临时\amy\模板\圣诞\场景\7.png"/>
          <p:cNvPicPr/>
          <p:nvPr/>
        </p:nvPicPr>
        <p:blipFill>
          <a:blip r:embed="rId35"/>
          <a:stretch/>
        </p:blipFill>
        <p:spPr>
          <a:xfrm>
            <a:off x="7143840" y="-347760"/>
            <a:ext cx="341280" cy="347760"/>
          </a:xfrm>
          <a:prstGeom prst="rect">
            <a:avLst/>
          </a:prstGeom>
          <a:ln w="0">
            <a:noFill/>
          </a:ln>
        </p:spPr>
      </p:pic>
      <p:pic>
        <p:nvPicPr>
          <p:cNvPr id="294" name="P5" descr="F:\临时\amy\模板\圣诞\场景\7.png"/>
          <p:cNvPicPr/>
          <p:nvPr/>
        </p:nvPicPr>
        <p:blipFill>
          <a:blip r:embed="rId36"/>
          <a:stretch/>
        </p:blipFill>
        <p:spPr>
          <a:xfrm>
            <a:off x="8143920" y="-571680"/>
            <a:ext cx="285840" cy="290520"/>
          </a:xfrm>
          <a:prstGeom prst="rect">
            <a:avLst/>
          </a:prstGeom>
          <a:ln w="0">
            <a:noFill/>
          </a:ln>
        </p:spPr>
      </p:pic>
      <p:pic>
        <p:nvPicPr>
          <p:cNvPr id="295" name="P6" descr="F:\临时\amy\模板\圣诞\场景\7.png"/>
          <p:cNvPicPr/>
          <p:nvPr/>
        </p:nvPicPr>
        <p:blipFill>
          <a:blip r:embed="rId37"/>
          <a:stretch/>
        </p:blipFill>
        <p:spPr>
          <a:xfrm>
            <a:off x="1785960" y="-714240"/>
            <a:ext cx="500040" cy="509400"/>
          </a:xfrm>
          <a:prstGeom prst="rect">
            <a:avLst/>
          </a:prstGeom>
          <a:ln w="0">
            <a:noFill/>
          </a:ln>
        </p:spPr>
      </p:pic>
      <p:pic>
        <p:nvPicPr>
          <p:cNvPr id="296" name="P7" descr="F:\临时\amy\模板\圣诞\场景\7.png"/>
          <p:cNvPicPr/>
          <p:nvPr/>
        </p:nvPicPr>
        <p:blipFill>
          <a:blip r:embed="rId38"/>
          <a:stretch/>
        </p:blipFill>
        <p:spPr>
          <a:xfrm>
            <a:off x="6500880" y="-428760"/>
            <a:ext cx="214200" cy="217800"/>
          </a:xfrm>
          <a:prstGeom prst="rect">
            <a:avLst/>
          </a:prstGeom>
          <a:ln w="0">
            <a:noFill/>
          </a:ln>
        </p:spPr>
      </p:pic>
      <p:pic>
        <p:nvPicPr>
          <p:cNvPr id="297" name="P8" descr="F:\临时\amy\模板\圣诞\场景\7.png"/>
          <p:cNvPicPr/>
          <p:nvPr/>
        </p:nvPicPr>
        <p:blipFill>
          <a:blip r:embed="rId39"/>
          <a:stretch/>
        </p:blipFill>
        <p:spPr>
          <a:xfrm>
            <a:off x="3500280" y="-500040"/>
            <a:ext cx="34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787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89" dur="5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91" dur="5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93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95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97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799" dur="5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01" dur="5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03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05" dur="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07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09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811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13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15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17" dur="5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19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21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823" dur="5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25" dur="5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27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29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31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33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35" dur="5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37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39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1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3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5" dur="5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847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49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851" dur="5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5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-5.78035E-006 C 0.00417 0.20624 0.00834 0.41271 -0.0144 0.55375 C -0.03715 0.69479 -0.11093 0.74635 -0.13663 0.84531 C -0.16232 0.9445 -0.16302 1.09733 -0.16822 1.14774 E">
                                      <p:cBhvr>
                                        <p:cTn id="855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5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859" dur="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6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863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65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3.98844E-006 C 0.02222 0.083 0.04479 0.16601 0.03941 0.26635 C 0.03403 0.3667 -0.01754 0.50034 -0.03212 0.60254 C -0.0467 0.70474 -0.05365 0.79722 -0.04792 0.8793 C -0.04219 0.96138 -0.00694 1.05202 0.00278 1.09502 C 0.0125 1.13803 0.01163 1.13757 0.01076 1.13734 E">
                                      <p:cBhvr>
                                        <p:cTn id="867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6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871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7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875" dur="5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877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879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90"/>
          <p:cNvGrpSpPr/>
          <p:nvPr/>
        </p:nvGrpSpPr>
        <p:grpSpPr>
          <a:xfrm>
            <a:off x="8850240" y="939600"/>
            <a:ext cx="298800" cy="298800"/>
            <a:chOff x="8850240" y="939600"/>
            <a:chExt cx="298800" cy="298800"/>
          </a:xfrm>
        </p:grpSpPr>
        <p:sp>
          <p:nvSpPr>
            <p:cNvPr id="299" name="AutoShape 91"/>
            <p:cNvSpPr/>
            <p:nvPr/>
          </p:nvSpPr>
          <p:spPr>
            <a:xfrm rot="3419400">
              <a:off x="8891280" y="981000"/>
              <a:ext cx="216000" cy="21600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360 h 216000"/>
                <a:gd name="textAreaBottom" fmla="*/ 13464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92"/>
            <p:cNvSpPr/>
            <p:nvPr/>
          </p:nvSpPr>
          <p:spPr>
            <a:xfrm rot="900000">
              <a:off x="8891640" y="980640"/>
              <a:ext cx="210600" cy="210600"/>
            </a:xfrm>
            <a:custGeom>
              <a:avLst/>
              <a:gdLst>
                <a:gd name="textAreaLeft" fmla="*/ 83880 w 210600"/>
                <a:gd name="textAreaRight" fmla="*/ 126720 w 21060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Oval 93"/>
          <p:cNvSpPr/>
          <p:nvPr/>
        </p:nvSpPr>
        <p:spPr>
          <a:xfrm rot="3518400">
            <a:off x="9450360" y="-17380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4"/>
          <p:cNvSpPr/>
          <p:nvPr/>
        </p:nvSpPr>
        <p:spPr>
          <a:xfrm rot="3518400">
            <a:off x="10637640" y="-15220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5"/>
          <p:cNvSpPr/>
          <p:nvPr/>
        </p:nvSpPr>
        <p:spPr>
          <a:xfrm rot="3247800">
            <a:off x="10512000" y="583920"/>
            <a:ext cx="7128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6"/>
          <p:cNvSpPr/>
          <p:nvPr/>
        </p:nvSpPr>
        <p:spPr>
          <a:xfrm rot="3518400">
            <a:off x="11142000" y="-43956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7"/>
          <p:cNvGrpSpPr/>
          <p:nvPr/>
        </p:nvGrpSpPr>
        <p:grpSpPr>
          <a:xfrm>
            <a:off x="7352640" y="1888560"/>
            <a:ext cx="199440" cy="199800"/>
            <a:chOff x="7352640" y="1888560"/>
            <a:chExt cx="199440" cy="199800"/>
          </a:xfrm>
        </p:grpSpPr>
        <p:sp>
          <p:nvSpPr>
            <p:cNvPr id="306" name="AutoShape 98"/>
            <p:cNvSpPr/>
            <p:nvPr/>
          </p:nvSpPr>
          <p:spPr>
            <a:xfrm rot="3419400">
              <a:off x="7380000" y="191592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99"/>
            <p:cNvSpPr/>
            <p:nvPr/>
          </p:nvSpPr>
          <p:spPr>
            <a:xfrm rot="900000">
              <a:off x="7380000" y="191592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0"/>
          <p:cNvGrpSpPr/>
          <p:nvPr/>
        </p:nvGrpSpPr>
        <p:grpSpPr>
          <a:xfrm>
            <a:off x="7194240" y="866880"/>
            <a:ext cx="298440" cy="298440"/>
            <a:chOff x="7194240" y="866880"/>
            <a:chExt cx="298440" cy="298440"/>
          </a:xfrm>
        </p:grpSpPr>
        <p:sp>
          <p:nvSpPr>
            <p:cNvPr id="309" name="AutoShape 101"/>
            <p:cNvSpPr/>
            <p:nvPr/>
          </p:nvSpPr>
          <p:spPr>
            <a:xfrm rot="3419400">
              <a:off x="7235280" y="908280"/>
              <a:ext cx="216000" cy="215640"/>
            </a:xfrm>
            <a:custGeom>
              <a:avLst/>
              <a:gdLst>
                <a:gd name="textAreaLeft" fmla="*/ 81360 w 216000"/>
                <a:gd name="textAreaRight" fmla="*/ 134640 w 216000"/>
                <a:gd name="textAreaTop" fmla="*/ 81000 h 215640"/>
                <a:gd name="textAreaBottom" fmla="*/ 1346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02"/>
            <p:cNvSpPr/>
            <p:nvPr/>
          </p:nvSpPr>
          <p:spPr>
            <a:xfrm rot="900000">
              <a:off x="7236000" y="907560"/>
              <a:ext cx="210240" cy="210600"/>
            </a:xfrm>
            <a:custGeom>
              <a:avLst/>
              <a:gdLst>
                <a:gd name="textAreaLeft" fmla="*/ 83880 w 210240"/>
                <a:gd name="textAreaRight" fmla="*/ 126360 w 210240"/>
                <a:gd name="textAreaTop" fmla="*/ 83880 h 210600"/>
                <a:gd name="textAreaBottom" fmla="*/ 126720 h 21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3"/>
          <p:cNvGrpSpPr/>
          <p:nvPr/>
        </p:nvGrpSpPr>
        <p:grpSpPr>
          <a:xfrm>
            <a:off x="8217720" y="1888920"/>
            <a:ext cx="197640" cy="197280"/>
            <a:chOff x="8217720" y="1888920"/>
            <a:chExt cx="197640" cy="197280"/>
          </a:xfrm>
        </p:grpSpPr>
        <p:sp>
          <p:nvSpPr>
            <p:cNvPr id="312" name="AutoShape 104"/>
            <p:cNvSpPr/>
            <p:nvPr/>
          </p:nvSpPr>
          <p:spPr>
            <a:xfrm rot="3419400">
              <a:off x="8245080" y="1915920"/>
              <a:ext cx="142560" cy="142920"/>
            </a:xfrm>
            <a:custGeom>
              <a:avLst/>
              <a:gdLst>
                <a:gd name="textAreaLeft" fmla="*/ 53640 w 142560"/>
                <a:gd name="textAreaRight" fmla="*/ 88920 w 142560"/>
                <a:gd name="textAreaTop" fmla="*/ 53640 h 142920"/>
                <a:gd name="textAreaBottom" fmla="*/ 89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05"/>
            <p:cNvSpPr/>
            <p:nvPr/>
          </p:nvSpPr>
          <p:spPr>
            <a:xfrm rot="900000">
              <a:off x="8245440" y="1916280"/>
              <a:ext cx="139320" cy="138960"/>
            </a:xfrm>
            <a:custGeom>
              <a:avLst/>
              <a:gdLst>
                <a:gd name="textAreaLeft" fmla="*/ 55440 w 139320"/>
                <a:gd name="textAreaRight" fmla="*/ 83880 w 139320"/>
                <a:gd name="textAreaTop" fmla="*/ 55440 h 138960"/>
                <a:gd name="textAreaBottom" fmla="*/ 83520 h 13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06"/>
          <p:cNvGrpSpPr/>
          <p:nvPr/>
        </p:nvGrpSpPr>
        <p:grpSpPr>
          <a:xfrm>
            <a:off x="7568640" y="1239120"/>
            <a:ext cx="199440" cy="199800"/>
            <a:chOff x="7568640" y="1239120"/>
            <a:chExt cx="199440" cy="199800"/>
          </a:xfrm>
        </p:grpSpPr>
        <p:sp>
          <p:nvSpPr>
            <p:cNvPr id="315" name="AutoShape 107"/>
            <p:cNvSpPr/>
            <p:nvPr/>
          </p:nvSpPr>
          <p:spPr>
            <a:xfrm rot="3419400">
              <a:off x="7596000" y="126648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8"/>
            <p:cNvSpPr/>
            <p:nvPr/>
          </p:nvSpPr>
          <p:spPr>
            <a:xfrm rot="900000">
              <a:off x="7596000" y="126648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09"/>
          <p:cNvGrpSpPr/>
          <p:nvPr/>
        </p:nvGrpSpPr>
        <p:grpSpPr>
          <a:xfrm>
            <a:off x="6200280" y="1096200"/>
            <a:ext cx="199800" cy="199800"/>
            <a:chOff x="6200280" y="1096200"/>
            <a:chExt cx="199800" cy="199800"/>
          </a:xfrm>
        </p:grpSpPr>
        <p:sp>
          <p:nvSpPr>
            <p:cNvPr id="318" name="AutoShape 110"/>
            <p:cNvSpPr/>
            <p:nvPr/>
          </p:nvSpPr>
          <p:spPr>
            <a:xfrm rot="3419400">
              <a:off x="6228000" y="1123560"/>
              <a:ext cx="144360" cy="14472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720"/>
                <a:gd name="textAreaBottom" fmla="*/ 9036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11"/>
            <p:cNvSpPr/>
            <p:nvPr/>
          </p:nvSpPr>
          <p:spPr>
            <a:xfrm rot="900000">
              <a:off x="6227280" y="1123920"/>
              <a:ext cx="141120" cy="140760"/>
            </a:xfrm>
            <a:custGeom>
              <a:avLst/>
              <a:gdLst>
                <a:gd name="textAreaLeft" fmla="*/ 56160 w 141120"/>
                <a:gd name="textAreaRight" fmla="*/ 84960 w 14112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2"/>
          <p:cNvGrpSpPr/>
          <p:nvPr/>
        </p:nvGrpSpPr>
        <p:grpSpPr>
          <a:xfrm>
            <a:off x="8503560" y="3330000"/>
            <a:ext cx="199440" cy="199800"/>
            <a:chOff x="8503560" y="3330000"/>
            <a:chExt cx="199440" cy="199800"/>
          </a:xfrm>
        </p:grpSpPr>
        <p:sp>
          <p:nvSpPr>
            <p:cNvPr id="321" name="AutoShape 113"/>
            <p:cNvSpPr/>
            <p:nvPr/>
          </p:nvSpPr>
          <p:spPr>
            <a:xfrm rot="3419400">
              <a:off x="8530920" y="3357360"/>
              <a:ext cx="144360" cy="144360"/>
            </a:xfrm>
            <a:custGeom>
              <a:avLst/>
              <a:gdLst>
                <a:gd name="textAreaLeft" fmla="*/ 54360 w 144360"/>
                <a:gd name="textAreaRight" fmla="*/ 90000 w 144360"/>
                <a:gd name="textAreaTop" fmla="*/ 54360 h 144360"/>
                <a:gd name="textAreaBottom" fmla="*/ 9000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14"/>
            <p:cNvSpPr/>
            <p:nvPr/>
          </p:nvSpPr>
          <p:spPr>
            <a:xfrm rot="900000">
              <a:off x="8530920" y="3357360"/>
              <a:ext cx="140760" cy="140760"/>
            </a:xfrm>
            <a:custGeom>
              <a:avLst/>
              <a:gdLst>
                <a:gd name="textAreaLeft" fmla="*/ 56160 w 140760"/>
                <a:gd name="textAreaRight" fmla="*/ 84600 w 140760"/>
                <a:gd name="textAreaTop" fmla="*/ 56160 h 140760"/>
                <a:gd name="textAreaBottom" fmla="*/ 8460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5"/>
          <p:cNvGrpSpPr/>
          <p:nvPr/>
        </p:nvGrpSpPr>
        <p:grpSpPr>
          <a:xfrm>
            <a:off x="5497560" y="1112760"/>
            <a:ext cx="597240" cy="597240"/>
            <a:chOff x="5497560" y="1112760"/>
            <a:chExt cx="597240" cy="597240"/>
          </a:xfrm>
        </p:grpSpPr>
        <p:sp>
          <p:nvSpPr>
            <p:cNvPr id="324" name="AutoShape 116"/>
            <p:cNvSpPr/>
            <p:nvPr/>
          </p:nvSpPr>
          <p:spPr>
            <a:xfrm rot="3419400">
              <a:off x="5580000" y="1195200"/>
              <a:ext cx="431640" cy="432000"/>
            </a:xfrm>
            <a:custGeom>
              <a:avLst/>
              <a:gdLst>
                <a:gd name="textAreaLeft" fmla="*/ 162360 w 431640"/>
                <a:gd name="textAreaRight" fmla="*/ 269280 w 431640"/>
                <a:gd name="textAreaTop" fmla="*/ 162360 h 432000"/>
                <a:gd name="textAreaBottom" fmla="*/ 2696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124" y="8124"/>
                  </a:lnTo>
                  <a:lnTo>
                    <a:pt x="10800" y="0"/>
                  </a:lnTo>
                  <a:lnTo>
                    <a:pt x="13476" y="8124"/>
                  </a:lnTo>
                  <a:lnTo>
                    <a:pt x="21600" y="10800"/>
                  </a:lnTo>
                  <a:lnTo>
                    <a:pt x="13476" y="13476"/>
                  </a:lnTo>
                  <a:lnTo>
                    <a:pt x="10800" y="21600"/>
                  </a:lnTo>
                  <a:lnTo>
                    <a:pt x="8124" y="13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17"/>
            <p:cNvSpPr/>
            <p:nvPr/>
          </p:nvSpPr>
          <p:spPr>
            <a:xfrm rot="900000">
              <a:off x="5579640" y="1195560"/>
              <a:ext cx="420840" cy="420480"/>
            </a:xfrm>
            <a:custGeom>
              <a:avLst/>
              <a:gdLst>
                <a:gd name="textAreaLeft" fmla="*/ 167760 w 420840"/>
                <a:gd name="textAreaRight" fmla="*/ 253080 w 420840"/>
                <a:gd name="textAreaTop" fmla="*/ 167760 h 420480"/>
                <a:gd name="textAreaBottom" fmla="*/ 25272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16" y="8616"/>
                  </a:lnTo>
                  <a:lnTo>
                    <a:pt x="10800" y="0"/>
                  </a:lnTo>
                  <a:lnTo>
                    <a:pt x="12984" y="8616"/>
                  </a:lnTo>
                  <a:lnTo>
                    <a:pt x="21600" y="10800"/>
                  </a:lnTo>
                  <a:lnTo>
                    <a:pt x="12984" y="12984"/>
                  </a:lnTo>
                  <a:lnTo>
                    <a:pt x="10800" y="21600"/>
                  </a:lnTo>
                  <a:lnTo>
                    <a:pt x="8616" y="1298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8000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2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22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8778E-017 L -1.01181 0.98426 E">
                                      <p:cBhvr>
                                        <p:cTn id="890" dur="13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1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73229 0.64746 E">
                                      <p:cBhvr>
                                        <p:cTn id="895" dur="18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56684 0.56181 E">
                                      <p:cBhvr>
                                        <p:cTn id="900" dur="9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9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7323 0.64745 E">
                                      <p:cBhvr>
                                        <p:cTn id="905" dur="13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1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37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7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37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4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4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44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3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42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42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4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7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7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7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4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2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5"/>
          <p:cNvGraphicFramePr/>
          <p:nvPr/>
        </p:nvGraphicFramePr>
        <p:xfrm>
          <a:off x="4572000" y="2997360"/>
          <a:ext cx="367020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7360"/>
                    <a:ext cx="36702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1"/>
          <p:cNvGraphicFramePr/>
          <p:nvPr/>
        </p:nvGraphicFramePr>
        <p:xfrm>
          <a:off x="3141720" y="3481560"/>
          <a:ext cx="18968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1720" y="3481560"/>
                    <a:ext cx="1896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31" descr="12"/>
          <p:cNvPicPr/>
          <p:nvPr/>
        </p:nvPicPr>
        <p:blipFill>
          <a:blip r:embed="rId5"/>
          <a:stretch/>
        </p:blipFill>
        <p:spPr>
          <a:xfrm>
            <a:off x="755640" y="6958080"/>
            <a:ext cx="38088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12"/>
          <p:cNvGraphicFramePr/>
          <p:nvPr/>
        </p:nvGraphicFramePr>
        <p:xfrm>
          <a:off x="3143160" y="2492280"/>
          <a:ext cx="189864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43160" y="2492280"/>
                    <a:ext cx="1898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56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ng.wav"/>
                                        </p:tgtEl>
                                      </p:cMediaNode>
                                    </p:audio>
                                    <p:animMotion origin="layout" path="M -2.22222E-006 -2.59259E-006 L 0.34931 -0.54884 E">
                                      <p:cBhvr>
                                        <p:cTn id="955" dur="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C:\Documents and Settings\Administrator\桌面\9.19\动画\2.png"/>
          <p:cNvPicPr/>
          <p:nvPr/>
        </p:nvPicPr>
        <p:blipFill>
          <a:blip r:embed="rId1"/>
          <a:stretch/>
        </p:blipFill>
        <p:spPr>
          <a:xfrm>
            <a:off x="-48415680" y="3886200"/>
            <a:ext cx="96786720" cy="2438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Documents and Settings\Administrator\桌面\9.19\动画\未标题-1.png"/>
          <p:cNvPicPr/>
          <p:nvPr/>
        </p:nvPicPr>
        <p:blipFill>
          <a:blip r:embed="rId2"/>
          <a:stretch/>
        </p:blipFill>
        <p:spPr>
          <a:xfrm>
            <a:off x="-17148240" y="3962520"/>
            <a:ext cx="34375680" cy="1987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dministrator\桌面\9.19\动画\未标题-1.png"/>
          <p:cNvPicPr/>
          <p:nvPr/>
        </p:nvPicPr>
        <p:blipFill>
          <a:blip r:embed="rId3"/>
          <a:stretch/>
        </p:blipFill>
        <p:spPr>
          <a:xfrm>
            <a:off x="-11088720" y="3882960"/>
            <a:ext cx="22220280" cy="1494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Documents and Settings\Administrator\桌面\9.19\动画\未标题-1.png"/>
          <p:cNvPicPr/>
          <p:nvPr/>
        </p:nvPicPr>
        <p:blipFill>
          <a:blip r:embed="rId4"/>
          <a:stretch/>
        </p:blipFill>
        <p:spPr>
          <a:xfrm>
            <a:off x="-24999840" y="3048120"/>
            <a:ext cx="49999680" cy="2139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Administrator\桌面\9.19\动画\y1.png"/>
          <p:cNvPicPr/>
          <p:nvPr/>
        </p:nvPicPr>
        <p:blipFill>
          <a:blip r:embed="rId5"/>
          <a:srcRect l="9879" t="0" r="18517" b="0"/>
          <a:stretch/>
        </p:blipFill>
        <p:spPr>
          <a:xfrm>
            <a:off x="-3124080" y="380988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Documents and Settings\Administrator\桌面\9.19\动画\y2.png"/>
          <p:cNvPicPr/>
          <p:nvPr/>
        </p:nvPicPr>
        <p:blipFill>
          <a:blip r:embed="rId6"/>
          <a:srcRect l="32099" t="10099" r="35802" b="19220"/>
          <a:stretch/>
        </p:blipFill>
        <p:spPr>
          <a:xfrm>
            <a:off x="-836640" y="2666880"/>
            <a:ext cx="760320" cy="1638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Documents and Settings\Administrator\桌面\9.19\动画\y3.png"/>
          <p:cNvPicPr/>
          <p:nvPr/>
        </p:nvPicPr>
        <p:blipFill>
          <a:blip r:embed="rId7"/>
          <a:srcRect l="14814" t="0" r="18521" b="0"/>
          <a:stretch/>
        </p:blipFill>
        <p:spPr>
          <a:xfrm>
            <a:off x="-1981080" y="2971800"/>
            <a:ext cx="1245960" cy="1828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C:\Documents and Settings\Administrator\桌面\9.19\动画\y4.png"/>
          <p:cNvPicPr/>
          <p:nvPr/>
        </p:nvPicPr>
        <p:blipFill>
          <a:blip r:embed="rId8"/>
          <a:srcRect l="17901" t="0" r="20387" b="0"/>
          <a:stretch/>
        </p:blipFill>
        <p:spPr>
          <a:xfrm>
            <a:off x="-1676520" y="2006640"/>
            <a:ext cx="849600" cy="1346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Administrator\桌面\9.19\动画\y5.png"/>
          <p:cNvPicPr/>
          <p:nvPr/>
        </p:nvPicPr>
        <p:blipFill>
          <a:blip r:embed="rId9"/>
          <a:srcRect l="22235" t="0" r="33353" b="0"/>
          <a:stretch/>
        </p:blipFill>
        <p:spPr>
          <a:xfrm>
            <a:off x="-2422440" y="4800600"/>
            <a:ext cx="554040" cy="1219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Documents and Settings\Administrator\桌面\9.19\动画\y1.png"/>
          <p:cNvPicPr/>
          <p:nvPr/>
        </p:nvPicPr>
        <p:blipFill>
          <a:blip r:embed="rId10"/>
          <a:srcRect l="9879" t="0" r="18517" b="0"/>
          <a:stretch/>
        </p:blipFill>
        <p:spPr>
          <a:xfrm>
            <a:off x="-1338120" y="358128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C:\Documents and Settings\Administrator\桌面\9.19\动画\y3.png"/>
          <p:cNvPicPr/>
          <p:nvPr/>
        </p:nvPicPr>
        <p:blipFill>
          <a:blip r:embed="rId11"/>
          <a:srcRect l="14814" t="0" r="18521" b="0"/>
          <a:stretch/>
        </p:blipFill>
        <p:spPr>
          <a:xfrm>
            <a:off x="-1916280" y="175248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Documents and Settings\Administrator\桌面\9.19\动画\y4.png"/>
          <p:cNvPicPr/>
          <p:nvPr/>
        </p:nvPicPr>
        <p:blipFill>
          <a:blip r:embed="rId12"/>
          <a:srcRect l="17901" t="0" r="20387" b="0"/>
          <a:stretch/>
        </p:blipFill>
        <p:spPr>
          <a:xfrm>
            <a:off x="-2575080" y="3124080"/>
            <a:ext cx="849600" cy="134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C:\Documents and Settings\Administrator\桌面\9.19\动画\y2.png"/>
          <p:cNvPicPr/>
          <p:nvPr/>
        </p:nvPicPr>
        <p:blipFill>
          <a:blip r:embed="rId13"/>
          <a:srcRect l="32099" t="10099" r="35802" b="19220"/>
          <a:stretch/>
        </p:blipFill>
        <p:spPr>
          <a:xfrm>
            <a:off x="-2970360" y="3924360"/>
            <a:ext cx="760680" cy="1638360"/>
          </a:xfrm>
          <a:prstGeom prst="rect">
            <a:avLst/>
          </a:prstGeom>
          <a:ln w="0">
            <a:noFill/>
          </a:ln>
        </p:spPr>
      </p:pic>
      <p:sp>
        <p:nvSpPr>
          <p:cNvPr id="347" name="矩形 5"/>
          <p:cNvSpPr/>
          <p:nvPr/>
        </p:nvSpPr>
        <p:spPr>
          <a:xfrm rot="10800000">
            <a:off x="6324480" y="0"/>
            <a:ext cx="28195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1e8f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6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1e8f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1.87083 -2.22222E-006 E">
                                      <p:cBhvr>
                                        <p:cTn id="965" dur="3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1.20625 1.11022E-016 E">
                                      <p:cBhvr>
                                        <p:cTn id="967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2.71667 1.11022E-016 E">
                                      <p:cBhvr>
                                        <p:cTn id="969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5.2875 -4.44444E-006 E">
                                      <p:cBhvr>
                                        <p:cTn id="971" dur="3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0.10313 -0.04838 0.20625 -0.09676 0.33941 -0.09352 C 0.47223 -0.09004 0.67309 0.01227 0.79757 0.0206 C 0.92205 0.02917 1.03073 -0.03148 1.08611 -0.04328 C 1.14167 -0.05509 1.13594 -0.05254 1.13021 -0.05023 E">
                                      <p:cBhvr>
                                        <p:cTn id="973" dur="5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695 0.02199 C 0.18073 -0.05509 0.36753 -0.13125 0.56684 -0.12708 C 0.76736 -0.12199 1.02951 0.03102 1.19305 0.04907 C 1.35434 0.06667 1.47413 0.00486 1.54878 -0.02176 C 1.62031 -0.04653 1.62291 -0.07708 1.62673 -0.10695 E">
                                      <p:cBhvr>
                                        <p:cTn id="975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6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38889E-006 -1.11111E-006 C 0.15243 0.12546 0.30503 0.25092 0.48003 0.27986 C 0.65503 0.30879 0.89166 0.18889 1.05 0.17338 C 1.20833 0.15787 1.33333 0.16666 1.43003 0.18657 C 1.52673 0.20648 1.57829 0.24976 1.63003 0.29328 E">
                                      <p:cBhvr>
                                        <p:cTn id="977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8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3.7037E-006 C 0.14427 0.04884 0.28889 0.09791 0.46841 0.10671 C 0.64792 0.11551 0.89775 0.05115 1.07726 0.05324 C 1.25677 0.05532 1.40122 0.0875 1.54584 0.1199 E">
                                      <p:cBhvr>
                                        <p:cTn id="979" dur="5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0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0833 0.02361 C 0.1467 -0.02477 0.28524 -0.07315 0.46406 -0.06991 C 0.64253 -0.06644 0.91232 0.03588 1.07951 0.04421 C 1.2467 0.05277 1.39253 -0.00787 1.46701 -0.01968 C 1.54166 -0.03149 1.53385 -0.02894 1.52621 -0.02662 E">
                                      <p:cBhvr>
                                        <p:cTn id="981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695 0.02199 C 0.18073 -0.05509 0.36753 -0.13125 0.56684 -0.12708 C 0.76736 -0.12199 1.02951 0.03102 1.19305 0.04907 C 1.35434 0.06667 1.47413 0.00486 1.54878 -0.02176 C 1.62031 -0.04653 1.62291 -0.07708 1.62673 -0.10695 E">
                                      <p:cBhvr>
                                        <p:cTn id="983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33333E-006 4.81481E-006 C 0.0809 -0.17662 0.16181 -0.35324 0.31007 -0.38658 C 0.45833 -0.41991 0.7217 -0.22223 0.88993 -0.2 C 1.05816 -0.17778 1.21823 -0.23773 1.31997 -0.25324 C 1.4217 -0.26875 1.46076 -0.28102 1.5 -0.29329 E">
                                      <p:cBhvr>
                                        <p:cTn id="985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-0.0537 C 0.15243 0.07176 0.30504 0.19722 0.47987 0.22616 C 0.65504 0.2551 0.89167 0.13519 1.05 0.11968 C 1.20834 0.10417 1.33334 0.11297 1.43004 0.13287 C 1.52674 0.15278 1.5783 0.19607 1.63004 0.23959 E">
                                      <p:cBhvr>
                                        <p:cTn id="987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5.55556E-007 6.93642E-007 C 0.14427 0.0585 0.28889 0.11746 0.4684 0.12832 C 0.64792 0.13896 0.89774 0.06127 1.07726 0.06381 C 1.25677 0.06636 1.40122 0.10497 1.54583 0.14428 E">
                                      <p:cBhvr>
                                        <p:cTn id="989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114560" y="4836960"/>
            <a:ext cx="32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.glzy8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2-10-19T14:21:11Z</dcterms:modified>
  <cp:revision>1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