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9F9-54C5-4459-A21E-8C1E5907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52F-A264-49D3-8088-4AD45F89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25A-8CA8-418F-9967-23CEFE1A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0C9-CD30-4CF5-B305-33F953D1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55F-8BBF-42CD-B092-3BD872A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6D4-9C39-4A23-BB70-5E5EB7A3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6B5-BEEC-475A-89BB-A3EC9D24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5E1-040D-4CC9-B08B-113DEE2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CA5-C79E-42D9-A683-A4DE00F5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BA6-0526-4761-9E77-35EFA47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C20-709F-4D85-815D-EE47375F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BFF-7B7F-4831-9D9E-4609009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63B5-266B-4624-9D61-C28D78215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96720"/>
            <a:ext cx="914400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85920" y="0"/>
            <a:ext cx="528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440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04720" y="114300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88884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619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1120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3440" y="196920"/>
            <a:ext cx="647712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857160"/>
            <a:ext cx="8229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4:10:39Z</dcterms:created>
  <dc:creator>Think</dc:creator>
  <dc:description/>
  <dc:language>en-US</dc:language>
  <cp:lastModifiedBy>Think</cp:lastModifiedBy>
  <dcterms:modified xsi:type="dcterms:W3CDTF">2010-02-06T09:49:2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