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7.jpeg" ContentType="image/jpeg"/>
  <Override PartName="/ppt/media/image17.png" ContentType="image/pn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5E8F-69D8-4109-8424-74648D7E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9D78-0A78-4211-8C03-031FE61A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B1A0-DFE4-4AD7-BE58-14A7C21B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9E7-98C1-4A57-B919-5042A369F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C8C-500D-40ED-9F2F-24DB4918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652-DC0C-4C0A-B07C-8328BCB9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508-460A-464A-B9CE-4E817E5C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EE92-17D4-4421-B3BD-4AB11CE0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24F-CC9B-4958-8BBE-236D074B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663-8C2A-4540-962F-86D8FCBF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C3D-D6AD-4BC0-A029-2CDD8440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FEB8-A3BC-4C32-87A0-D22F07414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3C70-BC70-4877-BE48-584F99625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9376-2493-44F6-9FA6-603917FE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42A-BE94-4299-BF36-510537C2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2A3A-69D9-4BCB-AC2E-8F96E34A5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4C06-34B6-4621-B5CB-1A42EE05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F67-3796-4216-B6E3-6CEF2C4DE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BACC-E0BD-44D6-8ED1-50359D2E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F68-6C46-47E1-BC4A-A0356AC18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0D9C-4143-4085-9FDA-24FFBDE0C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A635-CAC0-43A4-92F3-ECA1919F7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123F-44EC-4FBF-963F-A7C92880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1E9-9570-4219-A6A9-EF6CD0A4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500F-CB9D-44F8-ABDC-07FAE5B4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6DC-9114-4354-98FC-927351B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2C6-D7BF-4208-95CB-AEBBA58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5BB-710B-4182-91CD-17E5FA76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0A68-7628-47DB-B9CE-DFF120B1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F06A-FBF6-46F2-8451-FE43868C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420-4F2D-403C-B912-F87E436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CCD-B4DD-40CB-91A7-7EEC9792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148-0CC7-49B0-9E75-FA7728B2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759-8B2B-431A-AF5B-90ED984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250-232A-4613-9CB4-34ADEB7C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726-2B7C-4BD8-9B6F-AF638D66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EF2-22BF-4FDA-AD99-A7CF0E5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139E-B7C4-4D30-B53D-0E569126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wn.xinrei.cn/jpg/200901/1.05_jpg36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8"/>
          <p:cNvSpPr/>
          <p:nvPr/>
        </p:nvSpPr>
        <p:spPr>
          <a:xfrm>
            <a:off x="0" y="2209680"/>
            <a:ext cx="914400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09680"/>
            <a:ext cx="914400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4" descr="logo"/>
          <p:cNvPicPr/>
          <p:nvPr/>
        </p:nvPicPr>
        <p:blipFill>
          <a:blip r:embed="rId1"/>
          <a:stretch/>
        </p:blipFill>
        <p:spPr>
          <a:xfrm>
            <a:off x="1447920" y="2666880"/>
            <a:ext cx="6248160" cy="4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200982805DB5711FACF4FAFAF5C942642759F4B"/>
          <p:cNvPicPr/>
          <p:nvPr/>
        </p:nvPicPr>
        <p:blipFill>
          <a:blip r:embed="rId2"/>
          <a:stretch/>
        </p:blipFill>
        <p:spPr>
          <a:xfrm>
            <a:off x="3638520" y="3581280"/>
            <a:ext cx="1866960" cy="11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1503E-006 L 3.33333E-006 -0.35699 E"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35838E-007 L 0 -0.58266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35838E-007 L 0 -0.58266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 0.48333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 0.29259 E">
                                      <p:cBhvr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5514840" y="140508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快捷承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481640" y="1179360"/>
            <a:ext cx="2340000" cy="1035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3851280" y="998640"/>
            <a:ext cx="1440000" cy="1439640"/>
          </a:xfrm>
          <a:prstGeom prst="octagon">
            <a:avLst>
              <a:gd name="adj" fmla="val 3417"/>
            </a:avLst>
          </a:prstGeom>
          <a:gradFill rotWithShape="0">
            <a:gsLst>
              <a:gs pos="0">
                <a:srgbClr val="43434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1938240" y="2933640"/>
            <a:ext cx="5265720" cy="3291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827360" y="4014720"/>
            <a:ext cx="5445000" cy="2293920"/>
          </a:xfrm>
          <a:prstGeom prst="rect">
            <a:avLst/>
          </a:prstGeom>
          <a:gradFill rotWithShape="0">
            <a:gsLst>
              <a:gs pos="0">
                <a:srgbClr val="1b1b1b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8.51261E-007 L -0.10799 -0.00532 E">
                                      <p:cBhvr>
                                        <p:cTn id="4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48947E-007 L -0.10816 0.00023 E">
                                      <p:cBhvr>
                                        <p:cTn id="48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4707000" y="2933640"/>
            <a:ext cx="3541680" cy="35416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4572000" y="5288040"/>
            <a:ext cx="3735360" cy="121428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57360" y="368280"/>
            <a:ext cx="4905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快速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报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远程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出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"/>
          <p:cNvPicPr/>
          <p:nvPr/>
        </p:nvPicPr>
        <p:blipFill>
          <a:blip r:embed="rId1"/>
          <a:srcRect l="0" t="3273" r="0" b="39735"/>
          <a:stretch/>
        </p:blipFill>
        <p:spPr>
          <a:xfrm>
            <a:off x="880920" y="3565440"/>
            <a:ext cx="7367760" cy="3149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836640" y="3429000"/>
            <a:ext cx="7470720" cy="3290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514840" y="203508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保费试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481640" y="1809720"/>
            <a:ext cx="2340000" cy="1035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8.51261E-007 L -0.10799 -0.00532 E">
                                      <p:cBhvr>
                                        <p:cTn id="526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"/>
          <p:cNvPicPr/>
          <p:nvPr/>
        </p:nvPicPr>
        <p:blipFill>
          <a:blip r:embed="rId1"/>
          <a:srcRect l="0" t="3125" r="0" b="0"/>
          <a:stretch/>
        </p:blipFill>
        <p:spPr>
          <a:xfrm>
            <a:off x="206280" y="276120"/>
            <a:ext cx="8675640" cy="630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15920" y="2079720"/>
            <a:ext cx="8777160" cy="4545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92360" y="233280"/>
            <a:ext cx="6345360" cy="63453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162000" y="233280"/>
            <a:ext cx="6389640" cy="662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5"/>
          <p:cNvSpPr/>
          <p:nvPr/>
        </p:nvSpPr>
        <p:spPr>
          <a:xfrm>
            <a:off x="647640" y="5138640"/>
            <a:ext cx="2079720" cy="855720"/>
          </a:xfrm>
          <a:custGeom>
            <a:avLst/>
            <a:gdLst>
              <a:gd name="textAreaLeft" fmla="*/ 0 w 2079720"/>
              <a:gd name="textAreaRight" fmla="*/ 2080080 w 2079720"/>
              <a:gd name="textAreaTop" fmla="*/ 0 h 855720"/>
              <a:gd name="textAreaBottom" fmla="*/ 856080 h 8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13" y="0"/>
                </a:lnTo>
                <a:lnTo>
                  <a:pt x="21600" y="10800"/>
                </a:lnTo>
                <a:lnTo>
                  <a:pt x="1881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拨打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55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457360" y="5138640"/>
            <a:ext cx="2205000" cy="85428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3" y="0"/>
                </a:lnTo>
                <a:lnTo>
                  <a:pt x="21600" y="10800"/>
                </a:lnTo>
                <a:lnTo>
                  <a:pt x="18893" y="21600"/>
                </a:lnTo>
                <a:lnTo>
                  <a:pt x="0" y="21600"/>
                </a:lnTo>
                <a:lnTo>
                  <a:pt x="2707" y="108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2"/>
          <p:cNvSpPr/>
          <p:nvPr/>
        </p:nvSpPr>
        <p:spPr>
          <a:xfrm>
            <a:off x="4392720" y="5138640"/>
            <a:ext cx="2205000" cy="85428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3" y="0"/>
                </a:lnTo>
                <a:lnTo>
                  <a:pt x="21600" y="10800"/>
                </a:lnTo>
                <a:lnTo>
                  <a:pt x="18893" y="21600"/>
                </a:lnTo>
                <a:lnTo>
                  <a:pt x="0" y="21600"/>
                </a:lnTo>
                <a:lnTo>
                  <a:pt x="2707" y="108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6327720" y="5138640"/>
            <a:ext cx="2205000" cy="854280"/>
          </a:xfrm>
          <a:custGeom>
            <a:avLst/>
            <a:gdLst>
              <a:gd name="textAreaLeft" fmla="*/ 0 w 2205000"/>
              <a:gd name="textAreaRight" fmla="*/ 2205360 w 2205000"/>
              <a:gd name="textAreaTop" fmla="*/ 0 h 854280"/>
              <a:gd name="textAreaBottom" fmla="*/ 854640 h 8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93" y="0"/>
                </a:lnTo>
                <a:lnTo>
                  <a:pt x="21600" y="10800"/>
                </a:lnTo>
                <a:lnTo>
                  <a:pt x="18893" y="21600"/>
                </a:lnTo>
                <a:lnTo>
                  <a:pt x="0" y="21600"/>
                </a:lnTo>
                <a:lnTo>
                  <a:pt x="2707" y="1080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2c2c2c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索赔材料递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7" descr="map"/>
          <p:cNvPicPr/>
          <p:nvPr/>
        </p:nvPicPr>
        <p:blipFill>
          <a:blip r:embed="rId1"/>
          <a:stretch/>
        </p:blipFill>
        <p:spPr>
          <a:xfrm>
            <a:off x="169920" y="2335320"/>
            <a:ext cx="8802720" cy="21873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0"/>
          <p:cNvSpPr/>
          <p:nvPr/>
        </p:nvSpPr>
        <p:spPr>
          <a:xfrm>
            <a:off x="5514840" y="31147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理赔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481640" y="2889360"/>
            <a:ext cx="2340000" cy="1035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2"/>
          <p:cNvSpPr/>
          <p:nvPr/>
        </p:nvSpPr>
        <p:spPr>
          <a:xfrm>
            <a:off x="3851280" y="2708280"/>
            <a:ext cx="1440000" cy="1440000"/>
          </a:xfrm>
          <a:prstGeom prst="octagon">
            <a:avLst>
              <a:gd name="adj" fmla="val 3417"/>
            </a:avLst>
          </a:prstGeom>
          <a:gradFill rotWithShape="0">
            <a:gsLst>
              <a:gs pos="0">
                <a:srgbClr val="43434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00017 -0.32153 E">
                                      <p:cBhvr>
                                        <p:cTn id="571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8.51261E-007 L -0.10799 -0.00532 E">
                                      <p:cBhvr>
                                        <p:cTn id="59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48947E-007 L -0.10816 0.00023 E">
                                      <p:cBhvr>
                                        <p:cTn id="59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  <p:set>
                                      <p:cBhvr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2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  <p:set>
                                      <p:cBhvr>
                                        <p:cTn id="63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  <p:set>
                                      <p:cBhvr>
                                        <p:cTn id="63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4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 rot="1898400">
            <a:off x="607320" y="772200"/>
            <a:ext cx="38098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拨打 </a:t>
            </a:r>
            <a:r>
              <a:rPr b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955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信息告诉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4167360" y="3024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1"/>
          <p:cNvSpPr/>
          <p:nvPr/>
        </p:nvSpPr>
        <p:spPr>
          <a:xfrm>
            <a:off x="4076640" y="5319720"/>
            <a:ext cx="472464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"/>
          <p:cNvSpPr/>
          <p:nvPr/>
        </p:nvSpPr>
        <p:spPr>
          <a:xfrm>
            <a:off x="3897360" y="458640"/>
            <a:ext cx="809640" cy="2295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 flipH="1" flipV="1">
            <a:off x="1467000" y="2889360"/>
            <a:ext cx="2340000" cy="674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4257720" y="907920"/>
            <a:ext cx="364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快速、专业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查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1"/>
          <a:srcRect l="0" t="0" r="0" b="8523"/>
          <a:stretch/>
        </p:blipFill>
        <p:spPr>
          <a:xfrm>
            <a:off x="1143000" y="3094200"/>
            <a:ext cx="3452760" cy="31572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062000" y="5049720"/>
            <a:ext cx="3645000" cy="12985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9"/>
          <p:cNvSpPr/>
          <p:nvPr/>
        </p:nvSpPr>
        <p:spPr>
          <a:xfrm>
            <a:off x="2367000" y="2484360"/>
            <a:ext cx="5832360" cy="44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0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332000" y="1133640"/>
            <a:ext cx="351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定责、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定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9" descr=""/>
          <p:cNvPicPr/>
          <p:nvPr/>
        </p:nvPicPr>
        <p:blipFill>
          <a:blip r:embed="rId1"/>
          <a:stretch/>
        </p:blipFill>
        <p:spPr>
          <a:xfrm>
            <a:off x="5292720" y="2979720"/>
            <a:ext cx="274320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5202360" y="5275440"/>
            <a:ext cx="287964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927000" y="2259000"/>
            <a:ext cx="553572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4707000" y="2933640"/>
            <a:ext cx="41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递交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索赔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材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图片1"/>
          <p:cNvPicPr/>
          <p:nvPr/>
        </p:nvPicPr>
        <p:blipFill>
          <a:blip r:embed="rId1"/>
          <a:srcRect l="50551" t="0" r="0" b="19837"/>
          <a:stretch/>
        </p:blipFill>
        <p:spPr>
          <a:xfrm>
            <a:off x="716040" y="1515960"/>
            <a:ext cx="3139920" cy="3824280"/>
          </a:xfrm>
          <a:prstGeom prst="rect">
            <a:avLst/>
          </a:prstGeom>
          <a:ln w="0">
            <a:noFill/>
          </a:ln>
        </p:spPr>
      </p:pic>
      <p:sp>
        <p:nvSpPr>
          <p:cNvPr id="163" name="Oval 6"/>
          <p:cNvSpPr/>
          <p:nvPr/>
        </p:nvSpPr>
        <p:spPr>
          <a:xfrm>
            <a:off x="4525920" y="503280"/>
            <a:ext cx="46080" cy="580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01640" y="4194000"/>
            <a:ext cx="319572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62360" y="2933640"/>
            <a:ext cx="41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领取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赔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4" descr=""/>
          <p:cNvPicPr/>
          <p:nvPr/>
        </p:nvPicPr>
        <p:blipFill>
          <a:blip r:embed="rId2"/>
          <a:stretch/>
        </p:blipFill>
        <p:spPr>
          <a:xfrm>
            <a:off x="746280" y="1359000"/>
            <a:ext cx="3105000" cy="4140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"/>
          <p:cNvSpPr/>
          <p:nvPr/>
        </p:nvSpPr>
        <p:spPr>
          <a:xfrm>
            <a:off x="701640" y="4329000"/>
            <a:ext cx="3195720" cy="1219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3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5210280" y="2392200"/>
            <a:ext cx="3286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提供额外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施救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服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6640" y="1449360"/>
            <a:ext cx="3162240" cy="39495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747720" y="4014720"/>
            <a:ext cx="3330720" cy="1486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4549680" y="1020600"/>
            <a:ext cx="44640" cy="4815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4"/>
          <p:cNvSpPr/>
          <p:nvPr/>
        </p:nvSpPr>
        <p:spPr>
          <a:xfrm>
            <a:off x="2362320" y="4191120"/>
            <a:ext cx="1439640" cy="1439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5"/>
          <p:cNvSpPr/>
          <p:nvPr/>
        </p:nvSpPr>
        <p:spPr>
          <a:xfrm>
            <a:off x="3352680" y="4191120"/>
            <a:ext cx="1440000" cy="1439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6"/>
          <p:cNvSpPr/>
          <p:nvPr/>
        </p:nvSpPr>
        <p:spPr>
          <a:xfrm>
            <a:off x="4343400" y="4191120"/>
            <a:ext cx="1440000" cy="1439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5334120" y="4191120"/>
            <a:ext cx="1439640" cy="14396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666880" y="1219320"/>
            <a:ext cx="72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人保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4724280" y="1219320"/>
            <a:ext cx="72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理赔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715000" y="1219320"/>
            <a:ext cx="72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问题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3699000" y="1219320"/>
            <a:ext cx="72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快捷承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5"/>
          <p:cNvSpPr/>
          <p:nvPr/>
        </p:nvSpPr>
        <p:spPr>
          <a:xfrm>
            <a:off x="-396720" y="5661000"/>
            <a:ext cx="9936000" cy="17715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logo"/>
          <p:cNvPicPr/>
          <p:nvPr/>
        </p:nvPicPr>
        <p:blipFill>
          <a:blip r:embed="rId1"/>
          <a:stretch/>
        </p:blipFill>
        <p:spPr>
          <a:xfrm>
            <a:off x="1447920" y="201600"/>
            <a:ext cx="6248160" cy="48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83000" y="8300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83000" y="83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55"/>
                                        </p:tgtEl>
                                      </p:cBhvr>
                                      <p:to x="83000" y="83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5257800" y="1295280"/>
            <a:ext cx="336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承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2" descr=""/>
          <p:cNvPicPr/>
          <p:nvPr/>
        </p:nvPicPr>
        <p:blipFill>
          <a:blip r:embed="rId1"/>
          <a:stretch/>
        </p:blipFill>
        <p:spPr>
          <a:xfrm>
            <a:off x="1962000" y="3338640"/>
            <a:ext cx="5131080" cy="2195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873080" y="4373640"/>
            <a:ext cx="5310360" cy="12189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3986280" y="2303640"/>
            <a:ext cx="4591080" cy="4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4" descr=""/>
          <p:cNvPicPr/>
          <p:nvPr/>
        </p:nvPicPr>
        <p:blipFill>
          <a:blip r:embed="rId1"/>
          <a:stretch/>
        </p:blipFill>
        <p:spPr>
          <a:xfrm>
            <a:off x="1601640" y="458640"/>
            <a:ext cx="5940720" cy="59407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0" y="0"/>
            <a:ext cx="1141236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297000" y="2773440"/>
            <a:ext cx="472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绿色通道，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VIP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50920" y="2962440"/>
            <a:ext cx="47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现场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查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 约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97000" y="2925720"/>
            <a:ext cx="47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远程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定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0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01874E-006 L 0.25104 -3.01874E-006 E">
                                      <p:cBhvr>
                                        <p:cTn id="832" dur="1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49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7407E-006 L -0.00225 0.30301 E">
                                      <p:cBhvr>
                                        <p:cTn id="86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6" descr="图片1"/>
          <p:cNvPicPr/>
          <p:nvPr/>
        </p:nvPicPr>
        <p:blipFill>
          <a:blip r:embed="rId1"/>
          <a:stretch/>
        </p:blipFill>
        <p:spPr>
          <a:xfrm>
            <a:off x="2133720" y="3159000"/>
            <a:ext cx="4876560" cy="3257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33240" y="549360"/>
            <a:ext cx="32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增值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服务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1177920" y="1763640"/>
            <a:ext cx="796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提供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医疗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资源 和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法律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援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2050920" y="5273640"/>
            <a:ext cx="5042160" cy="1170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7"/>
          <p:cNvSpPr/>
          <p:nvPr/>
        </p:nvSpPr>
        <p:spPr>
          <a:xfrm>
            <a:off x="5514840" y="31147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问题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481640" y="2889360"/>
            <a:ext cx="2340000" cy="1035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3851280" y="2708280"/>
            <a:ext cx="1440000" cy="1440000"/>
          </a:xfrm>
          <a:prstGeom prst="octagon">
            <a:avLst>
              <a:gd name="adj" fmla="val 3417"/>
            </a:avLst>
          </a:prstGeom>
          <a:gradFill rotWithShape="0">
            <a:gsLst>
              <a:gs pos="0">
                <a:srgbClr val="43434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4527720" y="2484360"/>
            <a:ext cx="44280" cy="382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646280" y="37828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微软雅黑"/>
              </a:rPr>
              <a:t>Q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&amp;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  <a:ea typeface="微软雅黑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3267000" y="2754360"/>
            <a:ext cx="2532240" cy="337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0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8.51261E-007 L -0.10799 -0.00532 E">
                                      <p:cBhvr>
                                        <p:cTn id="92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48947E-007 L -0.10816 0.00023 E">
                                      <p:cBhvr>
                                        <p:cTn id="92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99 -0.00532 L -0.10799 -0.33842 E">
                                      <p:cBhvr>
                                        <p:cTn id="92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92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16 0.00023 L -0.10816 -0.33287 E">
                                      <p:cBhvr>
                                        <p:cTn id="92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40741E-007 L 0.25139 -0.00324 E">
                                      <p:cBhvr>
                                        <p:cTn id="941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5543640"/>
            <a:ext cx="91440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-1792440"/>
            <a:ext cx="914400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4" descr="logo"/>
          <p:cNvPicPr/>
          <p:nvPr/>
        </p:nvPicPr>
        <p:blipFill>
          <a:blip r:embed="rId1"/>
          <a:stretch/>
        </p:blipFill>
        <p:spPr>
          <a:xfrm>
            <a:off x="1511280" y="189000"/>
            <a:ext cx="6248520" cy="48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200982805DB5711FACF4FAFAF5C942642759F4B"/>
          <p:cNvPicPr/>
          <p:nvPr/>
        </p:nvPicPr>
        <p:blipFill>
          <a:blip r:embed="rId2"/>
          <a:stretch/>
        </p:blipFill>
        <p:spPr>
          <a:xfrm>
            <a:off x="3627360" y="5634000"/>
            <a:ext cx="1866960" cy="1170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1557360" y="2925720"/>
            <a:ext cx="603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谢谢大家观看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 -0.50764 E">
                                      <p:cBhvr>
                                        <p:cTn id="953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5185E-006 L 0 0.5669 E">
                                      <p:cBhvr>
                                        <p:cTn id="955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95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59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514840" y="140508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人保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81640" y="1179360"/>
            <a:ext cx="2340000" cy="10353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7"/>
          <p:cNvSpPr txBox="1"/>
          <p:nvPr/>
        </p:nvSpPr>
        <p:spPr>
          <a:xfrm>
            <a:off x="2438280" y="517644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0"/>
                </a:gradFill>
                <a:latin typeface="微软雅黑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67" name="WordArt 18"/>
          <p:cNvSpPr txBox="1"/>
          <p:nvPr/>
        </p:nvSpPr>
        <p:spPr>
          <a:xfrm>
            <a:off x="3429000" y="517644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0"/>
                </a:gradFill>
                <a:latin typeface="微软雅黑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68" name="WordArt 19"/>
          <p:cNvSpPr txBox="1"/>
          <p:nvPr/>
        </p:nvSpPr>
        <p:spPr>
          <a:xfrm>
            <a:off x="4572000" y="517644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0"/>
                </a:gradFill>
                <a:latin typeface="微软雅黑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69" name="WordArt 20"/>
          <p:cNvSpPr txBox="1"/>
          <p:nvPr/>
        </p:nvSpPr>
        <p:spPr>
          <a:xfrm>
            <a:off x="5562720" y="5176440"/>
            <a:ext cx="4572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0"/>
                </a:gradFill>
                <a:latin typeface="微软雅黑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2771640" y="5940360"/>
            <a:ext cx="3826080" cy="54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2819520" y="5634000"/>
            <a:ext cx="3809880" cy="30636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2"/>
          <p:cNvSpPr/>
          <p:nvPr/>
        </p:nvSpPr>
        <p:spPr>
          <a:xfrm>
            <a:off x="522360" y="4186080"/>
            <a:ext cx="8280360" cy="2438640"/>
          </a:xfrm>
          <a:prstGeom prst="ellipse">
            <a:avLst/>
          </a:prstGeom>
          <a:gradFill rotWithShape="0">
            <a:gsLst>
              <a:gs pos="0">
                <a:srgbClr val="ff0000">
                  <a:alpha val="60392"/>
                </a:srgbClr>
              </a:gs>
              <a:gs pos="100000">
                <a:srgbClr val="76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3"/>
          <p:cNvSpPr txBox="1"/>
          <p:nvPr/>
        </p:nvSpPr>
        <p:spPr>
          <a:xfrm>
            <a:off x="2895480" y="4795920"/>
            <a:ext cx="5335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0"/>
                </a:gradFill>
                <a:latin typeface="微软雅黑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74" name="WordArt 24"/>
          <p:cNvSpPr txBox="1"/>
          <p:nvPr/>
        </p:nvSpPr>
        <p:spPr>
          <a:xfrm>
            <a:off x="5029200" y="4795920"/>
            <a:ext cx="5335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0"/>
                </a:gradFill>
                <a:latin typeface="微软雅黑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75" name="WordArt 25"/>
          <p:cNvSpPr txBox="1"/>
          <p:nvPr/>
        </p:nvSpPr>
        <p:spPr>
          <a:xfrm>
            <a:off x="6019920" y="4795920"/>
            <a:ext cx="53316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60000"/>
                    </a:gs>
                  </a:gsLst>
                  <a:lin ang="0"/>
                </a:gradFill>
                <a:latin typeface="微软雅黑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76" name="WordArt 26"/>
          <p:cNvSpPr txBox="1"/>
          <p:nvPr/>
        </p:nvSpPr>
        <p:spPr>
          <a:xfrm>
            <a:off x="3886200" y="4795920"/>
            <a:ext cx="5335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0"/>
                </a:gradFill>
                <a:latin typeface="微软雅黑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0"/>
              </a:gradFill>
              <a:latin typeface="微软雅黑"/>
              <a:ea typeface="微软雅黑"/>
            </a:endParaRPr>
          </a:p>
        </p:txBody>
      </p:sp>
      <p:sp>
        <p:nvSpPr>
          <p:cNvPr id="77" name="AutoShape 31"/>
          <p:cNvSpPr/>
          <p:nvPr/>
        </p:nvSpPr>
        <p:spPr>
          <a:xfrm>
            <a:off x="3851280" y="998640"/>
            <a:ext cx="1440000" cy="1439640"/>
          </a:xfrm>
          <a:prstGeom prst="octagon">
            <a:avLst>
              <a:gd name="adj" fmla="val 3417"/>
            </a:avLst>
          </a:prstGeom>
          <a:gradFill rotWithShape="0">
            <a:gsLst>
              <a:gs pos="0">
                <a:srgbClr val="434343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61111E-006 -8.51261E-007 L -0.10799 -0.00532 E">
                                      <p:cBhvr>
                                        <p:cTn id="18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48947E-007 L -0.10816 0.00023 E">
                                      <p:cBhvr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img_bpic1s"/>
          <p:cNvPicPr/>
          <p:nvPr/>
        </p:nvPicPr>
        <p:blipFill>
          <a:blip r:embed="rId1"/>
          <a:stretch/>
        </p:blipFill>
        <p:spPr>
          <a:xfrm>
            <a:off x="431640" y="638280"/>
            <a:ext cx="8153640" cy="5527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img_apic112s"/>
          <p:cNvPicPr/>
          <p:nvPr/>
        </p:nvPicPr>
        <p:blipFill>
          <a:blip r:embed="rId2"/>
          <a:stretch/>
        </p:blipFill>
        <p:spPr>
          <a:xfrm>
            <a:off x="431640" y="728640"/>
            <a:ext cx="8191800" cy="550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mg_apic113s"/>
          <p:cNvPicPr/>
          <p:nvPr/>
        </p:nvPicPr>
        <p:blipFill>
          <a:blip r:embed="rId3"/>
          <a:stretch/>
        </p:blipFill>
        <p:spPr>
          <a:xfrm>
            <a:off x="476280" y="728640"/>
            <a:ext cx="8191440" cy="5506920"/>
          </a:xfrm>
          <a:prstGeom prst="rect">
            <a:avLst/>
          </a:prstGeom>
          <a:ln w="0">
            <a:noFill/>
          </a:ln>
        </p:spPr>
      </p:pic>
      <p:sp>
        <p:nvSpPr>
          <p:cNvPr id="81" name="Oval 7"/>
          <p:cNvSpPr/>
          <p:nvPr/>
        </p:nvSpPr>
        <p:spPr>
          <a:xfrm>
            <a:off x="4211640" y="1042920"/>
            <a:ext cx="52560" cy="482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876920" y="19494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历史悠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4724280" y="3625920"/>
            <a:ext cx="42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 </a:t>
            </a:r>
            <a:r>
              <a:rPr b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49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-0.24306 -0.27592 E">
                                      <p:cBhvr>
                                        <p:cTn id="20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6532E-006 L -0.25 -0.00116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1000" fill="hold"/>
                                        <p:tgtEl>
                                          <p:spTgt spid="79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-0.25 0.27037 E">
                                      <p:cBhvr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7" descr="图片1"/>
          <p:cNvPicPr/>
          <p:nvPr/>
        </p:nvPicPr>
        <p:blipFill>
          <a:blip r:embed="rId1"/>
          <a:stretch/>
        </p:blipFill>
        <p:spPr>
          <a:xfrm>
            <a:off x="927000" y="414360"/>
            <a:ext cx="7250040" cy="59277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0" y="2259000"/>
            <a:ext cx="9144000" cy="4599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2476440" y="54100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我们的机构遍布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全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 rot="1516200">
            <a:off x="4849560" y="762120"/>
            <a:ext cx="1423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微软雅黑"/>
              </a:rPr>
              <a:t>PICC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微软雅黑"/>
              <a:ea typeface="微软雅黑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76920" y="2438280"/>
            <a:ext cx="4267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有 </a:t>
            </a:r>
            <a:r>
              <a:rPr b="1" lang="en-US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0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深保险顾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0833 0 E">
                                      <p:cBhvr>
                                        <p:cTn id="265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-0.19983 -0.00092 E">
                                      <p:cBhvr>
                                        <p:cTn id="267" dur="1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535910"/>
          <p:cNvPicPr/>
          <p:nvPr/>
        </p:nvPicPr>
        <p:blipFill>
          <a:blip r:embed="rId1"/>
          <a:stretch/>
        </p:blipFill>
        <p:spPr>
          <a:xfrm>
            <a:off x="3962520" y="4800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2"/>
          <p:cNvSpPr/>
          <p:nvPr/>
        </p:nvSpPr>
        <p:spPr>
          <a:xfrm>
            <a:off x="3886200" y="4724280"/>
            <a:ext cx="1371600" cy="1270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535910"/>
          <p:cNvPicPr/>
          <p:nvPr/>
        </p:nvPicPr>
        <p:blipFill>
          <a:blip r:embed="rId2"/>
          <a:srcRect l="0" t="0" r="0" b="50030"/>
          <a:stretch/>
        </p:blipFill>
        <p:spPr>
          <a:xfrm>
            <a:off x="3962520" y="6095880"/>
            <a:ext cx="1218960" cy="4572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4"/>
          <p:cNvSpPr/>
          <p:nvPr/>
        </p:nvSpPr>
        <p:spPr>
          <a:xfrm flipV="1">
            <a:off x="3886200" y="59428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3886200" y="5715000"/>
            <a:ext cx="137160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0"/>
          <p:cNvSpPr/>
          <p:nvPr/>
        </p:nvSpPr>
        <p:spPr>
          <a:xfrm flipV="1">
            <a:off x="57913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5791320" y="5715000"/>
            <a:ext cx="137160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2" descr="535910"/>
          <p:cNvPicPr/>
          <p:nvPr/>
        </p:nvPicPr>
        <p:blipFill>
          <a:blip r:embed="rId3"/>
          <a:stretch/>
        </p:blipFill>
        <p:spPr>
          <a:xfrm>
            <a:off x="1981080" y="4800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3"/>
          <p:cNvSpPr/>
          <p:nvPr/>
        </p:nvSpPr>
        <p:spPr>
          <a:xfrm>
            <a:off x="1905120" y="4724280"/>
            <a:ext cx="1371600" cy="1314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535910"/>
          <p:cNvPicPr/>
          <p:nvPr/>
        </p:nvPicPr>
        <p:blipFill>
          <a:blip r:embed="rId4"/>
          <a:srcRect l="0" t="0" r="0" b="50030"/>
          <a:stretch/>
        </p:blipFill>
        <p:spPr>
          <a:xfrm>
            <a:off x="1981080" y="60958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5"/>
          <p:cNvSpPr/>
          <p:nvPr/>
        </p:nvSpPr>
        <p:spPr>
          <a:xfrm flipV="1">
            <a:off x="1905120" y="59428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905120" y="5715000"/>
            <a:ext cx="137160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7" descr="535910"/>
          <p:cNvPicPr/>
          <p:nvPr/>
        </p:nvPicPr>
        <p:blipFill>
          <a:blip r:embed="rId5"/>
          <a:stretch/>
        </p:blipFill>
        <p:spPr>
          <a:xfrm>
            <a:off x="5943600" y="48006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8"/>
          <p:cNvSpPr/>
          <p:nvPr/>
        </p:nvSpPr>
        <p:spPr>
          <a:xfrm>
            <a:off x="5867280" y="4724280"/>
            <a:ext cx="1371600" cy="1270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9" descr="535910"/>
          <p:cNvPicPr/>
          <p:nvPr/>
        </p:nvPicPr>
        <p:blipFill>
          <a:blip r:embed="rId6"/>
          <a:srcRect l="0" t="0" r="0" b="50030"/>
          <a:stretch/>
        </p:blipFill>
        <p:spPr>
          <a:xfrm>
            <a:off x="5943600" y="6095880"/>
            <a:ext cx="121932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0"/>
          <p:cNvSpPr/>
          <p:nvPr/>
        </p:nvSpPr>
        <p:spPr>
          <a:xfrm flipV="1">
            <a:off x="5867280" y="5942880"/>
            <a:ext cx="13716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5867280" y="5715000"/>
            <a:ext cx="1371600" cy="914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2"/>
          <p:cNvSpPr/>
          <p:nvPr/>
        </p:nvSpPr>
        <p:spPr>
          <a:xfrm>
            <a:off x="1332000" y="1584360"/>
            <a:ext cx="745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迅速支付 </a:t>
            </a:r>
            <a:r>
              <a:rPr b="1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额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险赔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33"/>
          <p:cNvSpPr/>
          <p:nvPr/>
        </p:nvSpPr>
        <p:spPr>
          <a:xfrm>
            <a:off x="2367000" y="2573280"/>
            <a:ext cx="634536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4" descr="535910"/>
          <p:cNvPicPr/>
          <p:nvPr/>
        </p:nvPicPr>
        <p:blipFill>
          <a:blip r:embed="rId7"/>
          <a:stretch/>
        </p:blipFill>
        <p:spPr>
          <a:xfrm>
            <a:off x="2997360" y="3514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535910"/>
          <p:cNvPicPr/>
          <p:nvPr/>
        </p:nvPicPr>
        <p:blipFill>
          <a:blip r:embed="rId8"/>
          <a:stretch/>
        </p:blipFill>
        <p:spPr>
          <a:xfrm>
            <a:off x="4927680" y="3514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1"/>
          <p:cNvSpPr/>
          <p:nvPr/>
        </p:nvSpPr>
        <p:spPr>
          <a:xfrm>
            <a:off x="2951280" y="3429000"/>
            <a:ext cx="1306440" cy="134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2"/>
          <p:cNvSpPr/>
          <p:nvPr/>
        </p:nvSpPr>
        <p:spPr>
          <a:xfrm>
            <a:off x="4886280" y="3429000"/>
            <a:ext cx="1306440" cy="1349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0071228104756485_2"/>
          <p:cNvPicPr/>
          <p:nvPr/>
        </p:nvPicPr>
        <p:blipFill>
          <a:blip r:embed="rId1"/>
          <a:stretch/>
        </p:blipFill>
        <p:spPr>
          <a:xfrm>
            <a:off x="380880" y="800280"/>
            <a:ext cx="392112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hibobiaozhi1"/>
          <p:cNvPicPr/>
          <p:nvPr/>
        </p:nvPicPr>
        <p:blipFill>
          <a:blip r:embed="rId2"/>
          <a:srcRect l="10229" t="0" r="7955" b="0"/>
          <a:stretch/>
        </p:blipFill>
        <p:spPr>
          <a:xfrm>
            <a:off x="4800600" y="811080"/>
            <a:ext cx="3886200" cy="5234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0" y="0"/>
            <a:ext cx="9144000" cy="360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36640" y="762120"/>
            <a:ext cx="742644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北京奥运  上海世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财产保险全球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微软雅黑"/>
              </a:rPr>
              <a:t>唯一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合作伙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11059 0.27778 E">
                                      <p:cBhvr>
                                        <p:cTn id="407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1000" fill="hold"/>
                                        <p:tgtEl>
                                          <p:spTgt spid="11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09583 0.27801 E">
                                      <p:cBhvr>
                                        <p:cTn id="411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1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3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886200" cy="2587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02"/>
          <p:cNvPicPr/>
          <p:nvPr/>
        </p:nvPicPr>
        <p:blipFill>
          <a:blip r:embed="rId2"/>
          <a:stretch/>
        </p:blipFill>
        <p:spPr>
          <a:xfrm>
            <a:off x="2819520" y="2225520"/>
            <a:ext cx="3200400" cy="1432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267080" y="60948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界五百强企业 排名第     </a:t>
            </a:r>
            <a:r>
              <a:rPr b="1" lang="zh-CN" sz="6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33520" y="3352680"/>
            <a:ext cx="4038480" cy="2743200"/>
          </a:xfrm>
          <a:prstGeom prst="rect">
            <a:avLst/>
          </a:prstGeom>
          <a:gradFill rotWithShape="0">
            <a:gsLst>
              <a:gs pos="0">
                <a:srgbClr val="1b1b1b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6058080" y="1224000"/>
            <a:ext cx="171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微软雅黑"/>
              </a:rPr>
              <a:t>28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7-29T01:54:42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