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6A9-7F61-4231-A895-71F2CEB9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046-FAEE-4139-A692-F3093658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671-D466-4D84-A44A-EF50389B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66B-F1F0-48C9-816A-32178424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7CD-0D94-4BC9-9B5E-F8726312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0568-FE31-46B5-B2E5-82C694D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9FD1-C38C-478A-AE4D-3DEF865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FAD-81FF-4281-B796-4EE06B2A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7F58-B77D-4F27-B7A9-AD5EAF63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B06-EFC4-472E-A3AA-E94101DA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50C2-AAAE-4868-AE15-56CD8BE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833-BA10-4843-A791-57699A7D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282F-C361-4D94-99DB-BC33480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35B1-3CC7-4B75-A19B-45A0B55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0C09-4883-4A43-9CB0-018F4EDC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EA13-6E3E-4FA7-B1F3-D2B6BAC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67B-9F7C-4B65-9692-1A64AF65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005-84A8-40C7-BB91-0FC3CD9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C4F-23CB-450F-A533-E230239A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E7A-42AC-4D20-90BA-F18E1185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714-AB03-4246-8080-79A1E328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131-4198-4410-9CAD-6275106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712-DDD3-4AC7-AD51-149369D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C86-7AAB-433A-A875-2D52BA2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6" descr=""/>
          <p:cNvPicPr/>
          <p:nvPr/>
        </p:nvPicPr>
        <p:blipFill>
          <a:blip r:embed="rId3"/>
          <a:stretch/>
        </p:blipFill>
        <p:spPr>
          <a:xfrm>
            <a:off x="347760" y="5522760"/>
            <a:ext cx="2706480" cy="517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1256-D022-4077-B2FD-67E419208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91B-DB93-4169-9076-9DA9605A72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驾 驶 疲 劳 研 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187280" y="2924280"/>
            <a:ext cx="1729080" cy="12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自身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861080" y="1054080"/>
            <a:ext cx="2160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理设计座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32360" y="2924280"/>
            <a:ext cx="208764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理设计转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脚部脚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935600" y="4871880"/>
            <a:ext cx="20858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座椅到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的振动传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2916360" y="35020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3708360" y="15588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708360" y="15588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708360" y="54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11280" y="8380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针对车自身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95280" y="907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00000" y="1844640"/>
            <a:ext cx="61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规划与设计要坚持以人为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置合理的交通信息和安全信息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疲劳报警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安交通管理部门可以依据 法规加强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971640" y="609444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年交通事故发生量不断上升，其中由于疲劳驾驶造成巨大人身财产损失，对驾驶疲劳的研究工作刻不容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驾驶人员需对驾驶疲劳有系统的理解，了解其产生机理，才能有措尽量避免疲劳驾驶的出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驾驶疲劳是由驾驶员个体差异性，驾驶工作环境、驾驶工作性质以及道路和环境的特殊性所导致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针对上一章得内容，有针对性的介绍了预防驾驶疲劳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050920" y="2421000"/>
            <a:ext cx="51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观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论文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绪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驾驶疲劳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产生驾驶疲劳的影响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驾驶疲劳的预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题研究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4963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着经济的不断发展，人民生活水平的提高，人类对公路交通的依赖也越来越明显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我国机动车保有量已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亿辆，每年新增机动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万辆。然而随着机动车辆的大量增加，公路交通事故发生量明上升，造成了巨大的经济损失和人员伤亡。 就我国来说，我国是道路交通事故死亡人数最高的国家，连续数年一直居世界首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3500280"/>
          <a:ext cx="8300880" cy="1011240"/>
        </p:xfrm>
        <a:graphic>
          <a:graphicData uri="http://schemas.openxmlformats.org/drawingml/2006/table">
            <a:tbl>
              <a:tblPr/>
              <a:tblGrid>
                <a:gridCol w="1779480"/>
                <a:gridCol w="1630440"/>
                <a:gridCol w="1630440"/>
                <a:gridCol w="1628640"/>
                <a:gridCol w="16318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事故数（起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伤亡事故数（起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受伤人数（人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死亡人数（人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损失（亿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616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52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2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24"/>
          <p:cNvSpPr/>
          <p:nvPr/>
        </p:nvSpPr>
        <p:spPr>
          <a:xfrm>
            <a:off x="2050920" y="299736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事故数据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468360" y="465300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驾驶员的人为因素在所发生的交通事故中占有重要地位。分析驾驶疲劳机理，全方位了解产生驾驶疲劳的原因，对预防驾驶疲劳的方法进行研究，预防和避免发生交通事故，保证驾驶员的行车效率和身心健康，具有十分重要的应用价值和现实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6"/>
          <p:cNvSpPr/>
          <p:nvPr/>
        </p:nvSpPr>
        <p:spPr>
          <a:xfrm>
            <a:off x="324000" y="6093000"/>
            <a:ext cx="43020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7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7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7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章 驾驶疲劳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44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驾驶疲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驾驶疲劳是指驾驶员在连续行车后所产生的生理、心理机能以及驾驶操作效能下降的现象，是一种脑力、体力同时参与的技术性疲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驾驶疲劳对行车安全的影响机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驾驶员在行车过程中不断地收集和处理车内、道路、交通和环境信息，其感觉器官不断接受外界信息的刺激，大脑不停地处理这些信息，手和脚不断地操作车辆行驶。长时间重复这样的工作，驾驶时间、睡眠和生物节律、年龄、性别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素对驾驶疲劳的影响不断累积，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积到一定程度后，大脑皮层某些部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细胞由于长时间受到重复刺激而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抑制性的保护作用，致使驾驶员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为能力和生理心理机能下降，驾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疲劳的特征开始显现，这就是驾驶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劳的产生过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21902085902296[1]"/>
          <p:cNvPicPr/>
          <p:nvPr/>
        </p:nvPicPr>
        <p:blipFill>
          <a:blip r:embed="rId1"/>
          <a:stretch/>
        </p:blipFill>
        <p:spPr>
          <a:xfrm>
            <a:off x="5435640" y="386064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395280" y="6165720"/>
            <a:ext cx="503280" cy="476280"/>
          </a:xfrm>
          <a:prstGeom prst="leftArrow">
            <a:avLst>
              <a:gd name="adj1" fmla="val 50000"/>
              <a:gd name="adj2" fmla="val 26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章 产生驾驶疲劳的影响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2374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的自身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驾驶时间、睡眠质量、驾驶人性别、年龄，驾龄、驾驶技能、家庭原因、工作强度、生活状态、自身状态等都对驾驶疲劳的产生有重大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1700280"/>
          <a:ext cx="5338800" cy="3859200"/>
        </p:xfrm>
        <a:graphic>
          <a:graphicData uri="http://schemas.openxmlformats.org/drawingml/2006/table">
            <a:tbl>
              <a:tblPr/>
              <a:tblGrid>
                <a:gridCol w="1728720"/>
                <a:gridCol w="3610080"/>
              </a:tblGrid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驾驶时间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通事故发生率在持续驾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时后开始增大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—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不太明显，但在此之后，驾驶员的疲劳感和发生交通事故的危险性都大大增加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后尤为明显。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睡眠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若前一天的睡眠时间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—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以下，而驾驶时间超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时，则肇事率一定很高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影响因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驾驶人性别、年龄、驾龄、驾驶技能、身体条件、性格等都会导致不同程度的疲劳现象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230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车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驾驶中的因素主要是车内温度和湿度是否适宜、车内噪声是否太        大、车内震动是否剧烈、车内座位是否适宜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00360" y="765000"/>
          <a:ext cx="6048360" cy="5177160"/>
        </p:xfrm>
        <a:graphic>
          <a:graphicData uri="http://schemas.openxmlformats.org/drawingml/2006/table">
            <a:tbl>
              <a:tblPr/>
              <a:tblGrid>
                <a:gridCol w="2232000"/>
                <a:gridCol w="381636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车内温度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车内温度过高过低都不适宜驾驶。舒适温度为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℃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声音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这种长时间枯燥的、重复的杂音事实上会变成催眠曲，使人头脑发昏，身体疲劳，手脚反应缓慢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振动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振动对驾驶员的直接影响，涉及躯干和身体局部的生物动态反应行为、生理反应、性能减退和敏感度障碍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座椅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驾驶员驾驶姿势直接影响着驾驶员的舒适和健康，关系着是否能够安全、高效、准确地驾驶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360" y="836640"/>
            <a:ext cx="7416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驾驶操作   过程中，道路交通条件、天气条件、车内环境等都与疲劳的产生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92360" y="35002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345744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道路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线形设计不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视距不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通设施不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路景色单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2638440"/>
            <a:ext cx="273528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候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季节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气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39640" y="609300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章 驾驶疲劳的预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驾驶疲劳检测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的驾驶疲劳检测技术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驾驶适宜度的方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警惕性动态数学模型的方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脑电图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车载仪器实时检测驾驶员状态的方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视觉的检测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车辆行驶轨迹的检测方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009440" y="692280"/>
            <a:ext cx="2808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驾驶疲劳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针对人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635280" y="3429000"/>
            <a:ext cx="1441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5797440" y="3860640"/>
            <a:ext cx="1368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2052720" y="2276640"/>
            <a:ext cx="1655640" cy="10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充足睡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5003640" y="2062080"/>
            <a:ext cx="1584360" cy="10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理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1476360" y="3790800"/>
            <a:ext cx="16574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乘客监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08360" y="4941720"/>
            <a:ext cx="1584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车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3059280" y="40766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442764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3565440" y="3141720"/>
            <a:ext cx="50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4642920" y="299736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 flipV="1">
            <a:off x="5076720" y="400536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0:24:43Z</dcterms:created>
  <dc:creator>微软用户</dc:creator>
  <dc:description/>
  <cp:keywords/>
  <dc:language>en-US</dc:language>
  <cp:lastModifiedBy>Administrator</cp:lastModifiedBy>
  <cp:lastPrinted>1899-12-30T00:00:00Z</cp:lastPrinted>
  <dcterms:modified xsi:type="dcterms:W3CDTF">2015-09-15T01:36:58Z</dcterms:modified>
  <cp:revision>5</cp:revision>
  <dc:subject/>
  <dc:title>驾驶疲劳研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