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E6D-168F-4F35-9BEB-4C2E976F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8D0-72E8-42CE-A68D-583F5658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DE18-DA9E-4702-BDAC-555601BA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62C-8AEB-412E-830C-A7C25E89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1E4-8F8F-4F4A-8B4A-ADCB89CC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438-082D-4A28-9AFD-439B863B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C34-CF84-4E23-B1AC-248D20A3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24D-CDE6-45D2-AAA2-1721A0CF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BDB-AD83-404D-B728-678574FF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B75-B571-49FF-A41F-E65E096C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2FC-33CB-44D1-9A22-5957834B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68C-433F-417C-9F41-9691D33D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EE82-547E-4317-AFEE-746BE4672ED3}" type="datetime">
              <a:rPr b="0" lang="zh-CN" sz="1200" spc="-1" strike="noStrike">
                <a:solidFill>
                  <a:srgbClr val="59595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小田 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C8DA-842A-4C96-AB7E-6D485C2231F1}" type="slidenum">
              <a:rPr b="0" lang="zh-CN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Users\Administrator\Desktop\新建文件夹\1291350070509.jpg"/>
          <p:cNvPicPr/>
          <p:nvPr/>
        </p:nvPicPr>
        <p:blipFill>
          <a:blip r:embed="rId3"/>
          <a:srcRect l="0" t="0" r="0" b="97335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Administrator\Desktop\新建文件夹\129135007050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矩形 6"/>
          <p:cNvSpPr/>
          <p:nvPr/>
        </p:nvSpPr>
        <p:spPr>
          <a:xfrm>
            <a:off x="0" y="5715000"/>
            <a:ext cx="9144000" cy="9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380484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点击此处添加标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3840" y="5028840"/>
            <a:ext cx="8356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副标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00Z</dcterms:created>
  <dc:creator>ilovePPT.ORG</dc:creator>
  <dc:description/>
  <cp:keywords>ppt ppt模版 ppt设计</cp:keywords>
  <dc:language>en-US</dc:language>
  <cp:lastModifiedBy>本本</cp:lastModifiedBy>
  <dcterms:modified xsi:type="dcterms:W3CDTF">2015-07-21T03:14:27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