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E90-6518-43F9-B725-FA349426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C46-A4D7-445B-A3A5-F159F94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FF-A523-459B-A51A-203C3F86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77C-7469-4F0B-ABE3-C7DAEB90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43A-DF1A-4D25-A4F2-0E735AB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89E-2589-4FBB-87AF-58FBD0F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E43-93DF-4A67-A1C8-665402A0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C91-C9D3-4C25-9783-D4D6577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FEE-EECE-4383-8A24-377865A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931-15B0-428E-A053-1BF1EE0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C64-BFFE-4CAB-8E83-32798D5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936-6681-4229-BA24-93F9448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570-69C6-4BBB-BF5A-5744A131B3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357720" y="114300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429000" y="16430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 形 10"/>
          <p:cNvSpPr/>
          <p:nvPr/>
        </p:nvSpPr>
        <p:spPr>
          <a:xfrm>
            <a:off x="1285920" y="1638360"/>
            <a:ext cx="3405240" cy="2576520"/>
          </a:xfrm>
          <a:custGeom>
            <a:avLst/>
            <a:gdLst>
              <a:gd name="textAreaLeft" fmla="*/ 0 w 3405240"/>
              <a:gd name="textAreaRight" fmla="*/ 3405600 w 340524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8" h="2576513">
                <a:moveTo>
                  <a:pt x="0" y="0"/>
                </a:moveTo>
                <a:lnTo>
                  <a:pt x="2887627" y="0"/>
                </a:lnTo>
                <a:lnTo>
                  <a:pt x="2887627" y="1288257"/>
                </a:lnTo>
                <a:lnTo>
                  <a:pt x="3405188" y="1288257"/>
                </a:lnTo>
                <a:lnTo>
                  <a:pt x="3405188" y="2576513"/>
                </a:lnTo>
                <a:lnTo>
                  <a:pt x="0" y="2576513"/>
                </a:lnTo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 形 11"/>
          <p:cNvSpPr/>
          <p:nvPr/>
        </p:nvSpPr>
        <p:spPr>
          <a:xfrm flipH="1" flipV="1">
            <a:off x="4737960" y="2923560"/>
            <a:ext cx="3405240" cy="2576520"/>
          </a:xfrm>
          <a:custGeom>
            <a:avLst/>
            <a:gdLst>
              <a:gd name="textAreaLeft" fmla="*/ -360 w 3405240"/>
              <a:gd name="textAreaRight" fmla="*/ 3405240 w 340524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7" h="2576513">
                <a:moveTo>
                  <a:pt x="0" y="0"/>
                </a:moveTo>
                <a:lnTo>
                  <a:pt x="2887627" y="0"/>
                </a:lnTo>
                <a:lnTo>
                  <a:pt x="2887627" y="1288257"/>
                </a:lnTo>
                <a:lnTo>
                  <a:pt x="3405187" y="1288257"/>
                </a:lnTo>
                <a:lnTo>
                  <a:pt x="3405187" y="2576513"/>
                </a:lnTo>
                <a:lnTo>
                  <a:pt x="0" y="2576513"/>
                </a:lnTo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354760" y="313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599796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4214880" y="1643040"/>
            <a:ext cx="3929040" cy="1214640"/>
          </a:xfrm>
          <a:prstGeom prst="rect">
            <a:avLst/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1285920" y="4286160"/>
            <a:ext cx="3929040" cy="1214640"/>
          </a:xfrm>
          <a:prstGeom prst="rect">
            <a:avLst/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1806480" y="693720"/>
            <a:ext cx="5908680" cy="5950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3518280" y="3693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591360" y="1908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5304240" y="4836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5448600" y="29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左箭头标注 10"/>
          <p:cNvSpPr/>
          <p:nvPr/>
        </p:nvSpPr>
        <p:spPr>
          <a:xfrm flipH="1">
            <a:off x="59688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箭头标注 11"/>
          <p:cNvSpPr/>
          <p:nvPr/>
        </p:nvSpPr>
        <p:spPr>
          <a:xfrm flipH="1">
            <a:off x="259704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左箭头标注 12"/>
          <p:cNvSpPr/>
          <p:nvPr/>
        </p:nvSpPr>
        <p:spPr>
          <a:xfrm flipH="1">
            <a:off x="4596840" y="2311560"/>
            <a:ext cx="1974600" cy="197460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箭头标注 13"/>
          <p:cNvSpPr/>
          <p:nvPr/>
        </p:nvSpPr>
        <p:spPr>
          <a:xfrm flipH="1">
            <a:off x="659772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99804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92592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同心圆 54"/>
          <p:cNvSpPr/>
          <p:nvPr/>
        </p:nvSpPr>
        <p:spPr>
          <a:xfrm>
            <a:off x="3714840" y="114156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5"/>
          <p:cNvSpPr/>
          <p:nvPr/>
        </p:nvSpPr>
        <p:spPr>
          <a:xfrm>
            <a:off x="3786120" y="335592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56"/>
          <p:cNvSpPr/>
          <p:nvPr/>
        </p:nvSpPr>
        <p:spPr>
          <a:xfrm>
            <a:off x="2712960" y="235584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57"/>
          <p:cNvSpPr/>
          <p:nvPr/>
        </p:nvSpPr>
        <p:spPr>
          <a:xfrm>
            <a:off x="4927680" y="221292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2836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140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十字形 10"/>
          <p:cNvSpPr/>
          <p:nvPr/>
        </p:nvSpPr>
        <p:spPr>
          <a:xfrm rot="16200000">
            <a:off x="4393080" y="-464400"/>
            <a:ext cx="100044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十字形 11"/>
          <p:cNvSpPr/>
          <p:nvPr/>
        </p:nvSpPr>
        <p:spPr>
          <a:xfrm rot="16200000">
            <a:off x="4393080" y="678240"/>
            <a:ext cx="100044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十字形 12"/>
          <p:cNvSpPr/>
          <p:nvPr/>
        </p:nvSpPr>
        <p:spPr>
          <a:xfrm rot="16200000">
            <a:off x="4393080" y="1821240"/>
            <a:ext cx="100044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十字形 13"/>
          <p:cNvSpPr/>
          <p:nvPr/>
        </p:nvSpPr>
        <p:spPr>
          <a:xfrm rot="16200000">
            <a:off x="4393080" y="2964240"/>
            <a:ext cx="100044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354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4426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354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497840" y="1487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组合 18" descr=""/>
          <p:cNvPicPr/>
          <p:nvPr/>
        </p:nvPicPr>
        <p:blipFill>
          <a:blip r:embed="rId1"/>
          <a:stretch/>
        </p:blipFill>
        <p:spPr>
          <a:xfrm>
            <a:off x="1579680" y="1530360"/>
            <a:ext cx="6315120" cy="3133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1571760" y="4214880"/>
            <a:ext cx="6286320" cy="1357200"/>
          </a:xfrm>
          <a:prstGeom prst="rect">
            <a:avLst/>
          </a:pr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5426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2568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波形 17"/>
          <p:cNvSpPr/>
          <p:nvPr/>
        </p:nvSpPr>
        <p:spPr>
          <a:xfrm>
            <a:off x="1357200" y="3106800"/>
            <a:ext cx="3275280" cy="1536480"/>
          </a:xfrm>
          <a:custGeom>
            <a:avLst/>
            <a:gdLst>
              <a:gd name="textAreaLeft" fmla="*/ 654840 w 3275280"/>
              <a:gd name="textAreaRight" fmla="*/ 3930480 w 327528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波形 10"/>
          <p:cNvSpPr/>
          <p:nvPr/>
        </p:nvSpPr>
        <p:spPr>
          <a:xfrm>
            <a:off x="2071800" y="167796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波形 11"/>
          <p:cNvSpPr/>
          <p:nvPr/>
        </p:nvSpPr>
        <p:spPr>
          <a:xfrm>
            <a:off x="4857840" y="182088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波形 12"/>
          <p:cNvSpPr/>
          <p:nvPr/>
        </p:nvSpPr>
        <p:spPr>
          <a:xfrm>
            <a:off x="4357800" y="3249720"/>
            <a:ext cx="3274920" cy="153648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569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10"/>
          <p:cNvSpPr/>
          <p:nvPr/>
        </p:nvSpPr>
        <p:spPr>
          <a:xfrm rot="10800000">
            <a:off x="1428840" y="1713960"/>
            <a:ext cx="3286080" cy="27860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43" y="0"/>
                </a:lnTo>
                <a:lnTo>
                  <a:pt x="21600" y="10800"/>
                </a:lnTo>
                <a:lnTo>
                  <a:pt x="124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6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11"/>
          <p:cNvSpPr/>
          <p:nvPr/>
        </p:nvSpPr>
        <p:spPr>
          <a:xfrm flipH="1" rot="10800000">
            <a:off x="4714920" y="1714320"/>
            <a:ext cx="3286080" cy="2786040"/>
          </a:xfrm>
          <a:custGeom>
            <a:avLst/>
            <a:gdLst>
              <a:gd name="textAreaLeft" fmla="*/ 360 w 3286080"/>
              <a:gd name="textAreaRight" fmla="*/ 328680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43" y="0"/>
                </a:lnTo>
                <a:lnTo>
                  <a:pt x="21600" y="10800"/>
                </a:lnTo>
                <a:lnTo>
                  <a:pt x="124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8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926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5569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9"/>
          <p:cNvGrpSpPr/>
          <p:nvPr/>
        </p:nvGrpSpPr>
        <p:grpSpPr>
          <a:xfrm>
            <a:off x="2563920" y="1143000"/>
            <a:ext cx="4794120" cy="4794120"/>
            <a:chOff x="2563920" y="1143000"/>
            <a:chExt cx="4794120" cy="4794120"/>
          </a:xfrm>
        </p:grpSpPr>
        <p:grpSp>
          <p:nvGrpSpPr>
            <p:cNvPr id="125" name="组合 15"/>
            <p:cNvGrpSpPr/>
            <p:nvPr/>
          </p:nvGrpSpPr>
          <p:grpSpPr>
            <a:xfrm>
              <a:off x="2563920" y="1210680"/>
              <a:ext cx="2599920" cy="2415240"/>
              <a:chOff x="2563920" y="1210680"/>
              <a:chExt cx="2599920" cy="2415240"/>
            </a:xfrm>
          </p:grpSpPr>
          <p:sp>
            <p:nvSpPr>
              <p:cNvPr id="126" name="矩形 11"/>
              <p:cNvSpPr/>
              <p:nvPr/>
            </p:nvSpPr>
            <p:spPr>
              <a:xfrm>
                <a:off x="2563920" y="1210680"/>
                <a:ext cx="1749240" cy="1683720"/>
              </a:xfrm>
              <a:prstGeom prst="rect">
                <a:avLst/>
              </a:prstGeom>
              <a:solidFill>
                <a:srgbClr val="189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燕尾形箭头 12"/>
              <p:cNvSpPr/>
              <p:nvPr/>
            </p:nvSpPr>
            <p:spPr>
              <a:xfrm rot="16200000">
                <a:off x="2392200" y="1899000"/>
                <a:ext cx="2091600" cy="1361880"/>
              </a:xfrm>
              <a:custGeom>
                <a:avLst/>
                <a:gdLst>
                  <a:gd name="textAreaLeft" fmla="*/ 340200 w 2091600"/>
                  <a:gd name="textAreaRight" fmla="*/ 1751400 w 2091600"/>
                  <a:gd name="textAreaTop" fmla="*/ 340560 h 1361880"/>
                  <a:gd name="textAreaBottom" fmla="*/ 1021680 h 136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4569" y="5400"/>
                    </a:lnTo>
                    <a:lnTo>
                      <a:pt x="14569" y="0"/>
                    </a:lnTo>
                    <a:lnTo>
                      <a:pt x="21600" y="10800"/>
                    </a:lnTo>
                    <a:lnTo>
                      <a:pt x="14569" y="21600"/>
                    </a:lnTo>
                    <a:lnTo>
                      <a:pt x="14569" y="16200"/>
                    </a:lnTo>
                    <a:lnTo>
                      <a:pt x="0" y="16200"/>
                    </a:lnTo>
                    <a:lnTo>
                      <a:pt x="351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189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五边形 14"/>
              <p:cNvSpPr/>
              <p:nvPr/>
            </p:nvSpPr>
            <p:spPr>
              <a:xfrm flipV="1">
                <a:off x="4305240" y="1671480"/>
                <a:ext cx="858600" cy="712440"/>
              </a:xfrm>
              <a:custGeom>
                <a:avLst/>
                <a:gdLst>
                  <a:gd name="textAreaLeft" fmla="*/ 0 w 858600"/>
                  <a:gd name="textAreaRight" fmla="*/ 858960 w 858600"/>
                  <a:gd name="textAreaTop" fmla="*/ 0 h 712440"/>
                  <a:gd name="textAreaBottom" fmla="*/ 712440 h 71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637" y="0"/>
                    </a:lnTo>
                    <a:lnTo>
                      <a:pt x="21600" y="10800"/>
                    </a:lnTo>
                    <a:lnTo>
                      <a:pt x="1263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189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组合 16" descr=""/>
            <p:cNvPicPr/>
            <p:nvPr/>
          </p:nvPicPr>
          <p:blipFill>
            <a:blip r:embed="rId1"/>
            <a:stretch/>
          </p:blipFill>
          <p:spPr>
            <a:xfrm>
              <a:off x="4870800" y="1143000"/>
              <a:ext cx="2426040" cy="260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组合 28"/>
            <p:cNvGrpSpPr/>
            <p:nvPr/>
          </p:nvGrpSpPr>
          <p:grpSpPr>
            <a:xfrm>
              <a:off x="2628360" y="3338640"/>
              <a:ext cx="4729680" cy="2598480"/>
              <a:chOff x="2628360" y="3338640"/>
              <a:chExt cx="4729680" cy="2598480"/>
            </a:xfrm>
          </p:grpSpPr>
          <p:grpSp>
            <p:nvGrpSpPr>
              <p:cNvPr id="131" name="组合 20"/>
              <p:cNvGrpSpPr/>
              <p:nvPr/>
            </p:nvGrpSpPr>
            <p:grpSpPr>
              <a:xfrm>
                <a:off x="4761720" y="3465360"/>
                <a:ext cx="2596320" cy="2401200"/>
                <a:chOff x="4761720" y="3465360"/>
                <a:chExt cx="2596320" cy="2401200"/>
              </a:xfrm>
            </p:grpSpPr>
            <p:sp>
              <p:nvSpPr>
                <p:cNvPr id="132" name="矩形 21"/>
                <p:cNvSpPr/>
                <p:nvPr/>
              </p:nvSpPr>
              <p:spPr>
                <a:xfrm rot="10800000">
                  <a:off x="5612400" y="4191120"/>
                  <a:ext cx="1745640" cy="1675440"/>
                </a:xfrm>
                <a:prstGeom prst="rect">
                  <a:avLst/>
                </a:prstGeom>
                <a:solidFill>
                  <a:srgbClr val="1895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燕尾形箭头 22"/>
                <p:cNvSpPr/>
                <p:nvPr/>
              </p:nvSpPr>
              <p:spPr>
                <a:xfrm rot="5400000">
                  <a:off x="5445000" y="3826440"/>
                  <a:ext cx="2081160" cy="1359000"/>
                </a:xfrm>
                <a:custGeom>
                  <a:avLst/>
                  <a:gdLst>
                    <a:gd name="textAreaLeft" fmla="*/ 338760 w 2081160"/>
                    <a:gd name="textAreaRight" fmla="*/ 1742400 w 2081160"/>
                    <a:gd name="textAreaTop" fmla="*/ 339840 h 1359000"/>
                    <a:gd name="textAreaBottom" fmla="*/ 1019520 h 135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5400"/>
                      </a:moveTo>
                      <a:lnTo>
                        <a:pt x="14569" y="5400"/>
                      </a:lnTo>
                      <a:lnTo>
                        <a:pt x="14569" y="0"/>
                      </a:lnTo>
                      <a:lnTo>
                        <a:pt x="21600" y="10800"/>
                      </a:lnTo>
                      <a:lnTo>
                        <a:pt x="14569" y="21600"/>
                      </a:lnTo>
                      <a:lnTo>
                        <a:pt x="14569" y="16200"/>
                      </a:lnTo>
                      <a:lnTo>
                        <a:pt x="0" y="16200"/>
                      </a:lnTo>
                      <a:lnTo>
                        <a:pt x="3516" y="108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solidFill>
                  <a:srgbClr val="1895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五边形 23"/>
                <p:cNvSpPr/>
                <p:nvPr/>
              </p:nvSpPr>
              <p:spPr>
                <a:xfrm flipV="1" rot="10800000">
                  <a:off x="4761720" y="4698360"/>
                  <a:ext cx="856800" cy="708840"/>
                </a:xfrm>
                <a:custGeom>
                  <a:avLst/>
                  <a:gdLst>
                    <a:gd name="textAreaLeft" fmla="*/ 0 w 856800"/>
                    <a:gd name="textAreaRight" fmla="*/ 857160 w 856800"/>
                    <a:gd name="textAreaTop" fmla="*/ -360 h 708840"/>
                    <a:gd name="textAreaBottom" fmla="*/ 708840 h 70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2637" y="0"/>
                      </a:lnTo>
                      <a:lnTo>
                        <a:pt x="21600" y="10800"/>
                      </a:lnTo>
                      <a:lnTo>
                        <a:pt x="1263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1895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5" name="组合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2628360" y="3338640"/>
                <a:ext cx="2428560" cy="259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997720" y="1865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5999760" y="4865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3069000" y="4865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5855040" y="18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4T07:20:28Z</dcterms:modified>
  <cp:revision>289</cp:revision>
  <dc:subject/>
  <dc:title>幻灯片 1</dc:title>
</cp:coreProperties>
</file>