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6E0-D6E2-4017-AF36-3031EC86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0C7-A3F7-4B94-964C-76261B30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80A-39CE-403A-B5EF-588BBCCE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776-9EA9-44BC-9830-470DC8E2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131-1A47-4054-900D-582CD114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B9F-224B-4DFE-A061-CAB90949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43F-C844-453C-8596-2517C02F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59E-AA33-4B30-AC47-D839B74E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3DB-769E-421B-B6F4-22D979D2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958-B8EC-4DB8-B602-59FC4109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75F-D87A-493B-8EDB-4E967E58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5D3-C465-4858-AFF4-43D9C1DA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7F03-3DF2-40C1-90E7-C3DFDC0775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457200"/>
            <a:ext cx="8534160" cy="6019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99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66680" y="19051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六顶思考帽的价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3480" y="6094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六顶思考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743200"/>
            <a:ext cx="655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对即将扮演的角色做了明确规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设立游戏规则，成为一种思维的语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投射注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方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47920" y="1371600"/>
            <a:ext cx="63244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黑体"/>
                <a:ea typeface="黑体"/>
              </a:rPr>
              <a:t>六顶帽子的思考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白帽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: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资料与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红帽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: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直觉与感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黑帽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: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逻辑与批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黄帽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: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积极与乐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绿帽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: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创新与冒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蓝帽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: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系统与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57400" y="2209680"/>
            <a:ext cx="5029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白帽思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1720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白色显得中立而客观。白帽思维代表客观的事实和数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19400" y="852480"/>
            <a:ext cx="37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白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W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3124080"/>
          <a:ext cx="7086600" cy="1920960"/>
        </p:xfrm>
        <a:graphic>
          <a:graphicData uri="http://schemas.openxmlformats.org/drawingml/2006/table">
            <a:tbl>
              <a:tblPr/>
              <a:tblGrid>
                <a:gridCol w="3543120"/>
                <a:gridCol w="3543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今天很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今天气温是零下</a:t>
                      </a: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美国的治安很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美国的犯罪率为</a:t>
                      </a: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房地产最近不景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房地产消费指数下降</a:t>
                      </a: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公司的人员流动率很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公司的流动率为</a:t>
                      </a:r>
                      <a:r>
                        <a:rPr b="0" lang="zh-CN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黑体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14400" y="22240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与白帽相关的就是资料与信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19400" y="852480"/>
            <a:ext cx="37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白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W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00080" y="2971800"/>
            <a:ext cx="5019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们拥有哪些信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们希望拥有哪些信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们如何获得信息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480" y="1908000"/>
            <a:ext cx="7467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黑体"/>
                <a:ea typeface="黑体"/>
              </a:rPr>
              <a:t>白帽思维的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你不能任意提高一件事实的层次，除非你有能力去验证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在使用白帽思维时，你的态度必须是中立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白帽的使用应该成为一种习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防止过度使用白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9400" y="852480"/>
            <a:ext cx="37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白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W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90720" y="196380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白   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白帽思路排除了下述极有价值的因素：预感，直觉，由经验而来的断定，感情，印象和意见。但这正是白帽思维的目的之所在：提供单纯信息的途径和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9400" y="852480"/>
            <a:ext cx="37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白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W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" y="19810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黑体"/>
                <a:ea typeface="黑体"/>
              </a:rPr>
              <a:t>白帽思维的难点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19400" y="852480"/>
            <a:ext cx="37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白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W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81952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每个人都需要说出一个观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让每个人意识到有责任而不是尽义务的提供正确的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2120" y="2057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综合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万科前不久在深圳大梅沙拿了一块地，准备投资建一个海滨度假酒店。目标客户群是香港白领阶层。为了增加更多卖点，万科打算从越南买一头大象到酒店。现在万科公开招标，委托一家策划公司进行策划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19400" y="852480"/>
            <a:ext cx="375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白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W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057400" y="2209680"/>
            <a:ext cx="5029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红帽思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43800" y="52484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90920" y="6094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课程内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981080"/>
            <a:ext cx="4876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传统思维的误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平行思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六顶帽子的思考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六顶帽子的应用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3857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43000" y="2108160"/>
            <a:ext cx="2565360" cy="345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1904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红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R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红色暗示愤怒、狂暴等情感特征，红帽思维代表情绪上的感觉、直觉和预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735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1904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红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R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200400"/>
            <a:ext cx="6629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我戴上红帽。我不喜欢这个计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我的红帽思维告诉我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这个做法行不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我不喜欢你们处理这件事情的方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我的直觉告诉我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价格很快就会跌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1843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背景情感与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同情、愤怒、嫉妒或害怕等这些背景情感会限制所有的思维，并使思维带有各种色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1904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红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R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809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你说的这些只是为自己的利益着想，根本不是为了公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我反对他担任这个职位，因为他晋升的这么快，让人嫉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18432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背景情感与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如果背景情感被排斥于整个思维过程之外，那么它们就会隐藏起来并以一种潜在的形式影响整个思维活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1904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红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R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38098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你说的这些只是为自己的利益着想，根本不是为了公司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所以绝不能让他得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黑体"/>
                <a:ea typeface="黑体"/>
              </a:rPr>
              <a:t>我反对他担任这个职位，因为他晋升的这么快，让人嫉妒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所以我一定要在领导面前告他一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5800" y="1843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直觉与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735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1904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红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R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2819520"/>
            <a:ext cx="3200400" cy="12189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124080" y="4648320"/>
            <a:ext cx="327672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4495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1500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648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4648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4952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4724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800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4572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4419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4572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343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5181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5181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4952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0400" y="4495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4952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4724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724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4343400"/>
            <a:ext cx="4191120" cy="0"/>
          </a:xfrm>
          <a:prstGeom prst="line">
            <a:avLst/>
          </a:prstGeom>
          <a:ln w="8892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62800" y="5715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直觉的产生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733920"/>
            <a:ext cx="1828800" cy="11430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733920"/>
            <a:ext cx="1828800" cy="11430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直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85800" y="1781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红  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红帽允许人们将感觉与直觉放进来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不需要道歉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不用解释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也不必想办法为自己的行为辩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1904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红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R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58128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现在有什么感受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的感觉告诉我什么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的直觉反应是什么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303640" y="1752480"/>
            <a:ext cx="152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51000" y="59436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3640" y="3886200"/>
            <a:ext cx="152280" cy="2057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60840" y="56386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24400" y="5348160"/>
            <a:ext cx="12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Hat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60840" y="5014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23320" y="4724280"/>
            <a:ext cx="17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I dislik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60840" y="4419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24760" y="4129200"/>
            <a:ext cx="24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I feel uncer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60840" y="3809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24400" y="3519360"/>
            <a:ext cx="29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Sounds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60840" y="3186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28720" y="2909880"/>
            <a:ext cx="47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I wish I had mor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60840" y="2576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4040" y="228600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I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60840" y="19670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69200" y="167652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I’m enthusiastic!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热情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1904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红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R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85800" y="188748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红帽思维的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承认情感是思维的一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让背景情感现形，以便观察可能带来的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可以让情感得以发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直觉和预感发挥优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735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1904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红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R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85800" y="19051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红帽思维的使用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正确认识和运用直觉与情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不要证明或解释自己的感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认可预感，但非凭预感作决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避免争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须在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秒以内作出回答，避免过度使用红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735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1904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红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R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901800" cy="825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3735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904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红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R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红帽思维的难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红帽思维如何让那些隐蔽的情感暴露出来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14120" y="335268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建立安全感，不用担心后果，不问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09680"/>
            <a:ext cx="541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学习怎样训练集中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学习怎样提高团队中潜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怎样根据指令应用创造性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怎样展开想象，提高创造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43800" y="52484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90920" y="6094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课程收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057400" y="2209680"/>
            <a:ext cx="5029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黑帽思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427640" y="3286080"/>
            <a:ext cx="2872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09480" y="18748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黑色是阴沉、负面的。黑帽思维考虑的是事物的负面因素，它是对事物的负面因素进行逻辑判断和评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09680" y="852480"/>
            <a:ext cx="35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黑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B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19320" y="3533760"/>
            <a:ext cx="579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它会起作用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它的缺点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它为什么不能这样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这样做会存在什么危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914400" y="1905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黑帽思维的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09680" y="852480"/>
            <a:ext cx="35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黑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B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80188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对事实和数据提出质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指出不符合经验的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合理地提出自己的个人经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指出未来的危险与可能发生的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对黄色帽子的制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18399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请戴上黑色思考帽，讨论“如果政府增加牢狱处分与刑罚，就会减少犯罪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09680" y="852480"/>
            <a:ext cx="35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黑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B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09480" y="196380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黑帽思维的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黑帽思维是一种强势思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可以用黑色思考帽应付黑色思考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黑帽思维应该提出应对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09680" y="852480"/>
            <a:ext cx="35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黑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B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04920" y="36828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57200" y="175248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黑帽思维的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如何削弱黑帽思维的影响，避免成为一个批判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是否黑帽思维只属于批判型的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我们如何看待批判型的人和黑帽思维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09680" y="852480"/>
            <a:ext cx="35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黑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B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057400" y="2209680"/>
            <a:ext cx="5029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黄帽思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90180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901800" cy="761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094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黄色代表阳光和乐观的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黄帽思维包含着希望与正面思想，积极寻找事物的闪光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0968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黄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Y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124080"/>
            <a:ext cx="7391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为什么可以做这件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优点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这样做会带来哪些积极正面的影响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90180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09480" y="16747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练习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公司如果有人升职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就穿黄色的衣服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请用黄帽思维想想这样会有什么好处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3305160"/>
            <a:ext cx="5410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让升职的员工有自豪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让其它的员工知道有晋级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能够接受监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0968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黄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Y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1676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——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局限性思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52484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74480" y="7621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传统思维的误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9280" y="3505320"/>
            <a:ext cx="1206360" cy="146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62520" y="4191120"/>
            <a:ext cx="409680" cy="536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390920" y="5638680"/>
            <a:ext cx="409680" cy="53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67240" y="2438280"/>
            <a:ext cx="409680" cy="536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867040" y="4191120"/>
            <a:ext cx="409680" cy="53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368520" y="4324320"/>
            <a:ext cx="365400" cy="209520"/>
          </a:xfrm>
          <a:prstGeom prst="rightArrow">
            <a:avLst>
              <a:gd name="adj1" fmla="val 50000"/>
              <a:gd name="adj2" fmla="val 436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4428720" y="3151080"/>
            <a:ext cx="333360" cy="228600"/>
          </a:xfrm>
          <a:prstGeom prst="rightArrow">
            <a:avLst>
              <a:gd name="adj1" fmla="val 50000"/>
              <a:gd name="adj2" fmla="val 3645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5229360" y="4324320"/>
            <a:ext cx="365040" cy="209520"/>
          </a:xfrm>
          <a:prstGeom prst="rightArrow">
            <a:avLst>
              <a:gd name="adj1" fmla="val 50000"/>
              <a:gd name="adj2" fmla="val 4355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4466880" y="5233680"/>
            <a:ext cx="333360" cy="228600"/>
          </a:xfrm>
          <a:prstGeom prst="rightArrow">
            <a:avLst>
              <a:gd name="adj1" fmla="val 50000"/>
              <a:gd name="adj2" fmla="val 3645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901800" cy="7617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11280" y="1989000"/>
            <a:ext cx="792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黄帽思维的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探求事物的优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证明为什么某个观点行得通，但必须符合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当未来不确定的时候，黄帽思维通过一些问题建立可行性的基础。比如寻求线索，预测趋势和其他可能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0968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黄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Y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901800" cy="7617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11280" y="200016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阅读以下广告，然后写出你认为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CCC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食品的好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我们向您推荐一种好吃的食品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CCC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，它可以计算热量。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CCC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食品被整齐地分成小块。每块清楚地用可以食用的字母标上所包含的热量和脂肪数量。因此在你吃每一口时，都可以很方便地计算你摄入了多少能量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09680" y="852480"/>
            <a:ext cx="358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黄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Y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057400" y="2209680"/>
            <a:ext cx="5029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绿帽思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888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绿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G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211608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绿色代表生机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绿帽思维则代表创造力，产生新的想法和新的看待事物的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新的想法、建议和假设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们还有其他方法做这件事情吗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绿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G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21337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创意与绿帽思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绿帽思维本身无法使人们变得具有创造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在绿帽思维下，我们不能要求任何成果，我们只能要求一种心力的付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绿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G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2365200"/>
            <a:ext cx="7925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绿帽思维使用的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行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解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预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绿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G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236520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绿帽思维使用的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产生初始想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产生进一步的想法或更好的想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产生新想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绿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G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9320" y="2170080"/>
            <a:ext cx="619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如何利用绿帽思维进行创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改变思维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诱因的操作（“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PO”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去掉基本特征的联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8840" cy="6984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绿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G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23880" y="5105520"/>
            <a:ext cx="5029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3880" y="419112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24280" y="419112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352680" y="3276720"/>
            <a:ext cx="83844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724280" y="3276720"/>
            <a:ext cx="83844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4648320"/>
            <a:ext cx="48006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885840" y="3200400"/>
            <a:ext cx="1066680" cy="121932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11960" y="2057400"/>
            <a:ext cx="1422360" cy="1434960"/>
          </a:xfrm>
          <a:custGeom>
            <a:avLst/>
            <a:gdLst/>
            <a:ahLst/>
            <a:rect l="l" t="t" r="r" b="b"/>
            <a:pathLst>
              <a:path w="896" h="904">
                <a:moveTo>
                  <a:pt x="768" y="904"/>
                </a:moveTo>
                <a:cubicBezTo>
                  <a:pt x="832" y="540"/>
                  <a:pt x="896" y="176"/>
                  <a:pt x="768" y="88"/>
                </a:cubicBezTo>
                <a:cubicBezTo>
                  <a:pt x="640" y="0"/>
                  <a:pt x="320" y="160"/>
                  <a:pt x="0" y="376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181480" y="2577960"/>
            <a:ext cx="457200" cy="31752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81760" y="5559480"/>
            <a:ext cx="15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离开逻辑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然后回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62520" y="2362320"/>
            <a:ext cx="1752480" cy="167616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11640" y="3568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诱因的产生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逆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随机单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219320" y="34290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桌子  椅子  服务员  厨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食物  饮料  灯光  空调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冰箱  花  筷子 帐单…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绿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G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88840" cy="6984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116000" y="1916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、如果你想开一家有特色的餐馆，请用绿帽思维尝试解决这个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352680" y="1676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——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局限性思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43800" y="52484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74480" y="7621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传统思维的误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666880"/>
            <a:ext cx="601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局限性思维容易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、从自身的角度进行考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、从片面的角度进行考虑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、情绪会影响思维的效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057400" y="2209680"/>
            <a:ext cx="5029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单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蓝帽思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04920" y="291960"/>
            <a:ext cx="88884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304920" y="291960"/>
            <a:ext cx="888840" cy="6987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0" y="3857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蓝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H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133720"/>
            <a:ext cx="792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蓝色是冷静的，也是天空的颜色。蓝帽思维代表思维过程的控制与组织，它可以控制其他思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们的议程是怎样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们下一步该采用哪顶帽子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们怎么总结现有结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04920" y="291960"/>
            <a:ext cx="888840" cy="6987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蓝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H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125360" y="2927520"/>
            <a:ext cx="6892920" cy="1002960"/>
            <a:chOff x="1125360" y="2927520"/>
            <a:chExt cx="6892920" cy="1002960"/>
          </a:xfrm>
        </p:grpSpPr>
        <p:sp>
          <p:nvSpPr>
            <p:cNvPr id="382" name=""/>
            <p:cNvSpPr/>
            <p:nvPr/>
          </p:nvSpPr>
          <p:spPr>
            <a:xfrm>
              <a:off x="1125360" y="2927520"/>
              <a:ext cx="6892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5360" y="2927520"/>
              <a:ext cx="689292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1962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练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客服主任最近经常接到客户的投诉电话，抱怨公司的工程人员在进行维修的时候漫不经心、不够敬业，而且态度也不好。客服主任多次向工程部经理反映了这些情况，可是情况并没有好转。他现在也不知道应该如何是好，你能帮这位客服经理想想办法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04920" y="291960"/>
            <a:ext cx="888840" cy="6987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0" y="3857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蓝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H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981080"/>
            <a:ext cx="792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蓝帽思维的使用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在蓝色思考帽下，我们不再思考讨论的主题，我们考虑的是那些与主题有关的思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蓝帽经常使用在思维的开始、中间和最后阶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会议主席一般都有蓝帽思考功能，但也可以是指定另外的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、蓝帽思维有一个重要的工作就是打断争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04920" y="291960"/>
            <a:ext cx="888840" cy="6987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3857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蓝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H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1905120"/>
            <a:ext cx="7925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蓝帽思维的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们应当从哪里开始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们的目标是什么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议程是怎样的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应该用哪些帽子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我们怎样去总结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下一步该怎么做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04920" y="291960"/>
            <a:ext cx="888840" cy="6987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0" y="3857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10400" y="852480"/>
            <a:ext cx="361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蓝帽思维（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HH</a:t>
            </a: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914400" y="2403360"/>
            <a:ext cx="7315200" cy="2050920"/>
            <a:chOff x="914400" y="2403360"/>
            <a:chExt cx="7315200" cy="2050920"/>
          </a:xfrm>
        </p:grpSpPr>
        <p:sp>
          <p:nvSpPr>
            <p:cNvPr id="400" name=""/>
            <p:cNvSpPr/>
            <p:nvPr/>
          </p:nvSpPr>
          <p:spPr>
            <a:xfrm>
              <a:off x="914400" y="2403360"/>
              <a:ext cx="6892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914400" y="2403360"/>
              <a:ext cx="7315200" cy="2050920"/>
              <a:chOff x="914400" y="2403360"/>
              <a:chExt cx="7315200" cy="205092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2403360"/>
                <a:ext cx="731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914400" y="2631960"/>
                <a:ext cx="7315200" cy="182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609480" y="1828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　　某公司是制造销售较复杂机器的公司，最近一些重要岗位的中层经理要离休。公司本来一贯是严格地从内部选拔人员，但不久就发现提拔到中层管理职位的基层员工缺乏相应的管理能力，导致业绩不断下滑。</a:t>
            </a:r>
            <a:br>
              <a:rPr sz="2400"/>
            </a:b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　　这样，公司决定从外部招聘具有高学历的管理人才，并先放在基层管理职位上，以便为今后提为中层管理人员做好准备。不料在两天之内，这些人都离开了该公司。公司只好又回到以前，从内部提拔；但又碰到了过去同样素质欠佳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面对这一问题，公司想请咨询专家来出些主意。如你是咨询专家，你会有哪些建议</a:t>
            </a: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828880" y="685800"/>
            <a:ext cx="314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单元回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（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REVIEW</a:t>
            </a: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33520" y="2195640"/>
            <a:ext cx="934920" cy="6998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54040" y="3643200"/>
            <a:ext cx="1014480" cy="8254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630360" y="5091120"/>
            <a:ext cx="892080" cy="7002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724280" y="2209680"/>
            <a:ext cx="900360" cy="7606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4800600" y="3714840"/>
            <a:ext cx="888840" cy="780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4800600" y="5091120"/>
            <a:ext cx="892080" cy="7002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2150640" y="21337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纯洁的白色，纯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事实、数据和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55760" y="35812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红色代表情绪和感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还有预感和直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652120" y="50292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负面判断、为什么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行不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86520" y="2133720"/>
            <a:ext cx="3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阳光、明亮和乐观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肯定、建设和机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89120" y="35812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肥沃、有创意，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由种子产生，前进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诱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189120" y="50292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冷静和控制，乐团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挥，思考思维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43800" y="52484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57760" y="7761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替代传统思维的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1676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——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平行思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74176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黑体"/>
                <a:ea typeface="黑体"/>
              </a:rPr>
              <a:t>平行思维是一个管理我们思维本身的一种方法。它将我们的思维从不同侧面和角度进行分解，分别进行考虑，而不是同时考虑很多因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43800" y="524844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5200" y="3462480"/>
            <a:ext cx="1481040" cy="179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38720" y="548172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110120" y="548172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567320" y="548172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95920" y="548172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786280" y="407988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5634000" y="409428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6319800" y="409428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6091200" y="407988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4262400" y="255600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4110120" y="2570040"/>
            <a:ext cx="538200" cy="706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4795920" y="2570040"/>
            <a:ext cx="538200" cy="706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4567320" y="255600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2657520" y="4156200"/>
            <a:ext cx="538200" cy="706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6"/>
          <a:stretch/>
        </p:blipFill>
        <p:spPr>
          <a:xfrm>
            <a:off x="2505240" y="4170240"/>
            <a:ext cx="537840" cy="706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7"/>
          <a:stretch/>
        </p:blipFill>
        <p:spPr>
          <a:xfrm>
            <a:off x="3191040" y="4170240"/>
            <a:ext cx="537840" cy="706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8"/>
          <a:stretch/>
        </p:blipFill>
        <p:spPr>
          <a:xfrm>
            <a:off x="2962440" y="4156200"/>
            <a:ext cx="537840" cy="706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34000" y="5192640"/>
            <a:ext cx="838080" cy="538200"/>
          </a:xfrm>
          <a:custGeom>
            <a:avLst/>
            <a:gdLst>
              <a:gd name="textAreaLeft" fmla="*/ 279360 w 838080"/>
              <a:gd name="textAreaRight" fmla="*/ 717840 w 838080"/>
              <a:gd name="textAreaTop" fmla="*/ 290160 h 538200"/>
              <a:gd name="textAreaBottom" fmla="*/ 4611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14750"/>
                </a:moveTo>
                <a:lnTo>
                  <a:pt x="11650" y="14750"/>
                </a:lnTo>
                <a:lnTo>
                  <a:pt x="11650" y="7200"/>
                </a:lnTo>
                <a:lnTo>
                  <a:pt x="8550" y="7200"/>
                </a:lnTo>
                <a:lnTo>
                  <a:pt x="1507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 rot="16200000">
            <a:off x="2826720" y="5164920"/>
            <a:ext cx="777600" cy="658800"/>
          </a:xfrm>
          <a:custGeom>
            <a:avLst/>
            <a:gdLst>
              <a:gd name="textAreaLeft" fmla="*/ 259200 w 777600"/>
              <a:gd name="textAreaRight" fmla="*/ 666000 w 777600"/>
              <a:gd name="textAreaTop" fmla="*/ 365760 h 658800"/>
              <a:gd name="textAreaBottom" fmla="*/ 564480 h 658800"/>
            </a:gdLst>
            <a:ahLst/>
            <a:rect l="textAreaLeft" t="textAreaTop" r="textAreaRight" b="textAreaBottom"/>
            <a:pathLst>
              <a:path w="21600" h="21600">
                <a:moveTo>
                  <a:pt x="0" y="15096"/>
                </a:moveTo>
                <a:lnTo>
                  <a:pt x="11996" y="15096"/>
                </a:lnTo>
                <a:lnTo>
                  <a:pt x="11996" y="7200"/>
                </a:lnTo>
                <a:lnTo>
                  <a:pt x="8896" y="7200"/>
                </a:lnTo>
                <a:lnTo>
                  <a:pt x="15248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2733840" y="2966760"/>
            <a:ext cx="838080" cy="538200"/>
          </a:xfrm>
          <a:custGeom>
            <a:avLst/>
            <a:gdLst>
              <a:gd name="textAreaLeft" fmla="*/ 279360 w 838080"/>
              <a:gd name="textAreaRight" fmla="*/ 717840 w 838080"/>
              <a:gd name="textAreaTop" fmla="*/ 298800 h 538200"/>
              <a:gd name="textAreaBottom" fmla="*/ 4611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15096"/>
                </a:moveTo>
                <a:lnTo>
                  <a:pt x="11996" y="15096"/>
                </a:lnTo>
                <a:lnTo>
                  <a:pt x="11996" y="7200"/>
                </a:lnTo>
                <a:lnTo>
                  <a:pt x="8896" y="7200"/>
                </a:lnTo>
                <a:lnTo>
                  <a:pt x="15248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5636160" y="3121560"/>
            <a:ext cx="838080" cy="538200"/>
          </a:xfrm>
          <a:custGeom>
            <a:avLst/>
            <a:gdLst>
              <a:gd name="textAreaLeft" fmla="*/ 279360 w 838080"/>
              <a:gd name="textAreaRight" fmla="*/ 717840 w 838080"/>
              <a:gd name="textAreaTop" fmla="*/ 298800 h 538200"/>
              <a:gd name="textAreaBottom" fmla="*/ 4611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15096"/>
                </a:moveTo>
                <a:lnTo>
                  <a:pt x="11996" y="15096"/>
                </a:lnTo>
                <a:lnTo>
                  <a:pt x="11996" y="7200"/>
                </a:lnTo>
                <a:lnTo>
                  <a:pt x="8896" y="7200"/>
                </a:lnTo>
                <a:lnTo>
                  <a:pt x="15248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01200" y="1143000"/>
            <a:ext cx="173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平行思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黑体"/>
              </a:rPr>
              <a:t>同一个时间同时从一个角度和侧面进行思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21840" y="609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平行思维的工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1357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      ——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6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顶思考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981080"/>
            <a:ext cx="8229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一种有效地获取信息的技巧 （白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决策时恰当的情感、直觉和预感（红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如何在评估中使用逻辑性正面探索方式（黄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在评估中恰当、有限地使用谨慎地逻辑性反面探索方式（黑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创造性地真正意义及设计创造性解决问题的基本工具（绿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66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黑体"/>
                <a:ea typeface="黑体"/>
              </a:rPr>
              <a:t>变换认知——一种有效地主持会议不可或缺地技能（蓝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  <a:ea typeface="黑体"/>
              </a:rPr>
              <a:t>为什么是帽子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0120" y="5638680"/>
            <a:ext cx="1371600" cy="936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543480" y="6094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Times New Roman"/>
                <a:ea typeface="黑体"/>
              </a:rPr>
              <a:t>六顶思考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2895480"/>
            <a:ext cx="746748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不同的颜色的帽子代表不同的思考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容易转换思考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Times New Roman"/>
                <a:ea typeface="黑体"/>
              </a:rPr>
              <a:t>帽子为组织思维提供了框架，思维变得更加集中，更加有组织性，更有创造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11:26:24Z</dcterms:created>
  <dc:creator>http://mmrc.net</dc:creator>
  <dc:description/>
  <dc:language>en-US</dc:language>
  <cp:lastModifiedBy>qincy</cp:lastModifiedBy>
  <dcterms:modified xsi:type="dcterms:W3CDTF">2010-11-23T05:20:25Z</dcterms:modified>
  <cp:revision>281</cp:revision>
  <dc:subject/>
  <dc:title>PowerPoint 演示文稿</dc:title>
</cp:coreProperties>
</file>