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004-EFF1-450D-9A73-2AC1A86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91D-0D54-48AE-8189-0CE1D912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7CB-4DA7-46AE-8453-8EB62126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E9D-1061-4C8C-AD29-31DE0435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0F8-0297-4E7C-975D-C3E56C2F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6A7-55B3-4125-8275-E6A4EE19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68E-F325-44C6-A515-5351397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C1A-3770-4D93-9F02-ECC15CC4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13D-D8E6-48F8-84A5-3790DEB0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102-D045-4E02-A23F-490A954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DB5-498E-414F-9EBB-114B0C6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37C-FA0B-4596-A664-A778016C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443-6DFC-476D-A142-3F4A1DB8C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00680" y="5210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357800" y="549576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12T08:23:19Z</dcterms:modified>
  <cp:revision>115</cp:revision>
  <dc:subject/>
  <dc:title>幻灯片 1</dc:title>
</cp:coreProperties>
</file>