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681-1E2D-4625-83DF-80B98CDC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A78-E5AE-4483-8A7C-BCB7F125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D65-0CE6-4CEB-8584-5EDC892B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A62-0275-4361-9197-54F18D3E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98B-4F63-40F8-94F6-B8B46D2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654-C54E-4264-ABBF-09457A23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8B3-2130-4EA9-B1B8-E6433D55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381-AD49-4FA3-99F0-3AD422C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669-3936-4657-ADD9-EF78F9A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B87-C26B-4812-B617-5FF0BB7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404-0BD9-4DEC-9716-91E1EA0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513-8719-4A6A-82BA-384F991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D7A-7A3F-46EE-9BF4-78B1EFF161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905040" y="1273320"/>
            <a:ext cx="3958920" cy="3960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13"/>
          <p:cNvSpPr/>
          <p:nvPr/>
        </p:nvSpPr>
        <p:spPr>
          <a:xfrm>
            <a:off x="4500720" y="1273320"/>
            <a:ext cx="3958920" cy="39607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4681440" y="1450800"/>
            <a:ext cx="3597480" cy="360216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1206360" y="1930320"/>
            <a:ext cx="32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708200" y="368604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2319480" y="4322880"/>
            <a:ext cx="431640" cy="43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2392200" y="4387680"/>
            <a:ext cx="22248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椭圆 28"/>
          <p:cNvSpPr/>
          <p:nvPr/>
        </p:nvSpPr>
        <p:spPr>
          <a:xfrm>
            <a:off x="2987640" y="43228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3132000" y="4397400"/>
            <a:ext cx="195480" cy="284040"/>
          </a:xfrm>
          <a:prstGeom prst="rect">
            <a:avLst/>
          </a:prstGeom>
          <a:ln w="0">
            <a:noFill/>
          </a:ln>
        </p:spPr>
      </p:pic>
      <p:sp>
        <p:nvSpPr>
          <p:cNvPr id="52" name="矩形 19"/>
          <p:cNvSpPr/>
          <p:nvPr/>
        </p:nvSpPr>
        <p:spPr>
          <a:xfrm>
            <a:off x="8101080" y="5386320"/>
            <a:ext cx="142920" cy="144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30"/>
          <p:cNvSpPr/>
          <p:nvPr/>
        </p:nvSpPr>
        <p:spPr>
          <a:xfrm>
            <a:off x="8415360" y="5386320"/>
            <a:ext cx="14436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31"/>
          <p:cNvSpPr/>
          <p:nvPr/>
        </p:nvSpPr>
        <p:spPr>
          <a:xfrm>
            <a:off x="8748720" y="5386320"/>
            <a:ext cx="144360" cy="14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50920" y="1936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插入单位学校课程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174600" y="5018040"/>
            <a:ext cx="144360" cy="1429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1"/>
          <p:cNvSpPr/>
          <p:nvPr/>
        </p:nvSpPr>
        <p:spPr>
          <a:xfrm>
            <a:off x="417600" y="750960"/>
            <a:ext cx="8164440" cy="4643280"/>
          </a:xfrm>
          <a:prstGeom prst="roundRect">
            <a:avLst>
              <a:gd name="adj" fmla="val 46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4"/>
          <p:cNvSpPr/>
          <p:nvPr/>
        </p:nvSpPr>
        <p:spPr>
          <a:xfrm>
            <a:off x="7624800" y="282600"/>
            <a:ext cx="539640" cy="53964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948440" y="158760"/>
            <a:ext cx="1109880" cy="1109520"/>
          </a:xfrm>
          <a:prstGeom prst="rect">
            <a:avLst/>
          </a:prstGeom>
          <a:ln w="0">
            <a:noFill/>
          </a:ln>
        </p:spPr>
      </p:pic>
      <p:sp>
        <p:nvSpPr>
          <p:cNvPr id="62" name="矩形 31"/>
          <p:cNvSpPr/>
          <p:nvPr/>
        </p:nvSpPr>
        <p:spPr>
          <a:xfrm>
            <a:off x="520560" y="5267160"/>
            <a:ext cx="142920" cy="14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12840" y="5089680"/>
            <a:ext cx="252360" cy="252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6588000" y="4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前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0"/>
          <p:cNvSpPr/>
          <p:nvPr/>
        </p:nvSpPr>
        <p:spPr>
          <a:xfrm>
            <a:off x="174600" y="5018040"/>
            <a:ext cx="144360" cy="1429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1"/>
          <p:cNvSpPr/>
          <p:nvPr/>
        </p:nvSpPr>
        <p:spPr>
          <a:xfrm>
            <a:off x="417600" y="750960"/>
            <a:ext cx="8164440" cy="4643280"/>
          </a:xfrm>
          <a:prstGeom prst="roundRect">
            <a:avLst>
              <a:gd name="adj" fmla="val 46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4"/>
          <p:cNvSpPr/>
          <p:nvPr/>
        </p:nvSpPr>
        <p:spPr>
          <a:xfrm>
            <a:off x="7624800" y="282600"/>
            <a:ext cx="539640" cy="53964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948440" y="158760"/>
            <a:ext cx="1109880" cy="1109520"/>
          </a:xfrm>
          <a:prstGeom prst="rect">
            <a:avLst/>
          </a:prstGeom>
          <a:ln w="0">
            <a:noFill/>
          </a:ln>
        </p:spPr>
      </p:pic>
      <p:sp>
        <p:nvSpPr>
          <p:cNvPr id="71" name="矩形 31"/>
          <p:cNvSpPr/>
          <p:nvPr/>
        </p:nvSpPr>
        <p:spPr>
          <a:xfrm>
            <a:off x="520560" y="5267160"/>
            <a:ext cx="142920" cy="14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9"/>
          <p:cNvSpPr/>
          <p:nvPr/>
        </p:nvSpPr>
        <p:spPr>
          <a:xfrm>
            <a:off x="312840" y="5089680"/>
            <a:ext cx="252360" cy="252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6588000" y="4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1244520" y="1312920"/>
            <a:ext cx="6703920" cy="6271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6"/>
          <p:cNvSpPr/>
          <p:nvPr/>
        </p:nvSpPr>
        <p:spPr>
          <a:xfrm>
            <a:off x="1382760" y="1193760"/>
            <a:ext cx="792000" cy="86508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6"/>
          <p:cNvSpPr/>
          <p:nvPr/>
        </p:nvSpPr>
        <p:spPr>
          <a:xfrm>
            <a:off x="1252440" y="2297160"/>
            <a:ext cx="6704280" cy="6285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17"/>
          <p:cNvSpPr/>
          <p:nvPr/>
        </p:nvSpPr>
        <p:spPr>
          <a:xfrm>
            <a:off x="1390680" y="2179800"/>
            <a:ext cx="792000" cy="86328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1263600" y="3282840"/>
            <a:ext cx="6702480" cy="6289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20"/>
          <p:cNvSpPr/>
          <p:nvPr/>
        </p:nvSpPr>
        <p:spPr>
          <a:xfrm>
            <a:off x="1400040" y="3165480"/>
            <a:ext cx="792360" cy="863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1284120" y="4257720"/>
            <a:ext cx="6704280" cy="6285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22"/>
          <p:cNvSpPr/>
          <p:nvPr/>
        </p:nvSpPr>
        <p:spPr>
          <a:xfrm>
            <a:off x="1420920" y="4140360"/>
            <a:ext cx="792000" cy="86328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30"/>
          <p:cNvSpPr/>
          <p:nvPr/>
        </p:nvSpPr>
        <p:spPr>
          <a:xfrm>
            <a:off x="174600" y="5018040"/>
            <a:ext cx="144360" cy="1429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1"/>
          <p:cNvSpPr/>
          <p:nvPr/>
        </p:nvSpPr>
        <p:spPr>
          <a:xfrm>
            <a:off x="417600" y="750960"/>
            <a:ext cx="8164440" cy="4643280"/>
          </a:xfrm>
          <a:prstGeom prst="roundRect">
            <a:avLst>
              <a:gd name="adj" fmla="val 46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4"/>
          <p:cNvSpPr/>
          <p:nvPr/>
        </p:nvSpPr>
        <p:spPr>
          <a:xfrm>
            <a:off x="7624800" y="282600"/>
            <a:ext cx="539640" cy="53964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948440" y="158760"/>
            <a:ext cx="11098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矩形 31"/>
          <p:cNvSpPr/>
          <p:nvPr/>
        </p:nvSpPr>
        <p:spPr>
          <a:xfrm>
            <a:off x="520560" y="5267160"/>
            <a:ext cx="142920" cy="14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9"/>
          <p:cNvSpPr/>
          <p:nvPr/>
        </p:nvSpPr>
        <p:spPr>
          <a:xfrm>
            <a:off x="312840" y="5089680"/>
            <a:ext cx="252360" cy="252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1280" y="157320"/>
            <a:ext cx="51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正文部分，分别插入目录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174600" y="5018040"/>
            <a:ext cx="144360" cy="1429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圆角矩形 1"/>
          <p:cNvSpPr/>
          <p:nvPr/>
        </p:nvSpPr>
        <p:spPr>
          <a:xfrm>
            <a:off x="417600" y="750960"/>
            <a:ext cx="8164440" cy="4643280"/>
          </a:xfrm>
          <a:prstGeom prst="roundRect">
            <a:avLst>
              <a:gd name="adj" fmla="val 46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7624800" y="282600"/>
            <a:ext cx="539640" cy="53964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7948440" y="158760"/>
            <a:ext cx="110988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矩形 31"/>
          <p:cNvSpPr/>
          <p:nvPr/>
        </p:nvSpPr>
        <p:spPr>
          <a:xfrm>
            <a:off x="520560" y="5267160"/>
            <a:ext cx="142920" cy="14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312840" y="5089680"/>
            <a:ext cx="252360" cy="252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084720" y="46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结束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7"/>
          <p:cNvSpPr/>
          <p:nvPr/>
        </p:nvSpPr>
        <p:spPr>
          <a:xfrm>
            <a:off x="0" y="2219400"/>
            <a:ext cx="9144000" cy="3495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椭圆 4"/>
          <p:cNvSpPr/>
          <p:nvPr/>
        </p:nvSpPr>
        <p:spPr>
          <a:xfrm>
            <a:off x="905040" y="1273320"/>
            <a:ext cx="3958920" cy="3960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椭圆 13"/>
          <p:cNvSpPr/>
          <p:nvPr/>
        </p:nvSpPr>
        <p:spPr>
          <a:xfrm>
            <a:off x="4500720" y="1273320"/>
            <a:ext cx="3958920" cy="39607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81440" y="1450800"/>
            <a:ext cx="3597480" cy="360216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1187280" y="376704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椭圆 11"/>
          <p:cNvSpPr/>
          <p:nvPr/>
        </p:nvSpPr>
        <p:spPr>
          <a:xfrm>
            <a:off x="2319480" y="4322880"/>
            <a:ext cx="431640" cy="43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2392200" y="4387680"/>
            <a:ext cx="22248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椭圆 28"/>
          <p:cNvSpPr/>
          <p:nvPr/>
        </p:nvSpPr>
        <p:spPr>
          <a:xfrm>
            <a:off x="2987640" y="4322880"/>
            <a:ext cx="432000" cy="43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3132000" y="4397400"/>
            <a:ext cx="195480" cy="284040"/>
          </a:xfrm>
          <a:prstGeom prst="rect">
            <a:avLst/>
          </a:prstGeom>
          <a:ln w="0">
            <a:noFill/>
          </a:ln>
        </p:spPr>
      </p:pic>
      <p:sp>
        <p:nvSpPr>
          <p:cNvPr id="110" name="矩形 19"/>
          <p:cNvSpPr/>
          <p:nvPr/>
        </p:nvSpPr>
        <p:spPr>
          <a:xfrm>
            <a:off x="8101080" y="5386320"/>
            <a:ext cx="142920" cy="144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0"/>
          <p:cNvSpPr/>
          <p:nvPr/>
        </p:nvSpPr>
        <p:spPr>
          <a:xfrm>
            <a:off x="8415360" y="5386320"/>
            <a:ext cx="14436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1"/>
          <p:cNvSpPr/>
          <p:nvPr/>
        </p:nvSpPr>
        <p:spPr>
          <a:xfrm>
            <a:off x="8748720" y="5386320"/>
            <a:ext cx="144360" cy="144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4"/>
          <a:srcRect l="0" t="0" r="0" b="24027"/>
          <a:stretch/>
        </p:blipFill>
        <p:spPr>
          <a:xfrm>
            <a:off x="674640" y="1531800"/>
            <a:ext cx="4151520" cy="2024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8"/>
          <p:cNvSpPr/>
          <p:nvPr/>
        </p:nvSpPr>
        <p:spPr>
          <a:xfrm>
            <a:off x="250920" y="1936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插入单位学校课程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40:09Z</dcterms:created>
  <dc:creator>Liyiyuan</dc:creator>
  <dc:description/>
  <dc:language>en-US</dc:language>
  <cp:lastModifiedBy>Liyiyuan</cp:lastModifiedBy>
  <dcterms:modified xsi:type="dcterms:W3CDTF">2013-03-28T08:48:42Z</dcterms:modified>
  <cp:revision>1</cp:revision>
  <dc:subject/>
  <dc:title>PowerPoint 演示文稿</dc:title>
</cp:coreProperties>
</file>