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76F-4A76-4A37-BF5D-022C04C0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D9A-D975-4B40-B404-0EB3743F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0FA-C223-4DC5-BA00-34DBD182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9F6-B5E7-46CB-9374-20D2973B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2C4-B679-413E-B91D-2A127F0F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210-C052-4C5F-80E3-CABD6FD5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42F-4E4E-4559-97A3-C2A942C4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1D3-CDBB-49A4-8371-68FB6E85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AAF-6362-4D23-9F45-058A974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0C3-EAE1-4AD4-A57C-7D9C92D1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308-8EB7-4331-883C-C2EF9A9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538-7B88-4DA4-A479-B1326ED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C676-BCAE-44BA-9F96-FD639C8CC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5120" y="1447920"/>
            <a:ext cx="4876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艺术字与自选图形</a:t>
            </a:r>
            <a:endParaRPr b="1" i="1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867280" y="2438280"/>
            <a:ext cx="1752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实例</a:t>
            </a:r>
            <a:endParaRPr b="1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19520" y="502920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楷体_GB2312"/>
              </a:rPr>
              <a:t>鲁迅小学教育集团信息技术教研组</a:t>
            </a:r>
            <a:endParaRPr b="1" lang="en-US" sz="24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47920" y="1523880"/>
            <a:ext cx="3809880" cy="3810240"/>
            <a:chOff x="1447920" y="1523880"/>
            <a:chExt cx="3809880" cy="3810240"/>
          </a:xfrm>
        </p:grpSpPr>
        <p:sp>
          <p:nvSpPr>
            <p:cNvPr id="122" name=""/>
            <p:cNvSpPr/>
            <p:nvPr/>
          </p:nvSpPr>
          <p:spPr>
            <a:xfrm>
              <a:off x="1447920" y="1523880"/>
              <a:ext cx="3809880" cy="38102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911240" y="2023560"/>
              <a:ext cx="2902680" cy="2725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84032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绍 兴 市 鲁 迅 小 学</a:t>
              </a:r>
              <a:endParaRPr b="1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99080" y="2991240"/>
              <a:ext cx="967320" cy="9194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400800" y="1455840"/>
            <a:ext cx="23623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艺术字字型须选上弯弧形（字库第一行第三种），将艺术字外轮廓调整成与圆形大小相仿的正方形，微调艺术字的弧度，使之与圆的弧度相吻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艺术字每字之间应加入一个空格，避免出现笔划相连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五角星应位于圆的正中，可用“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Ctrl+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方向键”微调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圆形公章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600200" y="1600200"/>
            <a:ext cx="3581280" cy="3581280"/>
            <a:chOff x="1600200" y="1600200"/>
            <a:chExt cx="3581280" cy="3581280"/>
          </a:xfrm>
        </p:grpSpPr>
        <p:sp>
          <p:nvSpPr>
            <p:cNvPr id="129" name=""/>
            <p:cNvSpPr/>
            <p:nvPr/>
          </p:nvSpPr>
          <p:spPr>
            <a:xfrm>
              <a:off x="1600200" y="1600200"/>
              <a:ext cx="3581280" cy="3581280"/>
            </a:xfrm>
            <a:prstGeom prst="diamond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73680" y="1775520"/>
              <a:ext cx="671400" cy="47088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20" y="4320"/>
                  </a:lnTo>
                  <a:lnTo>
                    <a:pt x="12960" y="4320"/>
                  </a:lnTo>
                  <a:lnTo>
                    <a:pt x="12960" y="8640"/>
                  </a:lnTo>
                  <a:lnTo>
                    <a:pt x="17280" y="8640"/>
                  </a:lnTo>
                  <a:lnTo>
                    <a:pt x="17280" y="6480"/>
                  </a:lnTo>
                  <a:lnTo>
                    <a:pt x="21600" y="10800"/>
                  </a:lnTo>
                  <a:lnTo>
                    <a:pt x="17280" y="15120"/>
                  </a:lnTo>
                  <a:lnTo>
                    <a:pt x="17280" y="12960"/>
                  </a:lnTo>
                  <a:lnTo>
                    <a:pt x="4320" y="12960"/>
                  </a:lnTo>
                  <a:lnTo>
                    <a:pt x="4320" y="15120"/>
                  </a:lnTo>
                  <a:lnTo>
                    <a:pt x="0" y="10800"/>
                  </a:lnTo>
                  <a:lnTo>
                    <a:pt x="4320" y="6480"/>
                  </a:lnTo>
                  <a:lnTo>
                    <a:pt x="4320" y="8640"/>
                  </a:lnTo>
                  <a:lnTo>
                    <a:pt x="8640" y="8640"/>
                  </a:lnTo>
                  <a:lnTo>
                    <a:pt x="8640" y="4320"/>
                  </a:lnTo>
                  <a:lnTo>
                    <a:pt x="6480" y="4320"/>
                  </a:lnTo>
                  <a:close/>
                </a:path>
              </a:pathLst>
            </a:custGeom>
            <a:noFill/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3073320" y="4564800"/>
              <a:ext cx="671400" cy="47088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20" y="4320"/>
                  </a:lnTo>
                  <a:lnTo>
                    <a:pt x="12960" y="4320"/>
                  </a:lnTo>
                  <a:lnTo>
                    <a:pt x="12960" y="8640"/>
                  </a:lnTo>
                  <a:lnTo>
                    <a:pt x="17280" y="8640"/>
                  </a:lnTo>
                  <a:lnTo>
                    <a:pt x="17280" y="6480"/>
                  </a:lnTo>
                  <a:lnTo>
                    <a:pt x="21600" y="10800"/>
                  </a:lnTo>
                  <a:lnTo>
                    <a:pt x="17280" y="15120"/>
                  </a:lnTo>
                  <a:lnTo>
                    <a:pt x="17280" y="12960"/>
                  </a:lnTo>
                  <a:lnTo>
                    <a:pt x="4320" y="12960"/>
                  </a:lnTo>
                  <a:lnTo>
                    <a:pt x="4320" y="15120"/>
                  </a:lnTo>
                  <a:lnTo>
                    <a:pt x="0" y="10800"/>
                  </a:lnTo>
                  <a:lnTo>
                    <a:pt x="4320" y="6480"/>
                  </a:lnTo>
                  <a:lnTo>
                    <a:pt x="4320" y="8640"/>
                  </a:lnTo>
                  <a:lnTo>
                    <a:pt x="8640" y="8640"/>
                  </a:lnTo>
                  <a:lnTo>
                    <a:pt x="8640" y="4320"/>
                  </a:lnTo>
                  <a:lnTo>
                    <a:pt x="6480" y="4320"/>
                  </a:lnTo>
                  <a:close/>
                </a:path>
              </a:pathLst>
            </a:custGeom>
            <a:noFill/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4482720" y="3161160"/>
              <a:ext cx="671400" cy="47088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20" y="4320"/>
                  </a:lnTo>
                  <a:lnTo>
                    <a:pt x="12960" y="4320"/>
                  </a:lnTo>
                  <a:lnTo>
                    <a:pt x="12960" y="8640"/>
                  </a:lnTo>
                  <a:lnTo>
                    <a:pt x="17280" y="8640"/>
                  </a:lnTo>
                  <a:lnTo>
                    <a:pt x="17280" y="6480"/>
                  </a:lnTo>
                  <a:lnTo>
                    <a:pt x="21600" y="10800"/>
                  </a:lnTo>
                  <a:lnTo>
                    <a:pt x="17280" y="15120"/>
                  </a:lnTo>
                  <a:lnTo>
                    <a:pt x="17280" y="12960"/>
                  </a:lnTo>
                  <a:lnTo>
                    <a:pt x="4320" y="12960"/>
                  </a:lnTo>
                  <a:lnTo>
                    <a:pt x="4320" y="15120"/>
                  </a:lnTo>
                  <a:lnTo>
                    <a:pt x="0" y="10800"/>
                  </a:lnTo>
                  <a:lnTo>
                    <a:pt x="4320" y="6480"/>
                  </a:lnTo>
                  <a:lnTo>
                    <a:pt x="4320" y="8640"/>
                  </a:lnTo>
                  <a:lnTo>
                    <a:pt x="8640" y="8640"/>
                  </a:lnTo>
                  <a:lnTo>
                    <a:pt x="8640" y="4320"/>
                  </a:lnTo>
                  <a:lnTo>
                    <a:pt x="6480" y="4320"/>
                  </a:lnTo>
                  <a:close/>
                </a:path>
              </a:pathLst>
            </a:custGeom>
            <a:noFill/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1653840" y="3142080"/>
              <a:ext cx="671400" cy="47088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470880"/>
                <a:gd name="textAreaBottom" fmla="*/ 471240 h 47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20" y="4320"/>
                  </a:lnTo>
                  <a:lnTo>
                    <a:pt x="12960" y="4320"/>
                  </a:lnTo>
                  <a:lnTo>
                    <a:pt x="12960" y="8640"/>
                  </a:lnTo>
                  <a:lnTo>
                    <a:pt x="17280" y="8640"/>
                  </a:lnTo>
                  <a:lnTo>
                    <a:pt x="17280" y="6480"/>
                  </a:lnTo>
                  <a:lnTo>
                    <a:pt x="21600" y="10800"/>
                  </a:lnTo>
                  <a:lnTo>
                    <a:pt x="17280" y="15120"/>
                  </a:lnTo>
                  <a:lnTo>
                    <a:pt x="17280" y="12960"/>
                  </a:lnTo>
                  <a:lnTo>
                    <a:pt x="4320" y="12960"/>
                  </a:lnTo>
                  <a:lnTo>
                    <a:pt x="4320" y="15120"/>
                  </a:lnTo>
                  <a:lnTo>
                    <a:pt x="0" y="10800"/>
                  </a:lnTo>
                  <a:lnTo>
                    <a:pt x="4320" y="6480"/>
                  </a:lnTo>
                  <a:lnTo>
                    <a:pt x="4320" y="8640"/>
                  </a:lnTo>
                  <a:lnTo>
                    <a:pt x="8640" y="8640"/>
                  </a:lnTo>
                  <a:lnTo>
                    <a:pt x="8640" y="4320"/>
                  </a:lnTo>
                  <a:lnTo>
                    <a:pt x="6480" y="4320"/>
                  </a:lnTo>
                  <a:close/>
                </a:path>
              </a:pathLst>
            </a:custGeom>
            <a:noFill/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1022040" y="1070640"/>
              <a:ext cx="1566720" cy="155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华文行楷"/>
                </a:rPr>
                <a:t>福</a:t>
              </a:r>
              <a:endParaRPr b="1" lang="en-US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400800" y="1488960"/>
            <a:ext cx="236232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底图为“菱形”，装饰图案为“丁字箭头”，经复制、粘贴、旋转后放置于四角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“福”字用艺术字制作完成后，自由旋转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福字门贴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447920"/>
            <a:ext cx="3885840" cy="3885840"/>
            <a:chOff x="1371600" y="1447920"/>
            <a:chExt cx="3885840" cy="3885840"/>
          </a:xfrm>
        </p:grpSpPr>
        <p:grpSp>
          <p:nvGrpSpPr>
            <p:cNvPr id="139" name=""/>
            <p:cNvGrpSpPr/>
            <p:nvPr/>
          </p:nvGrpSpPr>
          <p:grpSpPr>
            <a:xfrm>
              <a:off x="2679840" y="1447920"/>
              <a:ext cx="1230480" cy="3415680"/>
              <a:chOff x="2679840" y="1447920"/>
              <a:chExt cx="1230480" cy="3415680"/>
            </a:xfrm>
          </p:grpSpPr>
          <p:sp>
            <p:nvSpPr>
              <p:cNvPr id="140" name=""/>
              <p:cNvSpPr/>
              <p:nvPr/>
            </p:nvSpPr>
            <p:spPr>
              <a:xfrm rot="2569800">
                <a:off x="2898360" y="1686240"/>
                <a:ext cx="277920" cy="75168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8499800">
                <a:off x="3392640" y="1595160"/>
                <a:ext cx="289080" cy="72216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569800">
                <a:off x="2898360" y="2062080"/>
                <a:ext cx="277920" cy="75204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8499800">
                <a:off x="3392640" y="1971000"/>
                <a:ext cx="289080" cy="72216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569800">
                <a:off x="2898360" y="2437920"/>
                <a:ext cx="277920" cy="75204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8499800">
                <a:off x="3392640" y="2346840"/>
                <a:ext cx="289080" cy="72216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569800">
                <a:off x="2898360" y="2814480"/>
                <a:ext cx="277920" cy="75168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8499800">
                <a:off x="3392640" y="2723040"/>
                <a:ext cx="289080" cy="72216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569800">
                <a:off x="2898360" y="3190320"/>
                <a:ext cx="277920" cy="75168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8499800">
                <a:off x="3392640" y="3098880"/>
                <a:ext cx="289080" cy="72216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569800">
                <a:off x="2898360" y="3565800"/>
                <a:ext cx="277920" cy="75204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8499800">
                <a:off x="3392640" y="3474720"/>
                <a:ext cx="289080" cy="72216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569800">
                <a:off x="2898360" y="3942000"/>
                <a:ext cx="277920" cy="75204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8499800">
                <a:off x="3392640" y="3850920"/>
                <a:ext cx="289080" cy="722160"/>
              </a:xfrm>
              <a:prstGeom prst="can">
                <a:avLst>
                  <a:gd name="adj" fmla="val 6305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569800">
                <a:off x="2898360" y="4443480"/>
                <a:ext cx="277920" cy="375840"/>
              </a:xfrm>
              <a:prstGeom prst="can">
                <a:avLst>
                  <a:gd name="adj" fmla="val 12958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8499800">
                <a:off x="3345840" y="4411800"/>
                <a:ext cx="289080" cy="351720"/>
              </a:xfrm>
              <a:prstGeom prst="can">
                <a:avLst>
                  <a:gd name="adj" fmla="val 17120"/>
                </a:avLst>
              </a:prstGeom>
              <a:gradFill rotWithShape="0">
                <a:gsLst>
                  <a:gs pos="0">
                    <a:srgbClr val="350000"/>
                  </a:gs>
                  <a:gs pos="50000">
                    <a:srgbClr val="ff0000"/>
                  </a:gs>
                  <a:gs pos="100000">
                    <a:srgbClr val="35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06800" y="1447920"/>
                <a:ext cx="173520" cy="349200"/>
              </a:xfrm>
              <a:custGeom>
                <a:avLst/>
                <a:gdLst/>
                <a:ahLst/>
                <a:rect l="l" t="t" r="r" b="b"/>
                <a:pathLst>
                  <a:path w="225" h="435">
                    <a:moveTo>
                      <a:pt x="0" y="0"/>
                    </a:moveTo>
                    <a:cubicBezTo>
                      <a:pt x="46" y="69"/>
                      <a:pt x="92" y="137"/>
                      <a:pt x="150" y="195"/>
                    </a:cubicBezTo>
                    <a:cubicBezTo>
                      <a:pt x="160" y="225"/>
                      <a:pt x="176" y="254"/>
                      <a:pt x="180" y="285"/>
                    </a:cubicBezTo>
                    <a:cubicBezTo>
                      <a:pt x="185" y="325"/>
                      <a:pt x="183" y="366"/>
                      <a:pt x="195" y="405"/>
                    </a:cubicBezTo>
                    <a:cubicBezTo>
                      <a:pt x="199" y="419"/>
                      <a:pt x="215" y="425"/>
                      <a:pt x="225" y="4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37320" y="4192920"/>
                <a:ext cx="555480" cy="501120"/>
              </a:xfrm>
              <a:prstGeom prst="irregularSeal1">
                <a:avLst/>
              </a:prstGeom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1371600" y="1447920"/>
              <a:ext cx="971640" cy="3885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0560" y="1697040"/>
              <a:ext cx="693720" cy="338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5400000">
              <a:off x="268920" y="3220920"/>
              <a:ext cx="3189240" cy="421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行楷"/>
                </a:rPr>
                <a:t>爆竹声中一岁除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86160" y="1447920"/>
              <a:ext cx="971280" cy="3885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4760" y="1697040"/>
              <a:ext cx="694080" cy="338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5400000">
              <a:off x="3183480" y="3220920"/>
              <a:ext cx="3189240" cy="421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行楷"/>
                </a:rPr>
                <a:t>春风送暖入屠苏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400800" y="1565280"/>
            <a:ext cx="23623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圆柱体的鞭炮进行自由旋转，两个为一组进行复制粘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最后一个鞭炮可制成炸开的形状，“星与旗帜”种有两种爆炸形可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春联鞭炮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438280" y="838080"/>
            <a:ext cx="1676520" cy="5105520"/>
            <a:chOff x="2438280" y="838080"/>
            <a:chExt cx="1676520" cy="5105520"/>
          </a:xfrm>
        </p:grpSpPr>
        <p:sp>
          <p:nvSpPr>
            <p:cNvPr id="46" name=""/>
            <p:cNvSpPr/>
            <p:nvPr/>
          </p:nvSpPr>
          <p:spPr>
            <a:xfrm>
              <a:off x="2438280" y="838080"/>
              <a:ext cx="1676520" cy="510552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 rot="5400000">
              <a:off x="1074240" y="2912760"/>
              <a:ext cx="4403520" cy="9579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808080"/>
                    </a:solidFill>
                    <a:miter/>
                  </a:ln>
                  <a:noFill/>
                  <a:effectLst>
                    <a:outerShdw dist="17819" dir="2700000" blurRad="0" rotWithShape="0">
                      <a:srgbClr val="4c4c4c"/>
                    </a:outerShdw>
                  </a:effectLst>
                  <a:latin typeface="文鼎小标宋简"/>
                </a:rPr>
                <a:t>鲁迅小学</a:t>
              </a:r>
              <a:endParaRPr b="1" lang="en-US" sz="2400" spc="-1" strike="noStrike">
                <a:ln w="9360">
                  <a:solidFill>
                    <a:srgbClr val="808080"/>
                  </a:solidFill>
                  <a:miter/>
                </a:ln>
                <a:noFill/>
                <a:effectLst>
                  <a:outerShdw dist="17819" dir="2700000" blurRad="0" rotWithShape="0">
                    <a:srgbClr val="4c4c4c"/>
                  </a:outerShdw>
                </a:effectLst>
                <a:latin typeface="文鼎小标宋简"/>
                <a:ea typeface="文鼎小标宋简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400800" y="1565280"/>
            <a:ext cx="236232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“自选图形”中选“棱台”，并调整好台面大小；设置纹理为“白色大理石”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艺术字填充方式为“无填充色”，宜用笔划教粗的字体，并适当使用阴影效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石刻校牌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286000"/>
            <a:ext cx="4572000" cy="1828800"/>
            <a:chOff x="990720" y="2286000"/>
            <a:chExt cx="4572000" cy="1828800"/>
          </a:xfrm>
        </p:grpSpPr>
        <p:sp>
          <p:nvSpPr>
            <p:cNvPr id="52" name=""/>
            <p:cNvSpPr/>
            <p:nvPr/>
          </p:nvSpPr>
          <p:spPr>
            <a:xfrm>
              <a:off x="990720" y="2286000"/>
              <a:ext cx="142920" cy="1828800"/>
            </a:xfrm>
            <a:prstGeom prst="can">
              <a:avLst>
                <a:gd name="adj" fmla="val 4166"/>
              </a:avLst>
            </a:prstGeom>
            <a:gradFill rotWithShape="0">
              <a:gsLst>
                <a:gs pos="0">
                  <a:srgbClr val="352000"/>
                </a:gs>
                <a:gs pos="50000">
                  <a:srgbClr val="ff9900"/>
                </a:gs>
                <a:gs pos="100000">
                  <a:srgbClr val="352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31120" y="2451960"/>
              <a:ext cx="4286160" cy="1496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47880" y="2618280"/>
              <a:ext cx="2857320" cy="11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9800" y="2286000"/>
              <a:ext cx="142920" cy="1828800"/>
            </a:xfrm>
            <a:prstGeom prst="can">
              <a:avLst>
                <a:gd name="adj" fmla="val 4166"/>
              </a:avLst>
            </a:prstGeom>
            <a:gradFill rotWithShape="0">
              <a:gsLst>
                <a:gs pos="0">
                  <a:srgbClr val="352000"/>
                </a:gs>
                <a:gs pos="50000">
                  <a:srgbClr val="ff9900"/>
                </a:gs>
                <a:gs pos="100000">
                  <a:srgbClr val="352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2133720" y="2848320"/>
              <a:ext cx="228600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000000"/>
                    </a:outerShdw>
                  </a:effectLst>
                  <a:latin typeface="方正舒体"/>
                </a:rPr>
                <a:t>鲁迅小学</a:t>
              </a:r>
              <a:endParaRPr b="0" lang="en-US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方正舒体"/>
                <a:ea typeface="方正舒体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400800" y="1563840"/>
            <a:ext cx="23623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由矩形、圆柱形、艺术字等组成；一般从最底层的图形开始做起，要注意顺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圆柱调细前宜先将圆柱上面调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两条一样的圆柱宜用“复制”、“粘贴”的方法绘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书法卷轴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86000" y="685800"/>
            <a:ext cx="304560" cy="5257800"/>
            <a:chOff x="2286000" y="685800"/>
            <a:chExt cx="304560" cy="5257800"/>
          </a:xfrm>
        </p:grpSpPr>
        <p:sp>
          <p:nvSpPr>
            <p:cNvPr id="61" name=""/>
            <p:cNvSpPr/>
            <p:nvPr/>
          </p:nvSpPr>
          <p:spPr>
            <a:xfrm>
              <a:off x="2286000" y="685800"/>
              <a:ext cx="304560" cy="5257800"/>
            </a:xfrm>
            <a:prstGeom prst="can">
              <a:avLst>
                <a:gd name="adj" fmla="val 2162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0" y="685800"/>
              <a:ext cx="304560" cy="4272120"/>
            </a:xfrm>
            <a:prstGeom prst="can">
              <a:avLst>
                <a:gd name="adj" fmla="val 2439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86000" y="685800"/>
              <a:ext cx="304560" cy="985680"/>
            </a:xfrm>
            <a:prstGeom prst="can">
              <a:avLst>
                <a:gd name="adj" fmla="val 5768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400800" y="1550880"/>
            <a:ext cx="23623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由三个长短不同的圆柱叠放而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圆柱的填充效果宜用单色渐变填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685800"/>
            <a:ext cx="228600" cy="5181480"/>
          </a:xfrm>
          <a:custGeom>
            <a:avLst/>
            <a:gdLst>
              <a:gd name="textAreaLeft" fmla="*/ 0 w 228600"/>
              <a:gd name="textAreaRight" fmla="*/ 82440 w 2286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85800"/>
            <a:ext cx="304560" cy="4267080"/>
          </a:xfrm>
          <a:custGeom>
            <a:avLst/>
            <a:gdLst>
              <a:gd name="textAreaLeft" fmla="*/ 0 w 304560"/>
              <a:gd name="textAreaRight" fmla="*/ 109800 w 30456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7621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59200" y="2819520"/>
            <a:ext cx="546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圆柱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8760" y="2362320"/>
            <a:ext cx="91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圆柱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75960" y="762120"/>
            <a:ext cx="91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圆柱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金箍棒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676520" y="2057040"/>
            <a:ext cx="3429000" cy="3352680"/>
            <a:chOff x="1676520" y="2057040"/>
            <a:chExt cx="3429000" cy="3352680"/>
          </a:xfrm>
        </p:grpSpPr>
        <p:sp>
          <p:nvSpPr>
            <p:cNvPr id="74" name=""/>
            <p:cNvSpPr/>
            <p:nvPr/>
          </p:nvSpPr>
          <p:spPr>
            <a:xfrm flipV="1">
              <a:off x="1676520" y="2056320"/>
              <a:ext cx="3429000" cy="1764360"/>
            </a:xfrm>
            <a:custGeom>
              <a:avLst/>
              <a:gdLst>
                <a:gd name="textAreaLeft" fmla="*/ 423360 w 3429000"/>
                <a:gd name="textAreaRight" fmla="*/ 3005640 w 3429000"/>
                <a:gd name="textAreaTop" fmla="*/ 217800 h 1764360"/>
                <a:gd name="textAreaBottom" fmla="*/ 1546560 h 176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49" y="21600"/>
                  </a:lnTo>
                  <a:lnTo>
                    <a:pt x="165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bcbc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928520" y="2229120"/>
              <a:ext cx="2958120" cy="1418040"/>
            </a:xfrm>
            <a:custGeom>
              <a:avLst/>
              <a:gdLst>
                <a:gd name="textAreaLeft" fmla="*/ 365040 w 2958120"/>
                <a:gd name="textAreaRight" fmla="*/ 2593080 w 2958120"/>
                <a:gd name="textAreaTop" fmla="*/ 174960 h 1418040"/>
                <a:gd name="textAreaBottom" fmla="*/ 1243080 h 141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49" y="21600"/>
                  </a:lnTo>
                  <a:lnTo>
                    <a:pt x="165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158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8080" y="3821760"/>
              <a:ext cx="605160" cy="1587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2281320" y="2583360"/>
              <a:ext cx="2218680" cy="70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0000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华文新魏"/>
                </a:rPr>
                <a:t>严禁垂钓</a:t>
              </a:r>
              <a:endPara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0000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400800" y="1459080"/>
            <a:ext cx="23623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“自选图形”中选梯形，填充效果选“铬色”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为配合铬色效果，艺术字宜选“斜向单色渐变”填充效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指示牌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33720" y="1600200"/>
            <a:ext cx="3429000" cy="3146400"/>
            <a:chOff x="2133720" y="1600200"/>
            <a:chExt cx="3429000" cy="3146400"/>
          </a:xfrm>
        </p:grpSpPr>
        <p:sp>
          <p:nvSpPr>
            <p:cNvPr id="82" name=""/>
            <p:cNvSpPr/>
            <p:nvPr/>
          </p:nvSpPr>
          <p:spPr>
            <a:xfrm>
              <a:off x="2495520" y="2359800"/>
              <a:ext cx="707040" cy="957600"/>
            </a:xfrm>
            <a:custGeom>
              <a:avLst/>
              <a:gdLst/>
              <a:ahLst/>
              <a:rect l="l" t="t" r="r" b="b"/>
              <a:pathLst>
                <a:path w="631" h="855">
                  <a:moveTo>
                    <a:pt x="337" y="0"/>
                  </a:moveTo>
                  <a:cubicBezTo>
                    <a:pt x="459" y="20"/>
                    <a:pt x="488" y="31"/>
                    <a:pt x="577" y="120"/>
                  </a:cubicBezTo>
                  <a:cubicBezTo>
                    <a:pt x="604" y="200"/>
                    <a:pt x="631" y="231"/>
                    <a:pt x="562" y="300"/>
                  </a:cubicBezTo>
                  <a:cubicBezTo>
                    <a:pt x="549" y="313"/>
                    <a:pt x="532" y="320"/>
                    <a:pt x="517" y="330"/>
                  </a:cubicBezTo>
                  <a:cubicBezTo>
                    <a:pt x="472" y="398"/>
                    <a:pt x="385" y="469"/>
                    <a:pt x="307" y="495"/>
                  </a:cubicBezTo>
                  <a:cubicBezTo>
                    <a:pt x="253" y="549"/>
                    <a:pt x="191" y="588"/>
                    <a:pt x="127" y="630"/>
                  </a:cubicBezTo>
                  <a:cubicBezTo>
                    <a:pt x="15" y="705"/>
                    <a:pt x="144" y="654"/>
                    <a:pt x="37" y="690"/>
                  </a:cubicBezTo>
                  <a:cubicBezTo>
                    <a:pt x="27" y="720"/>
                    <a:pt x="17" y="750"/>
                    <a:pt x="7" y="780"/>
                  </a:cubicBezTo>
                  <a:cubicBezTo>
                    <a:pt x="0" y="800"/>
                    <a:pt x="36" y="811"/>
                    <a:pt x="52" y="825"/>
                  </a:cubicBezTo>
                  <a:cubicBezTo>
                    <a:pt x="66" y="837"/>
                    <a:pt x="97" y="855"/>
                    <a:pt x="97" y="85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86520" y="2191680"/>
              <a:ext cx="403200" cy="1142640"/>
            </a:xfrm>
            <a:custGeom>
              <a:avLst/>
              <a:gdLst/>
              <a:ahLst/>
              <a:rect l="l" t="t" r="r" b="b"/>
              <a:pathLst>
                <a:path w="360" h="1020">
                  <a:moveTo>
                    <a:pt x="120" y="0"/>
                  </a:moveTo>
                  <a:cubicBezTo>
                    <a:pt x="127" y="70"/>
                    <a:pt x="120" y="195"/>
                    <a:pt x="180" y="255"/>
                  </a:cubicBezTo>
                  <a:cubicBezTo>
                    <a:pt x="216" y="291"/>
                    <a:pt x="273" y="302"/>
                    <a:pt x="315" y="330"/>
                  </a:cubicBezTo>
                  <a:cubicBezTo>
                    <a:pt x="325" y="360"/>
                    <a:pt x="335" y="390"/>
                    <a:pt x="345" y="420"/>
                  </a:cubicBezTo>
                  <a:cubicBezTo>
                    <a:pt x="350" y="435"/>
                    <a:pt x="360" y="465"/>
                    <a:pt x="360" y="465"/>
                  </a:cubicBezTo>
                  <a:cubicBezTo>
                    <a:pt x="333" y="545"/>
                    <a:pt x="346" y="553"/>
                    <a:pt x="285" y="600"/>
                  </a:cubicBezTo>
                  <a:cubicBezTo>
                    <a:pt x="257" y="622"/>
                    <a:pt x="220" y="635"/>
                    <a:pt x="195" y="660"/>
                  </a:cubicBezTo>
                  <a:cubicBezTo>
                    <a:pt x="139" y="716"/>
                    <a:pt x="170" y="698"/>
                    <a:pt x="105" y="720"/>
                  </a:cubicBezTo>
                  <a:cubicBezTo>
                    <a:pt x="95" y="735"/>
                    <a:pt x="88" y="752"/>
                    <a:pt x="75" y="765"/>
                  </a:cubicBezTo>
                  <a:cubicBezTo>
                    <a:pt x="62" y="778"/>
                    <a:pt x="40" y="780"/>
                    <a:pt x="30" y="795"/>
                  </a:cubicBezTo>
                  <a:cubicBezTo>
                    <a:pt x="13" y="822"/>
                    <a:pt x="0" y="885"/>
                    <a:pt x="0" y="885"/>
                  </a:cubicBezTo>
                  <a:cubicBezTo>
                    <a:pt x="8" y="926"/>
                    <a:pt x="8" y="976"/>
                    <a:pt x="45" y="1005"/>
                  </a:cubicBezTo>
                  <a:cubicBezTo>
                    <a:pt x="57" y="1015"/>
                    <a:pt x="90" y="1020"/>
                    <a:pt x="90" y="10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653560" y="3171960"/>
              <a:ext cx="2622240" cy="252000"/>
              <a:chOff x="2653560" y="3171960"/>
              <a:chExt cx="2622240" cy="252000"/>
            </a:xfrm>
          </p:grpSpPr>
          <p:sp>
            <p:nvSpPr>
              <p:cNvPr id="85" name=""/>
              <p:cNvSpPr/>
              <p:nvPr/>
            </p:nvSpPr>
            <p:spPr>
              <a:xfrm rot="5400000">
                <a:off x="3838680" y="1986480"/>
                <a:ext cx="252000" cy="2622240"/>
              </a:xfrm>
              <a:prstGeom prst="can">
                <a:avLst>
                  <a:gd name="adj" fmla="val 2819"/>
                </a:avLst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5400000">
                <a:off x="4731120" y="2879280"/>
                <a:ext cx="252000" cy="837000"/>
              </a:xfrm>
              <a:prstGeom prst="can">
                <a:avLst>
                  <a:gd name="adj" fmla="val 10842"/>
                </a:avLst>
              </a:pr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133720" y="1600200"/>
              <a:ext cx="3429000" cy="3146400"/>
            </a:xfrm>
            <a:prstGeom prst="noSmoking">
              <a:avLst>
                <a:gd name="adj" fmla="val 8333"/>
              </a:avLst>
            </a:prstGeom>
            <a:gradFill rotWithShape="0">
              <a:gsLst>
                <a:gs pos="0">
                  <a:srgbClr val="540000"/>
                </a:gs>
                <a:gs pos="50000">
                  <a:srgbClr val="ff0000"/>
                </a:gs>
                <a:gs pos="100000">
                  <a:srgbClr val="54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 rot="5400000">
            <a:off x="106920" y="2864520"/>
            <a:ext cx="2878200" cy="80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严禁吸烟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579680"/>
            <a:ext cx="23623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香烟由两个长短不同的圆柱叠放、旋转而成，建议组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烟的形状可用自选图形线条类中的自由线条绘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自选图形基本形状中含禁止符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禁烟标志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43000" y="3048120"/>
            <a:ext cx="4267080" cy="1774800"/>
            <a:chOff x="1143000" y="3048120"/>
            <a:chExt cx="4267080" cy="1774800"/>
          </a:xfrm>
        </p:grpSpPr>
        <p:sp>
          <p:nvSpPr>
            <p:cNvPr id="93" name=""/>
            <p:cNvSpPr/>
            <p:nvPr/>
          </p:nvSpPr>
          <p:spPr>
            <a:xfrm>
              <a:off x="1143000" y="3579840"/>
              <a:ext cx="1508040" cy="1128960"/>
            </a:xfrm>
            <a:prstGeom prst="can">
              <a:avLst>
                <a:gd name="adj" fmla="val 35254"/>
              </a:avLst>
            </a:prstGeom>
            <a:gradFill rotWithShape="0">
              <a:gsLst>
                <a:gs pos="0">
                  <a:srgbClr val="262626"/>
                </a:gs>
                <a:gs pos="50000">
                  <a:srgbClr val="ffffff"/>
                </a:gs>
                <a:gs pos="100000">
                  <a:srgbClr val="26262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02040" y="3854520"/>
              <a:ext cx="1508040" cy="806400"/>
            </a:xfrm>
            <a:prstGeom prst="can">
              <a:avLst>
                <a:gd name="adj" fmla="val 43847"/>
              </a:avLst>
            </a:prstGeom>
            <a:gradFill rotWithShape="0">
              <a:gsLst>
                <a:gs pos="0">
                  <a:srgbClr val="160d00"/>
                </a:gs>
                <a:gs pos="50000">
                  <a:srgbClr val="ff9900"/>
                </a:gs>
                <a:gs pos="100000">
                  <a:srgbClr val="160d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2240" y="3048120"/>
              <a:ext cx="1506240" cy="1774800"/>
            </a:xfrm>
            <a:prstGeom prst="can">
              <a:avLst>
                <a:gd name="adj" fmla="val 2477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3132000" y="3854520"/>
              <a:ext cx="285840" cy="74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1</a:t>
              </a:r>
              <a:endPara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731960" y="4087800"/>
              <a:ext cx="285840" cy="47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2</a:t>
              </a:r>
              <a:endPara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4594320" y="4267440"/>
              <a:ext cx="2854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9933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3</a:t>
              </a:r>
              <a:endPara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400800" y="1565280"/>
            <a:ext cx="23623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由三个高低不同的圆柱排放而成，并调整好圆柱上面的大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圆柱的填充效果宜用单色渐变填充，尽量体现金、银、铜等金属的色泽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领奖台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19320" y="1295280"/>
            <a:ext cx="4115880" cy="4185000"/>
            <a:chOff x="1219320" y="1295280"/>
            <a:chExt cx="4115880" cy="4185000"/>
          </a:xfrm>
        </p:grpSpPr>
        <p:sp>
          <p:nvSpPr>
            <p:cNvPr id="103" name=""/>
            <p:cNvSpPr/>
            <p:nvPr/>
          </p:nvSpPr>
          <p:spPr>
            <a:xfrm>
              <a:off x="1389600" y="1307160"/>
              <a:ext cx="3945600" cy="2659320"/>
            </a:xfrm>
            <a:custGeom>
              <a:avLst/>
              <a:gdLst>
                <a:gd name="textAreaLeft" fmla="*/ 298800 w 3945600"/>
                <a:gd name="textAreaRight" fmla="*/ 3646800 w 3945600"/>
                <a:gd name="textAreaTop" fmla="*/ 326160 h 2659320"/>
                <a:gd name="textAreaBottom" fmla="*/ 233316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25"/>
                  </a:moveTo>
                  <a:cubicBezTo>
                    <a:pt x="6382" y="-3369"/>
                    <a:pt x="13582" y="6019"/>
                    <a:pt x="19964" y="1325"/>
                  </a:cubicBezTo>
                  <a:lnTo>
                    <a:pt x="21600" y="20275"/>
                  </a:lnTo>
                  <a:cubicBezTo>
                    <a:pt x="15218" y="24969"/>
                    <a:pt x="8018" y="15581"/>
                    <a:pt x="1636" y="20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540000"/>
                </a:gs>
                <a:gs pos="50000">
                  <a:srgbClr val="ff0000"/>
                </a:gs>
                <a:gs pos="100000">
                  <a:srgbClr val="54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81920" y="1560600"/>
              <a:ext cx="584280" cy="5551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9311000">
              <a:off x="2412360" y="1433520"/>
              <a:ext cx="207000" cy="2019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9467600">
              <a:off x="2558880" y="1696680"/>
              <a:ext cx="207000" cy="2019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8040" y="1991880"/>
              <a:ext cx="207000" cy="2019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9764000">
              <a:off x="2266200" y="2193480"/>
              <a:ext cx="206640" cy="2019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192600">
              <a:off x="1498680" y="1433520"/>
              <a:ext cx="146160" cy="4052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ffffff"/>
                </a:gs>
                <a:gs pos="100000">
                  <a:srgbClr val="45454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1295280"/>
              <a:ext cx="206640" cy="2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d2d2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120400" y="3966840"/>
              <a:ext cx="2983680" cy="66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0000"/>
                      </a:gs>
                      <a:gs pos="100000">
                        <a:srgbClr val="ffff00"/>
                      </a:gs>
                    </a:gsLst>
                    <a:lin ang="135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华文中宋"/>
                </a:rPr>
                <a:t>心中有祖国</a:t>
              </a:r>
              <a:endParaRPr b="1" i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华文中宋"/>
                <a:ea typeface="华文中宋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400800" y="1531800"/>
            <a:ext cx="236232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用“波形旗帜”绘制旗面，调整好波幅和倾斜，使用纵向单色渐变填充旗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用矩形或圆柱形绘制旗杆，并渐变填充，用“自由旋转”使其与旗面的倾斜角度一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四个小星用复制、粘贴法绘制，排放好后，用“自由旋转”使其均有一角对准大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五星红旗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533520"/>
            <a:ext cx="5486400" cy="5715000"/>
          </a:xfrm>
          <a:custGeom>
            <a:avLst/>
            <a:gdLst>
              <a:gd name="textAreaLeft" fmla="*/ 91440 w 5486400"/>
              <a:gd name="textAreaRight" fmla="*/ 5394960 w 5486400"/>
              <a:gd name="textAreaTop" fmla="*/ 91440 h 5715000"/>
              <a:gd name="textAreaBottom" fmla="*/ 5623560 h 5715000"/>
            </a:gdLst>
            <a:ahLst/>
            <a:rect l="textAreaLeft" t="textAreaTop" r="textAreaRight" b="textAreaBottom"/>
            <a:pathLst>
              <a:path w="21600" h="22500">
                <a:moveTo>
                  <a:pt x="1232" y="0"/>
                </a:moveTo>
                <a:arcTo wR="1232" hR="1232" stAng="16200000" swAng="-5400000"/>
                <a:lnTo>
                  <a:pt x="0" y="21268"/>
                </a:lnTo>
                <a:arcTo wR="1232" hR="1232" stAng="10800000" swAng="-5400000"/>
                <a:lnTo>
                  <a:pt x="20368" y="22500"/>
                </a:lnTo>
                <a:arcTo wR="1232" hR="1232" stAng="5400000" swAng="-5400000"/>
                <a:lnTo>
                  <a:pt x="21600" y="1232"/>
                </a:lnTo>
                <a:arcTo wR="1232" hR="1232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676520" y="1752480"/>
            <a:ext cx="3200400" cy="2975040"/>
            <a:chOff x="1676520" y="1752480"/>
            <a:chExt cx="3200400" cy="2975040"/>
          </a:xfrm>
        </p:grpSpPr>
        <p:sp>
          <p:nvSpPr>
            <p:cNvPr id="116" name=""/>
            <p:cNvSpPr/>
            <p:nvPr/>
          </p:nvSpPr>
          <p:spPr>
            <a:xfrm>
              <a:off x="1676520" y="1752480"/>
              <a:ext cx="3200400" cy="29750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905120" y="1950840"/>
              <a:ext cx="2742840" cy="257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华文新魏"/>
                </a:rPr>
                <a:t>小鲁</a:t>
              </a:r>
              <a:endParaRPr b="1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华文新魏"/>
                </a:rPr>
                <a:t>学迅</a:t>
              </a:r>
              <a:endParaRPr b="1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400800" y="1488960"/>
            <a:ext cx="23623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制作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先绘制正方形，填充为白色或透明，红色边线宜略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a50021"/>
                </a:solidFill>
                <a:latin typeface="Times New Roman"/>
              </a:rPr>
              <a:t>、艺术字可一次性分两行输入（要注意顺序），也可分成四个单独的艺术字在正方形内排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77120" y="762120"/>
            <a:ext cx="19810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行楷"/>
              </a:rPr>
              <a:t>方形私章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1:59:26Z</dcterms:created>
  <dc:creator>TX</dc:creator>
  <dc:description/>
  <dc:language>en-US</dc:language>
  <cp:lastModifiedBy>TX</cp:lastModifiedBy>
  <dcterms:modified xsi:type="dcterms:W3CDTF">2015-07-29T01:39:31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