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DD8-3A34-4A45-96E8-6FBAD9D2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1CC-E867-49CA-BC2E-4740E4AD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74D4-B312-4141-9323-643A4C2E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D3DC-7417-4383-BE13-B35508FB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8A7A-FE2C-4A1E-8022-18FAC8D8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31F7-5CDB-4FDF-AAC3-E3582A9E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F788-265E-468C-831C-0D57D342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DB16-07EE-4598-B4AD-5A0E69F9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A26A-745A-4126-8F1E-A47DE691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A6D6-AFF3-4913-B41D-41CC99DB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0568-81F9-4B54-97ED-6F7492F2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9A3-ADDB-4428-A7E5-F768C90E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8E97-66C6-4EBF-A370-F9821AE9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22E4-3A02-4A9D-929A-1D202FE5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D098-3219-4C66-855D-2AFD8519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64F9-3AE4-4351-AEFC-5DA9BF47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FF86-ADCE-4DE6-BA4E-A4B9D04D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7D6-98E9-46DB-A03A-DD5ACF03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704-826E-42C3-B51D-92594E25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CE4-398D-4319-970F-8E85BD4D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3A5-F630-4C0D-94C0-94D32A3A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76B-540A-4324-BD1C-F47DFA31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78E-B5C0-42DA-A626-1039501C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BA8-29CC-4205-A6A6-E3189827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1FCE-528F-46DE-8610-A67A96EA26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1000-FE38-4A5C-9AC9-7D309331AA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36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4221000"/>
            <a:ext cx="5961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告人：  杨霏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2924280"/>
            <a:ext cx="367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作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066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尊敬的校长、各位领导、各位同事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大家上午好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我是杨霏霏，首先感谢学校给我这个展示自我与实现自我价值的平台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作为一名刚刚大学毕业不久的新员工能够获得‘优秀员工’的称号，我很激动，也感到非常的自豪。我想说，是学校领导的关怀，是同事对我的鼓励，让我站在这里，我要向所有支持、鼓励我的领导、同事说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02920" y="2923920"/>
            <a:ext cx="6193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一、工作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二、下一步的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四、自我感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三、结束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1773360"/>
            <a:ext cx="439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一、工作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）前台报账时能够及时的做好核对工作，核对收据、财务收入大表，确保收入能够全部入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）工资发放完毕根据考勤大表计提员工的中餐补助做好食堂帐，管理教师食堂帐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）对支票的管理：核对收款单位的名称，做到及时的登记支票备查簿，银行划款时确认时间，并且及时的报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）保管员工的借条，同时督促员工及时尽早的撤出借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）每天能够及时的将资金日报表发给集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）通过电话银行的管理能够了解学校的货币资金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692280"/>
            <a:ext cx="8372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3284640"/>
            <a:ext cx="82296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314172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二）下一步工作计划：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）工作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严格执行现金管理和结算制度，定期的核对现金与账目，发现现金金额不对及时处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时的收回学校的各项票据，现金及时送存银行，无坐支现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遵守财务制度，严格审核核算（发票上有经手人、证明人以及领导签字方可报账），对手续不全的账单不予报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提高收支核算，确保学校的收入全部入账以及支出完全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学习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巩固专业知识，与实际工作相结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多向领导、同事学习，更好的账务处理流程与方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积极参加学校的财务培训，了解国家的最新的财务制度，更好的服务学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参加会计继续教育，提高自己的职业技能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933720"/>
            <a:ext cx="561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）思想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4437000"/>
            <a:ext cx="914400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爱岗敬业、扎实财务工作、不怕困难、在本职工作上发挥出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时刻牢记新东方的企业精神：团结、务实、开拓、奉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9640" y="692280"/>
            <a:ext cx="8372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8244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这段工作时间中：我感受很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每份努力，每份辛勤，都会有收获的，所以我们要脚踏实地的做好自己的本职工作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年轻是我们的本钱，我们要抓紧时间去奋斗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用心去奋斗：细心只能将事情做对，而用心才能将事情做好；只有你用心了，才能将你的才能发挥的淋漓尽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微笑的面对每一天，才能将人生活得更精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628640"/>
            <a:ext cx="4824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57360"/>
            <a:ext cx="453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（三）自我感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636640"/>
            <a:ext cx="7416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祝愿我们学校事业蒸蒸日上，不断的做强做大，希望我们的同事以敬业的精神，全力以赴，做到最好，使我们的学校再上一个台阶！祝尊敬的校长和各位领导身体健康、工作顺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692280"/>
            <a:ext cx="8372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2303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（四）结束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58560" y="1699920"/>
            <a:ext cx="676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600" spc="-1" strike="noStrike">
                <a:solidFill>
                  <a:srgbClr val="000000"/>
                </a:solidFill>
                <a:latin typeface="楷体"/>
                <a:ea typeface="楷体"/>
              </a:rPr>
              <a:t>谢 谢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71640" y="4581360"/>
            <a:ext cx="3673440" cy="151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0:12:56Z</dcterms:created>
  <dc:creator>User</dc:creator>
  <dc:description/>
  <cp:keywords/>
  <dc:language>en-US</dc:language>
  <cp:lastModifiedBy>MC SYSTEM</cp:lastModifiedBy>
  <cp:lastPrinted>1899-12-30T00:00:00Z</cp:lastPrinted>
  <dcterms:modified xsi:type="dcterms:W3CDTF">2011-11-04T07:53:54Z</dcterms:modified>
  <cp:revision>231</cp:revision>
  <dc:subject/>
  <dc:title>饮食产品成本核算</dc:title>
</cp:coreProperties>
</file>