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2F7-DC67-45D5-8E08-C2ED4538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48C-1AF1-4077-A772-0B69B8D1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FD770-C895-4BA7-82A4-5551DC88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0B682-9ABF-41A5-9094-151BB680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11EA9-29D8-428D-9720-6FA74E08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D3B9A-A6BD-4116-909C-5C599D8A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6A6F3-E219-4EC3-9C5A-234E5D20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8C651-F053-4F27-A01A-D1C06293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240FF-E49A-43BC-80A2-32260C96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689DB-E4FF-4D04-86E5-1F02DA39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F83B7-9443-4D0E-AE9D-3D25EC7E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73223-B200-445D-B2D1-9787FFB3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F29-BF0F-46AD-B85C-A56E87CC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DDB28-D0A1-41E1-A3F8-2E61B5A7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2556C-642C-46BB-A50E-77095C3B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FB4A9-D909-477F-9792-2379DCAE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67580-5E1D-4E41-8D93-0E19F2D5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55228-45AF-438A-81B5-31F0E6B6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EBAFA-35F4-4B3C-ACC5-E3E2B6D8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257F2-517E-457A-B613-BD1982BB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F5482-A24E-4D25-AB61-E150CF9B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D6A1C-7982-48A6-93DD-14F53B94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672C8-A24C-49A2-84DE-8559058A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806-418F-4C59-A97F-F5722C1E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CFBAE-26EF-4F1A-B1F5-1DD7CA25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DF077-8EA5-4D78-9806-F55C67F9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C2F84-4E77-49A8-A6AC-35EA1745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39FD2-B4E9-47CA-8B7F-616D561A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A301F-359B-4BF5-814A-EAFE2DEC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BAD17-D1F5-4818-A184-D90EC292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BE2B5-DFFB-4549-86A5-F69DEEF4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4BAA1-BBBA-475D-81A8-7FD8827B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FE0FE-2C5F-4680-959C-AC51A98C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E27E7-2173-4A34-87C4-2C9EAA4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234B-4422-4247-AB91-7C91C81F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36340-6EC7-4EC5-A2CB-4DF4D1C2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99A9E-927C-41EB-B036-793AEE90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0E7E2-9039-4817-B84B-39322A82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9EC0F-5412-4F77-8022-9CCCBA8C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17AC9-8C8C-47A0-B231-606893AF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38329-2235-4807-96D2-2F8B384C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C2264-4569-40D3-A6B6-38076110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452CE-8E8C-4576-8C3D-89EC65B9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01ACD-B693-48DF-833B-FB290F1B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8828F-05A4-4860-8948-6CC37103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2E23-9A73-4818-A073-786B7D3A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96FB9-37A9-41D3-8F17-37F7409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8FD89-A102-40F1-8B9A-ADF3B2F2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83370-90DA-44F8-BF9C-553E7E94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65FD9-0F58-4EF3-949C-D619E24E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F4D57-E2DD-4138-AA1F-1B627E7A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39F84-10E4-4E25-9CBA-AC870EDE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74CF2-2A23-4AD0-AEF2-BF3C6FB8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10837-E8E6-45C9-B6C4-D9AEB90A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2D98E-543A-4146-A33F-131601CC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52ADC-D076-4EA2-94A8-B8D612FB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9646-0E89-48B2-8652-27E84F5A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E32A7-23CF-4BD6-A643-EF0921FF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1B8EA-759D-4E89-854E-35C0FED3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ACCF8-583A-452A-9472-17B5036E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41D6C-AF55-4D65-8CB5-E252B5EB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0C4CB-1CD5-491B-A3C6-60603749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3B982-2BE6-4873-98B4-06CC0197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FDB5D-BE90-4DC5-B2B6-BC4A69EB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38960-1A53-4E67-B89A-FC0C5836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29325-4BDD-49EC-8223-8B83999B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CB626-24F4-455E-908F-C0359EF7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3A6F-B944-4CCF-8068-33723ACF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42E31-EC01-403E-BAE3-D4EDD0E0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724E7-DBAA-4A2D-AAE2-D9A70B1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83D95-F1FB-41FD-ACA4-C53EE702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046CB-EE28-4715-80A0-ABDD6A2C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120A8-E06D-4CAD-9D0E-5AB6BCB0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31030-6F19-4B80-B839-FC79F49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F574A-4542-4AB6-A75B-D5FD59AB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B49B3-6742-4CEB-81D3-A6A7298A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35090-DDE5-42EA-9270-ABF97C08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77EF-512B-484D-A86E-3FF72211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DB6D-CDFC-4037-A94D-DBCCA75B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9C5D-1024-4A8A-85C8-3794374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3B8-FF3A-4528-87B7-41F1A26E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0DD0-5DA7-4F68-B554-37CA3D77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844F-67D3-4309-B2F9-1DF6A1B1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4623-4153-491B-BF55-45476C81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7E50-71C5-43FE-AC72-8E0AFB94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689C-D27E-4EE6-8F69-DEA92640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20ED-D407-42E9-9F0F-0C3AA898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2A39-BF60-48DA-9F3B-6D074B18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C7663-7744-42CF-A1C8-C36E3B5F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ACCB-668A-4E70-B0B6-EA9B3D1D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765CE-8B0C-48A7-A7C9-E27AA528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B71-FFD1-4A36-9FD7-F761D4E8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D432-133F-4673-9BA4-D03320C7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B98DB-0D74-44A9-8773-3D1DECC8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3C7A-EFBD-4F70-96C1-25A65E92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7361-65C2-47E0-ABE7-B634098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B6820-F15B-4006-89DB-92073F36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B50E-9F37-412C-9A92-E03534BB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B850-715E-4594-807B-8245F924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AE4CC-7FAF-437F-8AA6-43C6B0D0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885F-AF2B-4FA6-A194-FA5F5611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B204-569E-47F9-AE47-A8EC0A36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929-8168-433B-942B-6F80F5A9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31A0A-10C0-4B36-B697-B4E6E8ED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9DBE9-DAC4-4D78-BDD1-9287073F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BDB2C-E11B-4EC5-BD93-110932A4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513E-CD7B-4F9D-9397-51BD2DF5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20B5-8E98-4BF6-ACBF-68334C9B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0906A-BEA1-4DA4-9B64-A0FA7945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8C77-FB25-4568-A0E4-E9CD413E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E349-B448-4823-BE0C-317117C9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BE64-6572-4D88-B9E5-09569F01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3036E-583A-4DDA-8EE7-83595ABC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0C1-2005-4910-8D43-A15E388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7083-30DB-4C1F-83A0-CE9BF1CD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2198D-F38E-4346-89CA-047D89BF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1F148-F0AE-4EBF-9755-E162A121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4CF5D-AB6F-4C7C-8D44-5725F507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51CB0-DC7C-47D1-857B-4CAA7826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05B0A-F3CE-46E9-A60C-C2D61E71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D8E72-1F55-4EAE-A01F-62EE276E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B4AC8-D86C-4B08-B3A3-ECD5381B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CAEE-EDAC-45A6-89C5-41558126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128F0-B457-48D3-824F-CFDC127B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B03-5055-4786-8444-C94907D4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EBEB8-B2A9-4A24-9EA0-CC21D249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2D494-5740-4D36-AC3D-46D64F61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DC357-FDCA-471E-B53B-DB7E7C7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25C52-4C4A-4E83-8538-6FD1D3CC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0C377-D8E4-49D4-848A-380DF4CB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2FFB0-102D-47C6-B637-6B88D0AE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076CE-F2FD-4DC0-B786-0AB547FC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0B7C0-B7BF-493F-AA8A-6CB1DD66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6A01F-6914-47AF-BB7E-69B0B402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B7CBF-4119-4D73-91F8-7153C865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FAF-FEEE-424A-B03B-6F359354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68546-D4FF-4EC6-8380-DE2FEAE3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5388A-951D-4177-B7AE-50274D04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E06F7-FD9A-4357-8FF7-6F3FF06B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7C9D1-4A8C-47D6-82F1-04204EB3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AE47C-6245-46E6-9771-E304EA57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9B00D-6409-46F5-ACAD-C30AE087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15A6-D36A-4084-B46E-41EE5E5F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EAD65-84D8-419B-8500-10CD638F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41EF7-0654-462D-AE99-C5E2A3CA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2F80C-CB2E-41CD-BCF3-EAE4FA2C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E04-B1A7-466E-8DC4-3894D6EA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2A3B9-61F3-4F28-930F-53E3EC6F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619BA-F55A-4C4A-AB64-6E4F5974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F5C75-5B38-4C47-9EED-73E965C0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91F56-6D8D-463C-91EB-91EB7BD3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46327-9667-45AA-9299-EF97162C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DDD44-FD47-4097-B40F-5A986B1B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EB8B8-96E2-49AD-A958-8DA0C0B0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32B49-9079-4114-8F58-CF7F95D8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DDBD7-C471-4DBA-B540-6FB7A72A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7F387-0787-45F5-9889-B60B188D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69D-419B-4F08-8E76-D432D927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F1586-44ED-47DC-B558-607740C4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EDDB0-E348-49BE-9CF2-8F74678F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E7207-8BE3-4A6E-94C1-6BBC8A24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19651-6FBF-46BC-A57E-887124EC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73415-9D4D-4AD8-B8ED-29D58779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79ED3-B91F-45E1-ACE8-FA8149AE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26447-740B-49A0-AFE5-238991BF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3B1DE-DE9F-4C81-BB3E-4C0E961B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DBA83-CDFE-4C84-B866-C39BD0C7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2B7D3-C230-48CB-A2D1-AC413DA3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0F30-37A0-4B54-9668-8962E8589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5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0353-DE1C-45E0-96CF-5127EF012E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3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4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7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9456-0479-438E-8185-A66A3D6E2C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5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DE15-F23B-4973-AAD8-1F6E46ADE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1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1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2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2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5D25-27EC-43DA-B561-0B2154AC2D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7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8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F0C7-0597-4955-8CCB-288B3F6B7A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9211-66E8-4A2A-B4F2-78DE29E43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C6D5-716A-43B0-8083-6187B8BD21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F785-D61A-4F27-9D5B-BAA06DCC21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1CD9-3890-4A4B-8A74-5A1826E00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A02D-BAEE-4ECE-99FE-C8EEDD4D04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2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2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2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FAB1-623D-448A-AA6F-039EA955FC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0750-ABBA-4B98-89B6-8CD880DF2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910B-FA49-4BB2-A617-3E1EBE351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-144720" y="952560"/>
            <a:ext cx="810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1500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Comic Sans MS"/>
              </a:rPr>
              <a:t>健康听力，幸福一生                      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Comic Sans MS"/>
              </a:rPr>
              <a:t>     </a:t>
            </a:r>
            <a:r>
              <a:rPr b="1" lang="zh-CN" sz="6000" spc="-1" strike="noStrike">
                <a:solidFill>
                  <a:srgbClr val="00b0f0"/>
                </a:solidFill>
                <a:latin typeface="Comic Sans MS"/>
              </a:rPr>
              <a:t>关注老年听力健康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2340000" y="4041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爱耳日手抄报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4500720" y="5300640"/>
            <a:ext cx="360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a2a42"/>
                </a:solidFill>
                <a:latin typeface="Arial"/>
              </a:rPr>
              <a:t>堽城镇第一小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eec94"/>
                </a:solidFill>
                <a:latin typeface="Times New Roman"/>
              </a:rPr>
              <a:t>爱耳日手抄报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1" name="Picture 4" descr="321"/>
          <p:cNvPicPr/>
          <p:nvPr/>
        </p:nvPicPr>
        <p:blipFill>
          <a:blip r:embed="rId1"/>
          <a:stretch/>
        </p:blipFill>
        <p:spPr>
          <a:xfrm>
            <a:off x="468360" y="1700280"/>
            <a:ext cx="8675640" cy="51577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5"/>
          <p:cNvSpPr/>
          <p:nvPr/>
        </p:nvSpPr>
        <p:spPr>
          <a:xfrm>
            <a:off x="6588000" y="580536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6588000" y="595008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7"/>
          <p:cNvSpPr/>
          <p:nvPr/>
        </p:nvSpPr>
        <p:spPr>
          <a:xfrm>
            <a:off x="6588000" y="5734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堽城第一小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爱耳日手抄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56" name="Picture 4" descr="U5MW8E)BH3K3_NJL5U`%E2Y"/>
          <p:cNvPicPr/>
          <p:nvPr/>
        </p:nvPicPr>
        <p:blipFill>
          <a:blip r:embed="rId1"/>
          <a:stretch/>
        </p:blipFill>
        <p:spPr>
          <a:xfrm>
            <a:off x="755640" y="2276640"/>
            <a:ext cx="83883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eec94"/>
                </a:solidFill>
                <a:latin typeface="Times New Roman"/>
              </a:rPr>
              <a:t>爱耳日手抄报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758" name="Picture 3" descr="F)R~F~7V`R3WER[}6Z5N20D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爱耳日手抄报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29" name="内容占位符 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030a0"/>
                </a:solidFill>
                <a:latin typeface="Arial"/>
              </a:rPr>
              <a:t>爱耳日手抄报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31" name="内容占位符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1403280" y="18900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爱耳日手抄报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3" name="Picture 3" descr="FQ}8[YG2R$0[_KO_I_M_~~U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爱耳日手抄报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371240" y="1341000"/>
            <a:ext cx="69454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4" descr="SUNP0003"/>
          <p:cNvPicPr/>
          <p:nvPr/>
        </p:nvPicPr>
        <p:blipFill>
          <a:blip r:embed="rId1"/>
          <a:stretch/>
        </p:blipFill>
        <p:spPr>
          <a:xfrm>
            <a:off x="71280" y="1341360"/>
            <a:ext cx="90727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爱耳日手抄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9" name="Picture 4" descr="SUNP0005"/>
          <p:cNvPicPr/>
          <p:nvPr/>
        </p:nvPicPr>
        <p:blipFill>
          <a:blip r:embed="rId1"/>
          <a:stretch/>
        </p:blipFill>
        <p:spPr>
          <a:xfrm>
            <a:off x="324000" y="1332000"/>
            <a:ext cx="84960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爱耳日手抄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4" descr="SUNP0006"/>
          <p:cNvPicPr/>
          <p:nvPr/>
        </p:nvPicPr>
        <p:blipFill>
          <a:blip r:embed="rId1"/>
          <a:stretch/>
        </p:blipFill>
        <p:spPr>
          <a:xfrm>
            <a:off x="0" y="1406520"/>
            <a:ext cx="91440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ahoma"/>
              </a:rPr>
              <a:t>爱耳日手抄报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5" name="Picture 4" descr="SUNP0002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爱耳日手抄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8" name="Picture 4" descr="369"/>
          <p:cNvPicPr/>
          <p:nvPr/>
        </p:nvPicPr>
        <p:blipFill>
          <a:blip r:embed="rId1"/>
          <a:stretch/>
        </p:blipFill>
        <p:spPr>
          <a:xfrm>
            <a:off x="755640" y="1916280"/>
            <a:ext cx="8137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6:10:23Z</dcterms:created>
  <dc:creator>China User</dc:creator>
  <dc:description/>
  <dc:language>en-US</dc:language>
  <cp:lastModifiedBy>Sky123.Org</cp:lastModifiedBy>
  <dcterms:modified xsi:type="dcterms:W3CDTF">2015-08-10T03:49:25Z</dcterms:modified>
  <cp:revision>6</cp:revision>
  <dc:subject/>
  <dc:title>爱耳日手抄报</dc:title>
</cp:coreProperties>
</file>