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9.gif" ContentType="image/gif"/>
  <Override PartName="/ppt/media/image1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gif" ContentType="image/gif"/>
  <Override PartName="/ppt/media/image6.jpeg" ContentType="image/jpeg"/>
  <Override PartName="/ppt/media/image7.jpeg" ContentType="image/jpeg"/>
  <Override PartName="/ppt/media/image10.gif" ContentType="image/gif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A10-38E3-408D-9BDB-A9215F673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2C9-B917-41C2-83C2-0DA98D2E4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9DB7-ABB1-45A9-96CF-BFE015A2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3FEF-C112-491C-B3C7-9E779889B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C73A-2244-44E4-A196-56AF9ECEC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1484-DA65-4386-A74A-BFCEABC2E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AEF5-0971-4F85-8BB3-8FC0D20A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339C-80D8-4AD8-937E-1BE588600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BA13-5778-4355-8238-A6C455AB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C051-4EE8-40CF-90AE-AC6E8B5E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F83A-C3BA-4BC3-A0D5-A007DA19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E3A9-5642-48AA-823E-BAE9DBF0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E7AA-7BC4-4AA2-B8D8-5417188062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8.xml"/><Relationship Id="rId7" Type="http://schemas.openxmlformats.org/officeDocument/2006/relationships/slide" Target="slide8.xml"/><Relationship Id="rId8" Type="http://schemas.openxmlformats.org/officeDocument/2006/relationships/slide" Target="slide8.xml"/><Relationship Id="rId9" Type="http://schemas.openxmlformats.org/officeDocument/2006/relationships/slide" Target="slide8.xml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371600" y="5638680"/>
            <a:ext cx="5943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5257800"/>
            <a:ext cx="6172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808080"/>
                </a:solidFill>
                <a:latin typeface="Arial"/>
                <a:ea typeface="楷体_GB2312"/>
              </a:rPr>
              <a:t>学会谦让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两位小朋友的做法对吗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什么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-2289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案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对，因为她们没有学会互相谦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是顾着自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总结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以后在跟同学或者朋友玩的时候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学会谦让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他们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相亲相爱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20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生活中，多一点谦让，就会少一点烦恼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876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33560" y="2590920"/>
            <a:ext cx="38862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谢谢观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44756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5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(</a:t>
            </a:r>
            <a:r>
              <a:rPr b="0" lang="zh-CN" sz="5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一</a:t>
            </a:r>
            <a:r>
              <a:rPr b="0" lang="zh-CN" sz="5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)</a:t>
            </a:r>
            <a:r>
              <a:rPr b="0" lang="zh-CN" sz="5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孔融让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0" lang="zh-CN" sz="5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(</a:t>
            </a:r>
            <a:r>
              <a:rPr b="0" lang="zh-CN" sz="5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7" action="ppaction://hlinksldjump"/>
              </a:rPr>
              <a:t>二</a:t>
            </a:r>
            <a:r>
              <a:rPr b="0" lang="zh-CN" sz="5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8" action="ppaction://hlinksldjump"/>
              </a:rPr>
              <a:t>)</a:t>
            </a:r>
            <a:r>
              <a:rPr b="0" lang="zh-CN" sz="54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9" action="ppaction://hlinksldjump"/>
              </a:rPr>
              <a:t>学会谦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5438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14840" y="22860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你知道这个故事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266688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孔融小时候聪明好学，才思敏捷，巧言妙答，大家都夸他是奇童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岁时，他已能背诵许多诗赋，并且懂得礼节，父母亲非常喜爱他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019920" y="4800600"/>
            <a:ext cx="28191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一日，父亲的朋友带了一盘梨子，父亲叫孔融他们七兄弟从最小的小弟开始自己挑，小弟首先挑走了一个最大的，而孔融拣了一个最小的梨子说：“我年纪小，应该吃小的梨，剩下的大梨就给哥哥们吧。”父亲听后十分惊喜，又问：“那弟弟也比你小啊？”孔融说：“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因为我是哥哥，弟弟比我小，所以我也应该让着他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32320" y="716040"/>
            <a:ext cx="45900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990720"/>
            <a:ext cx="373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99"/>
                </a:solidFill>
                <a:latin typeface="Arial"/>
                <a:ea typeface="楷体_GB2312"/>
              </a:rPr>
              <a:t>这个故事告诉我们什么呢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4640" y="274320"/>
            <a:ext cx="2971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2282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个故事告诉了我们要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会谦让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谦让是一种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好品德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即在好处、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便面前不争、不抢想着别人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457200"/>
            <a:ext cx="914400" cy="101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53352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假如你遇到下面这种情况，你会谦让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-360" y="25146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早操铃声响了，同学们纷纷跑出教室到操场集合，楼梯上十分拥挤，动也动不了。在大家十分着急的时候，你准备怎么办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顺着大家，慢慢的向前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往右靠，主动让一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像小泥鳅那样向前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57913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答案：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3200400" y="5791320"/>
            <a:ext cx="167652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1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504</cp:lastModifiedBy>
  <dcterms:modified xsi:type="dcterms:W3CDTF">2011-04-12T01:03:52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