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249-99C9-43E7-85B2-4ED40CE6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228-6811-4044-AB70-1FDA7310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31F-9ED1-4642-9832-91C3313E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0E8-707E-482E-ACB3-29DE3AAA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5EC-35DD-49E5-AA14-7745EAE7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A63-1332-4FE0-AE3E-8693637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682-27E7-4885-A645-CEAFF4F0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63B-9FE9-426A-97AB-E320FCF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C13-8A7E-4806-B2AC-181F8CA6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5A8-DB65-45E1-A664-31CC9F2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A5D-B6EE-42ED-B9D7-65254357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E22-FBD4-49EF-A3AB-CC92CF7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1F9-8FC4-4709-AE24-0D328CE1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9120" y="4149720"/>
            <a:ext cx="34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71800" y="5013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用简约可爱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9104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6680" y="44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02320" y="44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07760" y="4359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1640" y="443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9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4340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980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9800" y="321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2160" y="5157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96520" y="458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92360" y="3068640"/>
            <a:ext cx="19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1140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422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75040" y="42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dcterms:modified xsi:type="dcterms:W3CDTF">2015-08-10T08:48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