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917-183B-4FF2-9837-4D6267BB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2F2-9E1A-480C-A93B-2420688C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DEC-8828-43AB-B15F-6288EC4E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284-9598-4C74-B3DD-F843E78E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3F6-0492-4DF5-AFC2-4423946D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60F-E1D3-48CE-903E-F862AAA2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F19-BB8A-47D7-9049-D95CB636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C8B-02F6-4967-87E4-B380863D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AF8-B96E-4135-8C12-4817F9CB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DAC-CAAA-4333-9336-254A4E7A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1E2-B311-40AD-84C5-3DBF171B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E2C-4FAA-4015-BF81-40D46B1C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6AE1-E57D-46A0-A78B-48B8F6A531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48000" y="4724280"/>
            <a:ext cx="5029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徐家店小学三年级 崔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0"/>
            <a:ext cx="59040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奇怪的大石头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012000" y="404640"/>
            <a:ext cx="26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美丽的冰川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435640" y="5950080"/>
            <a:ext cx="33116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美丽的冰川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156360" y="544500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美丽的冰川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677520" cy="741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1125360"/>
            <a:ext cx="532908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读一读，看谁读得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著名　捉迷藏　悄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躲闪　孤零零　陨石　大坑　卧进　　突兀　旅行　考察　　地质　流域　遗迹　　研究　震惊　秦岭　　冰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2276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89629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、仔细读课文，用“～～”勾画有关句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１ 、课文中写李四光在玩捉迷藏时对大石头发生了兴趣的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２ 、 写李四光跑去问老师，按老师的推测进一步思考的句子 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３ 、 写李四光专门考察了这块大石头，弄明白大石头来历的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新宋体"/>
              </a:rPr>
              <a:t>同桌交流，看看你勾画的句子对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4149720"/>
            <a:ext cx="180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03280" y="1916280"/>
            <a:ext cx="669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92280"/>
            <a:ext cx="9144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二、认真读课文，细心体会再回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李四光弄明白大石头来历的事中，你体会到什么？用“李四光爷爷，我想对你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句式说一说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62560" y="2854440"/>
            <a:ext cx="46814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522936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314172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1989000"/>
            <a:ext cx="67690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三、读课文，再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么重的大石头从天上掉下来，力量—————————————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它应该————————————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可它—————————————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会填。你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4365720"/>
            <a:ext cx="10810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1268280"/>
            <a:ext cx="48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李四光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88000" y="0"/>
            <a:ext cx="4356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李四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著名地质学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四光，原名仲揆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88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出生，地质学家。蒙古族。湖北黄冈人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1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2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分别获英国伯明翰大学硕士和博士学位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4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以前，长期担任中央研究院地质研究所所长。提出了中国东部第四纪冰川的存在。用力学观点研究地壳运动及其与矿产分布的规律，并为大庆、胜利等油田的发现所证实。开创了活动构造研究与地应力观测相结合的预报地震途径。晚年发表的“天文、地质、古生物资料”对我国学科大交叉的倡导产生深刻影响。对中国地质教育、地质科学和地质事业的发展作出了巨大的贡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324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1332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176364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2:11:45Z</dcterms:created>
  <dc:creator>jx</dc:creator>
  <dc:description>淘课件网 http://www.taokejian.com
</dc:description>
  <dc:language>en-US</dc:language>
  <cp:lastModifiedBy>微软用户</cp:lastModifiedBy>
  <dcterms:modified xsi:type="dcterms:W3CDTF">2010-12-29T06:52:02Z</dcterms:modified>
  <cp:revision>26</cp:revision>
  <dc:subject/>
  <dc:title>淘课件网 http://www.taokejian.com</dc:title>
</cp:coreProperties>
</file>