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29.jpeg" ContentType="image/jpeg"/>
  <Override PartName="/ppt/media/image37.gif" ContentType="image/gif"/>
  <Override PartName="/ppt/media/image20.gif" ContentType="image/gif"/>
  <Override PartName="/ppt/media/image13.jpeg" ContentType="image/jpeg"/>
  <Override PartName="/ppt/media/image6.jpeg" ContentType="image/jpeg"/>
  <Override PartName="/ppt/media/image27.jpeg" ContentType="image/jpeg"/>
  <Override PartName="/ppt/media/image30.wmf" ContentType="image/x-wmf"/>
  <Override PartName="/ppt/media/image34.gif" ContentType="image/gif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D90-CB39-4193-AFD0-66AAEEA5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634-BAC1-40FD-96BD-2816753D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117-75BB-4C20-B1D5-4F1CC346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A3D-AA81-4C35-BB5E-3FCF10C9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527-E282-48C4-9AB7-D0F97FB7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1B0-B84F-4B2E-BF16-A6C1CD50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89E-387B-4E7C-95A2-8F169F31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3FE-456E-46FA-A068-F95567FE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25E-E474-4392-A154-D72B25B0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4C6-84BA-42AC-A42F-73D7CB37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A78-3964-4BAD-A68F-8A37D022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765-AED5-4472-AA32-17D486CD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3D63-1BA2-4BD4-88A6-2DF9C6DAA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xiti123.taobao.com/" TargetMode="External"/><Relationship Id="rId3" Type="http://schemas.openxmlformats.org/officeDocument/2006/relationships/hyperlink" Target="http://xiti123.taobao.com/" TargetMode="External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4019" t="18929" r="2962" b="4150"/>
          <a:stretch/>
        </p:blipFill>
        <p:spPr>
          <a:xfrm>
            <a:off x="0" y="-644400"/>
            <a:ext cx="9144000" cy="7502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258920" y="620640"/>
            <a:ext cx="673092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亲爱的爸爸妈妈</a:t>
            </a:r>
            <a:endParaRPr b="1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64000" y="4076640"/>
            <a:ext cx="2760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聂华苓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70880" y="457200"/>
            <a:ext cx="124452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 flipH="1">
            <a:off x="7467480" y="5791320"/>
            <a:ext cx="914400" cy="477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804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70880" y="457200"/>
            <a:ext cx="124452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flipH="1">
            <a:off x="7467480" y="5791320"/>
            <a:ext cx="914400" cy="477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96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9640" y="549360"/>
            <a:ext cx="5318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聂华苓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美国华裔女作家，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921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生，湖北武汉人。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因创办国际作家写作室，被称为“世界文学组织的建筑师”，“世界文学组织之母”。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聂华苓的作品以深邃的历史感表现现代中国的沦桑变化，抒写台湾中下层人们的乡愁和海外浪子的悲歌。创作坚持“溶传统于现代，溶西方于中国”的艺术追求。其代表作品为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桑青与桃红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被列入亚洲小说一百强之中。新著有回忆录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三生三世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475320" y="3357720"/>
            <a:ext cx="2668680" cy="400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437160" y="0"/>
            <a:ext cx="2706840" cy="364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993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252360" y="-79200"/>
            <a:ext cx="9396360" cy="6937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51280" y="1484280"/>
            <a:ext cx="4264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肃穆  荒谬   憧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呵护  杀戮   悼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屹立  蜿蜒   恍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赫白   聂华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27240" y="105264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ù  m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53440" y="105264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86480" y="105264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ōng jǐ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2286000"/>
            <a:ext cx="10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5800" y="22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60720" y="227664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à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25440" y="3429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77800" y="350028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ān y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15360" y="3505320"/>
            <a:ext cx="15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ǎng h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3440" y="4724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49440" y="472428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í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390600" y="0"/>
            <a:ext cx="10291680" cy="7269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920" y="1341360"/>
            <a:ext cx="8839080" cy="53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原指描写刻画十分细致生动，现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也用来指丑态毕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形容非常凶暴残忍，没有一点儿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情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形容天气恶劣。比喻境遇悲惨凄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极端错误；非常不合情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严肃而庄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06480" y="1890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微软雅黑"/>
              </a:rPr>
              <a:t>根据下列语句的意思判断相应词语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19760" y="202716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穷形尽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68840" y="321300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灭绝人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40480" y="458136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凄风苦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15640" y="5340240"/>
            <a:ext cx="18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荒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1360" y="5910120"/>
            <a:ext cx="18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---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肃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390600" y="0"/>
            <a:ext cx="10291680" cy="7269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820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方正舒体"/>
                <a:ea typeface="方正舒体"/>
              </a:rPr>
              <a:t>快速阅读全文</a:t>
            </a:r>
            <a:r>
              <a:rPr b="1" lang="en-US" sz="3700" spc="-1" strike="noStrike">
                <a:solidFill>
                  <a:srgbClr val="000000"/>
                </a:solidFill>
                <a:latin typeface="方正舒体"/>
                <a:ea typeface="方正舒体"/>
              </a:rPr>
              <a:t>,</a:t>
            </a:r>
            <a:r>
              <a:rPr b="1" lang="zh-CN" sz="3700" spc="-1" strike="noStrike">
                <a:solidFill>
                  <a:srgbClr val="000000"/>
                </a:solidFill>
                <a:latin typeface="方正舒体"/>
                <a:ea typeface="方正舒体"/>
              </a:rPr>
              <a:t>给课文各部分取上小标题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333360"/>
            <a:ext cx="396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整体感知课文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2565360"/>
            <a:ext cx="7667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明确：课文由两大部分组成，引言和主体（四个部分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、引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二、主体</a:t>
            </a:r>
            <a:r>
              <a:rPr b="1" lang="zh-CN" sz="32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（纪念活动的四个片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（一）、来到纪念地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（二）、看纪念演出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（三）、参加座谈会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（四）、参观纪念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390600" y="0"/>
            <a:ext cx="10291680" cy="7269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33520" y="14479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萨特的话是很精辟的，特别是说他的记忆是“沉重”的，又是“美丽”的，可以作为全文的一个引子，回味起来，又是本文的点睛之笔。从萨特的话又可以看到克拉库耶伐次留给人的警示已越过国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40464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正文前面为什么引用萨特的话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90600" y="0"/>
            <a:ext cx="10291680" cy="72691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21844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萨特说他在南斯拉夫的记忆是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沉重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” “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美丽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”的</a:t>
            </a:r>
            <a:r>
              <a:rPr b="1" lang="en-US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为什么呢</a:t>
            </a:r>
            <a:r>
              <a:rPr b="1" lang="en-US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?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260280"/>
            <a:ext cx="302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微软雅黑"/>
              </a:rPr>
              <a:t>内容研讨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3573360"/>
            <a:ext cx="360360" cy="1419480"/>
          </a:xfrm>
          <a:custGeom>
            <a:avLst/>
            <a:gdLst>
              <a:gd name="textAreaLeft" fmla="*/ 230400 w 360360"/>
              <a:gd name="textAreaRight" fmla="*/ 360720 w 360360"/>
              <a:gd name="textAreaTop" fmla="*/ 36720 h 1419480"/>
              <a:gd name="textAreaBottom" fmla="*/ 1382760 h 141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645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引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3284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沉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508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方正舒体"/>
              </a:rPr>
              <a:t>美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314172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整个城成为一座巨大的坟墓，埋葬了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0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被残杀的人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41360" y="4508640"/>
            <a:ext cx="235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舒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整个民族的英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1838" t="0" r="0" b="4862"/>
          <a:stretch/>
        </p:blipFill>
        <p:spPr>
          <a:xfrm>
            <a:off x="-541440" y="0"/>
            <a:ext cx="10115640" cy="6892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10140" t="6328" r="0" b="0"/>
          <a:stretch/>
        </p:blipFill>
        <p:spPr>
          <a:xfrm>
            <a:off x="0" y="0"/>
            <a:ext cx="9396360" cy="2781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260280"/>
            <a:ext cx="83059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4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 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德国法西斯枪杀了捷克利迪策村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岁以上的男性公民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余人和全部婴儿，并把妇女和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9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儿童押往集中营，并焚毁了这个村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为了悼念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利迪策村和全世界所有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在法西斯侵略战争中死难的儿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反对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帝国主义战争贩子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虐杀和毒害儿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保障儿童权利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49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，国际民主妇女联合会在莫斯科召开执委会，正式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决定以利迪策村屠杀时的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的第一天为全世界少年儿童的节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即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国际儿童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fafe"/>
            </a:gs>
            <a:gs pos="100000">
              <a:srgbClr val="2d7d7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10140" t="6328" r="0" b="0"/>
          <a:stretch/>
        </p:blipFill>
        <p:spPr>
          <a:xfrm>
            <a:off x="0" y="0"/>
            <a:ext cx="9396360" cy="6954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14400" y="13716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除了与纪念活动有关的文字，作者还写了些什么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什么用意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486400" y="3733920"/>
            <a:ext cx="2743200" cy="2307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390600" y="0"/>
            <a:ext cx="10291680" cy="7269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2280" y="228600"/>
            <a:ext cx="8763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课文还联系列南京大屠杀。作为华裔作家，一颗“中国心”使她想到了南京大屠，那更是惨绝人寰的杀戮，被害者达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万人，日本法西斯匪徒的疯狂，更是灭绝人性，惨无人道。作者把西方与东方联系起来，在宽广的层面上突出世界和平这个主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另外，课文还写到一位西德作家和一位日本作家的发言。西德作家真诚的忏悔赢得了人们的宽容和尊重。日本作家则是自私的狡辩，想为日本军国主义开脱罪责，只能引来人们的反感与冷落。作者这样写，意在警示人们：至今还有人不愿正视历史，仍为侵略辩护，这潜伏着新的危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ed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19748" r="21449" b="5890"/>
          <a:stretch/>
        </p:blipFill>
        <p:spPr>
          <a:xfrm>
            <a:off x="0" y="0"/>
            <a:ext cx="10909440" cy="6885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9640" y="1268280"/>
            <a:ext cx="830592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中宋"/>
                <a:ea typeface="华文中宋"/>
              </a:rPr>
              <a:t>1.</a:t>
            </a:r>
            <a:r>
              <a:rPr b="1" lang="zh-CN" sz="3600" spc="-1" strike="noStrike">
                <a:solidFill>
                  <a:srgbClr val="66ff33"/>
                </a:solidFill>
                <a:latin typeface="华文中宋"/>
                <a:ea typeface="华文中宋"/>
              </a:rPr>
              <a:t>凄风。苦雨。天昏。地暗。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连用四个句号，起到了什么样的表达效果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这里仅仅是在描写天气吗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35002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连用四个短句，使每个字都</a:t>
            </a:r>
            <a:r>
              <a:rPr b="1" lang="zh-CN" sz="3200" spc="-1" strike="noStrike">
                <a:solidFill>
                  <a:srgbClr val="ff99cc"/>
                </a:solidFill>
                <a:latin typeface="微软雅黑"/>
                <a:ea typeface="微软雅黑"/>
              </a:rPr>
              <a:t>最大限度地发挥出表意功能</a:t>
            </a: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。让读者读两个字，停顿一下，想象一个画面。这里不仅是描写天气，也是在</a:t>
            </a:r>
            <a:r>
              <a:rPr b="1" lang="zh-CN" sz="3200" spc="-1" strike="noStrike">
                <a:solidFill>
                  <a:srgbClr val="ff99cc"/>
                </a:solidFill>
                <a:latin typeface="微软雅黑"/>
                <a:ea typeface="微软雅黑"/>
              </a:rPr>
              <a:t>渲染气氛</a:t>
            </a: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，“天地亦与人同哀”，使读者充分感受到</a:t>
            </a:r>
            <a:r>
              <a:rPr b="1" lang="zh-CN" sz="3200" spc="-1" strike="noStrike">
                <a:solidFill>
                  <a:srgbClr val="ff99cc"/>
                </a:solidFill>
                <a:latin typeface="微软雅黑"/>
                <a:ea typeface="微软雅黑"/>
              </a:rPr>
              <a:t>无限悲哀的气氛</a:t>
            </a: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03640" y="260280"/>
            <a:ext cx="338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思考问题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291680" cy="7269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31640" y="3141720"/>
            <a:ext cx="67690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全是”一词包含了莫马对被残杀者的</a:t>
            </a:r>
            <a:r>
              <a:rPr b="1" lang="zh-CN" sz="3200" spc="-1" strike="noStrike">
                <a:solidFill>
                  <a:srgbClr val="3333cc"/>
                </a:solidFill>
                <a:latin typeface="微软雅黑"/>
                <a:ea typeface="微软雅黑"/>
              </a:rPr>
              <a:t>深切同情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 对屠杀无辜平民的法西斯强盗的</a:t>
            </a:r>
            <a:r>
              <a:rPr b="1" lang="zh-CN" sz="3200" spc="-1" strike="noStrike">
                <a:solidFill>
                  <a:srgbClr val="3333cc"/>
                </a:solidFill>
                <a:latin typeface="微软雅黑"/>
                <a:ea typeface="微软雅黑"/>
              </a:rPr>
              <a:t>愤怒控诉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zh-CN" sz="3200" spc="-1" strike="noStrike">
                <a:solidFill>
                  <a:srgbClr val="969696"/>
                </a:solidFill>
                <a:latin typeface="微软雅黑"/>
                <a:ea typeface="微软雅黑"/>
              </a:rPr>
              <a:t>这让我们强烈地感受到屠杀的野蛮残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3280" y="2602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他们杀孩子、老师、也杀牧师、工人、工匠、小店老板、鞋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全是纯朴勤劳的普通市民。”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（“全是”一词强调了作者什么样的感情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2133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微软雅黑"/>
                <a:ea typeface="微软雅黑"/>
              </a:rPr>
              <a:t>其实并不矛盾。成千上万的人来纪念当年被残杀的人，特别是两位生还者来到这里，半个世纪前残酷的历史呈现在人们跟前，在凄风苦雨的悲哀气氛中，历史和现实融合了。残酷的历史令人悲哀；南斯拉夫人民没有忘记历史，成千上万人来到这里纪念死者，这又是美丽的。这一切都是真实的；</a:t>
            </a:r>
            <a:r>
              <a:rPr b="1" lang="zh-CN" sz="3200" spc="-1" strike="noStrike">
                <a:solidFill>
                  <a:srgbClr val="3333cc"/>
                </a:solidFill>
                <a:latin typeface="微软雅黑"/>
                <a:ea typeface="微软雅黑"/>
              </a:rPr>
              <a:t>47</a:t>
            </a:r>
            <a:r>
              <a:rPr b="1" lang="zh-CN" sz="3200" spc="-1" strike="noStrike">
                <a:solidFill>
                  <a:srgbClr val="3333cc"/>
                </a:solidFill>
                <a:latin typeface="微软雅黑"/>
                <a:ea typeface="微软雅黑"/>
              </a:rPr>
              <a:t>年前纳粹竟然认为种族有优劣，要消灭劣等种族，这是何等荒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历史、现实，在雨中融合了——融成一幅悲哀而美丽、真实而荒谬的画面。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如何理解这看似矛盾的议论。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22860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他们坐在书桌前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引用迪桑卡的诗句包含了作者怎样的思想感情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?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249228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些诗句歌唱孩子们“对未来的憧憬，对生命的喜悦”。孩子们的生命才起步，他们努力学习，向往将来‘‘在阳光下奔跑”，创造人生的业绩。他们在爱的阳光下成长，丝毫没有意识到近在眼前的死亡威胁。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歌唱孩子们的可爱和希望，从另一方面，反衬了纳粹的残暴，是对纳粹强盗的控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33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280" y="189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世世代代“人”的声音，在诗和音乐的韵律中，响彻云霄，响遍山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676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个引号起强调作用，强调人的价值、生命的价值。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429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，是健忘的。不记仇，很对。但是，不能忘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4869000"/>
            <a:ext cx="83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作者强调不能忘记历史，只有记住历史，吸取历史教训，才能保证世间永远不再有战争和屠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19280" y="400536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联系上下文，说说这句话的涵义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11280" y="692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为什么给“人”字加引号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?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762120"/>
            <a:ext cx="88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一位作家讲话之后，日本人也要讲话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称他为“日本人”为什么不说“作家”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895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本作家为日本军国主义开脱罪责，他在自私地狡辩。作家本应具有人类的良知。作者不称他为作家，说“日本人”，</a:t>
            </a:r>
            <a:r>
              <a:rPr b="1" lang="zh-CN" sz="3600" spc="-1" strike="noStrike">
                <a:solidFill>
                  <a:srgbClr val="66ff33"/>
                </a:solidFill>
                <a:latin typeface="微软雅黑"/>
                <a:ea typeface="微软雅黑"/>
              </a:rPr>
              <a:t>表明了作者对他的鄙弃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许多人与西德作家握手，在无言之中表明人们对日本人的反感和唾弃。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291680" cy="72691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06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对于法西斯犯下的滔天罪行，西德作家和日本作家的态度有什么不同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2924280"/>
            <a:ext cx="892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西德作家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真诚忏悔，充满犯罪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日本人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自私的狡辩，企图开脱罪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ec7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260280"/>
            <a:ext cx="83818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明赫白仍然双手撑着头流泪。我和安格尔走过去和他握手。许多人走过去和他握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联系上下文，说说为什么明赫白得到众人的宽恕和尊重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2971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微软雅黑"/>
              </a:rPr>
              <a:t>明赫白反省本国的侵略罪行，认识非常深刻，情感非常真挚，态度非常诚恳。半个世纪前的罪行是纳粹强盗犯下的，明赫白是没有责任的，他却代上一代人受过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微软雅黑"/>
              </a:rPr>
              <a:t>他把自己与整个民族看成一个整体，表达了整个民族的反省，所以赢得了人们的宽容和尊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0140" t="6328" r="0" b="0"/>
          <a:stretch/>
        </p:blipFill>
        <p:spPr>
          <a:xfrm>
            <a:off x="0" y="0"/>
            <a:ext cx="9396360" cy="6954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675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 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 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988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日，作者在南斯拉夫克拉库耶伐次参加悼念活动。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7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前，纳粹在这座小城大肆屠杀，一天之间，杀死了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700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多人，其中包括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多个孩子。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7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来，南斯拉夫人民没有忘记这段沉重的历史，从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945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起，每年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日，成千上万的人从四面八方来到这里，举行悼念活动。作者在当年纳粹大屠杀的地点，感受到历史的残酷与沉痛，感受到人民的悲哀和愿望，写下了这篇文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291680" cy="7269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80880" y="9144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对于那段日军侵华的历史，我们应当怎么做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3213000"/>
            <a:ext cx="739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能忘记历史，因为只有记住历史，吸取历史的教训，才能保证世界永远不再有战争和屠杀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291680" cy="7269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95280" y="69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结尾处，为什么要引用死者的遗言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27664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悲剧是将有价值的东西毁灭给人看。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                                          </a:t>
            </a:r>
            <a:r>
              <a:rPr b="1" lang="en-US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鲁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41148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摘录的被残杀者留下的只言片纸，就是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拾取人性中最为闪光的几个瞬间，控诉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泯灭人性的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战争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8305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404120" y="4648320"/>
            <a:ext cx="1739880" cy="2209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120" y="27432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不好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课文通过再现被残杀者有血有肉的生命活动，反衬法西斯的残酷。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“亲爱的爸爸妈妈”突出孩子们撕心裂肺的最后一声呼喊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让我们想见当年那场屠杀的情景，对残杀者的凶残感受得更为深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12682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隶书"/>
                <a:ea typeface="隶书"/>
              </a:rPr>
              <a:t>如把文章的标题改为“克拉库耶伐次之行”，好不好，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89000"/>
            <a:ext cx="3311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探究思考</a:t>
            </a:r>
            <a:endParaRPr b="1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55640" y="1197000"/>
            <a:ext cx="151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本文表达了怎样的主题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2492280"/>
            <a:ext cx="63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控诉战争的残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②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歌颂爱的伟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揭露非正义战争维护者的自私嘴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④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我们应该不停地反思历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rcRect l="6267" t="0" r="4396" b="5789"/>
          <a:stretch/>
        </p:blipFill>
        <p:spPr>
          <a:xfrm>
            <a:off x="-1116000" y="0"/>
            <a:ext cx="10441080" cy="6870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3527280" cy="2525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71640" y="1341360"/>
            <a:ext cx="72007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    </a:t>
            </a:r>
            <a:r>
              <a:rPr b="1" lang="zh-CN" sz="4000" spc="-1" strike="noStrike">
                <a:solidFill>
                  <a:srgbClr val="3333cc"/>
                </a:solidFill>
                <a:latin typeface="华文中宋"/>
                <a:ea typeface="华文中宋"/>
              </a:rPr>
              <a:t>这确实是一个沉重而美丽的记忆。我们崇敬塞尔维亚人的英勇，认同他们的历史观，让我们用良知、用正义和着作家的心声一同呼吁：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永远不要再有战争和屠杀了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10140" t="6328" r="0" b="0"/>
          <a:stretch/>
        </p:blipFill>
        <p:spPr>
          <a:xfrm>
            <a:off x="0" y="0"/>
            <a:ext cx="9396360" cy="6954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71640" y="1197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看下面一篇短文，结合文中引用的诗歌，谈谈你对“珍爱和平”的感受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49560" y="5923800"/>
            <a:ext cx="326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更多资源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xiti123.taobao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372360" y="4076640"/>
            <a:ext cx="2379600" cy="2379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10140" t="6328" r="0" b="0"/>
          <a:stretch/>
        </p:blipFill>
        <p:spPr>
          <a:xfrm>
            <a:off x="0" y="0"/>
            <a:ext cx="9396360" cy="6954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请把我埋得浅一点好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战时期，在一座纳粹集中营里，关押着很多犹太人，他们大多是妇女和儿童。他们遭受着纳粹无情的折磨和杀害，人数在不断减少。 有一个天真活泼的小女孩，和她的母亲一起被关押在集中营里。一天，她的母亲和另一些妇女被纳粹士兵带走了。从此，再也没有回到她身边。人们知道，她们肯定是被杀害了。当小女孩问大人们她的妈妈哪里去了，为什么这么久了还不回来时，大人们沉默着流泪了。后来他们就骗小女孩说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的妈妈去找你的爸爸了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久就会回来的。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10140" t="6328" r="0" b="0"/>
          <a:stretch/>
        </p:blipFill>
        <p:spPr>
          <a:xfrm>
            <a:off x="0" y="0"/>
            <a:ext cx="9396360" cy="6954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26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女孩相信了，她不再哭泣和询问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而是唱起妈妈教她的儿歌，一首接一首地唱着，像轻风一样在阴沉的集中营吹拂。她还不时爬上囚室的小窗，向外张望，希望看到妈妈从远处走来。小女孩没有等到妈妈回来。一天清晨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纳粹士兵用刺刀驱赶着，将她和数万名犹太人逼上了刑场。刑场上早就挖好了很大的深坑，他们将一起被活活埋葬在这里。面对死亡，人们在恐惧中发不出任何声音。  人们一个接一个地被纳粹士兵残忍地推下深坑。当一个纳粹士兵走到小女孩跟前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伸手要将她推进深坑中去的时候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女孩睁大漂亮的眼睛对纳粹士兵说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叔叔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请你把我埋得浅一点好吗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不，等我妈妈来找我的时候，就找不到我了。” 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4187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624120"/>
            <a:ext cx="4500720" cy="3233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95760" cy="364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641680"/>
            <a:ext cx="5003640" cy="421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003640" y="2673360"/>
            <a:ext cx="5181840" cy="4184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1164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44640" cy="3933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162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843280" y="2577960"/>
            <a:ext cx="6300720" cy="4280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2:57:21Z</dcterms:created>
  <dc:creator>Dinglu</dc:creator>
  <dc:description/>
  <dc:language>en-US</dc:language>
  <cp:lastModifiedBy>TOSHIBA</cp:lastModifiedBy>
  <dcterms:modified xsi:type="dcterms:W3CDTF">2013-09-11T17:13:43Z</dcterms:modified>
  <cp:revision>74</cp:revision>
  <dc:subject/>
  <dc:title>PowerPoint 演示文稿</dc:title>
</cp:coreProperties>
</file>