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394F-BB6A-4A37-AE3D-F1331073F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C686-45D6-4397-AA33-52ED526C9CC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C81659-C1CB-484C-BA39-AD2AB430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11FB02-FB29-40C6-83E8-6C615F58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D95600-AA40-48D0-BE45-E86F2173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D428A9-FB69-4D52-A520-40F8A9B5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C75837-90EB-4A3E-A944-845011AD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F4BFE7-971D-4302-82F9-9C7CF39F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B153BE-F30D-4B4E-B907-A02DB457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0907C6-0AF3-4BE6-92AB-63715A1C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4E876F-3D0E-4543-81BE-F1EAD988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746EF-0025-49AE-91AE-D22B642E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379D-7B1A-4126-96DF-879F05B7B0B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BC627-9F2A-4A2A-A079-6E4CB496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0BBD4-41F2-46C9-8E3A-C9B952FB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EDF08-D18F-4FB1-8599-4AC9F8EA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876A9-1A13-49B0-B138-055B29A9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6D64A-8309-46EF-9E63-63A2A9FF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BB0F6-AB49-4C4D-9B0B-69546BA7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6C770-E1BC-4994-9C08-101DC4A9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75EF5-7AF6-4BEB-8B86-C9783E40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5D841-847B-49BF-9249-7F48C97B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0EADA-DE09-4862-971C-55395C20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A730-BAFE-42D8-BE27-3FE5D3446E9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B7E5D-2B4F-4911-8031-0CBFE8F5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EA1A0-7243-4D57-A944-90B709B3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AB103-731A-4925-8CAA-20824AB3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C95BD7-A267-4698-B2FE-8C9EA0B6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C18BC-B8DC-4CB3-86CE-97AB2CD1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E1028-2860-4366-9372-97872401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30129-A653-4720-8F0B-EF070776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EFF55-B5A9-426C-A401-F8CADD7E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460E7-6711-4244-B1F8-51099CB9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8B9CC-38E0-453E-8B8D-3E978359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D715E-9CC7-4066-9159-ED166BB7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CA5AC-6D4E-4D5E-A691-A47441EA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E56E1-F967-4234-A29C-1DB291EE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CE589C-5E55-4F3A-A562-700771BA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75551B-78FC-4F27-B81E-B86F4F37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03F431-9046-4C5A-9E21-9076097C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3D8C61-CD66-412B-9904-C95B59EB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381929-B373-4DC3-8A09-E094EC30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2B6D5A-8C72-424D-8908-3122F100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9523E9-409C-4F9B-881D-DE392D12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C6EE12-DFE8-4D1A-9339-AD3B613C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06865B-A1AC-4088-9C11-ABB75248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EC5FAE-FB0D-4924-BC14-FD3CCE65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0F0697-FD1A-4F63-B7A7-11AF0DEE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817EF3-2CE2-4EDE-9FF2-F94E7E9C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FB0F3-82C0-43FF-870F-311F9C28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319CB-6B04-4F93-933D-8C80B425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9698A-7C12-4171-9303-5804ABF3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5FDAB-F092-4DA6-B9BA-037A13AA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B1E8B-AFC1-4ACD-833D-F503B64B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8C737-8922-4898-82D5-9E3C2AED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C51F0-AFD2-4ED7-9BA9-E4852E96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10A03-592F-4054-9633-887F7629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FA745-47A5-4571-A019-F54B2A3B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87C78-A80F-4BDE-A7FA-6F4F525B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BC027-18F9-454E-B64A-0467F73F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453CC-CE42-4E87-A5EA-71B8BE7E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3C47-E88B-4513-90FB-759F7D0AE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E5E75-0EC0-4F52-9DA6-FDA4C613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4A2E9-3B3E-47D9-AE54-57259EB6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9C454-BA8E-4C9B-8F48-DA968F9A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EE7C2-522F-44C4-89B3-76A48E99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7AEA0-F875-4BAD-BE14-EF7180B1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57BAB-869B-430A-B92A-B745D14C27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38438-C4D3-4F3C-902A-E7F463FB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D3DC3-AFCF-41D4-AB0A-B0ECA131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3FD2F-D35D-468A-A013-97090891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E6B93-DDC6-4EBE-8E5B-D87E8E1E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C5CA8-4150-466A-8BE3-5A946217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C1995-097A-433E-8F3C-E1BA7687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20224-9D0A-4ACE-9BFF-6937C845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49B02B-C32A-4B8B-A0F9-B9FF5535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7D53CC-04FF-44F5-9D43-52695ADF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7BA970-132D-4F3B-AEF4-B02752D7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0EE5-6C62-474D-991E-F183BCCD03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ECBE8F-9A87-4681-9336-78627032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BA38E4-98E0-4E14-8A5E-57E6588B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C5EDB9-E201-4230-B0F8-454793C4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E0E0A-AB60-4B70-9B20-C4CC7B1D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E6BF0-E761-45C8-BCA1-6D1ADBBA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3AAB01-255A-43DD-A50D-B7E75C8C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7D7953-9931-4117-AB58-09341998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92F095-471B-48D2-AF64-EE057656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AF0CEE-0DA6-4A75-B316-D86AE5DB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6543C8-C328-46A6-BEF9-F621B48C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59C0-C9B2-4163-8680-CB17F045D94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FA201-827A-4EF1-9530-89A11016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D5B3EE-1B2A-455F-ADBB-7C573CFF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193891-651B-4295-8D45-7D6F6C9E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15D22C-DA06-4911-8441-00B970B5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6B342-03F7-47FC-916D-44155840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00A1E-5D88-4924-B91C-B617126D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39C15C-CCE9-4AAF-9200-3F9ADD4E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A0F0E3-E9CA-49AA-8EF5-6C0BF10D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A6AF7A-B326-47E3-8D71-65C6C993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DE1C8E-AAA2-48C2-BED8-755A53CE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EB2F-4DCB-472F-926B-C4C9C0C875D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A3E21-64AC-4896-86C9-A9D3B97E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9C7E9C-FBAF-49ED-B317-C577AC4C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907659-3812-4D14-84BC-4C8440F1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6C6E74-9065-462B-9B60-FF911325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170D11-D1BF-4BA3-A498-D8BFCF99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AFFB95-B786-482F-82EE-99A7B44E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B92BF9-722C-4A3B-839A-9D52111F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27D3E6-DAED-4E13-991D-CAF82AB0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22B893-B309-4F71-9E88-33710278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32CAFE-D1EA-445D-850C-A7687172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6C32-798C-4507-A051-FE6C090067B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8ED9C8-B9DF-4B03-8BD5-772C2E56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D3DABB-4015-41BE-866E-A7014D22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9BD253-5C4D-45CA-8D50-D0AFB225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ED8DAD-7ACD-44C1-8DD0-E25E498A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E2A900-2BD7-4BD4-B962-04CA11B7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0B1814-37BE-4879-A40F-39E8D2FE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9D597-E141-483E-A56A-6B008021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12AAB6-F5E8-49EE-8B1B-6DBF898E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08E4AC-319B-42F7-AE6D-384634EA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61E435-5E8A-45B2-9551-1035517C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2BB9-0A4F-4DDC-83AC-7C13DE22B2B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7001A3-F020-40E7-AFE7-33B91E16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57628F-79D9-45CF-A61D-438B527B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766551-85A4-4EB9-A535-C2617838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AE7FB9-E9F1-44D5-AE4B-DC3A3ED8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972497-D0AF-45E9-A82C-ABA0016C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050F38-A7AB-452B-B1FB-54DAB5FF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F4EC4F-408C-45D9-8A77-11E42191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6ADBD1-8CEB-4A2B-A7CB-1517B35F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179921-B430-4FC4-8D15-8EF96BB3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CF98E1-497E-4827-A2D9-9DDA292E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54C6-66AD-4C8E-9399-85342AD95FB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250154-F44C-42FF-8BE2-0F0F6F6D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92C1E2-A6D2-457A-B96C-A0EA8E2C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E5EE30-9182-470B-B735-9E713328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989974-2C13-4BC1-B9B9-5C8F67A2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8F91F8-EC30-4BF1-BB08-02C17C88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C4D80F-818B-4832-86F2-7BCAE15A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693C7D-0BF4-4FEB-96A1-C09FB309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FD7D33-6778-4EE9-8885-7B4FDDCD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3EFBCA-A738-419E-8D6E-2B4B7E6D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033DE2-66E5-4284-94CB-99106CF5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7640" y="6286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7B79-142C-4410-A7F8-D518761B5ED6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FF69-980C-4F5A-84D7-99469FCAFE54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4381-C1F4-4114-954A-A37D8F27C920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7D93-476E-4404-BE4A-57B35B1E93D7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BCF4-26FB-4D38-8504-9AD166B91776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D3A4-B1E2-4691-A618-B86606C93F3E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7"/>
          </p:nvPr>
        </p:nvSpPr>
        <p:spPr>
          <a:xfrm>
            <a:off x="6428880" y="6350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E9A1-18FD-47DF-8093-705B059DAE19}" type="slidenum">
              <a:rPr b="0" i="1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9F37-6D31-4B42-B9A4-643F5CDAB663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280B-4D63-4BC3-BD24-85E7EF65E603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DF2B-BBB8-443A-AE53-974FAD27E9A8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262F-DA5D-4B49-812A-50E3C2DE72F0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973F-8F4B-48DB-A7EB-4E12CF77F8E8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285840" y="6429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3714840" y="492912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5286240" y="5715000"/>
            <a:ext cx="2768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灯片编号占位符 3"/>
          <p:cNvSpPr/>
          <p:nvPr/>
        </p:nvSpPr>
        <p:spPr>
          <a:xfrm>
            <a:off x="6429240" y="6350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1482-9420-4898-A113-4C23ABFA0A0E}" type="slidenum">
              <a:rPr b="0" i="1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7120" y="585792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57120" y="714240"/>
            <a:ext cx="8207280" cy="40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3"/>
          <p:cNvSpPr/>
          <p:nvPr/>
        </p:nvSpPr>
        <p:spPr>
          <a:xfrm>
            <a:off x="285840" y="6429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9"/>
          <p:cNvSpPr/>
          <p:nvPr/>
        </p:nvSpPr>
        <p:spPr>
          <a:xfrm>
            <a:off x="3714840" y="528624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8T16:53:06Z</dcterms:created>
  <dc:creator>lxym148</dc:creator>
  <dc:description/>
  <cp:keywords>lxym148</cp:keywords>
  <dc:language>en-US</dc:language>
  <cp:lastModifiedBy>yang</cp:lastModifiedBy>
  <dcterms:modified xsi:type="dcterms:W3CDTF">2015-06-30T01:42:11Z</dcterms:modified>
  <cp:revision>11</cp:revision>
  <dc:subject>lxym148</dc:subject>
  <dc:title>RESU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