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EF1-47BF-46EC-A3C1-35C206D9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3C4-0962-425B-8027-38BD1938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2E449-97ED-450B-ACCD-EC2E0F8A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C57BD-3E66-4940-9852-D18DD82C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647F8-8940-4256-937C-FB4AF1C3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A4627-7112-4AA9-8E90-98CB3DEC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5E815-0369-4C2D-8D75-A4176559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EA9CF-6E59-4F71-8384-811967D9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92072-BCF2-4B0E-ADEB-BC0C96DE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F5B8D-9A10-4A21-849E-3AB8A46B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E33B3-289B-41F8-BCBF-9DA607E6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60948-BB45-45CC-BF5D-1C5AFF4A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25C-808E-4874-BEA0-059161B6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D64EF-124D-4996-98DF-C4C7FD5D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D62AD-B0A7-4CDF-BCD0-94B68A5E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BD63E-D2B0-44E9-A9B9-9CE89EC9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CCB61-509F-4AB0-9D9A-BD3EA19F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9A3C2-15C2-4A99-8461-EB3E344C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1736F-C883-43BA-AEE8-F8E3D231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4A226-5BCE-4F96-9FE0-A3EBAD17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37C0C-AE6D-4C81-91B6-4CFF07D6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46B06-297A-45AF-946C-C29CA7E4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305AF-278E-4D5F-B48A-2BA580CA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88E-966D-4784-BE8B-83123C97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6294D-869B-4D65-AD9F-5887E993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10E19-BB12-428B-ADB4-253DF3B7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490A7-51A8-499C-8E58-78CECDB6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6CFDB-BA73-4DCD-884D-547F81AE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58C12-C575-44B9-8D23-D95CF96E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C33D9-5411-40B8-84A0-13C7E63C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3664D-C388-4E90-B191-A9192392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C34C3-0C21-4222-AE1D-65613B6A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85C4A-219A-46EA-8C85-6A9C86ED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674BB-CAA4-4EB5-AFC3-C4FFF41C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B9C1-AE17-4812-967C-6D07BF6A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DB99A-6377-4097-9064-E0CF472D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26C30-C28D-4A6B-AEF1-8B03C65A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2A114-9D6A-4425-A5DC-94553DFF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8910C-543F-4201-91DE-DA4C6908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F8801-AE5D-45DC-9659-DD03A800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70121-F53B-4B8D-8EFF-01A92DFD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A09A6-2F1B-4143-9E64-2D14723C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954B5-E51B-4D54-8186-1B0DBEA8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9048C-68B3-46E4-BE6A-754E077A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41AC5-CD0B-4C46-8906-BAF2303B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3498-FDA7-481C-B7D9-8EB3FC80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06B5F-E405-4475-B2FF-667F0322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CEB91-E525-4579-9E28-610223B1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D5C7D-3C36-4C44-BDC4-5C034B21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F0312-1A2D-437E-8A50-6F251866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FDD85-EEE2-4792-A74F-847ACD5E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B22CF-3E26-4D64-8C84-C69198F7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629A3-4DBD-485A-9E77-4247209F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0EC6C-BDF1-48F6-A6A8-F034B72B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4C4BC-3C59-49D4-8E31-443E3E35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27218-68CB-4B10-BD89-EFBD8C30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F3D3-0320-4130-A0C5-F910AD5A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5D3F2-E266-47E4-8539-4F0E8F2B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20E04-9E4D-48F2-BD36-D481EBE3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4205B-EF0E-4BE8-909D-F8F454C9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1DB1C-A404-4C48-9FCC-950D0A6C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DC8B2-FAFD-4AFA-9DAB-5ACC1D9F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9FF59-4263-415C-A4E4-320C7B9A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A7410-F90B-4279-B59A-C218069E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C613-32A9-40D8-9FD3-9BBFA04A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7AB2-CC65-4CA4-8F68-2C8D5822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DD4B-3315-44B8-A9BD-A5DC494C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D0CE-818E-43ED-A39A-C8CAB212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4A8-4ABB-485E-AA31-24BA1684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BD45-34DB-4C92-A167-DAD38D38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D059-AE1F-43AB-BB31-70E8FC0E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A259-E5D4-474C-AD76-D1511152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851C-F94A-4D17-8891-2F1BFA60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2E8F-0880-4D38-B5BD-CB2A33F4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6EB5E-0F8A-41D5-9AB0-1A59CD5A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43760-BE34-4F2D-ACEA-E527ECEC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94A2A-C851-4104-B91C-0BCD65B1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B2B55-49CB-4600-8E4E-3F6D35EE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C7167-9D9C-441B-81D5-01ACDD12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A86-6B4E-4564-84BE-EED76911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01218-2E7A-408F-8292-CE693B50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4DE6E-1E50-4A75-93CA-BAD68977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E6B1A-E34A-457B-AB3D-0121285B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94C36-C3E8-4D29-9922-7E430412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E574C-6BC0-41A0-B2D6-5B435926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AA830-EA56-49D3-AD96-19AF452C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56930-862E-4DB4-83A0-3F680200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A4996-2E27-4FCC-93F5-0279CEF4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CAE46-C3B9-40D9-8226-F24D6C48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36274-7E88-44C4-B19C-D968217A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A11-4404-4490-84F3-A14DFACA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2ACBB-CDC6-4309-97DB-8DB9FE0D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E755B-07E9-430E-97E8-9AF4BC22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0EA8B-7163-486A-A74C-9412E2FB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413D3-7016-4621-8F1C-8544E6BF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CFD2E-8ECD-4D42-B60F-DB4E29B4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30AB7-4968-4A0D-AB81-A7CDE270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A1824-E084-483C-A461-F933F608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5E22F-B1B1-4828-A4AA-A70D2876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253E7-FBBA-4461-941B-D903CF7B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A3BBB-674F-4042-BFEE-C3B447A6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3DE-2BED-489C-8CA6-76048A01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F6EE1-52C7-4DEA-A938-83EE5F6D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977EA-2E26-447A-BAA2-8DC8423A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6D1DC-6143-4CEB-AF3B-C211F052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311F0-5BA8-44E4-BE36-18D853B5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E848D-2D4E-4182-A78B-716BAD69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8B48E-B160-4CE5-9359-E091D92E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142AF-7D92-4735-A423-C0C6DF04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92214-9541-4F0A-AD04-5AB2D9D8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8FF22-2879-42A9-90FE-A311A067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F1A66-3023-4E82-AC2A-15C7A27D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78AE-AB88-4003-9F44-BA656297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47A88-C278-4AE5-BF20-DD978AF7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D07C7-EFF5-4A52-BA40-C7AA50D3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14EE0-EDB0-4F5E-A556-2DB431DC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9FC41-655D-4FE0-B300-D38D93BD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45F75-EEA1-4D51-B805-5CD5123F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B48BC-7F12-46A3-B881-1C8AC726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6B64C-39D0-4EC0-83A4-8BBB8A89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2DF1F-22BB-4E7D-A6F7-DE3992E0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913D9-E832-4082-87AE-55F100E1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3BFB6-685F-4EF9-BB1C-6616E2B7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8AE-2DD4-4633-B8FD-8234C131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191DE-BD55-450E-83BF-2D642FD4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8B533-C3C7-438E-A297-5F17E909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47CB1-FAEA-453B-8B7A-3B5C79A0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34F70-8F1D-41C7-B5AB-127509D6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67223-EEC8-4B5E-8F28-756AC428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A224F-08CB-4A01-8D8B-C487C665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031C1-A42B-455C-B4F3-3D2915BC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0D82A-2DEA-4778-BEDD-047B48B7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9C794-200C-4B07-8B45-E2E1E714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1C2A2-6CFB-4DFB-88EC-28BD5461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18D1-2528-40DF-A57F-1AC8F879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1C484-3936-4287-BA21-927F323D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55FCC-2AE7-44C7-8E38-AB5D1B8A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1059F-42E6-40FF-80A9-C5FFEBAC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FC736-8BDB-4A2A-9639-CD680131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57A04-B985-4FEF-9F69-8DCD3FF8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68E9D-3A9C-4A86-B43A-D19BD378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79B66-1529-41FB-BEE7-D019899F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FE626-45B1-42B4-9EEC-37120DFB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99E37-434B-4E8E-993F-986FBE3E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9DD1F-4E70-4E7F-A665-5D444C25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957D-F1E2-4368-B63E-3A117E67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FE0E5-A3CE-4D83-936D-38921811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DA8FE-DF83-45D6-81D1-85E37C68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9E107-66C2-4A23-9CC9-FB89FC92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6EAF7-979D-4442-84A7-31C9C257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73AC8-A459-45DA-9316-4A174F9A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954D1-593B-40BB-99E0-28B3A4EE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DD009-43EF-44B2-9D88-F1F02D58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8E5DF-9965-43F8-8030-D1920C4C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0B2A1-5C64-4783-BD41-71E3E461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7EFFB-93D2-48BE-A0EC-F5F943B9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AAD6-0571-4141-96E6-B84DAB45F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14DD-BB7B-4781-99BF-B4E8B46A14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B5FB-7FB7-48A4-9297-4C1AAA334CF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C22B-FD53-43AF-8393-713AB5058C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FA10-D43A-4C12-8500-B7F9C0F9A0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5494-D1BF-4908-8945-296F9FD81E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BE5F-73D2-4F2C-8B43-99755190A3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69EC-8909-42D6-BB59-981B61A455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4F34-1B26-4920-B8E3-9ABB938C73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9C78-D59D-40D0-81D3-5B1783529E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E0D0-1FDA-4312-AC58-D3706FCDBD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312F-5704-45F7-8D33-ADDCE6D7E4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3057-044D-4F22-97DD-676C0A35F3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C:\Users\Xiao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"/>
          <p:cNvPicPr/>
          <p:nvPr/>
        </p:nvPicPr>
        <p:blipFill>
          <a:blip r:embed="rId2"/>
          <a:stretch/>
        </p:blipFill>
        <p:spPr>
          <a:xfrm>
            <a:off x="0" y="-27000"/>
            <a:ext cx="6264360" cy="1260360"/>
          </a:xfrm>
          <a:prstGeom prst="rect">
            <a:avLst/>
          </a:prstGeom>
          <a:ln w="0">
            <a:noFill/>
          </a:ln>
        </p:spPr>
      </p:pic>
      <p:pic>
        <p:nvPicPr>
          <p:cNvPr id="535" name="矩形 3" descr=""/>
          <p:cNvPicPr/>
          <p:nvPr/>
        </p:nvPicPr>
        <p:blipFill>
          <a:blip r:embed="rId3"/>
          <a:stretch/>
        </p:blipFill>
        <p:spPr>
          <a:xfrm>
            <a:off x="463680" y="2249640"/>
            <a:ext cx="846108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36" name="组合 1"/>
          <p:cNvGrpSpPr/>
          <p:nvPr/>
        </p:nvGrpSpPr>
        <p:grpSpPr>
          <a:xfrm>
            <a:off x="2239920" y="5670720"/>
            <a:ext cx="4664160" cy="695160"/>
            <a:chOff x="2239920" y="5670720"/>
            <a:chExt cx="4664160" cy="695160"/>
          </a:xfrm>
        </p:grpSpPr>
        <p:pic>
          <p:nvPicPr>
            <p:cNvPr id="537" name="Picture 2" descr="D:\Xiao\文件\网络部\su logo.png"/>
            <p:cNvPicPr/>
            <p:nvPr/>
          </p:nvPicPr>
          <p:blipFill>
            <a:blip r:embed="rId4">
              <a:biLevel thresh="50000"/>
            </a:blip>
            <a:stretch/>
          </p:blipFill>
          <p:spPr>
            <a:xfrm>
              <a:off x="2239920" y="5670720"/>
              <a:ext cx="250992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图片 6" descr=""/>
            <p:cNvPicPr/>
            <p:nvPr/>
          </p:nvPicPr>
          <p:blipFill>
            <a:blip r:embed="rId5"/>
            <a:stretch/>
          </p:blipFill>
          <p:spPr>
            <a:xfrm>
              <a:off x="4942080" y="5733720"/>
              <a:ext cx="1962000" cy="53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8" name="Group 5"/>
          <p:cNvGrpSpPr/>
          <p:nvPr/>
        </p:nvGrpSpPr>
        <p:grpSpPr>
          <a:xfrm>
            <a:off x="4824360" y="1197000"/>
            <a:ext cx="252360" cy="252360"/>
            <a:chOff x="4824360" y="1197000"/>
            <a:chExt cx="252360" cy="252360"/>
          </a:xfrm>
        </p:grpSpPr>
        <p:sp>
          <p:nvSpPr>
            <p:cNvPr id="969" name="Oval 6"/>
            <p:cNvSpPr/>
            <p:nvPr/>
          </p:nvSpPr>
          <p:spPr>
            <a:xfrm>
              <a:off x="4824360" y="1197000"/>
              <a:ext cx="252360" cy="252360"/>
            </a:xfrm>
            <a:prstGeom prst="ellipse">
              <a:avLst/>
            </a:prstGeom>
            <a:solidFill>
              <a:srgbClr val="bbe0e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7"/>
            <p:cNvSpPr/>
            <p:nvPr/>
          </p:nvSpPr>
          <p:spPr>
            <a:xfrm>
              <a:off x="4859280" y="1233360"/>
              <a:ext cx="181080" cy="181080"/>
            </a:xfrm>
            <a:prstGeom prst="ellipse">
              <a:avLst/>
            </a:prstGeom>
            <a:solidFill>
              <a:srgbClr val="0099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Group 8"/>
          <p:cNvGrpSpPr/>
          <p:nvPr/>
        </p:nvGrpSpPr>
        <p:grpSpPr>
          <a:xfrm>
            <a:off x="2879640" y="44280"/>
            <a:ext cx="1044720" cy="1008360"/>
            <a:chOff x="2879640" y="44280"/>
            <a:chExt cx="1044720" cy="1008360"/>
          </a:xfrm>
        </p:grpSpPr>
        <p:sp>
          <p:nvSpPr>
            <p:cNvPr id="972" name="Oval 9"/>
            <p:cNvSpPr/>
            <p:nvPr/>
          </p:nvSpPr>
          <p:spPr>
            <a:xfrm>
              <a:off x="2879640" y="44280"/>
              <a:ext cx="1044720" cy="1008360"/>
            </a:xfrm>
            <a:prstGeom prst="ellipse">
              <a:avLst/>
            </a:prstGeom>
            <a:noFill/>
            <a:ln w="50760">
              <a:solidFill>
                <a:srgbClr val="cc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0"/>
            <p:cNvSpPr/>
            <p:nvPr/>
          </p:nvSpPr>
          <p:spPr>
            <a:xfrm>
              <a:off x="2987640" y="152280"/>
              <a:ext cx="828720" cy="828720"/>
            </a:xfrm>
            <a:prstGeom prst="ellipse">
              <a:avLst/>
            </a:prstGeom>
            <a:solidFill>
              <a:srgbClr val="bbe0e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1"/>
            <p:cNvSpPr/>
            <p:nvPr/>
          </p:nvSpPr>
          <p:spPr>
            <a:xfrm>
              <a:off x="3095640" y="260280"/>
              <a:ext cx="611280" cy="611280"/>
            </a:xfrm>
            <a:prstGeom prst="ellipse">
              <a:avLst/>
            </a:prstGeom>
            <a:solidFill>
              <a:srgbClr val="99cc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Group 12"/>
          <p:cNvGrpSpPr/>
          <p:nvPr/>
        </p:nvGrpSpPr>
        <p:grpSpPr>
          <a:xfrm>
            <a:off x="2556000" y="836640"/>
            <a:ext cx="1225440" cy="1225440"/>
            <a:chOff x="2556000" y="836640"/>
            <a:chExt cx="1225440" cy="1225440"/>
          </a:xfrm>
        </p:grpSpPr>
        <p:sp>
          <p:nvSpPr>
            <p:cNvPr id="976" name="Oval 13"/>
            <p:cNvSpPr/>
            <p:nvPr/>
          </p:nvSpPr>
          <p:spPr>
            <a:xfrm>
              <a:off x="2556000" y="836640"/>
              <a:ext cx="1225440" cy="1225440"/>
            </a:xfrm>
            <a:prstGeom prst="ellipse">
              <a:avLst/>
            </a:prstGeom>
            <a:noFill/>
            <a:ln w="50760">
              <a:solidFill>
                <a:srgbClr val="cc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14"/>
            <p:cNvSpPr/>
            <p:nvPr/>
          </p:nvSpPr>
          <p:spPr>
            <a:xfrm>
              <a:off x="2665080" y="946080"/>
              <a:ext cx="1008000" cy="1008000"/>
            </a:xfrm>
            <a:prstGeom prst="ellipse">
              <a:avLst/>
            </a:prstGeom>
            <a:solidFill>
              <a:srgbClr val="cc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15"/>
            <p:cNvSpPr/>
            <p:nvPr/>
          </p:nvSpPr>
          <p:spPr>
            <a:xfrm>
              <a:off x="2773080" y="1054080"/>
              <a:ext cx="790200" cy="790560"/>
            </a:xfrm>
            <a:prstGeom prst="ellipse">
              <a:avLst/>
            </a:prstGeom>
            <a:solidFill>
              <a:srgbClr val="99cc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Group 16"/>
          <p:cNvGrpSpPr/>
          <p:nvPr/>
        </p:nvGrpSpPr>
        <p:grpSpPr>
          <a:xfrm>
            <a:off x="4392720" y="801720"/>
            <a:ext cx="574560" cy="574560"/>
            <a:chOff x="4392720" y="801720"/>
            <a:chExt cx="574560" cy="574560"/>
          </a:xfrm>
        </p:grpSpPr>
        <p:sp>
          <p:nvSpPr>
            <p:cNvPr id="980" name="Oval 17"/>
            <p:cNvSpPr/>
            <p:nvPr/>
          </p:nvSpPr>
          <p:spPr>
            <a:xfrm>
              <a:off x="4464000" y="873000"/>
              <a:ext cx="432000" cy="432000"/>
            </a:xfrm>
            <a:prstGeom prst="ellipse">
              <a:avLst/>
            </a:prstGeom>
            <a:solidFill>
              <a:srgbClr val="00cc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18"/>
            <p:cNvSpPr/>
            <p:nvPr/>
          </p:nvSpPr>
          <p:spPr>
            <a:xfrm>
              <a:off x="4535640" y="944640"/>
              <a:ext cx="288720" cy="288720"/>
            </a:xfrm>
            <a:prstGeom prst="ellipse">
              <a:avLst/>
            </a:prstGeom>
            <a:solidFill>
              <a:srgbClr val="0099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19"/>
            <p:cNvSpPr/>
            <p:nvPr/>
          </p:nvSpPr>
          <p:spPr>
            <a:xfrm>
              <a:off x="4392720" y="801720"/>
              <a:ext cx="574560" cy="574560"/>
            </a:xfrm>
            <a:prstGeom prst="ellipse">
              <a:avLst/>
            </a:prstGeom>
            <a:noFill/>
            <a:ln w="50760">
              <a:solidFill>
                <a:srgbClr val="99cc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Oval 20"/>
          <p:cNvSpPr/>
          <p:nvPr/>
        </p:nvSpPr>
        <p:spPr>
          <a:xfrm>
            <a:off x="468360" y="620640"/>
            <a:ext cx="647640" cy="647640"/>
          </a:xfrm>
          <a:prstGeom prst="ellipse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21"/>
          <p:cNvSpPr/>
          <p:nvPr/>
        </p:nvSpPr>
        <p:spPr>
          <a:xfrm>
            <a:off x="1368360" y="476280"/>
            <a:ext cx="935280" cy="936720"/>
          </a:xfrm>
          <a:prstGeom prst="ellipse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22"/>
          <p:cNvSpPr/>
          <p:nvPr/>
        </p:nvSpPr>
        <p:spPr>
          <a:xfrm>
            <a:off x="719280" y="1160640"/>
            <a:ext cx="250560" cy="25056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23"/>
          <p:cNvSpPr/>
          <p:nvPr/>
        </p:nvSpPr>
        <p:spPr>
          <a:xfrm>
            <a:off x="611280" y="765000"/>
            <a:ext cx="396720" cy="39708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24"/>
          <p:cNvSpPr/>
          <p:nvPr/>
        </p:nvSpPr>
        <p:spPr>
          <a:xfrm>
            <a:off x="5472000" y="512640"/>
            <a:ext cx="360360" cy="36036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25"/>
          <p:cNvSpPr/>
          <p:nvPr/>
        </p:nvSpPr>
        <p:spPr>
          <a:xfrm>
            <a:off x="5472000" y="549360"/>
            <a:ext cx="360360" cy="360360"/>
          </a:xfrm>
          <a:prstGeom prst="ellipse">
            <a:avLst/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26"/>
          <p:cNvSpPr/>
          <p:nvPr/>
        </p:nvSpPr>
        <p:spPr>
          <a:xfrm>
            <a:off x="576360" y="728640"/>
            <a:ext cx="431640" cy="432000"/>
          </a:xfrm>
          <a:prstGeom prst="ellipse">
            <a:avLst/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27"/>
          <p:cNvSpPr/>
          <p:nvPr/>
        </p:nvSpPr>
        <p:spPr>
          <a:xfrm>
            <a:off x="719280" y="1160640"/>
            <a:ext cx="252360" cy="252360"/>
          </a:xfrm>
          <a:prstGeom prst="ellipse">
            <a:avLst/>
          </a:prstGeom>
          <a:noFill/>
          <a:ln w="507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28"/>
          <p:cNvSpPr/>
          <p:nvPr/>
        </p:nvSpPr>
        <p:spPr>
          <a:xfrm>
            <a:off x="5364000" y="441360"/>
            <a:ext cx="576360" cy="574560"/>
          </a:xfrm>
          <a:prstGeom prst="ellipse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2" name="Group 29"/>
          <p:cNvGrpSpPr/>
          <p:nvPr/>
        </p:nvGrpSpPr>
        <p:grpSpPr>
          <a:xfrm>
            <a:off x="1332000" y="476280"/>
            <a:ext cx="323640" cy="324000"/>
            <a:chOff x="1332000" y="476280"/>
            <a:chExt cx="323640" cy="324000"/>
          </a:xfrm>
        </p:grpSpPr>
        <p:sp>
          <p:nvSpPr>
            <p:cNvPr id="993" name="Oval 30"/>
            <p:cNvSpPr/>
            <p:nvPr/>
          </p:nvSpPr>
          <p:spPr>
            <a:xfrm>
              <a:off x="1440000" y="549360"/>
              <a:ext cx="142560" cy="14292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1"/>
            <p:cNvSpPr/>
            <p:nvPr/>
          </p:nvSpPr>
          <p:spPr>
            <a:xfrm>
              <a:off x="1403280" y="549360"/>
              <a:ext cx="179280" cy="179280"/>
            </a:xfrm>
            <a:prstGeom prst="ellips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2"/>
            <p:cNvSpPr/>
            <p:nvPr/>
          </p:nvSpPr>
          <p:spPr>
            <a:xfrm>
              <a:off x="1332000" y="476280"/>
              <a:ext cx="323640" cy="324000"/>
            </a:xfrm>
            <a:prstGeom prst="ellipse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Group 33"/>
          <p:cNvGrpSpPr/>
          <p:nvPr/>
        </p:nvGrpSpPr>
        <p:grpSpPr>
          <a:xfrm>
            <a:off x="431640" y="1160640"/>
            <a:ext cx="179640" cy="180720"/>
            <a:chOff x="431640" y="1160640"/>
            <a:chExt cx="179640" cy="180720"/>
          </a:xfrm>
        </p:grpSpPr>
        <p:sp>
          <p:nvSpPr>
            <p:cNvPr id="997" name="Oval 34"/>
            <p:cNvSpPr/>
            <p:nvPr/>
          </p:nvSpPr>
          <p:spPr>
            <a:xfrm>
              <a:off x="461880" y="1190880"/>
              <a:ext cx="119880" cy="12096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35"/>
            <p:cNvSpPr/>
            <p:nvPr/>
          </p:nvSpPr>
          <p:spPr>
            <a:xfrm>
              <a:off x="461880" y="1190880"/>
              <a:ext cx="119880" cy="120960"/>
            </a:xfrm>
            <a:prstGeom prst="ellipse">
              <a:avLst/>
            </a:pr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36"/>
            <p:cNvSpPr/>
            <p:nvPr/>
          </p:nvSpPr>
          <p:spPr>
            <a:xfrm>
              <a:off x="431640" y="1160640"/>
              <a:ext cx="179640" cy="180720"/>
            </a:xfrm>
            <a:prstGeom prst="ellipse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Oval 37"/>
          <p:cNvSpPr/>
          <p:nvPr/>
        </p:nvSpPr>
        <p:spPr>
          <a:xfrm>
            <a:off x="1511280" y="620640"/>
            <a:ext cx="647640" cy="6476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Oval 38"/>
          <p:cNvSpPr/>
          <p:nvPr/>
        </p:nvSpPr>
        <p:spPr>
          <a:xfrm>
            <a:off x="1511280" y="620640"/>
            <a:ext cx="649440" cy="649440"/>
          </a:xfrm>
          <a:prstGeom prst="ellipse">
            <a:avLst/>
          </a:prstGeom>
          <a:noFill/>
          <a:ln w="1144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39"/>
          <p:cNvGrpSpPr/>
          <p:nvPr/>
        </p:nvGrpSpPr>
        <p:grpSpPr>
          <a:xfrm>
            <a:off x="2050920" y="907920"/>
            <a:ext cx="433440" cy="433440"/>
            <a:chOff x="2050920" y="907920"/>
            <a:chExt cx="433440" cy="433440"/>
          </a:xfrm>
        </p:grpSpPr>
        <p:sp>
          <p:nvSpPr>
            <p:cNvPr id="1003" name="Oval 40"/>
            <p:cNvSpPr/>
            <p:nvPr/>
          </p:nvSpPr>
          <p:spPr>
            <a:xfrm>
              <a:off x="2050920" y="907920"/>
              <a:ext cx="433440" cy="433440"/>
            </a:xfrm>
            <a:prstGeom prst="ellipse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41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42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noFill/>
            <a:ln w="63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6" name="Rectangle 43"/>
          <p:cNvSpPr/>
          <p:nvPr/>
        </p:nvSpPr>
        <p:spPr>
          <a:xfrm>
            <a:off x="6806520" y="188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ondrift of Y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44"/>
          <p:cNvSpPr/>
          <p:nvPr/>
        </p:nvSpPr>
        <p:spPr>
          <a:xfrm>
            <a:off x="5543640" y="1989000"/>
            <a:ext cx="3600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谢谢观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Medium"/>
              </a:rPr>
              <a:t>May 15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en-US" sz="3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Picture 45" descr="})(KO{QK`_XVH7E}B4GONXK"/>
          <p:cNvPicPr/>
          <p:nvPr/>
        </p:nvPicPr>
        <p:blipFill>
          <a:blip r:embed="rId1"/>
          <a:stretch/>
        </p:blipFill>
        <p:spPr>
          <a:xfrm>
            <a:off x="539640" y="2924280"/>
            <a:ext cx="5040360" cy="3716280"/>
          </a:xfrm>
          <a:prstGeom prst="rect">
            <a:avLst/>
          </a:prstGeom>
          <a:ln w="0">
            <a:noFill/>
          </a:ln>
        </p:spPr>
      </p:pic>
      <p:sp>
        <p:nvSpPr>
          <p:cNvPr id="1009" name="Text Box 46"/>
          <p:cNvSpPr/>
          <p:nvPr/>
        </p:nvSpPr>
        <p:spPr>
          <a:xfrm>
            <a:off x="826920" y="220500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青春  我们一起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0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3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3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3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3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3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5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5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56" descr="@NLLJK5W@NMT`ACPLD4U(R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  <a:ea typeface="仿宋_GB2312"/>
              </a:rPr>
              <a:t>青春的浪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潘雪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2010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级信息学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5"/>
          <p:cNvGrpSpPr/>
          <p:nvPr/>
        </p:nvGrpSpPr>
        <p:grpSpPr>
          <a:xfrm>
            <a:off x="7085160" y="5473440"/>
            <a:ext cx="1166040" cy="972000"/>
            <a:chOff x="7085160" y="5473440"/>
            <a:chExt cx="1166040" cy="972000"/>
          </a:xfrm>
        </p:grpSpPr>
        <p:grpSp>
          <p:nvGrpSpPr>
            <p:cNvPr id="543" name="Group 6"/>
            <p:cNvGrpSpPr/>
            <p:nvPr/>
          </p:nvGrpSpPr>
          <p:grpSpPr>
            <a:xfrm>
              <a:off x="7085160" y="5473440"/>
              <a:ext cx="1166040" cy="972000"/>
              <a:chOff x="7085160" y="5473440"/>
              <a:chExt cx="1166040" cy="972000"/>
            </a:xfrm>
          </p:grpSpPr>
          <p:sp>
            <p:nvSpPr>
              <p:cNvPr id="544" name="Freeform 7"/>
              <p:cNvSpPr/>
              <p:nvPr/>
            </p:nvSpPr>
            <p:spPr>
              <a:xfrm rot="20073000">
                <a:off x="7186680" y="5760360"/>
                <a:ext cx="544680" cy="596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8"/>
              <p:cNvSpPr/>
              <p:nvPr/>
            </p:nvSpPr>
            <p:spPr>
              <a:xfrm flipH="1" rot="20073000">
                <a:off x="7669800" y="5546520"/>
                <a:ext cx="475560" cy="596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9"/>
            <p:cNvGrpSpPr/>
            <p:nvPr/>
          </p:nvGrpSpPr>
          <p:grpSpPr>
            <a:xfrm>
              <a:off x="7184160" y="5571000"/>
              <a:ext cx="971280" cy="774720"/>
              <a:chOff x="7184160" y="5571000"/>
              <a:chExt cx="971280" cy="774720"/>
            </a:xfrm>
          </p:grpSpPr>
          <p:sp>
            <p:nvSpPr>
              <p:cNvPr id="547" name="Freeform 10"/>
              <p:cNvSpPr/>
              <p:nvPr/>
            </p:nvSpPr>
            <p:spPr>
              <a:xfrm rot="20073000">
                <a:off x="7257600" y="5819760"/>
                <a:ext cx="466560" cy="4474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1"/>
              <p:cNvSpPr/>
              <p:nvPr/>
            </p:nvSpPr>
            <p:spPr>
              <a:xfrm flipH="1" rot="20073000">
                <a:off x="7671600" y="5636520"/>
                <a:ext cx="407160" cy="4474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9" name="Group 90"/>
          <p:cNvGrpSpPr/>
          <p:nvPr/>
        </p:nvGrpSpPr>
        <p:grpSpPr>
          <a:xfrm>
            <a:off x="-43200" y="5714280"/>
            <a:ext cx="1044720" cy="927000"/>
            <a:chOff x="-43200" y="5714280"/>
            <a:chExt cx="1044720" cy="927000"/>
          </a:xfrm>
        </p:grpSpPr>
        <p:grpSp>
          <p:nvGrpSpPr>
            <p:cNvPr id="550" name="Group 91"/>
            <p:cNvGrpSpPr/>
            <p:nvPr/>
          </p:nvGrpSpPr>
          <p:grpSpPr>
            <a:xfrm>
              <a:off x="-43200" y="5714280"/>
              <a:ext cx="1044720" cy="927000"/>
              <a:chOff x="-43200" y="5714280"/>
              <a:chExt cx="1044720" cy="927000"/>
            </a:xfrm>
          </p:grpSpPr>
          <p:sp>
            <p:nvSpPr>
              <p:cNvPr id="551" name="Freeform 92"/>
              <p:cNvSpPr/>
              <p:nvPr/>
            </p:nvSpPr>
            <p:spPr>
              <a:xfrm rot="2127600">
                <a:off x="40680" y="5822280"/>
                <a:ext cx="518040" cy="4554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93"/>
              <p:cNvSpPr/>
              <p:nvPr/>
            </p:nvSpPr>
            <p:spPr>
              <a:xfrm flipH="1" rot="2127000">
                <a:off x="458640" y="6096960"/>
                <a:ext cx="452160" cy="4554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94"/>
            <p:cNvGrpSpPr/>
            <p:nvPr/>
          </p:nvGrpSpPr>
          <p:grpSpPr>
            <a:xfrm>
              <a:off x="47160" y="5801400"/>
              <a:ext cx="866520" cy="754560"/>
              <a:chOff x="47160" y="5801400"/>
              <a:chExt cx="866520" cy="754560"/>
            </a:xfrm>
          </p:grpSpPr>
          <p:sp>
            <p:nvSpPr>
              <p:cNvPr id="554" name="Freeform 95"/>
              <p:cNvSpPr/>
              <p:nvPr/>
            </p:nvSpPr>
            <p:spPr>
              <a:xfrm rot="2127600">
                <a:off x="105120" y="5898240"/>
                <a:ext cx="443520" cy="3416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96"/>
              <p:cNvSpPr/>
              <p:nvPr/>
            </p:nvSpPr>
            <p:spPr>
              <a:xfrm flipH="1" rot="2127000">
                <a:off x="462600" y="6133320"/>
                <a:ext cx="387360" cy="3416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6" name="Group 97"/>
          <p:cNvGrpSpPr/>
          <p:nvPr/>
        </p:nvGrpSpPr>
        <p:grpSpPr>
          <a:xfrm>
            <a:off x="6484320" y="2532240"/>
            <a:ext cx="970560" cy="952200"/>
            <a:chOff x="6484320" y="2532240"/>
            <a:chExt cx="970560" cy="952200"/>
          </a:xfrm>
        </p:grpSpPr>
        <p:grpSp>
          <p:nvGrpSpPr>
            <p:cNvPr id="557" name="Group 98"/>
            <p:cNvGrpSpPr/>
            <p:nvPr/>
          </p:nvGrpSpPr>
          <p:grpSpPr>
            <a:xfrm>
              <a:off x="6484320" y="2532240"/>
              <a:ext cx="970560" cy="952200"/>
              <a:chOff x="6484320" y="2532240"/>
              <a:chExt cx="970560" cy="952200"/>
            </a:xfrm>
          </p:grpSpPr>
          <p:sp>
            <p:nvSpPr>
              <p:cNvPr id="558" name="Freeform 99"/>
              <p:cNvSpPr/>
              <p:nvPr/>
            </p:nvSpPr>
            <p:spPr>
              <a:xfrm rot="2428800">
                <a:off x="6629400" y="2594160"/>
                <a:ext cx="4125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00"/>
              <p:cNvSpPr/>
              <p:nvPr/>
            </p:nvSpPr>
            <p:spPr>
              <a:xfrm flipH="1" rot="2428200">
                <a:off x="6942600" y="2838960"/>
                <a:ext cx="3603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101"/>
            <p:cNvGrpSpPr/>
            <p:nvPr/>
          </p:nvGrpSpPr>
          <p:grpSpPr>
            <a:xfrm>
              <a:off x="6576120" y="2625840"/>
              <a:ext cx="789120" cy="766440"/>
              <a:chOff x="6576120" y="2625840"/>
              <a:chExt cx="789120" cy="766440"/>
            </a:xfrm>
          </p:grpSpPr>
          <p:sp>
            <p:nvSpPr>
              <p:cNvPr id="561" name="Freeform 102"/>
              <p:cNvSpPr/>
              <p:nvPr/>
            </p:nvSpPr>
            <p:spPr>
              <a:xfrm rot="2428800">
                <a:off x="6679440" y="2686320"/>
                <a:ext cx="35316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03"/>
              <p:cNvSpPr/>
              <p:nvPr/>
            </p:nvSpPr>
            <p:spPr>
              <a:xfrm flipH="1" rot="2428200">
                <a:off x="6947280" y="2895840"/>
                <a:ext cx="30852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3" name="Group 111"/>
          <p:cNvGrpSpPr/>
          <p:nvPr/>
        </p:nvGrpSpPr>
        <p:grpSpPr>
          <a:xfrm>
            <a:off x="4944960" y="1241640"/>
            <a:ext cx="325080" cy="403560"/>
            <a:chOff x="4944960" y="1241640"/>
            <a:chExt cx="325080" cy="403560"/>
          </a:xfrm>
        </p:grpSpPr>
        <p:grpSp>
          <p:nvGrpSpPr>
            <p:cNvPr id="564" name="Group 112"/>
            <p:cNvGrpSpPr/>
            <p:nvPr/>
          </p:nvGrpSpPr>
          <p:grpSpPr>
            <a:xfrm>
              <a:off x="4944960" y="1241640"/>
              <a:ext cx="325080" cy="403560"/>
              <a:chOff x="4944960" y="1241640"/>
              <a:chExt cx="325080" cy="403560"/>
            </a:xfrm>
          </p:grpSpPr>
          <p:sp>
            <p:nvSpPr>
              <p:cNvPr id="565" name="Freeform 113"/>
              <p:cNvSpPr/>
              <p:nvPr/>
            </p:nvSpPr>
            <p:spPr>
              <a:xfrm rot="14869800">
                <a:off x="5042880" y="1413720"/>
                <a:ext cx="189720" cy="2080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14"/>
              <p:cNvSpPr/>
              <p:nvPr/>
            </p:nvSpPr>
            <p:spPr>
              <a:xfrm flipH="1" rot="14869800">
                <a:off x="4989240" y="1253160"/>
                <a:ext cx="165600" cy="2080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15"/>
            <p:cNvGrpSpPr/>
            <p:nvPr/>
          </p:nvGrpSpPr>
          <p:grpSpPr>
            <a:xfrm>
              <a:off x="4978080" y="1274040"/>
              <a:ext cx="258480" cy="337320"/>
              <a:chOff x="4978080" y="1274040"/>
              <a:chExt cx="258480" cy="337320"/>
            </a:xfrm>
          </p:grpSpPr>
          <p:sp>
            <p:nvSpPr>
              <p:cNvPr id="568" name="Freeform 116"/>
              <p:cNvSpPr/>
              <p:nvPr/>
            </p:nvSpPr>
            <p:spPr>
              <a:xfrm rot="14869800">
                <a:off x="5052240" y="1428480"/>
                <a:ext cx="162360" cy="1562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117"/>
              <p:cNvSpPr/>
              <p:nvPr/>
            </p:nvSpPr>
            <p:spPr>
              <a:xfrm flipH="1" rot="14869800">
                <a:off x="5005800" y="1290960"/>
                <a:ext cx="141840" cy="1562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0" name="Group 135"/>
          <p:cNvGrpSpPr/>
          <p:nvPr/>
        </p:nvGrpSpPr>
        <p:grpSpPr>
          <a:xfrm>
            <a:off x="3099960" y="5558040"/>
            <a:ext cx="970560" cy="952200"/>
            <a:chOff x="3099960" y="5558040"/>
            <a:chExt cx="970560" cy="952200"/>
          </a:xfrm>
        </p:grpSpPr>
        <p:grpSp>
          <p:nvGrpSpPr>
            <p:cNvPr id="571" name="Group 136"/>
            <p:cNvGrpSpPr/>
            <p:nvPr/>
          </p:nvGrpSpPr>
          <p:grpSpPr>
            <a:xfrm>
              <a:off x="3099960" y="5558040"/>
              <a:ext cx="970560" cy="952200"/>
              <a:chOff x="3099960" y="5558040"/>
              <a:chExt cx="970560" cy="952200"/>
            </a:xfrm>
          </p:grpSpPr>
          <p:sp>
            <p:nvSpPr>
              <p:cNvPr id="572" name="Freeform 137"/>
              <p:cNvSpPr/>
              <p:nvPr/>
            </p:nvSpPr>
            <p:spPr>
              <a:xfrm rot="2428800">
                <a:off x="3245040" y="5619960"/>
                <a:ext cx="4125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138"/>
              <p:cNvSpPr/>
              <p:nvPr/>
            </p:nvSpPr>
            <p:spPr>
              <a:xfrm flipH="1" rot="2428200">
                <a:off x="3558240" y="5864760"/>
                <a:ext cx="3603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39"/>
            <p:cNvGrpSpPr/>
            <p:nvPr/>
          </p:nvGrpSpPr>
          <p:grpSpPr>
            <a:xfrm>
              <a:off x="3191760" y="5651640"/>
              <a:ext cx="789120" cy="766440"/>
              <a:chOff x="3191760" y="5651640"/>
              <a:chExt cx="789120" cy="766440"/>
            </a:xfrm>
          </p:grpSpPr>
          <p:sp>
            <p:nvSpPr>
              <p:cNvPr id="575" name="Freeform 140"/>
              <p:cNvSpPr/>
              <p:nvPr/>
            </p:nvSpPr>
            <p:spPr>
              <a:xfrm rot="2428800">
                <a:off x="3295080" y="5712120"/>
                <a:ext cx="35316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141"/>
              <p:cNvSpPr/>
              <p:nvPr/>
            </p:nvSpPr>
            <p:spPr>
              <a:xfrm flipH="1" rot="2428200">
                <a:off x="3562920" y="5921640"/>
                <a:ext cx="30852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7" name="Group 142"/>
          <p:cNvGrpSpPr/>
          <p:nvPr/>
        </p:nvGrpSpPr>
        <p:grpSpPr>
          <a:xfrm>
            <a:off x="2580120" y="570600"/>
            <a:ext cx="785160" cy="625680"/>
            <a:chOff x="2580120" y="570600"/>
            <a:chExt cx="785160" cy="625680"/>
          </a:xfrm>
        </p:grpSpPr>
        <p:grpSp>
          <p:nvGrpSpPr>
            <p:cNvPr id="578" name="Group 143"/>
            <p:cNvGrpSpPr/>
            <p:nvPr/>
          </p:nvGrpSpPr>
          <p:grpSpPr>
            <a:xfrm>
              <a:off x="2580120" y="570600"/>
              <a:ext cx="785160" cy="625680"/>
              <a:chOff x="2580120" y="570600"/>
              <a:chExt cx="785160" cy="625680"/>
            </a:xfrm>
          </p:grpSpPr>
          <p:sp>
            <p:nvSpPr>
              <p:cNvPr id="579" name="Freeform 144"/>
              <p:cNvSpPr/>
              <p:nvPr/>
            </p:nvSpPr>
            <p:spPr>
              <a:xfrm rot="9390000">
                <a:off x="2931120" y="628920"/>
                <a:ext cx="373320" cy="3823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145"/>
              <p:cNvSpPr/>
              <p:nvPr/>
            </p:nvSpPr>
            <p:spPr>
              <a:xfrm flipH="1" rot="9390000">
                <a:off x="2642400" y="764640"/>
                <a:ext cx="325800" cy="3823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146"/>
            <p:cNvGrpSpPr/>
            <p:nvPr/>
          </p:nvGrpSpPr>
          <p:grpSpPr>
            <a:xfrm>
              <a:off x="2643120" y="634320"/>
              <a:ext cx="656640" cy="498960"/>
              <a:chOff x="2643120" y="634320"/>
              <a:chExt cx="656640" cy="498960"/>
            </a:xfrm>
          </p:grpSpPr>
          <p:sp>
            <p:nvSpPr>
              <p:cNvPr id="582" name="Freeform 147"/>
              <p:cNvSpPr/>
              <p:nvPr/>
            </p:nvSpPr>
            <p:spPr>
              <a:xfrm rot="9390000">
                <a:off x="2935800" y="686160"/>
                <a:ext cx="31968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148"/>
              <p:cNvSpPr/>
              <p:nvPr/>
            </p:nvSpPr>
            <p:spPr>
              <a:xfrm flipH="1" rot="9390000">
                <a:off x="2688480" y="802440"/>
                <a:ext cx="27900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84" name="flower.mp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3.7037E-007 L 0.23629 -0.45162 E">
                                      <p:cBhvr>
                                        <p:cTn id="20" dur="19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" dur="1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" dur="1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24607E-006 L -0.7283 -0.68223 E">
                                      <p:cBhvr>
                                        <p:cTn id="31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1.66667E-006 -4.44444E-006 L 0.27952 -0.25185 E">
                                      <p:cBhvr>
                                        <p:cTn id="38" dur="26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9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32" repeatCount="indefinite">
                                  <p:stCondLst>
                                    <p:cond delay="1100"/>
                                  </p:stCondLst>
                                  <p:childTnLst>
                                    <p:animClr clrSpc="rgb">
                                      <p:cBhvr>
                                        <p:cTn id="45" dur="1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" dur="1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59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226 -0.00185 L 0.27934 -0.24861 E">
                                      <p:cBhvr>
                                        <p:cTn id="68" dur="26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4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4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4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32" repeatCount="indefinite">
                                  <p:stCondLst>
                                    <p:cond delay="1100"/>
                                  </p:stCondLst>
                                  <p:childTnLst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6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46" descr="0(9~{~CMIVMU9)7FQG]D7@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6" name="Group 2"/>
          <p:cNvGrpSpPr/>
          <p:nvPr/>
        </p:nvGrpSpPr>
        <p:grpSpPr>
          <a:xfrm>
            <a:off x="2128320" y="2496960"/>
            <a:ext cx="1142280" cy="876960"/>
            <a:chOff x="2128320" y="2496960"/>
            <a:chExt cx="1142280" cy="876960"/>
          </a:xfrm>
        </p:grpSpPr>
        <p:grpSp>
          <p:nvGrpSpPr>
            <p:cNvPr id="587" name="Group 3"/>
            <p:cNvGrpSpPr/>
            <p:nvPr/>
          </p:nvGrpSpPr>
          <p:grpSpPr>
            <a:xfrm>
              <a:off x="2128320" y="2496960"/>
              <a:ext cx="1142280" cy="876960"/>
              <a:chOff x="2128320" y="2496960"/>
              <a:chExt cx="1142280" cy="876960"/>
            </a:xfrm>
          </p:grpSpPr>
          <p:sp>
            <p:nvSpPr>
              <p:cNvPr id="588" name="Freeform 4"/>
              <p:cNvSpPr/>
              <p:nvPr/>
            </p:nvSpPr>
            <p:spPr>
              <a:xfrm rot="20529000">
                <a:off x="2206440" y="2707920"/>
                <a:ext cx="544680" cy="596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5"/>
              <p:cNvSpPr/>
              <p:nvPr/>
            </p:nvSpPr>
            <p:spPr>
              <a:xfrm flipH="1" rot="20529000">
                <a:off x="2715120" y="2555280"/>
                <a:ext cx="475560" cy="596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6"/>
            <p:cNvGrpSpPr/>
            <p:nvPr/>
          </p:nvGrpSpPr>
          <p:grpSpPr>
            <a:xfrm>
              <a:off x="2222280" y="2589480"/>
              <a:ext cx="958320" cy="690480"/>
              <a:chOff x="2222280" y="2589480"/>
              <a:chExt cx="958320" cy="690480"/>
            </a:xfrm>
          </p:grpSpPr>
          <p:sp>
            <p:nvSpPr>
              <p:cNvPr id="591" name="Freeform 7"/>
              <p:cNvSpPr/>
              <p:nvPr/>
            </p:nvSpPr>
            <p:spPr>
              <a:xfrm rot="20529000">
                <a:off x="2279520" y="2771640"/>
                <a:ext cx="466560" cy="4474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8"/>
              <p:cNvSpPr/>
              <p:nvPr/>
            </p:nvSpPr>
            <p:spPr>
              <a:xfrm flipH="1" rot="20529000">
                <a:off x="2714400" y="2640960"/>
                <a:ext cx="407160" cy="4474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3" name="Group 9"/>
          <p:cNvGrpSpPr/>
          <p:nvPr/>
        </p:nvGrpSpPr>
        <p:grpSpPr>
          <a:xfrm>
            <a:off x="2173320" y="3011400"/>
            <a:ext cx="759960" cy="835560"/>
            <a:chOff x="2173320" y="3011400"/>
            <a:chExt cx="759960" cy="835560"/>
          </a:xfrm>
        </p:grpSpPr>
        <p:grpSp>
          <p:nvGrpSpPr>
            <p:cNvPr id="594" name="Group 10"/>
            <p:cNvGrpSpPr/>
            <p:nvPr/>
          </p:nvGrpSpPr>
          <p:grpSpPr>
            <a:xfrm>
              <a:off x="2173320" y="3011400"/>
              <a:ext cx="759960" cy="835560"/>
              <a:chOff x="2173320" y="3011400"/>
              <a:chExt cx="759960" cy="835560"/>
            </a:xfrm>
          </p:grpSpPr>
          <p:sp>
            <p:nvSpPr>
              <p:cNvPr id="595" name="Freeform 11"/>
              <p:cNvSpPr/>
              <p:nvPr/>
            </p:nvSpPr>
            <p:spPr>
              <a:xfrm rot="18270000">
                <a:off x="2264760" y="3351960"/>
                <a:ext cx="389520" cy="42696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12"/>
              <p:cNvSpPr/>
              <p:nvPr/>
            </p:nvSpPr>
            <p:spPr>
              <a:xfrm flipH="1" rot="18270000">
                <a:off x="2490840" y="3058560"/>
                <a:ext cx="339840" cy="42696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Group 13"/>
            <p:cNvGrpSpPr/>
            <p:nvPr/>
          </p:nvGrpSpPr>
          <p:grpSpPr>
            <a:xfrm>
              <a:off x="2247480" y="3083040"/>
              <a:ext cx="613440" cy="689760"/>
              <a:chOff x="2247480" y="3083040"/>
              <a:chExt cx="613440" cy="689760"/>
            </a:xfrm>
          </p:grpSpPr>
          <p:sp>
            <p:nvSpPr>
              <p:cNvPr id="598" name="Freeform 14"/>
              <p:cNvSpPr/>
              <p:nvPr/>
            </p:nvSpPr>
            <p:spPr>
              <a:xfrm rot="18270000">
                <a:off x="2306880" y="3384360"/>
                <a:ext cx="333360" cy="3204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15"/>
              <p:cNvSpPr/>
              <p:nvPr/>
            </p:nvSpPr>
            <p:spPr>
              <a:xfrm flipH="1" rot="18270000">
                <a:off x="2500560" y="3133440"/>
                <a:ext cx="291240" cy="3204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0" name="Group 16"/>
          <p:cNvGrpSpPr/>
          <p:nvPr/>
        </p:nvGrpSpPr>
        <p:grpSpPr>
          <a:xfrm>
            <a:off x="2800080" y="2545560"/>
            <a:ext cx="1044720" cy="927000"/>
            <a:chOff x="2800080" y="2545560"/>
            <a:chExt cx="1044720" cy="927000"/>
          </a:xfrm>
        </p:grpSpPr>
        <p:grpSp>
          <p:nvGrpSpPr>
            <p:cNvPr id="601" name="Group 17"/>
            <p:cNvGrpSpPr/>
            <p:nvPr/>
          </p:nvGrpSpPr>
          <p:grpSpPr>
            <a:xfrm>
              <a:off x="2800080" y="2545560"/>
              <a:ext cx="1044720" cy="927000"/>
              <a:chOff x="2800080" y="2545560"/>
              <a:chExt cx="1044720" cy="927000"/>
            </a:xfrm>
          </p:grpSpPr>
          <p:sp>
            <p:nvSpPr>
              <p:cNvPr id="602" name="Freeform 18"/>
              <p:cNvSpPr/>
              <p:nvPr/>
            </p:nvSpPr>
            <p:spPr>
              <a:xfrm rot="2127600">
                <a:off x="2883960" y="2653560"/>
                <a:ext cx="518040" cy="4554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19"/>
              <p:cNvSpPr/>
              <p:nvPr/>
            </p:nvSpPr>
            <p:spPr>
              <a:xfrm flipH="1" rot="2127000">
                <a:off x="3301920" y="2928240"/>
                <a:ext cx="452160" cy="4554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2890440" y="2632680"/>
              <a:ext cx="866520" cy="754560"/>
              <a:chOff x="2890440" y="2632680"/>
              <a:chExt cx="866520" cy="754560"/>
            </a:xfrm>
          </p:grpSpPr>
          <p:sp>
            <p:nvSpPr>
              <p:cNvPr id="605" name="Freeform 21"/>
              <p:cNvSpPr/>
              <p:nvPr/>
            </p:nvSpPr>
            <p:spPr>
              <a:xfrm rot="2127600">
                <a:off x="2948400" y="2729520"/>
                <a:ext cx="443520" cy="3416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2"/>
              <p:cNvSpPr/>
              <p:nvPr/>
            </p:nvSpPr>
            <p:spPr>
              <a:xfrm flipH="1" rot="2127000">
                <a:off x="3305880" y="2964600"/>
                <a:ext cx="387360" cy="3416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7" name="Group 23"/>
          <p:cNvGrpSpPr/>
          <p:nvPr/>
        </p:nvGrpSpPr>
        <p:grpSpPr>
          <a:xfrm>
            <a:off x="2737800" y="2951640"/>
            <a:ext cx="758160" cy="759240"/>
            <a:chOff x="2737800" y="2951640"/>
            <a:chExt cx="758160" cy="759240"/>
          </a:xfrm>
        </p:grpSpPr>
        <p:grpSp>
          <p:nvGrpSpPr>
            <p:cNvPr id="608" name="Group 24"/>
            <p:cNvGrpSpPr/>
            <p:nvPr/>
          </p:nvGrpSpPr>
          <p:grpSpPr>
            <a:xfrm>
              <a:off x="2737800" y="2951640"/>
              <a:ext cx="758160" cy="759240"/>
              <a:chOff x="2737800" y="2951640"/>
              <a:chExt cx="758160" cy="759240"/>
            </a:xfrm>
          </p:grpSpPr>
          <p:sp>
            <p:nvSpPr>
              <p:cNvPr id="609" name="Freeform 25"/>
              <p:cNvSpPr/>
              <p:nvPr/>
            </p:nvSpPr>
            <p:spPr>
              <a:xfrm rot="8091000">
                <a:off x="3042000" y="3027600"/>
                <a:ext cx="373320" cy="3826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6"/>
              <p:cNvSpPr/>
              <p:nvPr/>
            </p:nvSpPr>
            <p:spPr>
              <a:xfrm flipH="1" rot="8091000">
                <a:off x="2825280" y="3268800"/>
                <a:ext cx="325800" cy="3826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Group 27"/>
            <p:cNvGrpSpPr/>
            <p:nvPr/>
          </p:nvGrpSpPr>
          <p:grpSpPr>
            <a:xfrm>
              <a:off x="2805840" y="3021480"/>
              <a:ext cx="620280" cy="621000"/>
              <a:chOff x="2805840" y="3021480"/>
              <a:chExt cx="620280" cy="621000"/>
            </a:xfrm>
          </p:grpSpPr>
          <p:sp>
            <p:nvSpPr>
              <p:cNvPr id="612" name="Freeform 28"/>
              <p:cNvSpPr/>
              <p:nvPr/>
            </p:nvSpPr>
            <p:spPr>
              <a:xfrm rot="8091000">
                <a:off x="3051720" y="3092400"/>
                <a:ext cx="31968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9"/>
              <p:cNvSpPr/>
              <p:nvPr/>
            </p:nvSpPr>
            <p:spPr>
              <a:xfrm flipH="1" rot="8091000">
                <a:off x="2866320" y="3298680"/>
                <a:ext cx="27900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Group 30"/>
          <p:cNvGrpSpPr/>
          <p:nvPr/>
        </p:nvGrpSpPr>
        <p:grpSpPr>
          <a:xfrm>
            <a:off x="3171240" y="2605320"/>
            <a:ext cx="970560" cy="952200"/>
            <a:chOff x="3171240" y="2605320"/>
            <a:chExt cx="970560" cy="952200"/>
          </a:xfrm>
        </p:grpSpPr>
        <p:grpSp>
          <p:nvGrpSpPr>
            <p:cNvPr id="615" name="Group 31"/>
            <p:cNvGrpSpPr/>
            <p:nvPr/>
          </p:nvGrpSpPr>
          <p:grpSpPr>
            <a:xfrm>
              <a:off x="3171240" y="2605320"/>
              <a:ext cx="970560" cy="952200"/>
              <a:chOff x="3171240" y="2605320"/>
              <a:chExt cx="970560" cy="952200"/>
            </a:xfrm>
          </p:grpSpPr>
          <p:sp>
            <p:nvSpPr>
              <p:cNvPr id="616" name="Freeform 32"/>
              <p:cNvSpPr/>
              <p:nvPr/>
            </p:nvSpPr>
            <p:spPr>
              <a:xfrm rot="2428800">
                <a:off x="3316320" y="2667240"/>
                <a:ext cx="4125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33"/>
              <p:cNvSpPr/>
              <p:nvPr/>
            </p:nvSpPr>
            <p:spPr>
              <a:xfrm flipH="1" rot="2428200">
                <a:off x="3629520" y="2912040"/>
                <a:ext cx="3603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Group 34"/>
            <p:cNvGrpSpPr/>
            <p:nvPr/>
          </p:nvGrpSpPr>
          <p:grpSpPr>
            <a:xfrm>
              <a:off x="3263040" y="2698920"/>
              <a:ext cx="789120" cy="766440"/>
              <a:chOff x="3263040" y="2698920"/>
              <a:chExt cx="789120" cy="766440"/>
            </a:xfrm>
          </p:grpSpPr>
          <p:sp>
            <p:nvSpPr>
              <p:cNvPr id="619" name="Freeform 35"/>
              <p:cNvSpPr/>
              <p:nvPr/>
            </p:nvSpPr>
            <p:spPr>
              <a:xfrm rot="2428800">
                <a:off x="3366360" y="2759400"/>
                <a:ext cx="35316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36"/>
              <p:cNvSpPr/>
              <p:nvPr/>
            </p:nvSpPr>
            <p:spPr>
              <a:xfrm flipH="1" rot="2428200">
                <a:off x="3634200" y="2968920"/>
                <a:ext cx="30852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1" name="Group 37"/>
          <p:cNvGrpSpPr/>
          <p:nvPr/>
        </p:nvGrpSpPr>
        <p:grpSpPr>
          <a:xfrm>
            <a:off x="2884680" y="2354760"/>
            <a:ext cx="753480" cy="515160"/>
            <a:chOff x="2884680" y="2354760"/>
            <a:chExt cx="753480" cy="515160"/>
          </a:xfrm>
        </p:grpSpPr>
        <p:grpSp>
          <p:nvGrpSpPr>
            <p:cNvPr id="622" name="Group 38"/>
            <p:cNvGrpSpPr/>
            <p:nvPr/>
          </p:nvGrpSpPr>
          <p:grpSpPr>
            <a:xfrm>
              <a:off x="2884680" y="2354760"/>
              <a:ext cx="753480" cy="515160"/>
              <a:chOff x="2884680" y="2354760"/>
              <a:chExt cx="753480" cy="515160"/>
            </a:xfrm>
          </p:grpSpPr>
          <p:sp>
            <p:nvSpPr>
              <p:cNvPr id="623" name="Freeform 39"/>
              <p:cNvSpPr/>
              <p:nvPr/>
            </p:nvSpPr>
            <p:spPr>
              <a:xfrm rot="704400">
                <a:off x="2919600" y="2388600"/>
                <a:ext cx="373320" cy="3826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0"/>
              <p:cNvSpPr/>
              <p:nvPr/>
            </p:nvSpPr>
            <p:spPr>
              <a:xfrm flipH="1" rot="704400">
                <a:off x="3276720" y="2457720"/>
                <a:ext cx="325800" cy="3826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Group 41"/>
            <p:cNvGrpSpPr/>
            <p:nvPr/>
          </p:nvGrpSpPr>
          <p:grpSpPr>
            <a:xfrm>
              <a:off x="2944080" y="2412000"/>
              <a:ext cx="637200" cy="401040"/>
              <a:chOff x="2944080" y="2412000"/>
              <a:chExt cx="637200" cy="401040"/>
            </a:xfrm>
          </p:grpSpPr>
          <p:sp>
            <p:nvSpPr>
              <p:cNvPr id="626" name="Freeform 42"/>
              <p:cNvSpPr/>
              <p:nvPr/>
            </p:nvSpPr>
            <p:spPr>
              <a:xfrm rot="704400">
                <a:off x="2969640" y="2441520"/>
                <a:ext cx="31968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3"/>
              <p:cNvSpPr/>
              <p:nvPr/>
            </p:nvSpPr>
            <p:spPr>
              <a:xfrm flipH="1" rot="704400">
                <a:off x="3275280" y="2500560"/>
                <a:ext cx="27900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Text Box 45"/>
          <p:cNvSpPr/>
          <p:nvPr/>
        </p:nvSpPr>
        <p:spPr>
          <a:xfrm>
            <a:off x="4572000" y="2060640"/>
            <a:ext cx="4356000" cy="43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一所大学就是一条奔腾不息的河流，簇拥着青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                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浪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47" descr="1606330"/>
          <p:cNvPicPr/>
          <p:nvPr/>
        </p:nvPicPr>
        <p:blipFill>
          <a:blip r:embed="rId2"/>
          <a:stretch/>
        </p:blipFill>
        <p:spPr>
          <a:xfrm>
            <a:off x="611280" y="4762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48" descr="1606330"/>
          <p:cNvPicPr/>
          <p:nvPr/>
        </p:nvPicPr>
        <p:blipFill>
          <a:blip r:embed="rId3"/>
          <a:stretch/>
        </p:blipFill>
        <p:spPr>
          <a:xfrm>
            <a:off x="1116000" y="58053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49" descr="1606330"/>
          <p:cNvPicPr/>
          <p:nvPr/>
        </p:nvPicPr>
        <p:blipFill>
          <a:blip r:embed="rId4"/>
          <a:stretch/>
        </p:blipFill>
        <p:spPr>
          <a:xfrm>
            <a:off x="7164360" y="595008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0" descr="1606330"/>
          <p:cNvPicPr/>
          <p:nvPr/>
        </p:nvPicPr>
        <p:blipFill>
          <a:blip r:embed="rId5"/>
          <a:stretch/>
        </p:blipFill>
        <p:spPr>
          <a:xfrm>
            <a:off x="7956720" y="33336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1" descr="1606330"/>
          <p:cNvPicPr/>
          <p:nvPr/>
        </p:nvPicPr>
        <p:blipFill>
          <a:blip r:embed="rId6"/>
          <a:stretch/>
        </p:blipFill>
        <p:spPr>
          <a:xfrm>
            <a:off x="3419640" y="11970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2" descr="1606330"/>
          <p:cNvPicPr/>
          <p:nvPr/>
        </p:nvPicPr>
        <p:blipFill>
          <a:blip r:embed="rId7"/>
          <a:stretch/>
        </p:blipFill>
        <p:spPr>
          <a:xfrm>
            <a:off x="4211640" y="4941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53" descr="1606330"/>
          <p:cNvPicPr/>
          <p:nvPr/>
        </p:nvPicPr>
        <p:blipFill>
          <a:blip r:embed="rId8"/>
          <a:stretch/>
        </p:blipFill>
        <p:spPr>
          <a:xfrm>
            <a:off x="8172360" y="37162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54" descr="1606330"/>
          <p:cNvPicPr/>
          <p:nvPr/>
        </p:nvPicPr>
        <p:blipFill>
          <a:blip r:embed="rId9"/>
          <a:stretch/>
        </p:blipFill>
        <p:spPr>
          <a:xfrm>
            <a:off x="1116000" y="234936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94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103" dur="1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4" dur="1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" dur="1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112" dur="1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" dur="1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4" dur="1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32" repeatCount="indefinite">
                                  <p:stCondLst>
                                    <p:cond delay="700"/>
                                  </p:stCondLst>
                                  <p:childTnLst>
                                    <p:animClr clrSpc="rgb">
                                      <p:cBhvr>
                                        <p:cTn id="121" dur="1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2" dur="1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" dur="1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3.05556E-006 -2.13691E-006 L -0.33055 -0.03145 E">
                                      <p:cBhvr>
                                        <p:cTn id="130" dur="29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11111E-006 -3.321E-006 L -0.13368 -0.49445 E">
                                      <p:cBhvr>
                                        <p:cTn id="132" dur="23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94444E-006 -1.61887E-006 L 0.25469 -0.48427 E">
                                      <p:cBhvr>
                                        <p:cTn id="134" dur="19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2.5E-006 3.46901E-006 L 0.1434 0.58071 E">
                                      <p:cBhvr>
                                        <p:cTn id="136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138" dur="1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9" dur="1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0" dur="1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32" repeatCount="indefinite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47" dur="1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8" dur="1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" dur="1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6.38889E-006 4.07407E-006 L 0.27952 -0.25185 E">
                                      <p:cBhvr>
                                        <p:cTn id="156" dur="26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00174 0.00393 L -0.01406 -0.53145 E">
                                      <p:cBhvr>
                                        <p:cTn id="158" dur="15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0">
                                  <p:stCondLst>
                                    <p:cond delay="6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1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12" descr="QS80V{1O2MAAWJ6W1DH`B[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2"/>
          <p:cNvSpPr/>
          <p:nvPr/>
        </p:nvSpPr>
        <p:spPr>
          <a:xfrm>
            <a:off x="3419640" y="2421000"/>
            <a:ext cx="93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4067280" y="2852640"/>
            <a:ext cx="93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808080"/>
                </a:solidFill>
                <a:latin typeface="Arial"/>
              </a:rPr>
              <a:t>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4"/>
          <p:cNvSpPr/>
          <p:nvPr/>
        </p:nvSpPr>
        <p:spPr>
          <a:xfrm>
            <a:off x="3059280" y="278136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04b_09"/>
                <a:ea typeface="楷体_GB2312"/>
              </a:rPr>
              <a:t>扬起理想的风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5"/>
          <p:cNvSpPr/>
          <p:nvPr/>
        </p:nvSpPr>
        <p:spPr>
          <a:xfrm>
            <a:off x="3924360" y="2997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就是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3706560" y="3429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梦想的海洋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5987880" y="14842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激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2484360" y="3357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青春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9"/>
          <p:cNvSpPr/>
          <p:nvPr/>
        </p:nvSpPr>
        <p:spPr>
          <a:xfrm>
            <a:off x="3995640" y="386064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仿宋_GB2312"/>
              </a:rPr>
              <a:t>浪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44958E-006 L -0.33854 -0.29371 E">
                                      <p:cBhvr>
                                        <p:cTn id="222" dur="1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956E-006 L -0.34254 -0.30019 E">
                                      <p:cBhvr>
                                        <p:cTn id="224" dur="1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0">
                                  <p:stCondLst>
                                    <p:cond delay="11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50">
                                  <p:stCondLst>
                                    <p:cond delay="2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15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92" descr="~JD0SB`K]_NQHF2$DQQBG%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7" name="Group 2"/>
          <p:cNvGrpSpPr/>
          <p:nvPr/>
        </p:nvGrpSpPr>
        <p:grpSpPr>
          <a:xfrm>
            <a:off x="4932360" y="5805360"/>
            <a:ext cx="503280" cy="503280"/>
            <a:chOff x="4932360" y="5805360"/>
            <a:chExt cx="503280" cy="503280"/>
          </a:xfrm>
        </p:grpSpPr>
        <p:sp>
          <p:nvSpPr>
            <p:cNvPr id="648" name="Oval 3"/>
            <p:cNvSpPr/>
            <p:nvPr/>
          </p:nvSpPr>
          <p:spPr>
            <a:xfrm>
              <a:off x="4932360" y="5805360"/>
              <a:ext cx="503280" cy="503280"/>
            </a:xfrm>
            <a:prstGeom prst="ellipse">
              <a:avLst/>
            </a:prstGeom>
            <a:solidFill>
              <a:srgbClr val="bfd7d9">
                <a:alpha val="50000"/>
              </a:srgbClr>
            </a:solidFill>
            <a:ln w="9360">
              <a:solidFill>
                <a:srgbClr val="ff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4"/>
            <p:cNvSpPr/>
            <p:nvPr/>
          </p:nvSpPr>
          <p:spPr>
            <a:xfrm>
              <a:off x="5010840" y="5884560"/>
              <a:ext cx="356400" cy="35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rc 5"/>
            <p:cNvSpPr/>
            <p:nvPr/>
          </p:nvSpPr>
          <p:spPr>
            <a:xfrm>
              <a:off x="4994280" y="5906520"/>
              <a:ext cx="178200" cy="14580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noFill/>
            <a:ln w="76320">
              <a:solidFill>
                <a:srgbClr val="fffff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rc 6"/>
            <p:cNvSpPr/>
            <p:nvPr/>
          </p:nvSpPr>
          <p:spPr>
            <a:xfrm>
              <a:off x="5093280" y="5868720"/>
              <a:ext cx="83520" cy="17820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7"/>
          <p:cNvGrpSpPr/>
          <p:nvPr/>
        </p:nvGrpSpPr>
        <p:grpSpPr>
          <a:xfrm>
            <a:off x="3492360" y="5734080"/>
            <a:ext cx="863640" cy="863640"/>
            <a:chOff x="3492360" y="5734080"/>
            <a:chExt cx="863640" cy="863640"/>
          </a:xfrm>
        </p:grpSpPr>
        <p:sp>
          <p:nvSpPr>
            <p:cNvPr id="653" name="Oval 8"/>
            <p:cNvSpPr/>
            <p:nvPr/>
          </p:nvSpPr>
          <p:spPr>
            <a:xfrm>
              <a:off x="3492360" y="5734080"/>
              <a:ext cx="863640" cy="8636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ff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9"/>
            <p:cNvSpPr/>
            <p:nvPr/>
          </p:nvSpPr>
          <p:spPr>
            <a:xfrm>
              <a:off x="3627000" y="5870160"/>
              <a:ext cx="611640" cy="6116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rc 10"/>
            <p:cNvSpPr/>
            <p:nvPr/>
          </p:nvSpPr>
          <p:spPr>
            <a:xfrm>
              <a:off x="3598560" y="5907600"/>
              <a:ext cx="306000" cy="25056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solidFill>
              <a:srgbClr val="99cc00"/>
            </a:solidFill>
            <a:ln w="76320">
              <a:solidFill>
                <a:srgbClr val="fffff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rc 11"/>
            <p:cNvSpPr/>
            <p:nvPr/>
          </p:nvSpPr>
          <p:spPr>
            <a:xfrm>
              <a:off x="3768120" y="5843160"/>
              <a:ext cx="143640" cy="30600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solidFill>
              <a:srgbClr val="99cc00"/>
            </a:solidFill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12"/>
          <p:cNvGrpSpPr/>
          <p:nvPr/>
        </p:nvGrpSpPr>
        <p:grpSpPr>
          <a:xfrm>
            <a:off x="1476360" y="-1035000"/>
            <a:ext cx="934560" cy="934560"/>
            <a:chOff x="1476360" y="-1035000"/>
            <a:chExt cx="934560" cy="934560"/>
          </a:xfrm>
        </p:grpSpPr>
        <p:sp>
          <p:nvSpPr>
            <p:cNvPr id="658" name="Oval 13"/>
            <p:cNvSpPr/>
            <p:nvPr/>
          </p:nvSpPr>
          <p:spPr>
            <a:xfrm>
              <a:off x="1476360" y="-1035000"/>
              <a:ext cx="934560" cy="934560"/>
            </a:xfrm>
            <a:prstGeom prst="ellipse">
              <a:avLst/>
            </a:prstGeom>
            <a:solidFill>
              <a:srgbClr val="00ccff">
                <a:alpha val="50000"/>
              </a:srgbClr>
            </a:solidFill>
            <a:ln w="9360">
              <a:solidFill>
                <a:srgbClr val="ff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14"/>
            <p:cNvSpPr/>
            <p:nvPr/>
          </p:nvSpPr>
          <p:spPr>
            <a:xfrm>
              <a:off x="1622160" y="-887400"/>
              <a:ext cx="662040" cy="662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rc 15"/>
            <p:cNvSpPr/>
            <p:nvPr/>
          </p:nvSpPr>
          <p:spPr>
            <a:xfrm>
              <a:off x="1591560" y="-846720"/>
              <a:ext cx="331200" cy="27108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noFill/>
            <a:ln w="57240">
              <a:solidFill>
                <a:srgbClr val="fffff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rc 16"/>
            <p:cNvSpPr/>
            <p:nvPr/>
          </p:nvSpPr>
          <p:spPr>
            <a:xfrm>
              <a:off x="1775160" y="-916560"/>
              <a:ext cx="155520" cy="33120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Group 17"/>
          <p:cNvGrpSpPr/>
          <p:nvPr/>
        </p:nvGrpSpPr>
        <p:grpSpPr>
          <a:xfrm>
            <a:off x="6659640" y="1773360"/>
            <a:ext cx="555480" cy="555480"/>
            <a:chOff x="6659640" y="1773360"/>
            <a:chExt cx="555480" cy="555480"/>
          </a:xfrm>
        </p:grpSpPr>
        <p:sp>
          <p:nvSpPr>
            <p:cNvPr id="663" name="Oval 18"/>
            <p:cNvSpPr/>
            <p:nvPr/>
          </p:nvSpPr>
          <p:spPr>
            <a:xfrm>
              <a:off x="6659640" y="1773360"/>
              <a:ext cx="555480" cy="55548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9360">
              <a:solidFill>
                <a:srgbClr val="ff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19"/>
            <p:cNvSpPr/>
            <p:nvPr/>
          </p:nvSpPr>
          <p:spPr>
            <a:xfrm>
              <a:off x="6746400" y="1860840"/>
              <a:ext cx="393480" cy="3934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rc 20"/>
            <p:cNvSpPr/>
            <p:nvPr/>
          </p:nvSpPr>
          <p:spPr>
            <a:xfrm>
              <a:off x="6728040" y="1884960"/>
              <a:ext cx="196560" cy="16092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solidFill>
              <a:srgbClr val="ff00ff"/>
            </a:solidFill>
            <a:ln w="57240">
              <a:solidFill>
                <a:srgbClr val="fffff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rc 21"/>
            <p:cNvSpPr/>
            <p:nvPr/>
          </p:nvSpPr>
          <p:spPr>
            <a:xfrm>
              <a:off x="6837120" y="1843560"/>
              <a:ext cx="92520" cy="19656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solidFill>
              <a:srgbClr val="ff00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Group 22"/>
          <p:cNvGrpSpPr/>
          <p:nvPr/>
        </p:nvGrpSpPr>
        <p:grpSpPr>
          <a:xfrm>
            <a:off x="7812000" y="-747720"/>
            <a:ext cx="576360" cy="576360"/>
            <a:chOff x="7812000" y="-747720"/>
            <a:chExt cx="576360" cy="576360"/>
          </a:xfrm>
        </p:grpSpPr>
        <p:sp>
          <p:nvSpPr>
            <p:cNvPr id="668" name="Oval 23"/>
            <p:cNvSpPr/>
            <p:nvPr/>
          </p:nvSpPr>
          <p:spPr>
            <a:xfrm>
              <a:off x="7812000" y="-747720"/>
              <a:ext cx="576360" cy="576360"/>
            </a:xfrm>
            <a:prstGeom prst="ellipse">
              <a:avLst/>
            </a:prstGeom>
            <a:solidFill>
              <a:srgbClr val="747dbc">
                <a:alpha val="50000"/>
              </a:srgbClr>
            </a:solidFill>
            <a:ln w="9360">
              <a:solidFill>
                <a:srgbClr val="ff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24"/>
            <p:cNvSpPr/>
            <p:nvPr/>
          </p:nvSpPr>
          <p:spPr>
            <a:xfrm>
              <a:off x="7902000" y="-656640"/>
              <a:ext cx="408240" cy="4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rc 25"/>
            <p:cNvSpPr/>
            <p:nvPr/>
          </p:nvSpPr>
          <p:spPr>
            <a:xfrm>
              <a:off x="7882920" y="-631440"/>
              <a:ext cx="204120" cy="16704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noFill/>
            <a:ln w="57240">
              <a:solidFill>
                <a:srgbClr val="fffff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rc 26"/>
            <p:cNvSpPr/>
            <p:nvPr/>
          </p:nvSpPr>
          <p:spPr>
            <a:xfrm>
              <a:off x="7995960" y="-674640"/>
              <a:ext cx="95760" cy="20412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Group 27"/>
          <p:cNvGrpSpPr/>
          <p:nvPr/>
        </p:nvGrpSpPr>
        <p:grpSpPr>
          <a:xfrm>
            <a:off x="2700360" y="620640"/>
            <a:ext cx="720720" cy="720720"/>
            <a:chOff x="2700360" y="620640"/>
            <a:chExt cx="720720" cy="720720"/>
          </a:xfrm>
        </p:grpSpPr>
        <p:sp>
          <p:nvSpPr>
            <p:cNvPr id="673" name="Oval 28"/>
            <p:cNvSpPr/>
            <p:nvPr/>
          </p:nvSpPr>
          <p:spPr>
            <a:xfrm>
              <a:off x="2700360" y="620640"/>
              <a:ext cx="720720" cy="72072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ff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29"/>
            <p:cNvSpPr/>
            <p:nvPr/>
          </p:nvSpPr>
          <p:spPr>
            <a:xfrm>
              <a:off x="2812680" y="735120"/>
              <a:ext cx="510840" cy="5097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rc 30"/>
            <p:cNvSpPr/>
            <p:nvPr/>
          </p:nvSpPr>
          <p:spPr>
            <a:xfrm>
              <a:off x="2788920" y="765360"/>
              <a:ext cx="254880" cy="20952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solidFill>
              <a:srgbClr val="ff99cc"/>
            </a:solidFill>
            <a:ln w="76320">
              <a:solidFill>
                <a:srgbClr val="fffff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rc 31"/>
            <p:cNvSpPr/>
            <p:nvPr/>
          </p:nvSpPr>
          <p:spPr>
            <a:xfrm>
              <a:off x="2930760" y="711720"/>
              <a:ext cx="119520" cy="25488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solidFill>
              <a:srgbClr val="ff99cc"/>
            </a:solidFill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32"/>
          <p:cNvGrpSpPr/>
          <p:nvPr/>
        </p:nvGrpSpPr>
        <p:grpSpPr>
          <a:xfrm>
            <a:off x="7380360" y="5661000"/>
            <a:ext cx="360360" cy="360360"/>
            <a:chOff x="7380360" y="5661000"/>
            <a:chExt cx="360360" cy="360360"/>
          </a:xfrm>
        </p:grpSpPr>
        <p:sp>
          <p:nvSpPr>
            <p:cNvPr id="678" name="Oval 33"/>
            <p:cNvSpPr/>
            <p:nvPr/>
          </p:nvSpPr>
          <p:spPr>
            <a:xfrm>
              <a:off x="7380360" y="5661000"/>
              <a:ext cx="360360" cy="36036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ff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34"/>
            <p:cNvSpPr/>
            <p:nvPr/>
          </p:nvSpPr>
          <p:spPr>
            <a:xfrm>
              <a:off x="7436520" y="5717880"/>
              <a:ext cx="255240" cy="2552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Arc 35"/>
            <p:cNvSpPr/>
            <p:nvPr/>
          </p:nvSpPr>
          <p:spPr>
            <a:xfrm>
              <a:off x="7424640" y="5733360"/>
              <a:ext cx="127440" cy="10440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solidFill>
              <a:srgbClr val="ff9900"/>
            </a:solidFill>
            <a:ln w="76320">
              <a:solidFill>
                <a:srgbClr val="fffff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Arc 36"/>
            <p:cNvSpPr/>
            <p:nvPr/>
          </p:nvSpPr>
          <p:spPr>
            <a:xfrm>
              <a:off x="7495560" y="5706360"/>
              <a:ext cx="59760" cy="12744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solidFill>
              <a:srgbClr val="ff9900"/>
            </a:solidFill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37"/>
          <p:cNvGrpSpPr/>
          <p:nvPr/>
        </p:nvGrpSpPr>
        <p:grpSpPr>
          <a:xfrm>
            <a:off x="6084720" y="5661000"/>
            <a:ext cx="505080" cy="504720"/>
            <a:chOff x="6084720" y="5661000"/>
            <a:chExt cx="505080" cy="504720"/>
          </a:xfrm>
        </p:grpSpPr>
        <p:sp>
          <p:nvSpPr>
            <p:cNvPr id="683" name="Oval 38"/>
            <p:cNvSpPr/>
            <p:nvPr/>
          </p:nvSpPr>
          <p:spPr>
            <a:xfrm>
              <a:off x="6084720" y="5661000"/>
              <a:ext cx="505080" cy="50472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ff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39"/>
            <p:cNvSpPr/>
            <p:nvPr/>
          </p:nvSpPr>
          <p:spPr>
            <a:xfrm>
              <a:off x="6163560" y="5740560"/>
              <a:ext cx="357840" cy="35748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Arc 40"/>
            <p:cNvSpPr/>
            <p:nvPr/>
          </p:nvSpPr>
          <p:spPr>
            <a:xfrm>
              <a:off x="6146640" y="5762520"/>
              <a:ext cx="178920" cy="14616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solidFill>
              <a:srgbClr val="ccffcc"/>
            </a:solidFill>
            <a:ln w="76320">
              <a:solidFill>
                <a:srgbClr val="fffff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Arc 41"/>
            <p:cNvSpPr/>
            <p:nvPr/>
          </p:nvSpPr>
          <p:spPr>
            <a:xfrm>
              <a:off x="6246000" y="5724720"/>
              <a:ext cx="83880" cy="17856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solidFill>
              <a:srgbClr val="ccffcc"/>
            </a:solidFill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42"/>
          <p:cNvGrpSpPr/>
          <p:nvPr/>
        </p:nvGrpSpPr>
        <p:grpSpPr>
          <a:xfrm>
            <a:off x="2987640" y="-1108080"/>
            <a:ext cx="790560" cy="790560"/>
            <a:chOff x="2987640" y="-1108080"/>
            <a:chExt cx="790560" cy="790560"/>
          </a:xfrm>
        </p:grpSpPr>
        <p:sp>
          <p:nvSpPr>
            <p:cNvPr id="688" name="Oval 43"/>
            <p:cNvSpPr/>
            <p:nvPr/>
          </p:nvSpPr>
          <p:spPr>
            <a:xfrm>
              <a:off x="2987640" y="-1108080"/>
              <a:ext cx="790560" cy="790560"/>
            </a:xfrm>
            <a:prstGeom prst="ellipse">
              <a:avLst/>
            </a:prstGeom>
            <a:solidFill>
              <a:srgbClr val="00ccff">
                <a:alpha val="50000"/>
              </a:srgbClr>
            </a:solidFill>
            <a:ln w="9360">
              <a:solidFill>
                <a:srgbClr val="ff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44"/>
            <p:cNvSpPr/>
            <p:nvPr/>
          </p:nvSpPr>
          <p:spPr>
            <a:xfrm>
              <a:off x="3111120" y="-983160"/>
              <a:ext cx="559800" cy="559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rc 45"/>
            <p:cNvSpPr/>
            <p:nvPr/>
          </p:nvSpPr>
          <p:spPr>
            <a:xfrm>
              <a:off x="3084840" y="-948960"/>
              <a:ext cx="280080" cy="22932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noFill/>
            <a:ln w="57240">
              <a:solidFill>
                <a:srgbClr val="fffff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rc 46"/>
            <p:cNvSpPr/>
            <p:nvPr/>
          </p:nvSpPr>
          <p:spPr>
            <a:xfrm>
              <a:off x="3240360" y="-1008000"/>
              <a:ext cx="131400" cy="28008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2" name="Picture 47" descr="方向"/>
          <p:cNvPicPr/>
          <p:nvPr/>
        </p:nvPicPr>
        <p:blipFill>
          <a:blip r:embed="rId2"/>
          <a:stretch/>
        </p:blipFill>
        <p:spPr>
          <a:xfrm>
            <a:off x="2476440" y="-2082960"/>
            <a:ext cx="1532160" cy="20829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48" descr="方向"/>
          <p:cNvPicPr/>
          <p:nvPr/>
        </p:nvPicPr>
        <p:blipFill>
          <a:blip r:embed="rId3"/>
          <a:stretch/>
        </p:blipFill>
        <p:spPr>
          <a:xfrm>
            <a:off x="3297240" y="-2462040"/>
            <a:ext cx="1531800" cy="20826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49" descr="方向"/>
          <p:cNvPicPr/>
          <p:nvPr/>
        </p:nvPicPr>
        <p:blipFill>
          <a:blip r:embed="rId4"/>
          <a:stretch/>
        </p:blipFill>
        <p:spPr>
          <a:xfrm>
            <a:off x="5977080" y="-2082960"/>
            <a:ext cx="1531800" cy="20829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50" descr="方向"/>
          <p:cNvPicPr/>
          <p:nvPr/>
        </p:nvPicPr>
        <p:blipFill>
          <a:blip r:embed="rId5"/>
          <a:stretch/>
        </p:blipFill>
        <p:spPr>
          <a:xfrm>
            <a:off x="6797520" y="-2462040"/>
            <a:ext cx="1532160" cy="2082600"/>
          </a:xfrm>
          <a:prstGeom prst="rect">
            <a:avLst/>
          </a:prstGeom>
          <a:ln w="0">
            <a:noFill/>
          </a:ln>
        </p:spPr>
      </p:pic>
      <p:sp>
        <p:nvSpPr>
          <p:cNvPr id="696" name="Rectangle 51"/>
          <p:cNvSpPr/>
          <p:nvPr/>
        </p:nvSpPr>
        <p:spPr>
          <a:xfrm>
            <a:off x="684360" y="836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汉仪中隶书简"/>
              </a:rPr>
              <a:t>舞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方正华隶简体"/>
              </a:rPr>
              <a:t>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52"/>
          <p:cNvSpPr/>
          <p:nvPr/>
        </p:nvSpPr>
        <p:spPr>
          <a:xfrm>
            <a:off x="1403280" y="47973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汉仪中隶书简"/>
                <a:ea typeface="汉仪中隶书简"/>
              </a:rPr>
              <a:t>梦想似大海</a:t>
            </a:r>
            <a:r>
              <a:rPr b="1" lang="en-US" sz="4400" spc="-1" strike="noStrike">
                <a:solidFill>
                  <a:srgbClr val="ff0000"/>
                </a:solidFill>
                <a:latin typeface="汉仪中隶书简"/>
                <a:ea typeface="汉仪中隶书简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汉仪中隶书简"/>
                <a:ea typeface="汉仪中隶书简"/>
              </a:rPr>
              <a:t>青春似浪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53"/>
          <p:cNvSpPr/>
          <p:nvPr/>
        </p:nvSpPr>
        <p:spPr>
          <a:xfrm>
            <a:off x="3995640" y="270720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汉仪中隶书简"/>
              </a:rPr>
              <a:t>河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2079360" y="1979280"/>
            <a:ext cx="1166040" cy="1168560"/>
            <a:chOff x="2079360" y="1979280"/>
            <a:chExt cx="1166040" cy="1168560"/>
          </a:xfrm>
        </p:grpSpPr>
        <p:grpSp>
          <p:nvGrpSpPr>
            <p:cNvPr id="700" name="Group 55"/>
            <p:cNvGrpSpPr/>
            <p:nvPr/>
          </p:nvGrpSpPr>
          <p:grpSpPr>
            <a:xfrm>
              <a:off x="2079360" y="1979280"/>
              <a:ext cx="1166040" cy="1168560"/>
              <a:chOff x="2079360" y="1979280"/>
              <a:chExt cx="1166040" cy="1168560"/>
            </a:xfrm>
          </p:grpSpPr>
          <p:sp>
            <p:nvSpPr>
              <p:cNvPr id="701" name="Freeform 56"/>
              <p:cNvSpPr/>
              <p:nvPr/>
            </p:nvSpPr>
            <p:spPr>
              <a:xfrm rot="8091000">
                <a:off x="2537640" y="2125440"/>
                <a:ext cx="621360" cy="5018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7"/>
              <p:cNvSpPr/>
              <p:nvPr/>
            </p:nvSpPr>
            <p:spPr>
              <a:xfrm flipH="1" rot="8091000">
                <a:off x="2177280" y="2527560"/>
                <a:ext cx="542160" cy="5018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58"/>
            <p:cNvGrpSpPr/>
            <p:nvPr/>
          </p:nvGrpSpPr>
          <p:grpSpPr>
            <a:xfrm>
              <a:off x="2180160" y="2083680"/>
              <a:ext cx="960840" cy="963360"/>
              <a:chOff x="2180160" y="2083680"/>
              <a:chExt cx="960840" cy="963360"/>
            </a:xfrm>
          </p:grpSpPr>
          <p:sp>
            <p:nvSpPr>
              <p:cNvPr id="704" name="Freeform 59"/>
              <p:cNvSpPr/>
              <p:nvPr/>
            </p:nvSpPr>
            <p:spPr>
              <a:xfrm rot="8091000">
                <a:off x="2553840" y="2216880"/>
                <a:ext cx="532080" cy="37656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60"/>
              <p:cNvSpPr/>
              <p:nvPr/>
            </p:nvSpPr>
            <p:spPr>
              <a:xfrm flipH="1" rot="8091000">
                <a:off x="2244600" y="2561040"/>
                <a:ext cx="464400" cy="37656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6" name="Group 61"/>
          <p:cNvGrpSpPr/>
          <p:nvPr/>
        </p:nvGrpSpPr>
        <p:grpSpPr>
          <a:xfrm>
            <a:off x="362520" y="853200"/>
            <a:ext cx="641520" cy="491760"/>
            <a:chOff x="362520" y="853200"/>
            <a:chExt cx="641520" cy="491760"/>
          </a:xfrm>
        </p:grpSpPr>
        <p:grpSp>
          <p:nvGrpSpPr>
            <p:cNvPr id="707" name="Group 62"/>
            <p:cNvGrpSpPr/>
            <p:nvPr/>
          </p:nvGrpSpPr>
          <p:grpSpPr>
            <a:xfrm>
              <a:off x="362520" y="853200"/>
              <a:ext cx="641520" cy="491760"/>
              <a:chOff x="362520" y="853200"/>
              <a:chExt cx="641520" cy="491760"/>
            </a:xfrm>
          </p:grpSpPr>
          <p:sp>
            <p:nvSpPr>
              <p:cNvPr id="708" name="Freeform 63"/>
              <p:cNvSpPr/>
              <p:nvPr/>
            </p:nvSpPr>
            <p:spPr>
              <a:xfrm rot="704400">
                <a:off x="397800" y="880560"/>
                <a:ext cx="311400" cy="3826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64"/>
              <p:cNvSpPr/>
              <p:nvPr/>
            </p:nvSpPr>
            <p:spPr>
              <a:xfrm flipH="1" rot="704400">
                <a:off x="695880" y="938880"/>
                <a:ext cx="271800" cy="3826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Group 65"/>
            <p:cNvGrpSpPr/>
            <p:nvPr/>
          </p:nvGrpSpPr>
          <p:grpSpPr>
            <a:xfrm>
              <a:off x="413640" y="909000"/>
              <a:ext cx="541080" cy="381240"/>
              <a:chOff x="413640" y="909000"/>
              <a:chExt cx="541080" cy="381240"/>
            </a:xfrm>
          </p:grpSpPr>
          <p:sp>
            <p:nvSpPr>
              <p:cNvPr id="711" name="Freeform 66"/>
              <p:cNvSpPr/>
              <p:nvPr/>
            </p:nvSpPr>
            <p:spPr>
              <a:xfrm rot="704400">
                <a:off x="439920" y="933120"/>
                <a:ext cx="26676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67"/>
              <p:cNvSpPr/>
              <p:nvPr/>
            </p:nvSpPr>
            <p:spPr>
              <a:xfrm flipH="1" rot="704400">
                <a:off x="694800" y="982440"/>
                <a:ext cx="23292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3" name="Group 68"/>
          <p:cNvGrpSpPr/>
          <p:nvPr/>
        </p:nvGrpSpPr>
        <p:grpSpPr>
          <a:xfrm>
            <a:off x="586800" y="3239640"/>
            <a:ext cx="718560" cy="808560"/>
            <a:chOff x="586800" y="3239640"/>
            <a:chExt cx="718560" cy="808560"/>
          </a:xfrm>
        </p:grpSpPr>
        <p:grpSp>
          <p:nvGrpSpPr>
            <p:cNvPr id="714" name="Group 69"/>
            <p:cNvGrpSpPr/>
            <p:nvPr/>
          </p:nvGrpSpPr>
          <p:grpSpPr>
            <a:xfrm>
              <a:off x="586800" y="3239640"/>
              <a:ext cx="718560" cy="808560"/>
              <a:chOff x="586800" y="3239640"/>
              <a:chExt cx="718560" cy="808560"/>
            </a:xfrm>
          </p:grpSpPr>
          <p:sp>
            <p:nvSpPr>
              <p:cNvPr id="715" name="Freeform 70"/>
              <p:cNvSpPr/>
              <p:nvPr/>
            </p:nvSpPr>
            <p:spPr>
              <a:xfrm rot="7449600">
                <a:off x="844200" y="3316680"/>
                <a:ext cx="388440" cy="380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71"/>
              <p:cNvSpPr/>
              <p:nvPr/>
            </p:nvSpPr>
            <p:spPr>
              <a:xfrm flipH="1" rot="7449600">
                <a:off x="669960" y="3610440"/>
                <a:ext cx="339120" cy="380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0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Group 72"/>
            <p:cNvGrpSpPr/>
            <p:nvPr/>
          </p:nvGrpSpPr>
          <p:grpSpPr>
            <a:xfrm>
              <a:off x="654480" y="3310200"/>
              <a:ext cx="581760" cy="669600"/>
              <a:chOff x="654480" y="3310200"/>
              <a:chExt cx="581760" cy="669600"/>
            </a:xfrm>
          </p:grpSpPr>
          <p:sp>
            <p:nvSpPr>
              <p:cNvPr id="718" name="Freeform 73"/>
              <p:cNvSpPr/>
              <p:nvPr/>
            </p:nvSpPr>
            <p:spPr>
              <a:xfrm rot="7449600">
                <a:off x="858240" y="3385080"/>
                <a:ext cx="332640" cy="2858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74"/>
              <p:cNvSpPr/>
              <p:nvPr/>
            </p:nvSpPr>
            <p:spPr>
              <a:xfrm flipH="1" rot="7449600">
                <a:off x="708840" y="3636360"/>
                <a:ext cx="290520" cy="2858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0" name="Group 75"/>
          <p:cNvGrpSpPr/>
          <p:nvPr/>
        </p:nvGrpSpPr>
        <p:grpSpPr>
          <a:xfrm>
            <a:off x="833760" y="2179080"/>
            <a:ext cx="552960" cy="567720"/>
            <a:chOff x="833760" y="2179080"/>
            <a:chExt cx="552960" cy="567720"/>
          </a:xfrm>
        </p:grpSpPr>
        <p:grpSp>
          <p:nvGrpSpPr>
            <p:cNvPr id="721" name="Group 76"/>
            <p:cNvGrpSpPr/>
            <p:nvPr/>
          </p:nvGrpSpPr>
          <p:grpSpPr>
            <a:xfrm>
              <a:off x="833760" y="2179080"/>
              <a:ext cx="552960" cy="567720"/>
              <a:chOff x="833760" y="2179080"/>
              <a:chExt cx="552960" cy="567720"/>
            </a:xfrm>
          </p:grpSpPr>
          <p:sp>
            <p:nvSpPr>
              <p:cNvPr id="722" name="Freeform 77"/>
              <p:cNvSpPr/>
              <p:nvPr/>
            </p:nvSpPr>
            <p:spPr>
              <a:xfrm rot="2848800">
                <a:off x="890640" y="2236680"/>
                <a:ext cx="278640" cy="27756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78"/>
              <p:cNvSpPr/>
              <p:nvPr/>
            </p:nvSpPr>
            <p:spPr>
              <a:xfrm flipH="1" rot="2848800">
                <a:off x="1080000" y="2424240"/>
                <a:ext cx="243360" cy="27756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4" name="Group 79"/>
            <p:cNvGrpSpPr/>
            <p:nvPr/>
          </p:nvGrpSpPr>
          <p:grpSpPr>
            <a:xfrm>
              <a:off x="885240" y="2230560"/>
              <a:ext cx="451440" cy="465840"/>
              <a:chOff x="885240" y="2230560"/>
              <a:chExt cx="451440" cy="465840"/>
            </a:xfrm>
          </p:grpSpPr>
          <p:sp>
            <p:nvSpPr>
              <p:cNvPr id="725" name="Freeform 80"/>
              <p:cNvSpPr/>
              <p:nvPr/>
            </p:nvSpPr>
            <p:spPr>
              <a:xfrm rot="2848800">
                <a:off x="923040" y="2284560"/>
                <a:ext cx="238680" cy="2080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81"/>
              <p:cNvSpPr/>
              <p:nvPr/>
            </p:nvSpPr>
            <p:spPr>
              <a:xfrm flipH="1" rot="2848800">
                <a:off x="1085040" y="2445120"/>
                <a:ext cx="208440" cy="2080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7" name="Group 82"/>
          <p:cNvGrpSpPr/>
          <p:nvPr/>
        </p:nvGrpSpPr>
        <p:grpSpPr>
          <a:xfrm>
            <a:off x="1986480" y="1026360"/>
            <a:ext cx="553320" cy="568080"/>
            <a:chOff x="1986480" y="1026360"/>
            <a:chExt cx="553320" cy="568080"/>
          </a:xfrm>
        </p:grpSpPr>
        <p:grpSp>
          <p:nvGrpSpPr>
            <p:cNvPr id="728" name="Group 83"/>
            <p:cNvGrpSpPr/>
            <p:nvPr/>
          </p:nvGrpSpPr>
          <p:grpSpPr>
            <a:xfrm>
              <a:off x="1986480" y="1026360"/>
              <a:ext cx="553320" cy="568080"/>
              <a:chOff x="1986480" y="1026360"/>
              <a:chExt cx="553320" cy="568080"/>
            </a:xfrm>
          </p:grpSpPr>
          <p:sp>
            <p:nvSpPr>
              <p:cNvPr id="729" name="Freeform 84"/>
              <p:cNvSpPr/>
              <p:nvPr/>
            </p:nvSpPr>
            <p:spPr>
              <a:xfrm rot="2848800">
                <a:off x="2043720" y="1083960"/>
                <a:ext cx="278640" cy="277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85"/>
              <p:cNvSpPr/>
              <p:nvPr/>
            </p:nvSpPr>
            <p:spPr>
              <a:xfrm flipH="1" rot="2848800">
                <a:off x="2233080" y="1271520"/>
                <a:ext cx="243360" cy="277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86"/>
            <p:cNvGrpSpPr/>
            <p:nvPr/>
          </p:nvGrpSpPr>
          <p:grpSpPr>
            <a:xfrm>
              <a:off x="2037600" y="1077840"/>
              <a:ext cx="452160" cy="466200"/>
              <a:chOff x="2037600" y="1077840"/>
              <a:chExt cx="452160" cy="466200"/>
            </a:xfrm>
          </p:grpSpPr>
          <p:sp>
            <p:nvSpPr>
              <p:cNvPr id="732" name="Freeform 87"/>
              <p:cNvSpPr/>
              <p:nvPr/>
            </p:nvSpPr>
            <p:spPr>
              <a:xfrm rot="2848800">
                <a:off x="2075760" y="1131840"/>
                <a:ext cx="238680" cy="2084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88"/>
              <p:cNvSpPr/>
              <p:nvPr/>
            </p:nvSpPr>
            <p:spPr>
              <a:xfrm flipH="1" rot="2848800">
                <a:off x="2238120" y="1292400"/>
                <a:ext cx="208440" cy="2084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-3.05556E-006 -0.86088 E">
                                      <p:cBhvr>
                                        <p:cTn id="274" dur="5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75" dur="1" fill="hold">
                                    <p:stCondLst>
                                      <p:cond evt="end">
                                        <p:tn val="273"/>
                                      </p:cond>
                                    </p:stCondLst>
                                  </p:cTn>
                                  <p:tgtEl>
                                    <p:spTgt spid="6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7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83" dur="2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evt="end">
                                        <p:tn val="282"/>
                                      </p:cond>
                                    </p:stCondLst>
                                  </p:cTn>
                                  <p:tgtEl>
                                    <p:spTgt spid="6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85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26" repeatCount="indefinite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1000" autoRev="1" fill="hold"/>
                                        <p:tgtEl>
                                          <p:spTgt spid="6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evt="end">
                                        <p:tn val="296"/>
                                      </p:cond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01" nodeType="withEffect" fill="hold" presetClass="entr" presetID="2" presetSubtype="4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5" dur="1" fill="hold">
                                    <p:stCondLst>
                                      <p:cond evt="end">
                                        <p:tn val="301"/>
                                      </p:cond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06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5E-006 4.81481E-006 L -0.00382 -0.78218 E">
                                      <p:cBhvr>
                                        <p:cTn id="307" dur="5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evt="end">
                                        <p:tn val="306"/>
                                      </p:cond>
                                    </p:stCondLst>
                                  </p:cTn>
                                  <p:tgtEl>
                                    <p:spTgt spid="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09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77778E-007 0.00092 L -0.00399 -0.79168 E">
                                      <p:cBhvr>
                                        <p:cTn id="310" dur="3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evt="end">
                                        <p:tn val="309"/>
                                      </p:cond>
                                    </p:stCondLst>
                                  </p:cTn>
                                  <p:tgtEl>
                                    <p:spTgt spid="6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12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44444E-006 1.48148E-006 L -0.004 -0.78218 E">
                                      <p:cBhvr>
                                        <p:cTn id="313" dur="50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evt="end">
                                        <p:tn val="312"/>
                                      </p:cond>
                                    </p:stCondLst>
                                  </p:cTn>
                                  <p:tgtEl>
                                    <p:spTgt spid="6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15" nodeType="withEffect" fill="hold" presetClass="emph" presetID="8" repeatCount="indefinite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316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5">
                                  <p:stCondLst>
                                    <p:cond delay="108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32" repeatCount="indefinite">
                                  <p:stCondLst>
                                    <p:cond delay="700"/>
                                  </p:stCondLst>
                                  <p:childTnLst>
                                    <p:animClr clrSpc="rgb">
                                      <p:cBhvr>
                                        <p:cTn id="339" dur="1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0" dur="1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1" dur="1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5.55556E-007 5.20231E-007 L 0.23264 0.19676 E">
                                      <p:cBhvr>
                                        <p:cTn id="348" dur="2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2" repeatCount="indefinite">
                                  <p:stCondLst>
                                    <p:cond delay="1300"/>
                                  </p:stCondLst>
                                  <p:childTnLst>
                                    <p:animClr clrSpc="rgb">
                                      <p:cBhvr>
                                        <p:cTn id="350" dur="2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51" dur="2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2" dur="2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359" dur="1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0" dur="1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1" dur="1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1.94444E-006 -2.31214E-007 L 0.24688 0.1785 E">
                                      <p:cBhvr>
                                        <p:cTn id="368" dur="2300" fill="hold"/>
                                        <p:tgtEl>
                                          <p:spTgt spid="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370" dur="1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1" dur="1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2" dur="1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32" repeatCount="indefinite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379" dur="1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0" dur="1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1" dur="1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1">
                                  <p:stCondLst>
                                    <p:cond delay="17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1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128" descr="3Z6E0]0_~S](2T`9%[JBR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2"/>
          <p:cNvSpPr/>
          <p:nvPr/>
        </p:nvSpPr>
        <p:spPr>
          <a:xfrm>
            <a:off x="395280" y="148428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我问雄鹰</a:t>
            </a:r>
            <a:r>
              <a:rPr b="1" lang="en-US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: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梦想是什么</a:t>
            </a:r>
            <a:r>
              <a:rPr b="1" lang="en-US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雄鹰扑闪了一下翅膀，略有所思地说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3"/>
          <p:cNvSpPr/>
          <p:nvPr/>
        </p:nvSpPr>
        <p:spPr>
          <a:xfrm>
            <a:off x="971640" y="3068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梦想就是用昂扬的斗志和旺盛的生命去叱咤风云点缀蓝天白云</a:t>
            </a: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4"/>
          <p:cNvGrpSpPr/>
          <p:nvPr/>
        </p:nvGrpSpPr>
        <p:grpSpPr>
          <a:xfrm>
            <a:off x="5003640" y="-892080"/>
            <a:ext cx="792000" cy="726840"/>
            <a:chOff x="5003640" y="-892080"/>
            <a:chExt cx="792000" cy="726840"/>
          </a:xfrm>
        </p:grpSpPr>
        <p:sp>
          <p:nvSpPr>
            <p:cNvPr id="738" name="Freeform 5"/>
            <p:cNvSpPr/>
            <p:nvPr/>
          </p:nvSpPr>
          <p:spPr>
            <a:xfrm>
              <a:off x="5003640" y="-892080"/>
              <a:ext cx="776520" cy="72684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Group 6"/>
            <p:cNvGrpSpPr/>
            <p:nvPr/>
          </p:nvGrpSpPr>
          <p:grpSpPr>
            <a:xfrm>
              <a:off x="5030640" y="-865080"/>
              <a:ext cx="765000" cy="687600"/>
              <a:chOff x="5030640" y="-865080"/>
              <a:chExt cx="765000" cy="687600"/>
            </a:xfrm>
          </p:grpSpPr>
          <p:sp>
            <p:nvSpPr>
              <p:cNvPr id="740" name="Freeform 7"/>
              <p:cNvSpPr/>
              <p:nvPr/>
            </p:nvSpPr>
            <p:spPr>
              <a:xfrm rot="10789800">
                <a:off x="5352840" y="-669960"/>
                <a:ext cx="156240" cy="49248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8"/>
              <p:cNvSpPr/>
              <p:nvPr/>
            </p:nvSpPr>
            <p:spPr>
              <a:xfrm rot="10789800">
                <a:off x="5343840" y="-674280"/>
                <a:ext cx="382320" cy="34128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9"/>
              <p:cNvSpPr/>
              <p:nvPr/>
            </p:nvSpPr>
            <p:spPr>
              <a:xfrm rot="10789800">
                <a:off x="5343480" y="-674280"/>
                <a:ext cx="451800" cy="9504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0"/>
              <p:cNvSpPr/>
              <p:nvPr/>
            </p:nvSpPr>
            <p:spPr>
              <a:xfrm rot="10789800">
                <a:off x="5343120" y="-801360"/>
                <a:ext cx="330120" cy="12708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1"/>
              <p:cNvSpPr/>
              <p:nvPr/>
            </p:nvSpPr>
            <p:spPr>
              <a:xfrm rot="10789800">
                <a:off x="5196600" y="-673200"/>
                <a:ext cx="147600" cy="46044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2"/>
              <p:cNvSpPr/>
              <p:nvPr/>
            </p:nvSpPr>
            <p:spPr>
              <a:xfrm rot="10789800">
                <a:off x="5030640" y="-678240"/>
                <a:ext cx="312840" cy="27540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3"/>
              <p:cNvSpPr/>
              <p:nvPr/>
            </p:nvSpPr>
            <p:spPr>
              <a:xfrm rot="10789800">
                <a:off x="5343120" y="-864720"/>
                <a:ext cx="138960" cy="19044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4"/>
              <p:cNvSpPr/>
              <p:nvPr/>
            </p:nvSpPr>
            <p:spPr>
              <a:xfrm rot="10789800">
                <a:off x="5047920" y="-672840"/>
                <a:ext cx="295200" cy="5004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8" name="Group 15"/>
          <p:cNvGrpSpPr/>
          <p:nvPr/>
        </p:nvGrpSpPr>
        <p:grpSpPr>
          <a:xfrm>
            <a:off x="1157400" y="-691920"/>
            <a:ext cx="765000" cy="725040"/>
            <a:chOff x="1157400" y="-691920"/>
            <a:chExt cx="765000" cy="725040"/>
          </a:xfrm>
        </p:grpSpPr>
        <p:sp>
          <p:nvSpPr>
            <p:cNvPr id="749" name="Freeform 16"/>
            <p:cNvSpPr/>
            <p:nvPr/>
          </p:nvSpPr>
          <p:spPr>
            <a:xfrm rot="21269400">
              <a:off x="1187280" y="-659520"/>
              <a:ext cx="704880" cy="66024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" name="Group 17"/>
            <p:cNvGrpSpPr/>
            <p:nvPr/>
          </p:nvGrpSpPr>
          <p:grpSpPr>
            <a:xfrm>
              <a:off x="1199880" y="-641160"/>
              <a:ext cx="700200" cy="632880"/>
              <a:chOff x="1199880" y="-641160"/>
              <a:chExt cx="700200" cy="632880"/>
            </a:xfrm>
          </p:grpSpPr>
          <p:sp>
            <p:nvSpPr>
              <p:cNvPr id="751" name="Freeform 18"/>
              <p:cNvSpPr/>
              <p:nvPr/>
            </p:nvSpPr>
            <p:spPr>
              <a:xfrm rot="10459800">
                <a:off x="1513440" y="-461160"/>
                <a:ext cx="141840" cy="44712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9"/>
              <p:cNvSpPr/>
              <p:nvPr/>
            </p:nvSpPr>
            <p:spPr>
              <a:xfrm rot="10459800">
                <a:off x="1497600" y="-473400"/>
                <a:ext cx="347040" cy="30996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20"/>
              <p:cNvSpPr/>
              <p:nvPr/>
            </p:nvSpPr>
            <p:spPr>
              <a:xfrm rot="10459800">
                <a:off x="1486080" y="-476280"/>
                <a:ext cx="410400" cy="8640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21"/>
              <p:cNvSpPr/>
              <p:nvPr/>
            </p:nvSpPr>
            <p:spPr>
              <a:xfrm rot="10459800">
                <a:off x="1476360" y="-585720"/>
                <a:ext cx="299880" cy="11520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22"/>
              <p:cNvSpPr/>
              <p:nvPr/>
            </p:nvSpPr>
            <p:spPr>
              <a:xfrm rot="10459800">
                <a:off x="1369800" y="-450000"/>
                <a:ext cx="133920" cy="41832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23"/>
              <p:cNvSpPr/>
              <p:nvPr/>
            </p:nvSpPr>
            <p:spPr>
              <a:xfrm rot="10459800">
                <a:off x="1211400" y="-447120"/>
                <a:ext cx="284040" cy="24984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24"/>
              <p:cNvSpPr/>
              <p:nvPr/>
            </p:nvSpPr>
            <p:spPr>
              <a:xfrm rot="10459800">
                <a:off x="1474560" y="-635040"/>
                <a:ext cx="126000" cy="17316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25"/>
              <p:cNvSpPr/>
              <p:nvPr/>
            </p:nvSpPr>
            <p:spPr>
              <a:xfrm rot="10459800">
                <a:off x="1217520" y="-442080"/>
                <a:ext cx="268200" cy="4536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9" name="Group 26"/>
          <p:cNvGrpSpPr/>
          <p:nvPr/>
        </p:nvGrpSpPr>
        <p:grpSpPr>
          <a:xfrm>
            <a:off x="7476840" y="5315760"/>
            <a:ext cx="1086480" cy="1057680"/>
            <a:chOff x="7476840" y="5315760"/>
            <a:chExt cx="1086480" cy="1057680"/>
          </a:xfrm>
        </p:grpSpPr>
        <p:sp>
          <p:nvSpPr>
            <p:cNvPr id="760" name="Freeform 27"/>
            <p:cNvSpPr/>
            <p:nvPr/>
          </p:nvSpPr>
          <p:spPr>
            <a:xfrm rot="20235600">
              <a:off x="7597080" y="5448240"/>
              <a:ext cx="846000" cy="79236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Group 28"/>
            <p:cNvGrpSpPr/>
            <p:nvPr/>
          </p:nvGrpSpPr>
          <p:grpSpPr>
            <a:xfrm>
              <a:off x="7593840" y="5451120"/>
              <a:ext cx="844920" cy="793080"/>
              <a:chOff x="7593840" y="5451120"/>
              <a:chExt cx="844920" cy="793080"/>
            </a:xfrm>
          </p:grpSpPr>
          <p:sp>
            <p:nvSpPr>
              <p:cNvPr id="762" name="Freeform 29"/>
              <p:cNvSpPr/>
              <p:nvPr/>
            </p:nvSpPr>
            <p:spPr>
              <a:xfrm rot="9425400">
                <a:off x="8018280" y="5664600"/>
                <a:ext cx="170280" cy="53676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30"/>
              <p:cNvSpPr/>
              <p:nvPr/>
            </p:nvSpPr>
            <p:spPr>
              <a:xfrm rot="9425400">
                <a:off x="7966080" y="5622480"/>
                <a:ext cx="416520" cy="37224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31"/>
              <p:cNvSpPr/>
              <p:nvPr/>
            </p:nvSpPr>
            <p:spPr>
              <a:xfrm rot="9425400">
                <a:off x="7910280" y="5619240"/>
                <a:ext cx="492480" cy="10368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32"/>
              <p:cNvSpPr/>
              <p:nvPr/>
            </p:nvSpPr>
            <p:spPr>
              <a:xfrm rot="9425400">
                <a:off x="7869240" y="5515560"/>
                <a:ext cx="359640" cy="13860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33"/>
              <p:cNvSpPr/>
              <p:nvPr/>
            </p:nvSpPr>
            <p:spPr>
              <a:xfrm rot="9425400">
                <a:off x="7853400" y="5730480"/>
                <a:ext cx="160920" cy="50220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34"/>
              <p:cNvSpPr/>
              <p:nvPr/>
            </p:nvSpPr>
            <p:spPr>
              <a:xfrm rot="9425400">
                <a:off x="7638840" y="5768640"/>
                <a:ext cx="340920" cy="29988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35"/>
              <p:cNvSpPr/>
              <p:nvPr/>
            </p:nvSpPr>
            <p:spPr>
              <a:xfrm rot="9425400">
                <a:off x="7863480" y="5489640"/>
                <a:ext cx="151560" cy="20772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36"/>
              <p:cNvSpPr/>
              <p:nvPr/>
            </p:nvSpPr>
            <p:spPr>
              <a:xfrm rot="9425400">
                <a:off x="7611120" y="5779440"/>
                <a:ext cx="321840" cy="5472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0" name="Group 37"/>
          <p:cNvGrpSpPr/>
          <p:nvPr/>
        </p:nvGrpSpPr>
        <p:grpSpPr>
          <a:xfrm>
            <a:off x="3938400" y="-1058040"/>
            <a:ext cx="1125000" cy="1179000"/>
            <a:chOff x="3938400" y="-1058040"/>
            <a:chExt cx="1125000" cy="1179000"/>
          </a:xfrm>
        </p:grpSpPr>
        <p:sp>
          <p:nvSpPr>
            <p:cNvPr id="771" name="Freeform 38"/>
            <p:cNvSpPr/>
            <p:nvPr/>
          </p:nvSpPr>
          <p:spPr>
            <a:xfrm rot="2083800">
              <a:off x="4140360" y="-936000"/>
              <a:ext cx="720720" cy="93492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Group 39"/>
            <p:cNvGrpSpPr/>
            <p:nvPr/>
          </p:nvGrpSpPr>
          <p:grpSpPr>
            <a:xfrm>
              <a:off x="4116240" y="-858600"/>
              <a:ext cx="794880" cy="814320"/>
              <a:chOff x="4116240" y="-858600"/>
              <a:chExt cx="794880" cy="814320"/>
            </a:xfrm>
          </p:grpSpPr>
          <p:sp>
            <p:nvSpPr>
              <p:cNvPr id="773" name="Freeform 40"/>
              <p:cNvSpPr/>
              <p:nvPr/>
            </p:nvSpPr>
            <p:spPr>
              <a:xfrm rot="12874800">
                <a:off x="4376520" y="-662760"/>
                <a:ext cx="145080" cy="63324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41"/>
              <p:cNvSpPr/>
              <p:nvPr/>
            </p:nvSpPr>
            <p:spPr>
              <a:xfrm rot="12874800">
                <a:off x="4409280" y="-595080"/>
                <a:ext cx="354960" cy="43920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42"/>
              <p:cNvSpPr/>
              <p:nvPr/>
            </p:nvSpPr>
            <p:spPr>
              <a:xfrm rot="12874800">
                <a:off x="4493520" y="-548640"/>
                <a:ext cx="419400" cy="12240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43"/>
              <p:cNvSpPr/>
              <p:nvPr/>
            </p:nvSpPr>
            <p:spPr>
              <a:xfrm rot="12874800">
                <a:off x="4584960" y="-718920"/>
                <a:ext cx="306360" cy="16344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44"/>
              <p:cNvSpPr/>
              <p:nvPr/>
            </p:nvSpPr>
            <p:spPr>
              <a:xfrm rot="12874800">
                <a:off x="4272120" y="-747360"/>
                <a:ext cx="137160" cy="59220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45"/>
              <p:cNvSpPr/>
              <p:nvPr/>
            </p:nvSpPr>
            <p:spPr>
              <a:xfrm rot="12874800">
                <a:off x="4204080" y="-775800"/>
                <a:ext cx="290160" cy="35388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46"/>
              <p:cNvSpPr/>
              <p:nvPr/>
            </p:nvSpPr>
            <p:spPr>
              <a:xfrm rot="12874800">
                <a:off x="4623840" y="-843480"/>
                <a:ext cx="128880" cy="24516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47"/>
              <p:cNvSpPr/>
              <p:nvPr/>
            </p:nvSpPr>
            <p:spPr>
              <a:xfrm rot="12874800">
                <a:off x="4296960" y="-740160"/>
                <a:ext cx="274320" cy="6444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Group 48"/>
          <p:cNvGrpSpPr/>
          <p:nvPr/>
        </p:nvGrpSpPr>
        <p:grpSpPr>
          <a:xfrm>
            <a:off x="1872000" y="4824000"/>
            <a:ext cx="1000440" cy="973440"/>
            <a:chOff x="1872000" y="4824000"/>
            <a:chExt cx="1000440" cy="973440"/>
          </a:xfrm>
        </p:grpSpPr>
        <p:sp>
          <p:nvSpPr>
            <p:cNvPr id="782" name="Freeform 49"/>
            <p:cNvSpPr/>
            <p:nvPr/>
          </p:nvSpPr>
          <p:spPr>
            <a:xfrm rot="20310000">
              <a:off x="1979640" y="4942080"/>
              <a:ext cx="785160" cy="73692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Group 50"/>
            <p:cNvGrpSpPr/>
            <p:nvPr/>
          </p:nvGrpSpPr>
          <p:grpSpPr>
            <a:xfrm>
              <a:off x="1965960" y="4949640"/>
              <a:ext cx="783360" cy="732240"/>
              <a:chOff x="1965960" y="4949640"/>
              <a:chExt cx="783360" cy="732240"/>
            </a:xfrm>
          </p:grpSpPr>
          <p:sp>
            <p:nvSpPr>
              <p:cNvPr id="784" name="Freeform 51"/>
              <p:cNvSpPr/>
              <p:nvPr/>
            </p:nvSpPr>
            <p:spPr>
              <a:xfrm rot="9500400">
                <a:off x="2358360" y="5146200"/>
                <a:ext cx="158040" cy="49896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2"/>
              <p:cNvSpPr/>
              <p:nvPr/>
            </p:nvSpPr>
            <p:spPr>
              <a:xfrm rot="9500400">
                <a:off x="2312280" y="5109120"/>
                <a:ext cx="386640" cy="34596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3"/>
              <p:cNvSpPr/>
              <p:nvPr/>
            </p:nvSpPr>
            <p:spPr>
              <a:xfrm rot="9500400">
                <a:off x="2263680" y="5104800"/>
                <a:ext cx="457200" cy="9648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4"/>
              <p:cNvSpPr/>
              <p:nvPr/>
            </p:nvSpPr>
            <p:spPr>
              <a:xfrm rot="9500400">
                <a:off x="2226240" y="5006520"/>
                <a:ext cx="334080" cy="12888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5"/>
              <p:cNvSpPr/>
              <p:nvPr/>
            </p:nvSpPr>
            <p:spPr>
              <a:xfrm rot="9500400">
                <a:off x="2203920" y="5203800"/>
                <a:ext cx="149400" cy="46692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6"/>
              <p:cNvSpPr/>
              <p:nvPr/>
            </p:nvSpPr>
            <p:spPr>
              <a:xfrm rot="9500400">
                <a:off x="2006280" y="5236200"/>
                <a:ext cx="316440" cy="27900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7"/>
              <p:cNvSpPr/>
              <p:nvPr/>
            </p:nvSpPr>
            <p:spPr>
              <a:xfrm rot="9500400">
                <a:off x="2221560" y="4980600"/>
                <a:ext cx="140400" cy="19296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8"/>
              <p:cNvSpPr/>
              <p:nvPr/>
            </p:nvSpPr>
            <p:spPr>
              <a:xfrm rot="9500400">
                <a:off x="1982880" y="5246280"/>
                <a:ext cx="298800" cy="5076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2" name="Group 59"/>
          <p:cNvGrpSpPr/>
          <p:nvPr/>
        </p:nvGrpSpPr>
        <p:grpSpPr>
          <a:xfrm>
            <a:off x="6142320" y="-741960"/>
            <a:ext cx="804240" cy="757080"/>
            <a:chOff x="6142320" y="-741960"/>
            <a:chExt cx="804240" cy="757080"/>
          </a:xfrm>
        </p:grpSpPr>
        <p:sp>
          <p:nvSpPr>
            <p:cNvPr id="793" name="Freeform 60"/>
            <p:cNvSpPr/>
            <p:nvPr/>
          </p:nvSpPr>
          <p:spPr>
            <a:xfrm rot="21465000">
              <a:off x="6156000" y="-726840"/>
              <a:ext cx="776160" cy="72720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Group 61"/>
            <p:cNvGrpSpPr/>
            <p:nvPr/>
          </p:nvGrpSpPr>
          <p:grpSpPr>
            <a:xfrm>
              <a:off x="6177240" y="-702720"/>
              <a:ext cx="768240" cy="692280"/>
              <a:chOff x="6177240" y="-702720"/>
              <a:chExt cx="768240" cy="692280"/>
            </a:xfrm>
          </p:grpSpPr>
          <p:sp>
            <p:nvSpPr>
              <p:cNvPr id="795" name="Freeform 62"/>
              <p:cNvSpPr/>
              <p:nvPr/>
            </p:nvSpPr>
            <p:spPr>
              <a:xfrm rot="10654800">
                <a:off x="6509160" y="-505800"/>
                <a:ext cx="156240" cy="49248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63"/>
              <p:cNvSpPr/>
              <p:nvPr/>
            </p:nvSpPr>
            <p:spPr>
              <a:xfrm rot="10654800">
                <a:off x="6497280" y="-514440"/>
                <a:ext cx="381960" cy="34164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64"/>
              <p:cNvSpPr/>
              <p:nvPr/>
            </p:nvSpPr>
            <p:spPr>
              <a:xfrm rot="10654800">
                <a:off x="6491520" y="-515160"/>
                <a:ext cx="451800" cy="9504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65"/>
              <p:cNvSpPr/>
              <p:nvPr/>
            </p:nvSpPr>
            <p:spPr>
              <a:xfrm rot="10654800">
                <a:off x="6487200" y="-640080"/>
                <a:ext cx="330120" cy="12708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6"/>
              <p:cNvSpPr/>
              <p:nvPr/>
            </p:nvSpPr>
            <p:spPr>
              <a:xfrm rot="10654800">
                <a:off x="6352200" y="-502920"/>
                <a:ext cx="147600" cy="46080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7"/>
              <p:cNvSpPr/>
              <p:nvPr/>
            </p:nvSpPr>
            <p:spPr>
              <a:xfrm rot="10654800">
                <a:off x="6183000" y="-504720"/>
                <a:ext cx="312480" cy="27540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8"/>
              <p:cNvSpPr/>
              <p:nvPr/>
            </p:nvSpPr>
            <p:spPr>
              <a:xfrm rot="10654800">
                <a:off x="6486120" y="-699480"/>
                <a:ext cx="138960" cy="19044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9"/>
              <p:cNvSpPr/>
              <p:nvPr/>
            </p:nvSpPr>
            <p:spPr>
              <a:xfrm rot="10654800">
                <a:off x="6195600" y="-499680"/>
                <a:ext cx="295200" cy="5004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3" name="Group 70"/>
          <p:cNvGrpSpPr/>
          <p:nvPr/>
        </p:nvGrpSpPr>
        <p:grpSpPr>
          <a:xfrm>
            <a:off x="7185600" y="-868680"/>
            <a:ext cx="1024200" cy="1002960"/>
            <a:chOff x="7185600" y="-868680"/>
            <a:chExt cx="1024200" cy="1002960"/>
          </a:xfrm>
        </p:grpSpPr>
        <p:sp>
          <p:nvSpPr>
            <p:cNvPr id="804" name="Freeform 71"/>
            <p:cNvSpPr/>
            <p:nvPr/>
          </p:nvSpPr>
          <p:spPr>
            <a:xfrm rot="1642200">
              <a:off x="7309080" y="-730800"/>
              <a:ext cx="776520" cy="72720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72"/>
            <p:cNvGrpSpPr/>
            <p:nvPr/>
          </p:nvGrpSpPr>
          <p:grpSpPr>
            <a:xfrm>
              <a:off x="7319520" y="-687600"/>
              <a:ext cx="803880" cy="686880"/>
              <a:chOff x="7319520" y="-687600"/>
              <a:chExt cx="803880" cy="686880"/>
            </a:xfrm>
          </p:grpSpPr>
          <p:sp>
            <p:nvSpPr>
              <p:cNvPr id="806" name="Freeform 73"/>
              <p:cNvSpPr/>
              <p:nvPr/>
            </p:nvSpPr>
            <p:spPr>
              <a:xfrm rot="12432600">
                <a:off x="7606080" y="-501480"/>
                <a:ext cx="156240" cy="49248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74"/>
              <p:cNvSpPr/>
              <p:nvPr/>
            </p:nvSpPr>
            <p:spPr>
              <a:xfrm rot="12432600">
                <a:off x="7622280" y="-449640"/>
                <a:ext cx="382320" cy="34164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75"/>
              <p:cNvSpPr/>
              <p:nvPr/>
            </p:nvSpPr>
            <p:spPr>
              <a:xfrm rot="12432600">
                <a:off x="7674480" y="-419760"/>
                <a:ext cx="451800" cy="9504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76"/>
              <p:cNvSpPr/>
              <p:nvPr/>
            </p:nvSpPr>
            <p:spPr>
              <a:xfrm rot="12432600">
                <a:off x="7732080" y="-562680"/>
                <a:ext cx="330120" cy="12708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77"/>
              <p:cNvSpPr/>
              <p:nvPr/>
            </p:nvSpPr>
            <p:spPr>
              <a:xfrm rot="12432600">
                <a:off x="7476480" y="-576720"/>
                <a:ext cx="147600" cy="46080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78"/>
              <p:cNvSpPr/>
              <p:nvPr/>
            </p:nvSpPr>
            <p:spPr>
              <a:xfrm rot="12432600">
                <a:off x="7364880" y="-609480"/>
                <a:ext cx="312840" cy="27540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79"/>
              <p:cNvSpPr/>
              <p:nvPr/>
            </p:nvSpPr>
            <p:spPr>
              <a:xfrm rot="12432600">
                <a:off x="7757280" y="-666000"/>
                <a:ext cx="138960" cy="19044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80"/>
              <p:cNvSpPr/>
              <p:nvPr/>
            </p:nvSpPr>
            <p:spPr>
              <a:xfrm rot="12432600">
                <a:off x="7430760" y="-587880"/>
                <a:ext cx="295200" cy="5004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4" name="Group 81"/>
          <p:cNvGrpSpPr/>
          <p:nvPr/>
        </p:nvGrpSpPr>
        <p:grpSpPr>
          <a:xfrm>
            <a:off x="2795400" y="-801360"/>
            <a:ext cx="948600" cy="935280"/>
            <a:chOff x="2795400" y="-801360"/>
            <a:chExt cx="948600" cy="935280"/>
          </a:xfrm>
        </p:grpSpPr>
        <p:sp>
          <p:nvSpPr>
            <p:cNvPr id="815" name="Freeform 82"/>
            <p:cNvSpPr/>
            <p:nvPr/>
          </p:nvSpPr>
          <p:spPr>
            <a:xfrm rot="1947000">
              <a:off x="2917440" y="-663840"/>
              <a:ext cx="704520" cy="66024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83"/>
            <p:cNvGrpSpPr/>
            <p:nvPr/>
          </p:nvGrpSpPr>
          <p:grpSpPr>
            <a:xfrm>
              <a:off x="2932560" y="-623880"/>
              <a:ext cx="717480" cy="616680"/>
              <a:chOff x="2932560" y="-623880"/>
              <a:chExt cx="717480" cy="616680"/>
            </a:xfrm>
          </p:grpSpPr>
          <p:sp>
            <p:nvSpPr>
              <p:cNvPr id="817" name="Freeform 84"/>
              <p:cNvSpPr/>
              <p:nvPr/>
            </p:nvSpPr>
            <p:spPr>
              <a:xfrm rot="12736800">
                <a:off x="3177720" y="-457560"/>
                <a:ext cx="141840" cy="44712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85"/>
              <p:cNvSpPr/>
              <p:nvPr/>
            </p:nvSpPr>
            <p:spPr>
              <a:xfrm rot="12736800">
                <a:off x="3193200" y="-398880"/>
                <a:ext cx="347040" cy="30996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86"/>
              <p:cNvSpPr/>
              <p:nvPr/>
            </p:nvSpPr>
            <p:spPr>
              <a:xfrm rot="12736800">
                <a:off x="3248640" y="-365400"/>
                <a:ext cx="410040" cy="8640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87"/>
              <p:cNvSpPr/>
              <p:nvPr/>
            </p:nvSpPr>
            <p:spPr>
              <a:xfrm rot="12736800">
                <a:off x="3310920" y="-494280"/>
                <a:ext cx="299520" cy="11520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88"/>
              <p:cNvSpPr/>
              <p:nvPr/>
            </p:nvSpPr>
            <p:spPr>
              <a:xfrm rot="12736800">
                <a:off x="3067920" y="-536040"/>
                <a:ext cx="133920" cy="41832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89"/>
              <p:cNvSpPr/>
              <p:nvPr/>
            </p:nvSpPr>
            <p:spPr>
              <a:xfrm rot="12736800">
                <a:off x="2977200" y="-567000"/>
                <a:ext cx="283680" cy="24984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90"/>
              <p:cNvSpPr/>
              <p:nvPr/>
            </p:nvSpPr>
            <p:spPr>
              <a:xfrm rot="12736800">
                <a:off x="3340080" y="-594360"/>
                <a:ext cx="126000" cy="17316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91"/>
              <p:cNvSpPr/>
              <p:nvPr/>
            </p:nvSpPr>
            <p:spPr>
              <a:xfrm rot="12736800">
                <a:off x="3043440" y="-542880"/>
                <a:ext cx="268200" cy="4536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5" name="Group 92"/>
          <p:cNvGrpSpPr/>
          <p:nvPr/>
        </p:nvGrpSpPr>
        <p:grpSpPr>
          <a:xfrm>
            <a:off x="6181200" y="3875760"/>
            <a:ext cx="1086840" cy="1057680"/>
            <a:chOff x="6181200" y="3875760"/>
            <a:chExt cx="1086840" cy="1057680"/>
          </a:xfrm>
        </p:grpSpPr>
        <p:sp>
          <p:nvSpPr>
            <p:cNvPr id="826" name="Freeform 93"/>
            <p:cNvSpPr/>
            <p:nvPr/>
          </p:nvSpPr>
          <p:spPr>
            <a:xfrm rot="20235600">
              <a:off x="6301080" y="4008600"/>
              <a:ext cx="846360" cy="79200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Group 94"/>
            <p:cNvGrpSpPr/>
            <p:nvPr/>
          </p:nvGrpSpPr>
          <p:grpSpPr>
            <a:xfrm>
              <a:off x="6297840" y="4011480"/>
              <a:ext cx="845280" cy="792360"/>
              <a:chOff x="6297840" y="4011480"/>
              <a:chExt cx="845280" cy="792360"/>
            </a:xfrm>
          </p:grpSpPr>
          <p:sp>
            <p:nvSpPr>
              <p:cNvPr id="828" name="Freeform 95"/>
              <p:cNvSpPr/>
              <p:nvPr/>
            </p:nvSpPr>
            <p:spPr>
              <a:xfrm rot="9425400">
                <a:off x="6722280" y="4224600"/>
                <a:ext cx="170280" cy="53640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96"/>
              <p:cNvSpPr/>
              <p:nvPr/>
            </p:nvSpPr>
            <p:spPr>
              <a:xfrm rot="9425400">
                <a:off x="6670440" y="4182840"/>
                <a:ext cx="416520" cy="37188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97"/>
              <p:cNvSpPr/>
              <p:nvPr/>
            </p:nvSpPr>
            <p:spPr>
              <a:xfrm rot="9425400">
                <a:off x="6614640" y="4178880"/>
                <a:ext cx="492480" cy="10368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98"/>
              <p:cNvSpPr/>
              <p:nvPr/>
            </p:nvSpPr>
            <p:spPr>
              <a:xfrm rot="9425400">
                <a:off x="6573240" y="4075920"/>
                <a:ext cx="359640" cy="13824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99"/>
              <p:cNvSpPr/>
              <p:nvPr/>
            </p:nvSpPr>
            <p:spPr>
              <a:xfrm rot="9425400">
                <a:off x="6557400" y="4290120"/>
                <a:ext cx="160920" cy="50184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00"/>
              <p:cNvSpPr/>
              <p:nvPr/>
            </p:nvSpPr>
            <p:spPr>
              <a:xfrm rot="9425400">
                <a:off x="6342840" y="4328280"/>
                <a:ext cx="340920" cy="29988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01"/>
              <p:cNvSpPr/>
              <p:nvPr/>
            </p:nvSpPr>
            <p:spPr>
              <a:xfrm rot="9425400">
                <a:off x="6567840" y="4049640"/>
                <a:ext cx="151560" cy="20772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02"/>
              <p:cNvSpPr/>
              <p:nvPr/>
            </p:nvSpPr>
            <p:spPr>
              <a:xfrm rot="9425400">
                <a:off x="6315480" y="4339440"/>
                <a:ext cx="321840" cy="5472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6" name="Group 103"/>
          <p:cNvGrpSpPr/>
          <p:nvPr/>
        </p:nvGrpSpPr>
        <p:grpSpPr>
          <a:xfrm>
            <a:off x="3330360" y="-1044720"/>
            <a:ext cx="1046520" cy="1151280"/>
            <a:chOff x="3330360" y="-1044720"/>
            <a:chExt cx="1046520" cy="1151280"/>
          </a:xfrm>
        </p:grpSpPr>
        <p:sp>
          <p:nvSpPr>
            <p:cNvPr id="837" name="Freeform 104"/>
            <p:cNvSpPr/>
            <p:nvPr/>
          </p:nvSpPr>
          <p:spPr>
            <a:xfrm rot="1487400">
              <a:off x="3493080" y="-936360"/>
              <a:ext cx="721080" cy="93492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05"/>
            <p:cNvGrpSpPr/>
            <p:nvPr/>
          </p:nvGrpSpPr>
          <p:grpSpPr>
            <a:xfrm>
              <a:off x="3474720" y="-888480"/>
              <a:ext cx="790920" cy="866880"/>
              <a:chOff x="3474720" y="-888480"/>
              <a:chExt cx="790920" cy="866880"/>
            </a:xfrm>
          </p:grpSpPr>
          <p:sp>
            <p:nvSpPr>
              <p:cNvPr id="839" name="Freeform 106"/>
              <p:cNvSpPr/>
              <p:nvPr/>
            </p:nvSpPr>
            <p:spPr>
              <a:xfrm rot="12277800">
                <a:off x="3750480" y="-655920"/>
                <a:ext cx="145080" cy="63324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07"/>
              <p:cNvSpPr/>
              <p:nvPr/>
            </p:nvSpPr>
            <p:spPr>
              <a:xfrm rot="12277800">
                <a:off x="3776760" y="-611280"/>
                <a:ext cx="354960" cy="43920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08"/>
              <p:cNvSpPr/>
              <p:nvPr/>
            </p:nvSpPr>
            <p:spPr>
              <a:xfrm rot="12277800">
                <a:off x="3839040" y="-583920"/>
                <a:ext cx="419760" cy="12240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09"/>
              <p:cNvSpPr/>
              <p:nvPr/>
            </p:nvSpPr>
            <p:spPr>
              <a:xfrm rot="12277800">
                <a:off x="3904200" y="-757440"/>
                <a:ext cx="306720" cy="16344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10"/>
              <p:cNvSpPr/>
              <p:nvPr/>
            </p:nvSpPr>
            <p:spPr>
              <a:xfrm rot="12277800">
                <a:off x="3629520" y="-721080"/>
                <a:ext cx="137160" cy="59220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11"/>
              <p:cNvSpPr/>
              <p:nvPr/>
            </p:nvSpPr>
            <p:spPr>
              <a:xfrm rot="12277800">
                <a:off x="3535200" y="-748440"/>
                <a:ext cx="290520" cy="35388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12"/>
              <p:cNvSpPr/>
              <p:nvPr/>
            </p:nvSpPr>
            <p:spPr>
              <a:xfrm rot="12277800">
                <a:off x="3929400" y="-872640"/>
                <a:ext cx="128880" cy="24516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113"/>
              <p:cNvSpPr/>
              <p:nvPr/>
            </p:nvSpPr>
            <p:spPr>
              <a:xfrm rot="12277800">
                <a:off x="3608280" y="-725400"/>
                <a:ext cx="274320" cy="6444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7" name="Group 114"/>
          <p:cNvGrpSpPr/>
          <p:nvPr/>
        </p:nvGrpSpPr>
        <p:grpSpPr>
          <a:xfrm>
            <a:off x="3384720" y="3742560"/>
            <a:ext cx="1000800" cy="973800"/>
            <a:chOff x="3384720" y="3742560"/>
            <a:chExt cx="1000800" cy="973800"/>
          </a:xfrm>
        </p:grpSpPr>
        <p:sp>
          <p:nvSpPr>
            <p:cNvPr id="848" name="Freeform 115"/>
            <p:cNvSpPr/>
            <p:nvPr/>
          </p:nvSpPr>
          <p:spPr>
            <a:xfrm rot="20310000">
              <a:off x="3492360" y="3860640"/>
              <a:ext cx="785520" cy="73692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9" name="Group 116"/>
            <p:cNvGrpSpPr/>
            <p:nvPr/>
          </p:nvGrpSpPr>
          <p:grpSpPr>
            <a:xfrm>
              <a:off x="3479400" y="3868200"/>
              <a:ext cx="783360" cy="732600"/>
              <a:chOff x="3479400" y="3868200"/>
              <a:chExt cx="783360" cy="732600"/>
            </a:xfrm>
          </p:grpSpPr>
          <p:sp>
            <p:nvSpPr>
              <p:cNvPr id="850" name="Freeform 117"/>
              <p:cNvSpPr/>
              <p:nvPr/>
            </p:nvSpPr>
            <p:spPr>
              <a:xfrm rot="9500400">
                <a:off x="3871800" y="4064760"/>
                <a:ext cx="158040" cy="49896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18"/>
              <p:cNvSpPr/>
              <p:nvPr/>
            </p:nvSpPr>
            <p:spPr>
              <a:xfrm rot="9500400">
                <a:off x="3825360" y="4028040"/>
                <a:ext cx="387000" cy="34596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19"/>
              <p:cNvSpPr/>
              <p:nvPr/>
            </p:nvSpPr>
            <p:spPr>
              <a:xfrm rot="9500400">
                <a:off x="3777120" y="4023360"/>
                <a:ext cx="457200" cy="9648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20"/>
              <p:cNvSpPr/>
              <p:nvPr/>
            </p:nvSpPr>
            <p:spPr>
              <a:xfrm rot="9500400">
                <a:off x="3739680" y="3925080"/>
                <a:ext cx="334080" cy="12888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21"/>
              <p:cNvSpPr/>
              <p:nvPr/>
            </p:nvSpPr>
            <p:spPr>
              <a:xfrm rot="9500400">
                <a:off x="3717360" y="4122720"/>
                <a:ext cx="149400" cy="46692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22"/>
              <p:cNvSpPr/>
              <p:nvPr/>
            </p:nvSpPr>
            <p:spPr>
              <a:xfrm rot="9500400">
                <a:off x="3519720" y="4155120"/>
                <a:ext cx="316440" cy="27900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23"/>
              <p:cNvSpPr/>
              <p:nvPr/>
            </p:nvSpPr>
            <p:spPr>
              <a:xfrm rot="9500400">
                <a:off x="3734640" y="3899160"/>
                <a:ext cx="140760" cy="19296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24"/>
              <p:cNvSpPr/>
              <p:nvPr/>
            </p:nvSpPr>
            <p:spPr>
              <a:xfrm rot="9500400">
                <a:off x="3496320" y="4164840"/>
                <a:ext cx="298800" cy="5076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0">
                                  <p:stCondLst>
                                    <p:cond delay="4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6 -7.40741E-007 C 0.00139 0.00162 0.00244 0.0037 0.004 0.00509 C 0.00556 0.00671 0.00764 0.00717 0.00921 0.00879 C 0.01598 0.01643 0.01806 0.02893 0.0224 0.03842 C 0.02657 0.04791 0.03126 0.05717 0.03542 0.06666 C 0.03629 0.06852 0.03716 0.07014 0.0382 0.07176 C 0.03907 0.07315 0.04011 0.07407 0.0408 0.07546 C 0.04271 0.07986 0.04393 0.08495 0.04601 0.08935 C 0.04775 0.09282 0.05122 0.1 0.05122 0.1 C 0.05261 0.10694 0.05417 0.11273 0.0566 0.11921 C 0.05938 0.13958 0.06303 0.16111 0.06841 0.18055 C 0.06719 0.21967 0.07153 0.23148 0.05521 0.25787 C 0.05139 0.26389 0.05105 0.26921 0.04601 0.27361 C 0.04185 0.28194 0.04011 0.28773 0.03421 0.29282 C 0.03074 0.30602 0.02518 0.31412 0.01841 0.32453 C 0.01355 0.33217 0.01268 0.34259 0.00921 0.35092 C 0.00504 0.36111 0.00348 0.36273 0.00122 0.37361 C 0.00278 0.38796 0.00296 0.40115 0.00782 0.41389 C 0.01008 0.41967 0.00955 0.42338 0.0132 0.42801 C 0.0106 0.43773 0.01181 0.43148 0.01181 0.44722 E">
                                      <p:cBhvr>
                                        <p:cTn id="414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3.05556E-006 2.22017E-007 C 0.00816 0.00601 0.01459 0.01526 0.02084 0.02451 C 0.02604 0.03215 0.02518 0.02798 0.02986 0.03376 C 0.03559 0.0407 0.04132 0.04857 0.04688 0.05574 C 0.04896 0.06799 0.05486 0.07863 0.06111 0.08742 C 0.06407 0.10129 0.05973 0.08464 0.06632 0.09875 C 0.06702 0.10037 0.06684 0.10268 0.06754 0.10453 C 0.06997 0.11147 0.07361 0.11841 0.07674 0.12488 C 0.07865 0.13437 0.07952 0.14315 0.08316 0.15102 C 0.08403 0.15981 0.08559 0.16674 0.08698 0.1753 C 0.08611 0.19565 0.08525 0.21647 0.08438 0.23682 C 0.0842 0.2426 0.07934 0.25046 0.07795 0.2537 C 0.07709 0.25555 0.07535 0.25948 0.07535 0.25971 C 0.07327 0.27174 0.06268 0.29972 0.0533 0.30412 C 0.05087 0.3062 0.04757 0.30689 0.04549 0.30967 C 0.04462 0.31129 0.04514 0.31406 0.04427 0.31522 C 0.04271 0.31753 0.03733 0.32007 0.03507 0.321 C 0.02934 0.32932 0.0224 0.33487 0.01563 0.34158 C 0.01337 0.34366 0.01164 0.34713 0.0092 0.34898 C 0.00712 0.35037 0.00486 0.35014 0.00261 0.3506 C -0.00295 0.35708 -0.00607 0.36332 -0.01302 0.36563 C -0.02048 0.3735 -0.02205 0.37512 -0.02986 0.37858 C -0.04514 0.39639 -0.02777 0.37766 -0.04288 0.38992 C -0.04965 0.39547 -0.05503 0.40541 -0.06232 0.40865 C -0.06666 0.41512 -0.07152 0.41859 -0.07656 0.42345 C -0.07916 0.42599 -0.08177 0.42854 -0.08437 0.43108 C -0.08611 0.4327 -0.08958 0.43663 -0.08958 0.43686 C -0.09531 0.44935 -0.0993 0.46323 -0.10521 0.47572 C -0.10816 0.49838 -0.10416 0.47502 -0.10902 0.49075 C -0.11336 0.50486 -0.11701 0.5222 -0.11944 0.53723 C -0.11875 0.5666 -0.12014 0.59736 -0.10902 0.62327 C -0.10798 0.62974 -0.10642 0.6383 -0.10382 0.64385 C -0.10277 0.64616 -0.10121 0.64732 -0.1 0.6494 C -0.09896 0.65102 -0.09826 0.6531 -0.09739 0.65518 C -0.09375 0.6642 -0.09045 0.67507 -0.08437 0.68108 C -0.07916 0.69981 -0.06857 0.71485 -0.06093 0.7315 C -0.05555 0.74329 -0.05086 0.75509 -0.04548 0.76688 C -0.04166 0.77521 -0.03767 0.7833 -0.03368 0.7914 C -0.03194 0.79487 -0.03021 0.79857 -0.02847 0.80227 C -0.02725 0.80481 -0.02465 0.8099 -0.02465 0.81013 C -0.02291 0.83048 -0.02135 0.86147 -0.01041 0.8772 C -0.00538 0.88437 0.00139 0.88598 0.0066 0.89223 C 0.01216 0.8987 0.01441 0.90796 0.01823 0.91628 C 0.02136 0.93617 0.02257 0.9586 0.01424 0.97595 C 0.01146 0.98867 0.00295 0.99306 -0.00521 0.99306 E">
                                      <p:cBhvr>
                                        <p:cTn id="416" dur="32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39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1.80389E-006 C -0.06892 -0.04764 -0.1585 0.01041 -0.20364 0.1265 C -0.25035 0.2456 -0.23385 0.37696 -0.16475 0.42461 C -0.09566 0.47178 -0.07899 0.60314 -0.12552 0.72225 C -0.17048 0.83857 -0.26076 0.89662 -0.32986 0.84898 E">
                                      <p:cBhvr>
                                        <p:cTn id="418" dur="2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38889E-006 -1.68363E-006 C -0.00781 0.00694 -0.01059 0.01711 -0.01684 0.0259 C -0.01875 0.03261 -0.02083 0.03631 -0.02465 0.0414 C -0.02639 0.0488 -0.02934 0.05227 -0.03246 0.05874 C -0.03559 0.06522 -0.03802 0.07308 -0.04149 0.07956 C -0.04548 0.08672 -0.05017 0.0932 -0.05451 0.10014 C -0.0592 0.10777 -0.06128 0.11586 -0.06614 0.1228 C -0.06927 0.1339 -0.06527 0.12118 -0.07135 0.13321 C -0.0743 0.13853 -0.07639 0.145 -0.07916 0.15055 C -0.08489 0.16189 -0.0927 0.17252 -0.09739 0.18478 C -0.09913 0.18941 -0.09982 0.19519 -0.1026 0.19866 C -0.10625 0.20375 -0.10902 0.20652 -0.11163 0.21253 C -0.11562 0.22178 -0.11632 0.22803 -0.11944 0.23705 C -0.12639 0.25578 -0.13402 0.27359 -0.13889 0.29394 C -0.13663 0.39223 -0.13889 0.3062 -0.13628 0.38714 C -0.13489 0.43316 -0.13854 0.41721 -0.13246 0.44079 C -0.1283 0.45745 -0.11979 0.47086 -0.11562 0.48751 C -0.11336 0.49653 -0.11475 0.49237 -0.10902 0.50347 C -0.10816 0.50509 -0.10642 0.50832 -0.10642 0.50832 C -0.10399 0.5185 -0.09566 0.52428 -0.08836 0.52752 C -0.07882 0.53608 -0.07257 0.54093 -0.06614 0.55319 C -0.06354 0.56452 -0.05746 0.57354 -0.05451 0.58464 C -0.05312 0.64246 -0.03784 0.72271 -0.06093 0.76966 C -0.06319 0.79209 -0.07222 0.80805 -0.08177 0.82678 C -0.08628 0.83534 -0.08889 0.84713 -0.0934 0.85615 C -0.09791 0.8654 -0.10312 0.87396 -0.10642 0.88367 C -0.10816 0.88945 -0.11302 0.8994 -0.11302 0.8994 C -0.11493 0.90749 -0.12187 0.92414 -0.12725 0.929 C -0.12968 0.93339 -0.12986 0.93848 -0.13368 0.94079 E">
                                      <p:cBhvr>
                                        <p:cTn id="420" dur="37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4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2.77778E-006 3.60777E-006 L 0.1026 0.27497 E">
                                      <p:cBhvr>
                                        <p:cTn id="422" dur="37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4.72222E-006 -7.40741E-007 C -0.00277 0.01898 -0.00763 0.03681 -0.0118 0.05463 C -0.0177 0.07986 -0.02152 0.10602 -0.0269 0.13125 C -0.0309 0.15 -0.03593 0.16782 -0.03993 0.18634 C -0.04218 0.22269 -0.04861 0.2581 -0.05625 0.29259 C -0.05989 0.30972 -0.06163 0.3331 -0.06788 0.34745 C -0.0684 0.35417 -0.06822 0.36088 -0.06909 0.36759 C -0.06944 0.36991 -0.07118 0.37107 -0.07135 0.37315 C -0.07326 0.40185 -0.07187 0.41389 -0.075 0.43704 C -0.075 0.46921 -0.07881 0.5625 -0.07604 0.61667 C -0.07656 0.63403 -0.07586 0.65278 -0.07968 0.66945 C -0.08055 0.6794 -0.08177 0.68657 -0.08541 0.69491 C -0.08715 0.70741 -0.08923 0.72315 -0.09375 0.73357 C -0.09531 0.74329 -0.09843 0.75556 -0.10295 0.76273 C -0.10572 0.77523 -0.1019 0.76204 -0.10763 0.77199 C -0.11267 0.78102 -0.11406 0.79259 -0.12048 0.79954 C -0.12187 0.8088 -0.12361 0.81065 -0.1276 0.81782 C -0.12951 0.8213 -0.12986 0.82616 -0.13211 0.8287 C -0.13333 0.83056 -0.13524 0.83102 -0.1368 0.83218 C -0.14184 0.84005 -0.14739 0.84468 -0.15312 0.8507 C -0.15833 0.85579 -0.16232 0.86227 -0.1684 0.86528 C -0.17187 0.87083 -0.17413 0.87407 -0.17899 0.87639 C -0.18871 0.88634 -0.19826 0.89583 -0.20815 0.90579 C -0.21284 0.91042 -0.21857 0.9132 -0.22326 0.91852 C -0.22777 0.92292 -0.23472 0.92315 -0.23975 0.9257 C -0.24201 0.92685 -0.24444 0.92801 -0.2467 0.92917 C -0.24791 0.92963 -0.25017 0.93102 -0.25017 0.93125 C -0.25208 0.93032 -0.2559 0.92917 -0.2559 0.9294 E">
                                      <p:cBhvr>
                                        <p:cTn id="424" dur="37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37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8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8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34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4.72222E-006 -4.6531E-006 C 0.00538 0.00717 0.01302 0.01157 0.01944 0.01735 C 0.02205 0.01966 0.02725 0.02429 0.02725 0.02429 C 0.02916 0.02799 0.03177 0.03076 0.03368 0.03446 C 0.03455 0.03608 0.03437 0.03816 0.03507 0.03978 C 0.03923 0.04996 0.04461 0.05944 0.05069 0.06753 C 0.05295 0.07678 0.05816 0.08557 0.06232 0.09343 C 0.06736 0.10292 0.07152 0.11332 0.07656 0.12281 C 0.08836 0.14478 0.07361 0.11564 0.08316 0.13668 C 0.08472 0.14015 0.08663 0.14362 0.08836 0.14709 C 0.08923 0.14871 0.0908 0.15218 0.0908 0.15218 C 0.09236 0.16212 0.09323 0.17137 0.09739 0.17993 C 0.09965 0.19265 0.10243 0.20514 0.10521 0.21786 C 0.10573 0.22017 0.1059 0.22248 0.10642 0.22479 C 0.10711 0.22826 0.10902 0.2352 0.10902 0.2352 C 0.11128 0.2574 0.11406 0.27914 0.11823 0.30088 C 0.11996 0.3099 0.12205 0.32863 0.12205 0.32863 C 0.11458 0.44404 0.11996 0.35338 0.12326 0.64015 C 0.12343 0.65981 0.12066 0.713 0.13107 0.73358 C 0.13628 0.74399 0.14496 0.75902 0.15191 0.76804 C 0.1559 0.77336 0.16753 0.77683 0.16753 0.77683 E">
                                      <p:cBhvr>
                                        <p:cTn id="438" dur="2000" fill="hold"/>
                                        <p:tgtEl>
                                          <p:spTgt spid="8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35" descr="()$%TI$M4A_YXX0~(E(UT6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9" name="AutoShape 2"/>
          <p:cNvSpPr/>
          <p:nvPr/>
        </p:nvSpPr>
        <p:spPr>
          <a:xfrm rot="1690200">
            <a:off x="1000080" y="717120"/>
            <a:ext cx="287280" cy="289080"/>
          </a:xfrm>
          <a:custGeom>
            <a:avLst/>
            <a:gdLst/>
            <a:ahLst/>
            <a:rect l="l" t="t" r="r" b="b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lnTo>
                  <a:pt x="0" y="11035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3"/>
          <p:cNvSpPr/>
          <p:nvPr/>
        </p:nvSpPr>
        <p:spPr>
          <a:xfrm rot="19515600">
            <a:off x="588600" y="1203480"/>
            <a:ext cx="360360" cy="358560"/>
          </a:xfrm>
          <a:custGeom>
            <a:avLst/>
            <a:gdLst/>
            <a:ahLst/>
            <a:rect l="l" t="t" r="r" b="b"/>
            <a:pathLst>
              <a:path w="360362" h="358775">
                <a:moveTo>
                  <a:pt x="0" y="137040"/>
                </a:moveTo>
                <a:lnTo>
                  <a:pt x="137647" y="137040"/>
                </a:lnTo>
                <a:lnTo>
                  <a:pt x="180181" y="0"/>
                </a:lnTo>
                <a:lnTo>
                  <a:pt x="222715" y="137040"/>
                </a:lnTo>
                <a:lnTo>
                  <a:pt x="360362" y="137040"/>
                </a:lnTo>
                <a:lnTo>
                  <a:pt x="249003" y="221734"/>
                </a:lnTo>
                <a:lnTo>
                  <a:pt x="291539" y="358774"/>
                </a:lnTo>
                <a:lnTo>
                  <a:pt x="180181" y="274078"/>
                </a:lnTo>
                <a:lnTo>
                  <a:pt x="68823" y="358774"/>
                </a:lnTo>
                <a:lnTo>
                  <a:pt x="111359" y="221734"/>
                </a:lnTo>
                <a:lnTo>
                  <a:pt x="0" y="13704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4"/>
          <p:cNvSpPr/>
          <p:nvPr/>
        </p:nvSpPr>
        <p:spPr>
          <a:xfrm rot="20429400">
            <a:off x="1329840" y="1265040"/>
            <a:ext cx="358920" cy="320400"/>
          </a:xfrm>
          <a:custGeom>
            <a:avLst/>
            <a:gdLst/>
            <a:ahLst/>
            <a:rect l="l" t="t" r="r" b="b"/>
            <a:pathLst>
              <a:path w="358775" h="320675">
                <a:moveTo>
                  <a:pt x="0" y="122487"/>
                </a:moveTo>
                <a:lnTo>
                  <a:pt x="137041" y="122488"/>
                </a:lnTo>
                <a:lnTo>
                  <a:pt x="179388" y="0"/>
                </a:lnTo>
                <a:lnTo>
                  <a:pt x="221734" y="122488"/>
                </a:lnTo>
                <a:lnTo>
                  <a:pt x="358775" y="122487"/>
                </a:lnTo>
                <a:lnTo>
                  <a:pt x="247906" y="198187"/>
                </a:lnTo>
                <a:lnTo>
                  <a:pt x="290255" y="320674"/>
                </a:lnTo>
                <a:lnTo>
                  <a:pt x="179388" y="244972"/>
                </a:lnTo>
                <a:lnTo>
                  <a:pt x="68520" y="320674"/>
                </a:lnTo>
                <a:lnTo>
                  <a:pt x="110869" y="198187"/>
                </a:lnTo>
                <a:lnTo>
                  <a:pt x="0" y="122487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5"/>
          <p:cNvSpPr/>
          <p:nvPr/>
        </p:nvSpPr>
        <p:spPr>
          <a:xfrm rot="1314600">
            <a:off x="1763640" y="692280"/>
            <a:ext cx="331920" cy="288720"/>
          </a:xfrm>
          <a:custGeom>
            <a:avLst/>
            <a:gdLst/>
            <a:ahLst/>
            <a:rect l="l" t="t" r="r" b="b"/>
            <a:pathLst>
              <a:path w="331787" h="288925">
                <a:moveTo>
                  <a:pt x="0" y="110359"/>
                </a:moveTo>
                <a:lnTo>
                  <a:pt x="126732" y="110360"/>
                </a:lnTo>
                <a:lnTo>
                  <a:pt x="165894" y="0"/>
                </a:lnTo>
                <a:lnTo>
                  <a:pt x="205055" y="110360"/>
                </a:lnTo>
                <a:lnTo>
                  <a:pt x="331787" y="110359"/>
                </a:lnTo>
                <a:lnTo>
                  <a:pt x="229258" y="178565"/>
                </a:lnTo>
                <a:lnTo>
                  <a:pt x="268421" y="288924"/>
                </a:lnTo>
                <a:lnTo>
                  <a:pt x="165894" y="220718"/>
                </a:lnTo>
                <a:lnTo>
                  <a:pt x="63366" y="288924"/>
                </a:lnTo>
                <a:lnTo>
                  <a:pt x="102529" y="178565"/>
                </a:lnTo>
                <a:lnTo>
                  <a:pt x="0" y="11035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6"/>
          <p:cNvSpPr/>
          <p:nvPr/>
        </p:nvSpPr>
        <p:spPr>
          <a:xfrm rot="1690200">
            <a:off x="2266920" y="1050840"/>
            <a:ext cx="358920" cy="293760"/>
          </a:xfrm>
          <a:custGeom>
            <a:avLst/>
            <a:gdLst/>
            <a:ahLst/>
            <a:rect l="l" t="t" r="r" b="b"/>
            <a:pathLst>
              <a:path w="358775" h="293688">
                <a:moveTo>
                  <a:pt x="0" y="112179"/>
                </a:moveTo>
                <a:lnTo>
                  <a:pt x="137041" y="112179"/>
                </a:lnTo>
                <a:lnTo>
                  <a:pt x="179388" y="0"/>
                </a:lnTo>
                <a:lnTo>
                  <a:pt x="221734" y="112179"/>
                </a:lnTo>
                <a:lnTo>
                  <a:pt x="358775" y="112179"/>
                </a:lnTo>
                <a:lnTo>
                  <a:pt x="247906" y="181508"/>
                </a:lnTo>
                <a:lnTo>
                  <a:pt x="290255" y="293687"/>
                </a:lnTo>
                <a:lnTo>
                  <a:pt x="179388" y="224356"/>
                </a:lnTo>
                <a:lnTo>
                  <a:pt x="68520" y="293687"/>
                </a:lnTo>
                <a:lnTo>
                  <a:pt x="110869" y="181508"/>
                </a:lnTo>
                <a:lnTo>
                  <a:pt x="0" y="11217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"/>
          <p:cNvSpPr/>
          <p:nvPr/>
        </p:nvSpPr>
        <p:spPr>
          <a:xfrm rot="1690200">
            <a:off x="2268000" y="404640"/>
            <a:ext cx="358920" cy="322560"/>
          </a:xfrm>
          <a:custGeom>
            <a:avLst/>
            <a:gdLst/>
            <a:ahLst/>
            <a:rect l="l" t="t" r="r" b="b"/>
            <a:pathLst>
              <a:path w="358775" h="322262">
                <a:moveTo>
                  <a:pt x="0" y="123093"/>
                </a:moveTo>
                <a:lnTo>
                  <a:pt x="137041" y="123094"/>
                </a:lnTo>
                <a:lnTo>
                  <a:pt x="179388" y="0"/>
                </a:lnTo>
                <a:lnTo>
                  <a:pt x="221734" y="123094"/>
                </a:lnTo>
                <a:lnTo>
                  <a:pt x="358775" y="123093"/>
                </a:lnTo>
                <a:lnTo>
                  <a:pt x="247906" y="199168"/>
                </a:lnTo>
                <a:lnTo>
                  <a:pt x="290255" y="322261"/>
                </a:lnTo>
                <a:lnTo>
                  <a:pt x="179388" y="246185"/>
                </a:lnTo>
                <a:lnTo>
                  <a:pt x="68520" y="322261"/>
                </a:lnTo>
                <a:lnTo>
                  <a:pt x="110869" y="199168"/>
                </a:lnTo>
                <a:lnTo>
                  <a:pt x="0" y="123093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8"/>
          <p:cNvSpPr/>
          <p:nvPr/>
        </p:nvSpPr>
        <p:spPr>
          <a:xfrm rot="20094000">
            <a:off x="2916360" y="333360"/>
            <a:ext cx="360360" cy="309600"/>
          </a:xfrm>
          <a:custGeom>
            <a:avLst/>
            <a:gdLst/>
            <a:ahLst/>
            <a:rect l="l" t="t" r="r" b="b"/>
            <a:pathLst>
              <a:path w="360362" h="309563">
                <a:moveTo>
                  <a:pt x="0" y="118242"/>
                </a:moveTo>
                <a:lnTo>
                  <a:pt x="137647" y="118243"/>
                </a:lnTo>
                <a:lnTo>
                  <a:pt x="180181" y="0"/>
                </a:lnTo>
                <a:lnTo>
                  <a:pt x="222715" y="118243"/>
                </a:lnTo>
                <a:lnTo>
                  <a:pt x="360362" y="118242"/>
                </a:lnTo>
                <a:lnTo>
                  <a:pt x="249003" y="191320"/>
                </a:lnTo>
                <a:lnTo>
                  <a:pt x="291539" y="309562"/>
                </a:lnTo>
                <a:lnTo>
                  <a:pt x="180181" y="236483"/>
                </a:lnTo>
                <a:lnTo>
                  <a:pt x="68823" y="309562"/>
                </a:lnTo>
                <a:lnTo>
                  <a:pt x="111359" y="191320"/>
                </a:lnTo>
                <a:lnTo>
                  <a:pt x="0" y="118242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9"/>
          <p:cNvSpPr/>
          <p:nvPr/>
        </p:nvSpPr>
        <p:spPr>
          <a:xfrm rot="20345400">
            <a:off x="3419280" y="836280"/>
            <a:ext cx="358560" cy="309600"/>
          </a:xfrm>
          <a:custGeom>
            <a:avLst/>
            <a:gdLst/>
            <a:ahLst/>
            <a:rect l="l" t="t" r="r" b="b"/>
            <a:pathLst>
              <a:path w="358775" h="309562">
                <a:moveTo>
                  <a:pt x="0" y="118242"/>
                </a:moveTo>
                <a:lnTo>
                  <a:pt x="137041" y="118243"/>
                </a:lnTo>
                <a:lnTo>
                  <a:pt x="179388" y="0"/>
                </a:lnTo>
                <a:lnTo>
                  <a:pt x="221734" y="118243"/>
                </a:lnTo>
                <a:lnTo>
                  <a:pt x="358775" y="118242"/>
                </a:lnTo>
                <a:lnTo>
                  <a:pt x="247906" y="191319"/>
                </a:lnTo>
                <a:lnTo>
                  <a:pt x="290255" y="309561"/>
                </a:lnTo>
                <a:lnTo>
                  <a:pt x="179388" y="236483"/>
                </a:lnTo>
                <a:lnTo>
                  <a:pt x="68520" y="309561"/>
                </a:lnTo>
                <a:lnTo>
                  <a:pt x="110869" y="191319"/>
                </a:lnTo>
                <a:lnTo>
                  <a:pt x="0" y="118242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10"/>
          <p:cNvSpPr/>
          <p:nvPr/>
        </p:nvSpPr>
        <p:spPr>
          <a:xfrm rot="20345400">
            <a:off x="2916000" y="836280"/>
            <a:ext cx="288720" cy="287280"/>
          </a:xfrm>
          <a:custGeom>
            <a:avLst/>
            <a:gdLst/>
            <a:ahLst/>
            <a:rect l="l" t="t" r="r" b="b"/>
            <a:pathLst>
              <a:path w="288925" h="287337">
                <a:moveTo>
                  <a:pt x="0" y="109753"/>
                </a:moveTo>
                <a:lnTo>
                  <a:pt x="110360" y="109753"/>
                </a:lnTo>
                <a:lnTo>
                  <a:pt x="144463" y="0"/>
                </a:lnTo>
                <a:lnTo>
                  <a:pt x="178565" y="109753"/>
                </a:lnTo>
                <a:lnTo>
                  <a:pt x="288925" y="109753"/>
                </a:lnTo>
                <a:lnTo>
                  <a:pt x="199641" y="177583"/>
                </a:lnTo>
                <a:lnTo>
                  <a:pt x="233745" y="287336"/>
                </a:lnTo>
                <a:lnTo>
                  <a:pt x="144463" y="219504"/>
                </a:lnTo>
                <a:lnTo>
                  <a:pt x="55180" y="287336"/>
                </a:lnTo>
                <a:lnTo>
                  <a:pt x="89284" y="177583"/>
                </a:lnTo>
                <a:lnTo>
                  <a:pt x="0" y="109753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11"/>
          <p:cNvSpPr/>
          <p:nvPr/>
        </p:nvSpPr>
        <p:spPr>
          <a:xfrm rot="21373800">
            <a:off x="3995640" y="836280"/>
            <a:ext cx="355680" cy="309600"/>
          </a:xfrm>
          <a:custGeom>
            <a:avLst/>
            <a:gdLst/>
            <a:ahLst/>
            <a:rect l="l" t="t" r="r" b="b"/>
            <a:pathLst>
              <a:path w="355600" h="309562">
                <a:moveTo>
                  <a:pt x="0" y="118242"/>
                </a:moveTo>
                <a:lnTo>
                  <a:pt x="135828" y="118243"/>
                </a:lnTo>
                <a:lnTo>
                  <a:pt x="177800" y="0"/>
                </a:lnTo>
                <a:lnTo>
                  <a:pt x="219772" y="118243"/>
                </a:lnTo>
                <a:lnTo>
                  <a:pt x="355600" y="118242"/>
                </a:lnTo>
                <a:lnTo>
                  <a:pt x="245712" y="191319"/>
                </a:lnTo>
                <a:lnTo>
                  <a:pt x="287686" y="309561"/>
                </a:lnTo>
                <a:lnTo>
                  <a:pt x="177800" y="236483"/>
                </a:lnTo>
                <a:lnTo>
                  <a:pt x="67914" y="309561"/>
                </a:lnTo>
                <a:lnTo>
                  <a:pt x="109888" y="191319"/>
                </a:lnTo>
                <a:lnTo>
                  <a:pt x="0" y="118242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2"/>
          <p:cNvSpPr/>
          <p:nvPr/>
        </p:nvSpPr>
        <p:spPr>
          <a:xfrm rot="20450400">
            <a:off x="3563640" y="260280"/>
            <a:ext cx="366480" cy="309600"/>
          </a:xfrm>
          <a:custGeom>
            <a:avLst/>
            <a:gdLst/>
            <a:ahLst/>
            <a:rect l="l" t="t" r="r" b="b"/>
            <a:pathLst>
              <a:path w="366712" h="309563">
                <a:moveTo>
                  <a:pt x="0" y="118242"/>
                </a:moveTo>
                <a:lnTo>
                  <a:pt x="140072" y="118243"/>
                </a:lnTo>
                <a:lnTo>
                  <a:pt x="183356" y="0"/>
                </a:lnTo>
                <a:lnTo>
                  <a:pt x="226640" y="118243"/>
                </a:lnTo>
                <a:lnTo>
                  <a:pt x="366712" y="118242"/>
                </a:lnTo>
                <a:lnTo>
                  <a:pt x="253391" y="191320"/>
                </a:lnTo>
                <a:lnTo>
                  <a:pt x="296676" y="309562"/>
                </a:lnTo>
                <a:lnTo>
                  <a:pt x="183356" y="236483"/>
                </a:lnTo>
                <a:lnTo>
                  <a:pt x="70036" y="309562"/>
                </a:lnTo>
                <a:lnTo>
                  <a:pt x="113321" y="191320"/>
                </a:lnTo>
                <a:lnTo>
                  <a:pt x="0" y="118242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13"/>
          <p:cNvSpPr/>
          <p:nvPr/>
        </p:nvSpPr>
        <p:spPr>
          <a:xfrm rot="20729400">
            <a:off x="4138200" y="258480"/>
            <a:ext cx="360360" cy="309600"/>
          </a:xfrm>
          <a:custGeom>
            <a:avLst/>
            <a:gdLst/>
            <a:ahLst/>
            <a:rect l="l" t="t" r="r" b="b"/>
            <a:pathLst>
              <a:path w="360362" h="309562">
                <a:moveTo>
                  <a:pt x="0" y="118242"/>
                </a:moveTo>
                <a:lnTo>
                  <a:pt x="137647" y="118243"/>
                </a:lnTo>
                <a:lnTo>
                  <a:pt x="180181" y="0"/>
                </a:lnTo>
                <a:lnTo>
                  <a:pt x="222715" y="118243"/>
                </a:lnTo>
                <a:lnTo>
                  <a:pt x="360362" y="118242"/>
                </a:lnTo>
                <a:lnTo>
                  <a:pt x="249003" y="191319"/>
                </a:lnTo>
                <a:lnTo>
                  <a:pt x="291539" y="309561"/>
                </a:lnTo>
                <a:lnTo>
                  <a:pt x="180181" y="236483"/>
                </a:lnTo>
                <a:lnTo>
                  <a:pt x="68823" y="309561"/>
                </a:lnTo>
                <a:lnTo>
                  <a:pt x="111359" y="191319"/>
                </a:lnTo>
                <a:lnTo>
                  <a:pt x="0" y="118242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14"/>
          <p:cNvSpPr/>
          <p:nvPr/>
        </p:nvSpPr>
        <p:spPr>
          <a:xfrm rot="465000">
            <a:off x="7308720" y="1125360"/>
            <a:ext cx="360360" cy="309600"/>
          </a:xfrm>
          <a:custGeom>
            <a:avLst/>
            <a:gdLst/>
            <a:ahLst/>
            <a:rect l="l" t="t" r="r" b="b"/>
            <a:pathLst>
              <a:path w="360363" h="309562">
                <a:moveTo>
                  <a:pt x="0" y="118242"/>
                </a:moveTo>
                <a:lnTo>
                  <a:pt x="137647" y="118243"/>
                </a:lnTo>
                <a:lnTo>
                  <a:pt x="180182" y="0"/>
                </a:lnTo>
                <a:lnTo>
                  <a:pt x="222716" y="118243"/>
                </a:lnTo>
                <a:lnTo>
                  <a:pt x="360363" y="118242"/>
                </a:lnTo>
                <a:lnTo>
                  <a:pt x="249003" y="191319"/>
                </a:lnTo>
                <a:lnTo>
                  <a:pt x="291540" y="309561"/>
                </a:lnTo>
                <a:lnTo>
                  <a:pt x="180182" y="236483"/>
                </a:lnTo>
                <a:lnTo>
                  <a:pt x="68823" y="309561"/>
                </a:lnTo>
                <a:lnTo>
                  <a:pt x="111360" y="191319"/>
                </a:lnTo>
                <a:lnTo>
                  <a:pt x="0" y="118242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15"/>
          <p:cNvSpPr/>
          <p:nvPr/>
        </p:nvSpPr>
        <p:spPr>
          <a:xfrm rot="20614200">
            <a:off x="4859280" y="188640"/>
            <a:ext cx="358920" cy="309600"/>
          </a:xfrm>
          <a:custGeom>
            <a:avLst/>
            <a:gdLst/>
            <a:ahLst/>
            <a:rect l="l" t="t" r="r" b="b"/>
            <a:pathLst>
              <a:path w="358775" h="309562">
                <a:moveTo>
                  <a:pt x="0" y="118242"/>
                </a:moveTo>
                <a:lnTo>
                  <a:pt x="137041" y="118243"/>
                </a:lnTo>
                <a:lnTo>
                  <a:pt x="179388" y="0"/>
                </a:lnTo>
                <a:lnTo>
                  <a:pt x="221734" y="118243"/>
                </a:lnTo>
                <a:lnTo>
                  <a:pt x="358775" y="118242"/>
                </a:lnTo>
                <a:lnTo>
                  <a:pt x="247906" y="191319"/>
                </a:lnTo>
                <a:lnTo>
                  <a:pt x="290255" y="309561"/>
                </a:lnTo>
                <a:lnTo>
                  <a:pt x="179388" y="236483"/>
                </a:lnTo>
                <a:lnTo>
                  <a:pt x="68520" y="309561"/>
                </a:lnTo>
                <a:lnTo>
                  <a:pt x="110869" y="191319"/>
                </a:lnTo>
                <a:lnTo>
                  <a:pt x="0" y="118242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16"/>
          <p:cNvSpPr/>
          <p:nvPr/>
        </p:nvSpPr>
        <p:spPr>
          <a:xfrm rot="20590800">
            <a:off x="4500720" y="620640"/>
            <a:ext cx="358560" cy="309600"/>
          </a:xfrm>
          <a:custGeom>
            <a:avLst/>
            <a:gdLst/>
            <a:ahLst/>
            <a:rect l="l" t="t" r="r" b="b"/>
            <a:pathLst>
              <a:path w="358775" h="309562">
                <a:moveTo>
                  <a:pt x="0" y="118242"/>
                </a:moveTo>
                <a:lnTo>
                  <a:pt x="137041" y="118243"/>
                </a:lnTo>
                <a:lnTo>
                  <a:pt x="179388" y="0"/>
                </a:lnTo>
                <a:lnTo>
                  <a:pt x="221734" y="118243"/>
                </a:lnTo>
                <a:lnTo>
                  <a:pt x="358775" y="118242"/>
                </a:lnTo>
                <a:lnTo>
                  <a:pt x="247906" y="191319"/>
                </a:lnTo>
                <a:lnTo>
                  <a:pt x="290255" y="309561"/>
                </a:lnTo>
                <a:lnTo>
                  <a:pt x="179388" y="236483"/>
                </a:lnTo>
                <a:lnTo>
                  <a:pt x="68520" y="309561"/>
                </a:lnTo>
                <a:lnTo>
                  <a:pt x="110869" y="191319"/>
                </a:lnTo>
                <a:lnTo>
                  <a:pt x="0" y="118242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17"/>
          <p:cNvSpPr/>
          <p:nvPr/>
        </p:nvSpPr>
        <p:spPr>
          <a:xfrm rot="21451200">
            <a:off x="5003280" y="763560"/>
            <a:ext cx="289080" cy="236520"/>
          </a:xfrm>
          <a:custGeom>
            <a:avLst/>
            <a:gdLst/>
            <a:ahLst/>
            <a:rect l="l" t="t" r="r" b="b"/>
            <a:pathLst>
              <a:path w="288925" h="236537">
                <a:moveTo>
                  <a:pt x="0" y="90349"/>
                </a:moveTo>
                <a:lnTo>
                  <a:pt x="110360" y="90350"/>
                </a:lnTo>
                <a:lnTo>
                  <a:pt x="144463" y="0"/>
                </a:lnTo>
                <a:lnTo>
                  <a:pt x="178565" y="90350"/>
                </a:lnTo>
                <a:lnTo>
                  <a:pt x="288925" y="90349"/>
                </a:lnTo>
                <a:lnTo>
                  <a:pt x="199641" y="146187"/>
                </a:lnTo>
                <a:lnTo>
                  <a:pt x="233745" y="236536"/>
                </a:lnTo>
                <a:lnTo>
                  <a:pt x="144463" y="180697"/>
                </a:lnTo>
                <a:lnTo>
                  <a:pt x="55180" y="236536"/>
                </a:lnTo>
                <a:lnTo>
                  <a:pt x="89284" y="146187"/>
                </a:lnTo>
                <a:lnTo>
                  <a:pt x="0" y="9034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18"/>
          <p:cNvSpPr/>
          <p:nvPr/>
        </p:nvSpPr>
        <p:spPr>
          <a:xfrm rot="19920600">
            <a:off x="394920" y="691920"/>
            <a:ext cx="358920" cy="309600"/>
          </a:xfrm>
          <a:custGeom>
            <a:avLst/>
            <a:gdLst/>
            <a:ahLst/>
            <a:rect l="l" t="t" r="r" b="b"/>
            <a:pathLst>
              <a:path w="358775" h="309563">
                <a:moveTo>
                  <a:pt x="0" y="118242"/>
                </a:moveTo>
                <a:lnTo>
                  <a:pt x="137041" y="118243"/>
                </a:lnTo>
                <a:lnTo>
                  <a:pt x="179388" y="0"/>
                </a:lnTo>
                <a:lnTo>
                  <a:pt x="221734" y="118243"/>
                </a:lnTo>
                <a:lnTo>
                  <a:pt x="358775" y="118242"/>
                </a:lnTo>
                <a:lnTo>
                  <a:pt x="247906" y="191320"/>
                </a:lnTo>
                <a:lnTo>
                  <a:pt x="290255" y="309562"/>
                </a:lnTo>
                <a:lnTo>
                  <a:pt x="179388" y="236483"/>
                </a:lnTo>
                <a:lnTo>
                  <a:pt x="68520" y="309562"/>
                </a:lnTo>
                <a:lnTo>
                  <a:pt x="110869" y="191320"/>
                </a:lnTo>
                <a:lnTo>
                  <a:pt x="0" y="118242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19"/>
          <p:cNvSpPr/>
          <p:nvPr/>
        </p:nvSpPr>
        <p:spPr>
          <a:xfrm rot="18802800">
            <a:off x="8088840" y="1136880"/>
            <a:ext cx="311400" cy="287280"/>
          </a:xfrm>
          <a:custGeom>
            <a:avLst/>
            <a:gdLst/>
            <a:ahLst/>
            <a:rect l="l" t="t" r="r" b="b"/>
            <a:pathLst>
              <a:path w="311150" h="287337">
                <a:moveTo>
                  <a:pt x="0" y="109753"/>
                </a:moveTo>
                <a:lnTo>
                  <a:pt x="118849" y="109753"/>
                </a:lnTo>
                <a:lnTo>
                  <a:pt x="155575" y="0"/>
                </a:lnTo>
                <a:lnTo>
                  <a:pt x="192301" y="109753"/>
                </a:lnTo>
                <a:lnTo>
                  <a:pt x="311150" y="109753"/>
                </a:lnTo>
                <a:lnTo>
                  <a:pt x="214998" y="177583"/>
                </a:lnTo>
                <a:lnTo>
                  <a:pt x="251725" y="287336"/>
                </a:lnTo>
                <a:lnTo>
                  <a:pt x="155575" y="219504"/>
                </a:lnTo>
                <a:lnTo>
                  <a:pt x="59425" y="287336"/>
                </a:lnTo>
                <a:lnTo>
                  <a:pt x="96152" y="177583"/>
                </a:lnTo>
                <a:lnTo>
                  <a:pt x="0" y="109753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20"/>
          <p:cNvSpPr/>
          <p:nvPr/>
        </p:nvSpPr>
        <p:spPr>
          <a:xfrm rot="21004200">
            <a:off x="7667280" y="692280"/>
            <a:ext cx="360360" cy="309600"/>
          </a:xfrm>
          <a:custGeom>
            <a:avLst/>
            <a:gdLst/>
            <a:ahLst/>
            <a:rect l="l" t="t" r="r" b="b"/>
            <a:pathLst>
              <a:path w="360363" h="309563">
                <a:moveTo>
                  <a:pt x="0" y="118242"/>
                </a:moveTo>
                <a:lnTo>
                  <a:pt x="137647" y="118243"/>
                </a:lnTo>
                <a:lnTo>
                  <a:pt x="180182" y="0"/>
                </a:lnTo>
                <a:lnTo>
                  <a:pt x="222716" y="118243"/>
                </a:lnTo>
                <a:lnTo>
                  <a:pt x="360363" y="118242"/>
                </a:lnTo>
                <a:lnTo>
                  <a:pt x="249003" y="191320"/>
                </a:lnTo>
                <a:lnTo>
                  <a:pt x="291540" y="309562"/>
                </a:lnTo>
                <a:lnTo>
                  <a:pt x="180182" y="236483"/>
                </a:lnTo>
                <a:lnTo>
                  <a:pt x="68823" y="309562"/>
                </a:lnTo>
                <a:lnTo>
                  <a:pt x="111360" y="191320"/>
                </a:lnTo>
                <a:lnTo>
                  <a:pt x="0" y="118242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21"/>
          <p:cNvSpPr/>
          <p:nvPr/>
        </p:nvSpPr>
        <p:spPr>
          <a:xfrm rot="1120200">
            <a:off x="5435280" y="189000"/>
            <a:ext cx="288720" cy="236520"/>
          </a:xfrm>
          <a:custGeom>
            <a:avLst/>
            <a:gdLst/>
            <a:ahLst/>
            <a:rect l="l" t="t" r="r" b="b"/>
            <a:pathLst>
              <a:path w="288925" h="236537">
                <a:moveTo>
                  <a:pt x="0" y="90349"/>
                </a:moveTo>
                <a:lnTo>
                  <a:pt x="110360" y="90350"/>
                </a:lnTo>
                <a:lnTo>
                  <a:pt x="144463" y="0"/>
                </a:lnTo>
                <a:lnTo>
                  <a:pt x="178565" y="90350"/>
                </a:lnTo>
                <a:lnTo>
                  <a:pt x="288925" y="90349"/>
                </a:lnTo>
                <a:lnTo>
                  <a:pt x="199641" y="146187"/>
                </a:lnTo>
                <a:lnTo>
                  <a:pt x="233745" y="236536"/>
                </a:lnTo>
                <a:lnTo>
                  <a:pt x="144463" y="180697"/>
                </a:lnTo>
                <a:lnTo>
                  <a:pt x="55180" y="236536"/>
                </a:lnTo>
                <a:lnTo>
                  <a:pt x="89284" y="146187"/>
                </a:lnTo>
                <a:lnTo>
                  <a:pt x="0" y="9034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22"/>
          <p:cNvSpPr/>
          <p:nvPr/>
        </p:nvSpPr>
        <p:spPr>
          <a:xfrm rot="21451200">
            <a:off x="5435280" y="549360"/>
            <a:ext cx="288720" cy="236520"/>
          </a:xfrm>
          <a:custGeom>
            <a:avLst/>
            <a:gdLst/>
            <a:ahLst/>
            <a:rect l="l" t="t" r="r" b="b"/>
            <a:pathLst>
              <a:path w="288925" h="236538">
                <a:moveTo>
                  <a:pt x="0" y="90349"/>
                </a:moveTo>
                <a:lnTo>
                  <a:pt x="110360" y="90350"/>
                </a:lnTo>
                <a:lnTo>
                  <a:pt x="144463" y="0"/>
                </a:lnTo>
                <a:lnTo>
                  <a:pt x="178565" y="90350"/>
                </a:lnTo>
                <a:lnTo>
                  <a:pt x="288925" y="90349"/>
                </a:lnTo>
                <a:lnTo>
                  <a:pt x="199641" y="146188"/>
                </a:lnTo>
                <a:lnTo>
                  <a:pt x="233745" y="236537"/>
                </a:lnTo>
                <a:lnTo>
                  <a:pt x="144463" y="180698"/>
                </a:lnTo>
                <a:lnTo>
                  <a:pt x="55180" y="236537"/>
                </a:lnTo>
                <a:lnTo>
                  <a:pt x="89284" y="146188"/>
                </a:lnTo>
                <a:lnTo>
                  <a:pt x="0" y="9034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23"/>
          <p:cNvSpPr/>
          <p:nvPr/>
        </p:nvSpPr>
        <p:spPr>
          <a:xfrm rot="20820000">
            <a:off x="5866920" y="689040"/>
            <a:ext cx="358920" cy="360360"/>
          </a:xfrm>
          <a:custGeom>
            <a:avLst/>
            <a:gdLst/>
            <a:ahLst/>
            <a:rect l="l" t="t" r="r" b="b"/>
            <a:pathLst>
              <a:path w="358775" h="360363">
                <a:moveTo>
                  <a:pt x="0" y="137646"/>
                </a:moveTo>
                <a:lnTo>
                  <a:pt x="137041" y="137647"/>
                </a:lnTo>
                <a:lnTo>
                  <a:pt x="179388" y="0"/>
                </a:lnTo>
                <a:lnTo>
                  <a:pt x="221734" y="137647"/>
                </a:lnTo>
                <a:lnTo>
                  <a:pt x="358775" y="137646"/>
                </a:lnTo>
                <a:lnTo>
                  <a:pt x="247906" y="222716"/>
                </a:lnTo>
                <a:lnTo>
                  <a:pt x="290255" y="360362"/>
                </a:lnTo>
                <a:lnTo>
                  <a:pt x="179388" y="275291"/>
                </a:lnTo>
                <a:lnTo>
                  <a:pt x="68520" y="360362"/>
                </a:lnTo>
                <a:lnTo>
                  <a:pt x="110869" y="222716"/>
                </a:lnTo>
                <a:lnTo>
                  <a:pt x="0" y="137646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24"/>
          <p:cNvSpPr/>
          <p:nvPr/>
        </p:nvSpPr>
        <p:spPr>
          <a:xfrm rot="20143200">
            <a:off x="6012000" y="189000"/>
            <a:ext cx="288720" cy="236520"/>
          </a:xfrm>
          <a:custGeom>
            <a:avLst/>
            <a:gdLst/>
            <a:ahLst/>
            <a:rect l="l" t="t" r="r" b="b"/>
            <a:pathLst>
              <a:path w="288925" h="236537">
                <a:moveTo>
                  <a:pt x="0" y="90349"/>
                </a:moveTo>
                <a:lnTo>
                  <a:pt x="110360" y="90350"/>
                </a:lnTo>
                <a:lnTo>
                  <a:pt x="144463" y="0"/>
                </a:lnTo>
                <a:lnTo>
                  <a:pt x="178565" y="90350"/>
                </a:lnTo>
                <a:lnTo>
                  <a:pt x="288925" y="90349"/>
                </a:lnTo>
                <a:lnTo>
                  <a:pt x="199641" y="146187"/>
                </a:lnTo>
                <a:lnTo>
                  <a:pt x="233745" y="236536"/>
                </a:lnTo>
                <a:lnTo>
                  <a:pt x="144463" y="180697"/>
                </a:lnTo>
                <a:lnTo>
                  <a:pt x="55180" y="236536"/>
                </a:lnTo>
                <a:lnTo>
                  <a:pt x="89284" y="146187"/>
                </a:lnTo>
                <a:lnTo>
                  <a:pt x="0" y="9034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25"/>
          <p:cNvSpPr/>
          <p:nvPr/>
        </p:nvSpPr>
        <p:spPr>
          <a:xfrm rot="20431800">
            <a:off x="6588000" y="188640"/>
            <a:ext cx="289080" cy="236520"/>
          </a:xfrm>
          <a:custGeom>
            <a:avLst/>
            <a:gdLst/>
            <a:ahLst/>
            <a:rect l="l" t="t" r="r" b="b"/>
            <a:pathLst>
              <a:path w="288925" h="236537">
                <a:moveTo>
                  <a:pt x="0" y="90349"/>
                </a:moveTo>
                <a:lnTo>
                  <a:pt x="110360" y="90350"/>
                </a:lnTo>
                <a:lnTo>
                  <a:pt x="144463" y="0"/>
                </a:lnTo>
                <a:lnTo>
                  <a:pt x="178565" y="90350"/>
                </a:lnTo>
                <a:lnTo>
                  <a:pt x="288925" y="90349"/>
                </a:lnTo>
                <a:lnTo>
                  <a:pt x="199641" y="146187"/>
                </a:lnTo>
                <a:lnTo>
                  <a:pt x="233745" y="236536"/>
                </a:lnTo>
                <a:lnTo>
                  <a:pt x="144463" y="180697"/>
                </a:lnTo>
                <a:lnTo>
                  <a:pt x="55180" y="236536"/>
                </a:lnTo>
                <a:lnTo>
                  <a:pt x="89284" y="146187"/>
                </a:lnTo>
                <a:lnTo>
                  <a:pt x="0" y="9034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26"/>
          <p:cNvSpPr/>
          <p:nvPr/>
        </p:nvSpPr>
        <p:spPr>
          <a:xfrm rot="20431800">
            <a:off x="6372360" y="549000"/>
            <a:ext cx="288720" cy="236520"/>
          </a:xfrm>
          <a:custGeom>
            <a:avLst/>
            <a:gdLst/>
            <a:ahLst/>
            <a:rect l="l" t="t" r="r" b="b"/>
            <a:pathLst>
              <a:path w="288925" h="236538">
                <a:moveTo>
                  <a:pt x="0" y="90349"/>
                </a:moveTo>
                <a:lnTo>
                  <a:pt x="110360" y="90350"/>
                </a:lnTo>
                <a:lnTo>
                  <a:pt x="144463" y="0"/>
                </a:lnTo>
                <a:lnTo>
                  <a:pt x="178565" y="90350"/>
                </a:lnTo>
                <a:lnTo>
                  <a:pt x="288925" y="90349"/>
                </a:lnTo>
                <a:lnTo>
                  <a:pt x="199641" y="146188"/>
                </a:lnTo>
                <a:lnTo>
                  <a:pt x="233745" y="236537"/>
                </a:lnTo>
                <a:lnTo>
                  <a:pt x="144463" y="180698"/>
                </a:lnTo>
                <a:lnTo>
                  <a:pt x="55180" y="236537"/>
                </a:lnTo>
                <a:lnTo>
                  <a:pt x="89284" y="146188"/>
                </a:lnTo>
                <a:lnTo>
                  <a:pt x="0" y="9034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27"/>
          <p:cNvSpPr/>
          <p:nvPr/>
        </p:nvSpPr>
        <p:spPr>
          <a:xfrm rot="21451200">
            <a:off x="7092720" y="474840"/>
            <a:ext cx="358560" cy="288720"/>
          </a:xfrm>
          <a:custGeom>
            <a:avLst/>
            <a:gdLst/>
            <a:ahLst/>
            <a:rect l="l" t="t" r="r" b="b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lnTo>
                  <a:pt x="0" y="11035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28"/>
          <p:cNvSpPr/>
          <p:nvPr/>
        </p:nvSpPr>
        <p:spPr>
          <a:xfrm rot="21451200">
            <a:off x="8532360" y="620640"/>
            <a:ext cx="358920" cy="284400"/>
          </a:xfrm>
          <a:custGeom>
            <a:avLst/>
            <a:gdLst/>
            <a:ahLst/>
            <a:rect l="l" t="t" r="r" b="b"/>
            <a:pathLst>
              <a:path w="358775" h="284162">
                <a:moveTo>
                  <a:pt x="0" y="108540"/>
                </a:moveTo>
                <a:lnTo>
                  <a:pt x="137041" y="108541"/>
                </a:lnTo>
                <a:lnTo>
                  <a:pt x="179388" y="0"/>
                </a:lnTo>
                <a:lnTo>
                  <a:pt x="221734" y="108541"/>
                </a:lnTo>
                <a:lnTo>
                  <a:pt x="358775" y="108540"/>
                </a:lnTo>
                <a:lnTo>
                  <a:pt x="247906" y="175621"/>
                </a:lnTo>
                <a:lnTo>
                  <a:pt x="290255" y="284161"/>
                </a:lnTo>
                <a:lnTo>
                  <a:pt x="179388" y="217079"/>
                </a:lnTo>
                <a:lnTo>
                  <a:pt x="68520" y="284161"/>
                </a:lnTo>
                <a:lnTo>
                  <a:pt x="110869" y="175621"/>
                </a:lnTo>
                <a:lnTo>
                  <a:pt x="0" y="10854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29"/>
          <p:cNvSpPr/>
          <p:nvPr/>
        </p:nvSpPr>
        <p:spPr>
          <a:xfrm rot="20674800">
            <a:off x="6732720" y="764640"/>
            <a:ext cx="288720" cy="236880"/>
          </a:xfrm>
          <a:custGeom>
            <a:avLst/>
            <a:gdLst/>
            <a:ahLst/>
            <a:rect l="l" t="t" r="r" b="b"/>
            <a:pathLst>
              <a:path w="288925" h="236538">
                <a:moveTo>
                  <a:pt x="0" y="90349"/>
                </a:moveTo>
                <a:lnTo>
                  <a:pt x="110360" y="90350"/>
                </a:lnTo>
                <a:lnTo>
                  <a:pt x="144463" y="0"/>
                </a:lnTo>
                <a:lnTo>
                  <a:pt x="178565" y="90350"/>
                </a:lnTo>
                <a:lnTo>
                  <a:pt x="288925" y="90349"/>
                </a:lnTo>
                <a:lnTo>
                  <a:pt x="199641" y="146188"/>
                </a:lnTo>
                <a:lnTo>
                  <a:pt x="233745" y="236537"/>
                </a:lnTo>
                <a:lnTo>
                  <a:pt x="144463" y="180698"/>
                </a:lnTo>
                <a:lnTo>
                  <a:pt x="55180" y="236537"/>
                </a:lnTo>
                <a:lnTo>
                  <a:pt x="89284" y="146188"/>
                </a:lnTo>
                <a:lnTo>
                  <a:pt x="0" y="9034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30"/>
          <p:cNvSpPr/>
          <p:nvPr/>
        </p:nvSpPr>
        <p:spPr>
          <a:xfrm rot="21451200">
            <a:off x="8100720" y="260280"/>
            <a:ext cx="288720" cy="236520"/>
          </a:xfrm>
          <a:custGeom>
            <a:avLst/>
            <a:gdLst/>
            <a:ahLst/>
            <a:rect l="l" t="t" r="r" b="b"/>
            <a:pathLst>
              <a:path w="288925" h="236538">
                <a:moveTo>
                  <a:pt x="0" y="90349"/>
                </a:moveTo>
                <a:lnTo>
                  <a:pt x="110360" y="90350"/>
                </a:lnTo>
                <a:lnTo>
                  <a:pt x="144463" y="0"/>
                </a:lnTo>
                <a:lnTo>
                  <a:pt x="178565" y="90350"/>
                </a:lnTo>
                <a:lnTo>
                  <a:pt x="288925" y="90349"/>
                </a:lnTo>
                <a:lnTo>
                  <a:pt x="199641" y="146188"/>
                </a:lnTo>
                <a:lnTo>
                  <a:pt x="233745" y="236537"/>
                </a:lnTo>
                <a:lnTo>
                  <a:pt x="144463" y="180698"/>
                </a:lnTo>
                <a:lnTo>
                  <a:pt x="55180" y="236537"/>
                </a:lnTo>
                <a:lnTo>
                  <a:pt x="89284" y="146188"/>
                </a:lnTo>
                <a:lnTo>
                  <a:pt x="0" y="9034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AutoShape 31"/>
          <p:cNvSpPr/>
          <p:nvPr/>
        </p:nvSpPr>
        <p:spPr>
          <a:xfrm rot="20488200">
            <a:off x="7380360" y="188640"/>
            <a:ext cx="288720" cy="236520"/>
          </a:xfrm>
          <a:custGeom>
            <a:avLst/>
            <a:gdLst/>
            <a:ahLst/>
            <a:rect l="l" t="t" r="r" b="b"/>
            <a:pathLst>
              <a:path w="288925" h="236537">
                <a:moveTo>
                  <a:pt x="0" y="90349"/>
                </a:moveTo>
                <a:lnTo>
                  <a:pt x="110360" y="90350"/>
                </a:lnTo>
                <a:lnTo>
                  <a:pt x="144463" y="0"/>
                </a:lnTo>
                <a:lnTo>
                  <a:pt x="178565" y="90350"/>
                </a:lnTo>
                <a:lnTo>
                  <a:pt x="288925" y="90349"/>
                </a:lnTo>
                <a:lnTo>
                  <a:pt x="199641" y="146187"/>
                </a:lnTo>
                <a:lnTo>
                  <a:pt x="233745" y="236536"/>
                </a:lnTo>
                <a:lnTo>
                  <a:pt x="144463" y="180697"/>
                </a:lnTo>
                <a:lnTo>
                  <a:pt x="55180" y="236536"/>
                </a:lnTo>
                <a:lnTo>
                  <a:pt x="89284" y="146187"/>
                </a:lnTo>
                <a:lnTo>
                  <a:pt x="0" y="9034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7993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我</a:t>
            </a:r>
            <a:r>
              <a:rPr b="1" lang="zh-CN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问青松</a:t>
            </a:r>
            <a:r>
              <a:rPr b="1" lang="en-US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:</a:t>
            </a:r>
            <a:r>
              <a:rPr b="1" lang="en-US" sz="2400" spc="-1" strike="noStrike">
                <a:solidFill>
                  <a:srgbClr val="474747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青春是什么</a:t>
            </a:r>
            <a:r>
              <a:rPr b="1" lang="zh-CN" sz="2400" spc="-1" strike="noStrike">
                <a:solidFill>
                  <a:srgbClr val="474747"/>
                </a:solidFill>
                <a:latin typeface="Arial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?</a:t>
            </a:r>
            <a:r>
              <a:rPr b="1" lang="zh-CN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松树点了点头便开了口</a:t>
            </a:r>
            <a:r>
              <a:rPr b="1" lang="en-US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33"/>
          <p:cNvSpPr/>
          <p:nvPr/>
        </p:nvSpPr>
        <p:spPr>
          <a:xfrm>
            <a:off x="755640" y="3645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青春就是坚韧刚毅，不畏严寒，不怕困难，让生命之树四季长青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0">
                                  <p:stCondLst>
                                    <p:cond delay="33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 repeatCount="indefinite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 repeatCount="indefinite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 repeatCount="indefinite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35" repeatCount="indefinite">
                                  <p:stCondLst>
                                    <p:cond delay="3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 repeatCount="indefinite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 repeatCount="indefinite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 repeatCount="indefinite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 repeatCount="indefinite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4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 repeatCount="indefinite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 repeatCount="indefinite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35" repeatCount="indefinite">
                                  <p:stCondLst>
                                    <p:cond delay="5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9" dur="2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 repeatCount="indefinite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 repeatCount="indefinite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 repeatCount="indefinite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9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 repeatCount="indefinite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 repeatCount="indefinite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 repeatCount="indefinite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3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 repeatCount="indefinite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 repeatCount="indefinite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 repeatCount="indefinite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 repeatCount="indefinite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35" repeatCount="indefinite">
                                  <p:stCondLst>
                                    <p:cond delay="8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1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 repeatCount="indefinite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 repeatCount="indefinite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3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 repeatCount="indefinite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 repeatCount="indefinite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3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 repeatCount="indefinite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6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 repeatCount="indefinite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34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 repeatCount="indefinite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3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 repeatCount="indefinite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7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 repeatCount="indefinite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35" repeatCount="indefinite">
                                  <p:stCondLst>
                                    <p:cond delay="9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0" dur="2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21" descr="(%C1(0]BBUVEL_6VN7XL_U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2" name="Oval 2"/>
          <p:cNvSpPr/>
          <p:nvPr/>
        </p:nvSpPr>
        <p:spPr>
          <a:xfrm>
            <a:off x="10117080" y="620640"/>
            <a:ext cx="216000" cy="193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3"/>
          <p:cNvSpPr/>
          <p:nvPr/>
        </p:nvSpPr>
        <p:spPr>
          <a:xfrm>
            <a:off x="10117080" y="1557360"/>
            <a:ext cx="216000" cy="19368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4"/>
          <p:cNvSpPr/>
          <p:nvPr/>
        </p:nvSpPr>
        <p:spPr>
          <a:xfrm>
            <a:off x="9540720" y="765000"/>
            <a:ext cx="216000" cy="19368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5"/>
          <p:cNvSpPr/>
          <p:nvPr/>
        </p:nvSpPr>
        <p:spPr>
          <a:xfrm>
            <a:off x="10333080" y="1125360"/>
            <a:ext cx="216000" cy="193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6"/>
          <p:cNvSpPr/>
          <p:nvPr/>
        </p:nvSpPr>
        <p:spPr>
          <a:xfrm>
            <a:off x="9396360" y="1844640"/>
            <a:ext cx="144360" cy="122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7"/>
          <p:cNvSpPr/>
          <p:nvPr/>
        </p:nvSpPr>
        <p:spPr>
          <a:xfrm>
            <a:off x="9685440" y="1700280"/>
            <a:ext cx="215640" cy="19368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8"/>
          <p:cNvSpPr/>
          <p:nvPr/>
        </p:nvSpPr>
        <p:spPr>
          <a:xfrm>
            <a:off x="9828360" y="981000"/>
            <a:ext cx="215640" cy="193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9"/>
          <p:cNvSpPr/>
          <p:nvPr/>
        </p:nvSpPr>
        <p:spPr>
          <a:xfrm>
            <a:off x="9540720" y="2205000"/>
            <a:ext cx="144720" cy="12240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10"/>
          <p:cNvSpPr/>
          <p:nvPr/>
        </p:nvSpPr>
        <p:spPr>
          <a:xfrm>
            <a:off x="10044000" y="2349360"/>
            <a:ext cx="216000" cy="1936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11"/>
          <p:cNvSpPr/>
          <p:nvPr/>
        </p:nvSpPr>
        <p:spPr>
          <a:xfrm>
            <a:off x="10476000" y="2133720"/>
            <a:ext cx="144360" cy="120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12"/>
          <p:cNvSpPr/>
          <p:nvPr/>
        </p:nvSpPr>
        <p:spPr>
          <a:xfrm>
            <a:off x="9756720" y="2637000"/>
            <a:ext cx="144360" cy="1220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13"/>
          <p:cNvSpPr/>
          <p:nvPr/>
        </p:nvSpPr>
        <p:spPr>
          <a:xfrm>
            <a:off x="9468000" y="3068640"/>
            <a:ext cx="215640" cy="1936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14"/>
          <p:cNvSpPr/>
          <p:nvPr/>
        </p:nvSpPr>
        <p:spPr>
          <a:xfrm>
            <a:off x="9972720" y="3213000"/>
            <a:ext cx="216000" cy="193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15"/>
          <p:cNvSpPr/>
          <p:nvPr/>
        </p:nvSpPr>
        <p:spPr>
          <a:xfrm>
            <a:off x="10549080" y="2708280"/>
            <a:ext cx="144360" cy="122400"/>
          </a:xfrm>
          <a:prstGeom prst="ellipse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我</a:t>
            </a:r>
            <a:r>
              <a:rPr b="1" lang="zh-CN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又问游鱼</a:t>
            </a:r>
            <a:r>
              <a:rPr b="1" lang="en-US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:</a:t>
            </a:r>
            <a:r>
              <a:rPr b="1" lang="en-US" sz="2400" spc="-1" strike="noStrike">
                <a:solidFill>
                  <a:srgbClr val="474747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请你告诉我</a:t>
            </a:r>
            <a:r>
              <a:rPr b="1" lang="en-US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青春的梦想是什么</a:t>
            </a:r>
            <a:r>
              <a:rPr b="1" lang="en-US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?</a:t>
            </a:r>
            <a:r>
              <a:rPr b="1" lang="en-US" sz="2400" spc="-1" strike="noStrike">
                <a:solidFill>
                  <a:srgbClr val="474747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游鱼停顿了片刻后说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7"/>
          <p:cNvSpPr/>
          <p:nvPr/>
        </p:nvSpPr>
        <p:spPr>
          <a:xfrm>
            <a:off x="10333080" y="9079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cc"/>
                </a:solidFill>
                <a:latin typeface="Arial"/>
              </a:rPr>
              <a:t>梦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8"/>
          <p:cNvSpPr/>
          <p:nvPr/>
        </p:nvSpPr>
        <p:spPr>
          <a:xfrm>
            <a:off x="9540720" y="0"/>
            <a:ext cx="22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cc"/>
                </a:solidFill>
                <a:latin typeface="Arial"/>
              </a:rPr>
              <a:t>青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9"/>
          <p:cNvSpPr/>
          <p:nvPr/>
        </p:nvSpPr>
        <p:spPr>
          <a:xfrm>
            <a:off x="4284720" y="36752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cc"/>
                </a:solidFill>
                <a:latin typeface="Arial"/>
              </a:rPr>
              <a:t>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WordArt 20"/>
          <p:cNvSpPr txBox="1"/>
          <p:nvPr/>
        </p:nvSpPr>
        <p:spPr>
          <a:xfrm>
            <a:off x="3348000" y="3573360"/>
            <a:ext cx="316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9999"/>
                </a:solidFill>
                <a:latin typeface="宋体"/>
              </a:rPr>
              <a:t>浪花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91397E-006 L -0.74409 0.5629 E">
                                      <p:cBhvr>
                                        <p:cTn id="561" dur="3000" fill="hold"/>
                                        <p:tgtEl>
                                          <p:spTgt spid="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61111E-006 -2.09066E-006 L -1.05521 0.66096 E">
                                      <p:cBhvr>
                                        <p:cTn id="563" dur="190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16667E-006 2.6272E-006 C -0.15868 0.00647 -0.31736 0.01318 -0.44947 0.08071 C -0.58125 0.14824 -0.68958 0.31429 -0.79184 0.40587 C -0.89409 0.49722 -0.97864 0.5636 -1.06302 0.6302 E">
                                      <p:cBhvr>
                                        <p:cTn id="565" dur="41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1.12858E-006 L -1.06302 0.36725 E">
                                      <p:cBhvr>
                                        <p:cTn id="567" dur="2600" fill="hold"/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44444E-006 4.79186E-006 C -0.00382 0.01619 0.00174 -0.00393 -0.00434 0.00925 C -0.00816 0.01781 -0.00989 0.02891 -0.01406 0.03747 C -0.01562 0.04117 -0.0191 0.04325 -0.02101 0.04695 C -0.02691 0.05782 -0.02899 0.0666 -0.03941 0.07123 C -0.04548 0.07886 -0.05173 0.08511 -0.05903 0.08996 C -0.06267 0.09505 -0.06423 0.09759 -0.06892 0.10129 C -0.07708 0.10731 -0.07014 0.09551 -0.0816 0.11078 C -0.0875 0.11841 -0.10191 0.13159 -0.10989 0.13506 C -0.11857 0.14685 -0.11371 0.14292 -0.12378 0.14824 C -0.12986 0.15611 -0.13507 0.15865 -0.14219 0.16512 C -0.14861 0.17091 -0.15434 0.17877 -0.16198 0.18201 C -0.17066 0.19311 -0.18021 0.19796 -0.18993 0.20629 C -0.19844 0.21323 -0.20469 0.22086 -0.21389 0.22502 C -0.21771 0.23011 -0.22135 0.23404 -0.22656 0.23636 C -0.23455 0.24653 -0.24462 0.25231 -0.25347 0.26087 C -0.25955 0.26665 -0.26146 0.26989 -0.2691 0.27382 C -0.27465 0.28168 -0.28038 0.2803 -0.28715 0.287 C -0.29809 0.29787 -0.30937 0.3055 -0.32239 0.31152 C -0.32778 0.31406 -0.33403 0.3136 -0.33923 0.31707 C -0.34583 0.32146 -0.35191 0.32701 -0.35903 0.33025 C -0.36493 0.33603 -0.36944 0.33649 -0.37587 0.3395 C -0.38194 0.34736 -0.37569 0.34066 -0.38732 0.34528 C -0.38923 0.34598 -0.39097 0.34806 -0.39288 0.34898 C -0.4 0.35245 -0.40798 0.35384 -0.41528 0.35638 C -0.42691 0.36448 -0.43906 0.36748 -0.45191 0.36957 C -0.57587 0.36679 -0.56302 0.3661 -0.72969 0.36771 C -0.73594 0.37049 -0.74132 0.37604 -0.74774 0.37905 C -0.75642 0.39038 -0.76892 0.3957 -0.77743 0.40703 C -0.78246 0.41397 -0.78559 0.41883 -0.79288 0.42391 C -0.79496 0.4253 -0.80087 0.42923 -0.8026 0.43154 C -0.80434 0.43363 -0.80521 0.43686 -0.80712 0.43895 C -0.81146 0.44496 -0.81146 0.4408 -0.81684 0.44658 C -0.82535 0.45583 -0.83038 0.46369 -0.83941 0.47271 C -0.84479 0.47826 -0.84792 0.48589 -0.85347 0.49144 C -0.85712 0.50116 -0.86059 0.50301 -0.86614 0.51041 C -0.87118 0.51688 -0.87604 0.52567 -0.88038 0.53284 C -0.88229 0.53631 -0.88385 0.54047 -0.88594 0.54417 C -0.8875 0.54787 -0.89288 0.55342 -0.89288 0.55342 C -0.89548 0.56383 -0.90555 0.56707 -0.9125 0.57216 C -0.92413 0.58071 -0.9092 0.57007 -0.92101 0.58164 C -0.92482 0.58534 -0.92951 0.58834 -0.93368 0.59089 C -0.94132 0.59528 -0.9368 0.59436 -0.94357 0.59667 C -0.94739 0.59806 -0.95503 0.60037 -0.95503 0.60037 C -0.96423 0.60638 -0.97309 0.60962 -0.98316 0.6117 C -0.99514 0.61702 -1.00712 0.62049 -1.01962 0.6228 C -1.03281 0.62858 -1.04253 0.62512 -1.05486 0.6228 C -1.05764 0.62165 -1.06111 0.62188 -1.06337 0.6191 C -1.06423 0.61795 -1.0651 0.6161 -1.06614 0.6154 C -1.06892 0.61378 -1.07448 0.6117 -1.07448 0.6117 C -1.08229 0.60083 -1.09392 0.60222 -1.10417 0.60222 E">
                                      <p:cBhvr>
                                        <p:cTn id="569" dur="2600" fill="hold"/>
                                        <p:tgtEl>
                                          <p:spTgt spid="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9.89824E-007 L -1.15764 0.34621 E">
                                      <p:cBhvr>
                                        <p:cTn id="571" dur="6500" fill="hold"/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26 -0.01687 C -0.00608 -0.01294 -0.01302 -0.00346 -0.02118 0.00185 C -0.03629 0.02197 -0.01962 0.00185 -0.0309 0.0111 C -0.04097 0.0192 -0.04983 0.03053 -0.06076 0.03746 C -0.06736 0.04648 -0.07552 0.05087 -0.08333 0.05804 C -0.0974 0.07122 -0.11042 0.08694 -0.12674 0.0955 C -0.13229 0.10105 -0.13646 0.10613 -0.14236 0.11053 C -0.14705 0.11422 -0.15625 0.12185 -0.15625 0.12209 C -0.16337 0.13388 -0.15747 0.12602 -0.1691 0.13503 C -0.18004 0.14382 -0.1901 0.15353 -0.20139 0.16116 C -0.21493 0.17989 -0.23403 0.18891 -0.24931 0.2044 C -0.27483 0.23053 -0.29809 0.26428 -0.32813 0.28139 C -0.33576 0.29503 -0.35 0.30105 -0.36059 0.31122 C -0.36563 0.31607 -0.37014 0.32185 -0.37604 0.3244 C -0.38247 0.33018 -0.39236 0.34151 -0.4 0.34498 C -0.40625 0.35376 -0.41302 0.35307 -0.42135 0.35631 C -0.42882 0.35908 -0.43576 0.3637 -0.44358 0.36579 C -0.45486 0.3755 -0.43976 0.36324 -0.45486 0.37133 C -0.47257 0.38058 -0.45017 0.37457 -0.47188 0.37873 C -0.47726 0.38382 -0.48108 0.38474 -0.48767 0.38636 C -0.50122 0.39561 -0.48385 0.38474 -0.50035 0.39191 C -0.50938 0.39607 -0.51892 0.40093 -0.5283 0.40509 C -0.53767 0.40925 -0.54653 0.41457 -0.55642 0.41642 C -0.56927 0.42313 -0.58056 0.43029 -0.59427 0.4333 C -0.60226 0.44 -0.61198 0.44209 -0.62135 0.4444 C -0.6651 0.44301 -0.66754 0.45665 -0.68733 0.42937 C -0.68976 0.41989 -0.68854 0.42752 -0.68733 0.41642 C -0.68663 0.41087 -0.68733 0.40486 -0.68594 0.39954 C -0.68385 0.39122 -0.67813 0.38567 -0.67465 0.37873 C -0.67344 0.37642 -0.67309 0.37365 -0.67188 0.37133 C -0.66754 0.36301 -0.6592 0.35677 -0.65208 0.35261 C -0.6375 0.34428 -0.62257 0.33619 -0.60712 0.33203 C -0.59306 0.31885 -0.57622 0.32717 -0.55938 0.3281 C -0.55191 0.33295 -0.54531 0.33827 -0.5382 0.34313 C -0.53021 0.35422 -0.5276 0.36347 -0.52552 0.37873 C -0.52726 0.39399 -0.5283 0.43307 -0.5408 0.4444 C -0.54358 0.45619 -0.5401 0.44417 -0.5467 0.45573 C -0.54844 0.45873 -0.54948 0.46197 -0.5507 0.46521 C -0.55174 0.46752 -0.55226 0.47029 -0.55347 0.47261 C -0.56181 0.48856 -0.57274 0.49966 -0.58594 0.50659 C -0.59236 0.51538 -0.59705 0.51538 -0.60417 0.52162 C -0.60868 0.52555 -0.61198 0.53249 -0.61684 0.5348 C -0.62969 0.54035 -0.62674 0.54058 -0.63663 0.54983 C -0.64531 0.55792 -0.65677 0.56093 -0.66615 0.56671 C -0.68004 0.57526 -0.6901 0.58868 -0.70556 0.59284 C -0.70955 0.59538 -0.71424 0.59584 -0.71823 0.59862 C -0.71997 0.59977 -0.72083 0.60278 -0.72257 0.60417 C -0.72517 0.60648 -0.7283 0.60763 -0.7309 0.60972 C -0.74097 0.61758 -0.74288 0.62405 -0.75486 0.62659 C -0.77309 0.63908 -0.79201 0.6474 -0.81146 0.65665 C -0.81615 0.65896 -0.82066 0.66174 -0.82535 0.66428 C -0.8316 0.66775 -0.84497 0.66983 -0.84497 0.67006 C -0.84688 0.67099 -0.84879 0.67261 -0.8507 0.67353 C -0.85347 0.67492 -0.85642 0.67561 -0.8592 0.67723 C -0.86076 0.67816 -0.86181 0.68047 -0.86337 0.68116 C -0.86788 0.68301 -0.87292 0.68255 -0.87743 0.68486 C -0.89375 0.69342 -0.91024 0.70012 -0.92674 0.70729 C -0.93976 0.71307 -0.92656 0.70821 -0.93524 0.71492 C -0.93976 0.71839 -0.94722 0.7237 -0.95208 0.72602 C -0.95608 0.7281 -0.96059 0.7281 -0.96476 0.72972 C -0.97135 0.73249 -0.97431 0.73573 -0.9816 0.73735 C -0.98906 0.74359 -1 0.74683 -1.00417 0.75792 E">
                                      <p:cBhvr>
                                        <p:cTn id="573" dur="4000" fill="hold"/>
                                        <p:tgtEl>
                                          <p:spTgt spid="8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05556E-006 -6.75301E-006 L -1.05122 0.90217 E">
                                      <p:cBhvr>
                                        <p:cTn id="575" dur="2000" fill="hold"/>
                                        <p:tgtEl>
                                          <p:spTgt spid="8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1.66667E-006 2.77521E-007 C -0.16614 0.179 -0.33211 0.358 -0.52534 0.44843 C -0.71857 0.53886 -0.93888 0.54047 -1.1592 0.54232 E">
                                      <p:cBhvr>
                                        <p:cTn id="577" dur="3000" fill="hold"/>
                                        <p:tgtEl>
                                          <p:spTgt spid="9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 repeatCount="indefinite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3.33333E-006 -4.07956E-006 C -0.25382 0.05111 -0.50781 0.10222 -0.69306 0.19126 C -0.87847 0.2803 -1.04271 0.47734 -1.11268 0.53469 E">
                                      <p:cBhvr>
                                        <p:cTn id="579" dur="3600" fill="hold"/>
                                        <p:tgtEl>
                                          <p:spTgt spid="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05556E-006 2.77521E-007 L -0.76389 0.84967 E">
                                      <p:cBhvr>
                                        <p:cTn id="581" dur="2000" fill="hold"/>
                                        <p:tgtEl>
                                          <p:spTgt spid="8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0" repeatCount="indefinite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8.33333E-007 -2.83996E-006 C -0.0849 0.03377 -0.41042 0.15148 -0.50972 0.20306 C -0.60903 0.25463 -0.6 0.28886 -0.59566 0.31013 C -0.59132 0.33141 -0.51354 0.33881 -0.48316 0.33025 C -0.45278 0.3217 -0.42552 0.2803 -0.41267 0.25902 C -0.39983 0.23775 -0.40208 0.21693 -0.40556 0.20306 C -0.40903 0.18918 -0.40816 0.17484 -0.43368 0.17507 C -0.4592 0.1753 -0.43837 0.11864 -0.5592 0.20444 C -0.68004 0.29024 -1.05434 0.60569 -1.15833 0.69034 C -1.26406 0.77498 -1.22639 0.74399 -1.18802 0.713 E">
                                      <p:cBhvr>
                                        <p:cTn id="583" dur="4200" fill="hold"/>
                                        <p:tgtEl>
                                          <p:spTgt spid="8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0" repeatCount="indefinite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-2.22222E-006 3.66327E-006 C -0.14271 0.04602 -0.28524 0.09227 -0.37604 0.18201 C -0.46684 0.27174 -0.44826 0.45236 -0.54496 0.53862 C -0.64166 0.62465 -0.79896 0.66235 -0.95625 0.69981 E">
                                      <p:cBhvr>
                                        <p:cTn id="585" dur="43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0">
                                  <p:stCondLst>
                                    <p:cond delay="13700"/>
                                  </p:stCondLst>
                                  <p:childTnLst>
                                    <p:animMotion origin="layout" path="M 0.00018 0.00347 L -0.69687 0.53827 E">
                                      <p:cBhvr>
                                        <p:cTn id="587" dur="1000" fill="hold"/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2.22222E-006 4.33526E-006 L -0.60243 0.40601 E">
                                      <p:cBhvr>
                                        <p:cTn id="589" dur="3800" fill="hold"/>
                                        <p:tgtEl>
                                          <p:spTgt spid="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0">
                                  <p:stCondLst>
                                    <p:cond delay="169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8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8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8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1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0">
                                  <p:stCondLst>
                                    <p:cond delay="1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0">
                                  <p:stCondLst>
                                    <p:cond delay="1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7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3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3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58" descr="BJ$]`_@VJTN0}B22$YW{8X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3"/>
          <p:cNvSpPr/>
          <p:nvPr/>
        </p:nvSpPr>
        <p:spPr>
          <a:xfrm>
            <a:off x="-720" y="404640"/>
            <a:ext cx="74919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方正华隶简体"/>
                <a:ea typeface="方正华隶简体"/>
              </a:rPr>
              <a:t>青春</a:t>
            </a: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是一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永不言败的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方正华隶简体"/>
                <a:ea typeface="方正华隶简体"/>
              </a:rPr>
              <a:t>梦想</a:t>
            </a: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就是歌上的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方正华隶简体"/>
                <a:ea typeface="方正华隶简体"/>
              </a:rPr>
              <a:t>青春</a:t>
            </a: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是一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叹咏的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方正华隶简体"/>
                <a:ea typeface="方正华隶简体"/>
              </a:rPr>
              <a:t>梦想</a:t>
            </a: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就是诗中的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方正华隶简体"/>
                <a:ea typeface="方正华隶简体"/>
              </a:rPr>
              <a:t>青春</a:t>
            </a: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是一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美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方正华隶简体"/>
                <a:ea typeface="方正华隶简体"/>
              </a:rPr>
              <a:t>梦想</a:t>
            </a: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就是酒里的五谷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方正华隶简体"/>
                <a:ea typeface="方正华隶简体"/>
              </a:rPr>
              <a:t>青春</a:t>
            </a: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是一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茗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方正华隶简体"/>
                <a:ea typeface="方正华隶简体"/>
              </a:rPr>
              <a:t>梦想</a:t>
            </a: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就是那茶里的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水中的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Group 4"/>
          <p:cNvGrpSpPr/>
          <p:nvPr/>
        </p:nvGrpSpPr>
        <p:grpSpPr>
          <a:xfrm>
            <a:off x="1885320" y="5155920"/>
            <a:ext cx="764640" cy="930960"/>
            <a:chOff x="1885320" y="5155920"/>
            <a:chExt cx="764640" cy="930960"/>
          </a:xfrm>
        </p:grpSpPr>
        <p:grpSp>
          <p:nvGrpSpPr>
            <p:cNvPr id="915" name="Group 5"/>
            <p:cNvGrpSpPr/>
            <p:nvPr/>
          </p:nvGrpSpPr>
          <p:grpSpPr>
            <a:xfrm>
              <a:off x="1885320" y="5227200"/>
              <a:ext cx="331200" cy="859680"/>
              <a:chOff x="1885320" y="5227200"/>
              <a:chExt cx="331200" cy="859680"/>
            </a:xfrm>
          </p:grpSpPr>
          <p:sp>
            <p:nvSpPr>
              <p:cNvPr id="916" name="Oval 6"/>
              <p:cNvSpPr/>
              <p:nvPr/>
            </p:nvSpPr>
            <p:spPr>
              <a:xfrm rot="20460000">
                <a:off x="1909440" y="5849280"/>
                <a:ext cx="282600" cy="19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Line 7"/>
              <p:cNvSpPr/>
              <p:nvPr/>
            </p:nvSpPr>
            <p:spPr>
              <a:xfrm flipV="1">
                <a:off x="2192400" y="5227200"/>
                <a:ext cx="0" cy="71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Group 8"/>
            <p:cNvGrpSpPr/>
            <p:nvPr/>
          </p:nvGrpSpPr>
          <p:grpSpPr>
            <a:xfrm>
              <a:off x="2318760" y="5155920"/>
              <a:ext cx="331200" cy="859680"/>
              <a:chOff x="2318760" y="5155920"/>
              <a:chExt cx="331200" cy="859680"/>
            </a:xfrm>
          </p:grpSpPr>
          <p:sp>
            <p:nvSpPr>
              <p:cNvPr id="919" name="Oval 9"/>
              <p:cNvSpPr/>
              <p:nvPr/>
            </p:nvSpPr>
            <p:spPr>
              <a:xfrm rot="20460000">
                <a:off x="2342880" y="5778000"/>
                <a:ext cx="282600" cy="19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Line 10"/>
              <p:cNvSpPr/>
              <p:nvPr/>
            </p:nvSpPr>
            <p:spPr>
              <a:xfrm flipV="1">
                <a:off x="2625840" y="5155920"/>
                <a:ext cx="0" cy="71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1" name="Line 11"/>
            <p:cNvSpPr/>
            <p:nvPr/>
          </p:nvSpPr>
          <p:spPr>
            <a:xfrm flipV="1">
              <a:off x="2198520" y="5156280"/>
              <a:ext cx="43200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Group 12"/>
          <p:cNvGrpSpPr/>
          <p:nvPr/>
        </p:nvGrpSpPr>
        <p:grpSpPr>
          <a:xfrm>
            <a:off x="2893320" y="5403960"/>
            <a:ext cx="331200" cy="858240"/>
            <a:chOff x="2893320" y="5403960"/>
            <a:chExt cx="331200" cy="858240"/>
          </a:xfrm>
        </p:grpSpPr>
        <p:sp>
          <p:nvSpPr>
            <p:cNvPr id="923" name="Oval 13"/>
            <p:cNvSpPr/>
            <p:nvPr/>
          </p:nvSpPr>
          <p:spPr>
            <a:xfrm rot="20460000">
              <a:off x="2917440" y="5444640"/>
              <a:ext cx="282600" cy="196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14"/>
            <p:cNvSpPr/>
            <p:nvPr/>
          </p:nvSpPr>
          <p:spPr>
            <a:xfrm flipV="1">
              <a:off x="2917800" y="5543280"/>
              <a:ext cx="0" cy="7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Group 15"/>
          <p:cNvGrpSpPr/>
          <p:nvPr/>
        </p:nvGrpSpPr>
        <p:grpSpPr>
          <a:xfrm>
            <a:off x="1020240" y="5516640"/>
            <a:ext cx="528840" cy="930600"/>
            <a:chOff x="1020240" y="5516640"/>
            <a:chExt cx="528840" cy="930600"/>
          </a:xfrm>
        </p:grpSpPr>
        <p:grpSp>
          <p:nvGrpSpPr>
            <p:cNvPr id="926" name="Group 16"/>
            <p:cNvGrpSpPr/>
            <p:nvPr/>
          </p:nvGrpSpPr>
          <p:grpSpPr>
            <a:xfrm>
              <a:off x="1020240" y="5587560"/>
              <a:ext cx="330840" cy="859680"/>
              <a:chOff x="1020240" y="5587560"/>
              <a:chExt cx="330840" cy="859680"/>
            </a:xfrm>
          </p:grpSpPr>
          <p:sp>
            <p:nvSpPr>
              <p:cNvPr id="927" name="Oval 17"/>
              <p:cNvSpPr/>
              <p:nvPr/>
            </p:nvSpPr>
            <p:spPr>
              <a:xfrm rot="20460000">
                <a:off x="1044360" y="6209640"/>
                <a:ext cx="282240" cy="19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18"/>
              <p:cNvSpPr/>
              <p:nvPr/>
            </p:nvSpPr>
            <p:spPr>
              <a:xfrm flipV="1">
                <a:off x="1326960" y="5587560"/>
                <a:ext cx="0" cy="71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Line 19"/>
            <p:cNvSpPr/>
            <p:nvPr/>
          </p:nvSpPr>
          <p:spPr>
            <a:xfrm flipV="1">
              <a:off x="1333440" y="5516640"/>
              <a:ext cx="2156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Group 20"/>
          <p:cNvGrpSpPr/>
          <p:nvPr/>
        </p:nvGrpSpPr>
        <p:grpSpPr>
          <a:xfrm>
            <a:off x="3252240" y="5084640"/>
            <a:ext cx="529200" cy="930600"/>
            <a:chOff x="3252240" y="5084640"/>
            <a:chExt cx="529200" cy="930600"/>
          </a:xfrm>
        </p:grpSpPr>
        <p:grpSp>
          <p:nvGrpSpPr>
            <p:cNvPr id="931" name="Group 21"/>
            <p:cNvGrpSpPr/>
            <p:nvPr/>
          </p:nvGrpSpPr>
          <p:grpSpPr>
            <a:xfrm>
              <a:off x="3252240" y="5155560"/>
              <a:ext cx="331200" cy="859680"/>
              <a:chOff x="3252240" y="5155560"/>
              <a:chExt cx="331200" cy="859680"/>
            </a:xfrm>
          </p:grpSpPr>
          <p:sp>
            <p:nvSpPr>
              <p:cNvPr id="932" name="Oval 22"/>
              <p:cNvSpPr/>
              <p:nvPr/>
            </p:nvSpPr>
            <p:spPr>
              <a:xfrm rot="20460000">
                <a:off x="3276360" y="5777640"/>
                <a:ext cx="282600" cy="19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3"/>
              <p:cNvSpPr/>
              <p:nvPr/>
            </p:nvSpPr>
            <p:spPr>
              <a:xfrm flipV="1">
                <a:off x="3559320" y="5155560"/>
                <a:ext cx="0" cy="71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4" name="Line 24"/>
            <p:cNvSpPr/>
            <p:nvPr/>
          </p:nvSpPr>
          <p:spPr>
            <a:xfrm flipV="1">
              <a:off x="3565440" y="5084640"/>
              <a:ext cx="2160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25"/>
          <p:cNvGrpSpPr/>
          <p:nvPr/>
        </p:nvGrpSpPr>
        <p:grpSpPr>
          <a:xfrm>
            <a:off x="3972960" y="4652640"/>
            <a:ext cx="331200" cy="859680"/>
            <a:chOff x="3972960" y="4652640"/>
            <a:chExt cx="331200" cy="859680"/>
          </a:xfrm>
        </p:grpSpPr>
        <p:sp>
          <p:nvSpPr>
            <p:cNvPr id="936" name="Oval 26"/>
            <p:cNvSpPr/>
            <p:nvPr/>
          </p:nvSpPr>
          <p:spPr>
            <a:xfrm rot="20460000">
              <a:off x="3997080" y="5274720"/>
              <a:ext cx="282600" cy="196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27"/>
            <p:cNvSpPr/>
            <p:nvPr/>
          </p:nvSpPr>
          <p:spPr>
            <a:xfrm flipV="1">
              <a:off x="4280040" y="4652640"/>
              <a:ext cx="0" cy="7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8"/>
          <p:cNvGrpSpPr/>
          <p:nvPr/>
        </p:nvGrpSpPr>
        <p:grpSpPr>
          <a:xfrm>
            <a:off x="7717680" y="5011200"/>
            <a:ext cx="331200" cy="859680"/>
            <a:chOff x="7717680" y="5011200"/>
            <a:chExt cx="331200" cy="859680"/>
          </a:xfrm>
        </p:grpSpPr>
        <p:sp>
          <p:nvSpPr>
            <p:cNvPr id="939" name="Oval 29"/>
            <p:cNvSpPr/>
            <p:nvPr/>
          </p:nvSpPr>
          <p:spPr>
            <a:xfrm rot="20460000">
              <a:off x="7741800" y="5633280"/>
              <a:ext cx="282600" cy="196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30"/>
            <p:cNvSpPr/>
            <p:nvPr/>
          </p:nvSpPr>
          <p:spPr>
            <a:xfrm flipV="1">
              <a:off x="8024760" y="5011200"/>
              <a:ext cx="0" cy="7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Group 31"/>
          <p:cNvGrpSpPr/>
          <p:nvPr/>
        </p:nvGrpSpPr>
        <p:grpSpPr>
          <a:xfrm>
            <a:off x="6420600" y="4939920"/>
            <a:ext cx="331200" cy="859680"/>
            <a:chOff x="6420600" y="4939920"/>
            <a:chExt cx="331200" cy="859680"/>
          </a:xfrm>
        </p:grpSpPr>
        <p:sp>
          <p:nvSpPr>
            <p:cNvPr id="942" name="Oval 32"/>
            <p:cNvSpPr/>
            <p:nvPr/>
          </p:nvSpPr>
          <p:spPr>
            <a:xfrm rot="20460000">
              <a:off x="6444720" y="5562000"/>
              <a:ext cx="282600" cy="196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33"/>
            <p:cNvSpPr/>
            <p:nvPr/>
          </p:nvSpPr>
          <p:spPr>
            <a:xfrm flipV="1">
              <a:off x="6727680" y="4939920"/>
              <a:ext cx="0" cy="7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Group 34"/>
          <p:cNvGrpSpPr/>
          <p:nvPr/>
        </p:nvGrpSpPr>
        <p:grpSpPr>
          <a:xfrm>
            <a:off x="4909320" y="5444640"/>
            <a:ext cx="764640" cy="930960"/>
            <a:chOff x="4909320" y="5444640"/>
            <a:chExt cx="764640" cy="930960"/>
          </a:xfrm>
        </p:grpSpPr>
        <p:grpSp>
          <p:nvGrpSpPr>
            <p:cNvPr id="945" name="Group 35"/>
            <p:cNvGrpSpPr/>
            <p:nvPr/>
          </p:nvGrpSpPr>
          <p:grpSpPr>
            <a:xfrm>
              <a:off x="4909320" y="5515920"/>
              <a:ext cx="331200" cy="859680"/>
              <a:chOff x="4909320" y="5515920"/>
              <a:chExt cx="331200" cy="859680"/>
            </a:xfrm>
          </p:grpSpPr>
          <p:sp>
            <p:nvSpPr>
              <p:cNvPr id="946" name="Oval 36"/>
              <p:cNvSpPr/>
              <p:nvPr/>
            </p:nvSpPr>
            <p:spPr>
              <a:xfrm rot="20460000">
                <a:off x="4933440" y="6138000"/>
                <a:ext cx="282600" cy="19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Line 37"/>
              <p:cNvSpPr/>
              <p:nvPr/>
            </p:nvSpPr>
            <p:spPr>
              <a:xfrm flipV="1">
                <a:off x="5216400" y="5515920"/>
                <a:ext cx="0" cy="71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Group 38"/>
            <p:cNvGrpSpPr/>
            <p:nvPr/>
          </p:nvGrpSpPr>
          <p:grpSpPr>
            <a:xfrm>
              <a:off x="5342760" y="5444640"/>
              <a:ext cx="331200" cy="859680"/>
              <a:chOff x="5342760" y="5444640"/>
              <a:chExt cx="331200" cy="859680"/>
            </a:xfrm>
          </p:grpSpPr>
          <p:sp>
            <p:nvSpPr>
              <p:cNvPr id="949" name="Oval 39"/>
              <p:cNvSpPr/>
              <p:nvPr/>
            </p:nvSpPr>
            <p:spPr>
              <a:xfrm rot="20460000">
                <a:off x="5366880" y="6066720"/>
                <a:ext cx="282600" cy="19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Line 40"/>
              <p:cNvSpPr/>
              <p:nvPr/>
            </p:nvSpPr>
            <p:spPr>
              <a:xfrm flipV="1">
                <a:off x="5649840" y="5444640"/>
                <a:ext cx="0" cy="71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Line 41"/>
            <p:cNvSpPr/>
            <p:nvPr/>
          </p:nvSpPr>
          <p:spPr>
            <a:xfrm flipV="1">
              <a:off x="5222520" y="5445000"/>
              <a:ext cx="43200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Group 42"/>
          <p:cNvGrpSpPr/>
          <p:nvPr/>
        </p:nvGrpSpPr>
        <p:grpSpPr>
          <a:xfrm>
            <a:off x="6709680" y="5371920"/>
            <a:ext cx="764640" cy="930600"/>
            <a:chOff x="6709680" y="5371920"/>
            <a:chExt cx="764640" cy="930600"/>
          </a:xfrm>
        </p:grpSpPr>
        <p:grpSp>
          <p:nvGrpSpPr>
            <p:cNvPr id="953" name="Group 43"/>
            <p:cNvGrpSpPr/>
            <p:nvPr/>
          </p:nvGrpSpPr>
          <p:grpSpPr>
            <a:xfrm>
              <a:off x="6709680" y="5442840"/>
              <a:ext cx="331200" cy="859680"/>
              <a:chOff x="6709680" y="5442840"/>
              <a:chExt cx="331200" cy="859680"/>
            </a:xfrm>
          </p:grpSpPr>
          <p:sp>
            <p:nvSpPr>
              <p:cNvPr id="954" name="Oval 44"/>
              <p:cNvSpPr/>
              <p:nvPr/>
            </p:nvSpPr>
            <p:spPr>
              <a:xfrm rot="20460000">
                <a:off x="6733800" y="6064920"/>
                <a:ext cx="282600" cy="19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Line 45"/>
              <p:cNvSpPr/>
              <p:nvPr/>
            </p:nvSpPr>
            <p:spPr>
              <a:xfrm flipV="1">
                <a:off x="7016760" y="5442840"/>
                <a:ext cx="0" cy="71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Group 46"/>
            <p:cNvGrpSpPr/>
            <p:nvPr/>
          </p:nvGrpSpPr>
          <p:grpSpPr>
            <a:xfrm>
              <a:off x="7143120" y="5372280"/>
              <a:ext cx="331200" cy="858600"/>
              <a:chOff x="7143120" y="5372280"/>
              <a:chExt cx="331200" cy="858600"/>
            </a:xfrm>
          </p:grpSpPr>
          <p:sp>
            <p:nvSpPr>
              <p:cNvPr id="957" name="Oval 47"/>
              <p:cNvSpPr/>
              <p:nvPr/>
            </p:nvSpPr>
            <p:spPr>
              <a:xfrm rot="20460000">
                <a:off x="7167240" y="5993640"/>
                <a:ext cx="282600" cy="19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Line 48"/>
              <p:cNvSpPr/>
              <p:nvPr/>
            </p:nvSpPr>
            <p:spPr>
              <a:xfrm flipV="1">
                <a:off x="7450200" y="5372280"/>
                <a:ext cx="0" cy="718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9" name="Line 49"/>
            <p:cNvSpPr/>
            <p:nvPr/>
          </p:nvSpPr>
          <p:spPr>
            <a:xfrm flipV="1">
              <a:off x="7022880" y="5371920"/>
              <a:ext cx="43200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Group 50"/>
          <p:cNvGrpSpPr/>
          <p:nvPr/>
        </p:nvGrpSpPr>
        <p:grpSpPr>
          <a:xfrm>
            <a:off x="4404600" y="5156280"/>
            <a:ext cx="529200" cy="930600"/>
            <a:chOff x="4404600" y="5156280"/>
            <a:chExt cx="529200" cy="930600"/>
          </a:xfrm>
        </p:grpSpPr>
        <p:grpSp>
          <p:nvGrpSpPr>
            <p:cNvPr id="961" name="Group 51"/>
            <p:cNvGrpSpPr/>
            <p:nvPr/>
          </p:nvGrpSpPr>
          <p:grpSpPr>
            <a:xfrm>
              <a:off x="4404600" y="5227200"/>
              <a:ext cx="331200" cy="859680"/>
              <a:chOff x="4404600" y="5227200"/>
              <a:chExt cx="331200" cy="859680"/>
            </a:xfrm>
          </p:grpSpPr>
          <p:sp>
            <p:nvSpPr>
              <p:cNvPr id="962" name="Oval 52"/>
              <p:cNvSpPr/>
              <p:nvPr/>
            </p:nvSpPr>
            <p:spPr>
              <a:xfrm rot="20460000">
                <a:off x="4428720" y="5849280"/>
                <a:ext cx="282600" cy="19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Line 53"/>
              <p:cNvSpPr/>
              <p:nvPr/>
            </p:nvSpPr>
            <p:spPr>
              <a:xfrm flipV="1">
                <a:off x="4711680" y="5227200"/>
                <a:ext cx="0" cy="71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4" name="Line 54"/>
            <p:cNvSpPr/>
            <p:nvPr/>
          </p:nvSpPr>
          <p:spPr>
            <a:xfrm flipV="1">
              <a:off x="4717800" y="5156280"/>
              <a:ext cx="2160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Group 55"/>
          <p:cNvGrpSpPr/>
          <p:nvPr/>
        </p:nvGrpSpPr>
        <p:grpSpPr>
          <a:xfrm>
            <a:off x="6060240" y="5259600"/>
            <a:ext cx="331200" cy="858240"/>
            <a:chOff x="6060240" y="5259600"/>
            <a:chExt cx="331200" cy="858240"/>
          </a:xfrm>
        </p:grpSpPr>
        <p:sp>
          <p:nvSpPr>
            <p:cNvPr id="966" name="Oval 56"/>
            <p:cNvSpPr/>
            <p:nvPr/>
          </p:nvSpPr>
          <p:spPr>
            <a:xfrm rot="20460000">
              <a:off x="6084360" y="5300280"/>
              <a:ext cx="282600" cy="196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57"/>
            <p:cNvSpPr/>
            <p:nvPr/>
          </p:nvSpPr>
          <p:spPr>
            <a:xfrm flipV="1">
              <a:off x="6084720" y="5398920"/>
              <a:ext cx="0" cy="7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45.000021934509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3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3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3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3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23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1">
                                  <p:stCondLst>
                                    <p:cond delay="14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1">
                                  <p:stCondLst>
                                    <p:cond delay="3500"/>
                                  </p:stCondLst>
                                  <p:iterate type="lt">
                                    <p:tmAbs val="23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300" fill="hold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300" fill="hold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300" fill="hold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300" fill="hold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23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1">
                                  <p:stCondLst>
                                    <p:cond delay="5800"/>
                                  </p:stCondLst>
                                  <p:iterate type="lt">
                                    <p:tmAbs val="17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700" fill="hold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700" fill="hold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700" fill="hold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700" fill="hold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7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1">
                                  <p:stCondLst>
                                    <p:cond delay="7600"/>
                                  </p:stCondLst>
                                  <p:iterate type="lt">
                                    <p:tmAbs val="266.666650772095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500" fill="hold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500" fill="hold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500" fill="hold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500" fill="hold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500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1">
                                  <p:stCondLst>
                                    <p:cond delay="92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9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9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9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9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9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1">
                                  <p:stCondLst>
                                    <p:cond delay="111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9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9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9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9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9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1">
                                  <p:stCondLst>
                                    <p:cond delay="13200"/>
                                  </p:stCondLst>
                                  <p:iterate type="lt">
                                    <p:tmAbs val="349.999603271484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600" fill="hold"/>
                                        <p:tgtEl>
                                          <p:spTgt spid="9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600" fill="hold"/>
                                        <p:tgtEl>
                                          <p:spTgt spid="9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600" fill="hold"/>
                                        <p:tgtEl>
                                          <p:spTgt spid="9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600" fill="hold"/>
                                        <p:tgtEl>
                                          <p:spTgt spid="9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600"/>
                                        <p:tgtEl>
                                          <p:spTgt spid="9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1">
                                  <p:stCondLst>
                                    <p:cond delay="14800"/>
                                  </p:stCondLst>
                                  <p:iterate type="lt">
                                    <p:tmAbs val="208.695673942566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0" fill="hold"/>
                                        <p:tgtEl>
                                          <p:spTgt spid="9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0" fill="hold"/>
                                        <p:tgtEl>
                                          <p:spTgt spid="9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3000" fill="hold"/>
                                        <p:tgtEl>
                                          <p:spTgt spid="9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000" fill="hold"/>
                                        <p:tgtEl>
                                          <p:spTgt spid="9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3000"/>
                                        <p:tgtEl>
                                          <p:spTgt spid="9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1">
                                  <p:stCondLst>
                                    <p:cond delay="18000"/>
                                  </p:stCondLst>
                                  <p:iterate type="lt">
                                    <p:tmAbs val="250.00022315979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200" fill="hold"/>
                                        <p:tgtEl>
                                          <p:spTgt spid="9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200" fill="hold"/>
                                        <p:tgtEl>
                                          <p:spTgt spid="9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200" fill="hold"/>
                                        <p:tgtEl>
                                          <p:spTgt spid="9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200" fill="hold"/>
                                        <p:tgtEl>
                                          <p:spTgt spid="9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2200"/>
                                        <p:tgtEl>
                                          <p:spTgt spid="9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1">
                                  <p:stCondLst>
                                    <p:cond delay="20200"/>
                                  </p:stCondLst>
                                  <p:iterate type="lt">
                                    <p:tmAbs val="349.999855041504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200" fill="hold"/>
                                        <p:tgtEl>
                                          <p:spTgt spid="9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200" fill="hold"/>
                                        <p:tgtEl>
                                          <p:spTgt spid="9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200" fill="hold"/>
                                        <p:tgtEl>
                                          <p:spTgt spid="9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200" fill="hold"/>
                                        <p:tgtEl>
                                          <p:spTgt spid="9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200"/>
                                        <p:tgtEl>
                                          <p:spTgt spid="9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1">
                                  <p:stCondLst>
                                    <p:cond delay="21500"/>
                                  </p:stCondLst>
                                  <p:iterate type="lt">
                                    <p:tmAbs val="144.444451332092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600" fill="hold"/>
                                        <p:tgtEl>
                                          <p:spTgt spid="9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600" fill="hold"/>
                                        <p:tgtEl>
                                          <p:spTgt spid="9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600" fill="hold"/>
                                        <p:tgtEl>
                                          <p:spTgt spid="9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600" fill="hold"/>
                                        <p:tgtEl>
                                          <p:spTgt spid="9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600"/>
                                        <p:tgtEl>
                                          <p:spTgt spid="9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1">
                                  <p:stCondLst>
                                    <p:cond delay="24000"/>
                                  </p:stCondLst>
                                  <p:iterate type="lt">
                                    <p:tmAbs val="750.000286102295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500" fill="hold"/>
                                        <p:tgtEl>
                                          <p:spTgt spid="9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500" fill="hold"/>
                                        <p:tgtEl>
                                          <p:spTgt spid="9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500" fill="hold"/>
                                        <p:tgtEl>
                                          <p:spTgt spid="9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500" fill="hold"/>
                                        <p:tgtEl>
                                          <p:spTgt spid="9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500"/>
                                        <p:tgtEl>
                                          <p:spTgt spid="9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7750"/>
                            </p:stCondLst>
                            <p:childTnLst>
                              <p:par>
                                <p:cTn id="73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0" dur="500" autoRev="1" fill="hold"/>
                                        <p:tgtEl>
                                          <p:spTgt spid="9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8750"/>
                            </p:stCondLst>
                            <p:childTnLst>
                              <p:par>
                                <p:cTn id="74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3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4" dur="500" autoRev="1" fill="hold"/>
                                        <p:tgtEl>
                                          <p:spTgt spid="9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9750"/>
                            </p:stCondLst>
                            <p:childTnLst>
                              <p:par>
                                <p:cTn id="746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7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8" dur="500" autoRev="1" fill="hold"/>
                                        <p:tgtEl>
                                          <p:spTgt spid="9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30750"/>
                            </p:stCondLst>
                            <p:childTnLst>
                              <p:par>
                                <p:cTn id="75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2" dur="500" autoRev="1" fill="hold"/>
                                        <p:tgtEl>
                                          <p:spTgt spid="9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31750"/>
                            </p:stCondLst>
                            <p:childTnLst>
                              <p:par>
                                <p:cTn id="75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6" dur="500" autoRev="1" fill="hold"/>
                                        <p:tgtEl>
                                          <p:spTgt spid="9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32750"/>
                            </p:stCondLst>
                            <p:childTnLst>
                              <p:par>
                                <p:cTn id="75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0" dur="500" autoRev="1" fill="hold"/>
                                        <p:tgtEl>
                                          <p:spTgt spid="9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33750"/>
                            </p:stCondLst>
                            <p:childTnLst>
                              <p:par>
                                <p:cTn id="7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4" dur="500" autoRev="1" fill="hold"/>
                                        <p:tgtEl>
                                          <p:spTgt spid="9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34750"/>
                            </p:stCondLst>
                            <p:childTnLst>
                              <p:par>
                                <p:cTn id="766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8" dur="500" autoRev="1" fill="hold"/>
                                        <p:tgtEl>
                                          <p:spTgt spid="9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35750"/>
                            </p:stCondLst>
                            <p:childTnLst>
                              <p:par>
                                <p:cTn id="77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500" autoRev="1" fill="hold"/>
                                        <p:tgtEl>
                                          <p:spTgt spid="9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36750"/>
                            </p:stCondLst>
                            <p:childTnLst>
                              <p:par>
                                <p:cTn id="77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6" dur="500" autoRev="1" fill="hold"/>
                                        <p:tgtEl>
                                          <p:spTgt spid="9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37750"/>
                            </p:stCondLst>
                            <p:childTnLst>
                              <p:par>
                                <p:cTn id="77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0" dur="500" autoRev="1" fill="hold"/>
                                        <p:tgtEl>
                                          <p:spTgt spid="9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7:02:08Z</dcterms:created>
  <dc:creator>User</dc:creator>
  <dc:description/>
  <dc:language>en-US</dc:language>
  <cp:lastModifiedBy>锐普PPT</cp:lastModifiedBy>
  <dcterms:modified xsi:type="dcterms:W3CDTF">2011-05-18T16:02:24Z</dcterms:modified>
  <cp:revision>6</cp:revision>
  <dc:subject/>
  <dc:title>青春的浪花</dc:title>
</cp:coreProperties>
</file>