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3A5-23F6-4462-97C9-3BACB9D8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721-4C82-479D-84B3-67D37E85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030-C51C-44C1-9999-19AA7E85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50B4-23AE-4D5C-82C6-1264BA30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CC4-40BE-4652-8D7A-E37FF709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1EE-689B-4DA3-91FA-FE5CCC82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068-3168-4ACE-822E-30B5828A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148-C1F1-45CE-BD30-1D1FDA71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F29-44AA-432E-9929-C6A76074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880-7485-47D4-A45C-A1F58687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3FD5-E630-4D3D-A46A-3D335382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FD3-486E-4E98-9E43-E11272F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DB53-C9BB-4352-A42E-0EDD4136C4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571920" y="140976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643200" y="19098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9"/>
          <p:cNvSpPr/>
          <p:nvPr/>
        </p:nvSpPr>
        <p:spPr>
          <a:xfrm>
            <a:off x="2435400" y="1511280"/>
            <a:ext cx="4708440" cy="827280"/>
          </a:xfrm>
          <a:prstGeom prst="roundRect">
            <a:avLst>
              <a:gd name="adj" fmla="val 31810"/>
            </a:avLst>
          </a:prstGeom>
          <a:solidFill>
            <a:srgbClr val="918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0"/>
          <p:cNvSpPr/>
          <p:nvPr/>
        </p:nvSpPr>
        <p:spPr>
          <a:xfrm>
            <a:off x="2509920" y="1611360"/>
            <a:ext cx="4506840" cy="693720"/>
          </a:xfrm>
          <a:prstGeom prst="roundRect">
            <a:avLst>
              <a:gd name="adj" fmla="val 318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3"/>
          <p:cNvSpPr/>
          <p:nvPr/>
        </p:nvSpPr>
        <p:spPr>
          <a:xfrm>
            <a:off x="5526000" y="2108160"/>
            <a:ext cx="1190880" cy="384120"/>
          </a:xfrm>
          <a:custGeom>
            <a:avLst/>
            <a:gdLst/>
            <a:ahLst/>
            <a:rect l="l" t="t" r="r" b="b"/>
            <a:pathLst>
              <a:path w="2351938" h="759728">
                <a:moveTo>
                  <a:pt x="888713" y="0"/>
                </a:moveTo>
                <a:cubicBezTo>
                  <a:pt x="989142" y="0"/>
                  <a:pt x="1080300" y="39692"/>
                  <a:pt x="1146929" y="104688"/>
                </a:cubicBezTo>
                <a:cubicBezTo>
                  <a:pt x="1213558" y="39692"/>
                  <a:pt x="1304716" y="0"/>
                  <a:pt x="1405145" y="0"/>
                </a:cubicBezTo>
                <a:cubicBezTo>
                  <a:pt x="1521252" y="0"/>
                  <a:pt x="1624968" y="53053"/>
                  <a:pt x="1692052" y="137326"/>
                </a:cubicBezTo>
                <a:cubicBezTo>
                  <a:pt x="1759136" y="53053"/>
                  <a:pt x="1862852" y="0"/>
                  <a:pt x="1978959" y="0"/>
                </a:cubicBezTo>
                <a:cubicBezTo>
                  <a:pt x="2184950" y="0"/>
                  <a:pt x="2351938" y="166988"/>
                  <a:pt x="2351938" y="372979"/>
                </a:cubicBezTo>
                <a:cubicBezTo>
                  <a:pt x="2351938" y="578970"/>
                  <a:pt x="2184950" y="745958"/>
                  <a:pt x="1978959" y="745958"/>
                </a:cubicBezTo>
                <a:cubicBezTo>
                  <a:pt x="1862852" y="745958"/>
                  <a:pt x="1759136" y="692905"/>
                  <a:pt x="1692052" y="608632"/>
                </a:cubicBezTo>
                <a:cubicBezTo>
                  <a:pt x="1624968" y="692905"/>
                  <a:pt x="1521252" y="745958"/>
                  <a:pt x="1405145" y="745958"/>
                </a:cubicBezTo>
                <a:cubicBezTo>
                  <a:pt x="1304716" y="745958"/>
                  <a:pt x="1213558" y="706266"/>
                  <a:pt x="1146929" y="641270"/>
                </a:cubicBezTo>
                <a:cubicBezTo>
                  <a:pt x="1080300" y="706266"/>
                  <a:pt x="989142" y="745958"/>
                  <a:pt x="888713" y="745958"/>
                </a:cubicBezTo>
                <a:cubicBezTo>
                  <a:pt x="792121" y="745958"/>
                  <a:pt x="704104" y="709240"/>
                  <a:pt x="638721" y="648055"/>
                </a:cubicBezTo>
                <a:cubicBezTo>
                  <a:pt x="571263" y="717061"/>
                  <a:pt x="477103" y="759728"/>
                  <a:pt x="372979" y="759728"/>
                </a:cubicBezTo>
                <a:cubicBezTo>
                  <a:pt x="166988" y="759728"/>
                  <a:pt x="0" y="592740"/>
                  <a:pt x="0" y="386749"/>
                </a:cubicBezTo>
                <a:cubicBezTo>
                  <a:pt x="0" y="180758"/>
                  <a:pt x="166988" y="13770"/>
                  <a:pt x="372979" y="13770"/>
                </a:cubicBezTo>
                <a:cubicBezTo>
                  <a:pt x="469571" y="13770"/>
                  <a:pt x="557588" y="50488"/>
                  <a:pt x="622972" y="111673"/>
                </a:cubicBezTo>
                <a:cubicBezTo>
                  <a:pt x="690430" y="42667"/>
                  <a:pt x="784589" y="0"/>
                  <a:pt x="888713" y="0"/>
                </a:cubicBezTo>
                <a:close/>
              </a:path>
            </a:pathLst>
          </a:custGeom>
          <a:solidFill>
            <a:srgbClr val="df9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2"/>
          <p:cNvSpPr/>
          <p:nvPr/>
        </p:nvSpPr>
        <p:spPr>
          <a:xfrm>
            <a:off x="2435400" y="2725560"/>
            <a:ext cx="4708440" cy="827280"/>
          </a:xfrm>
          <a:prstGeom prst="roundRect">
            <a:avLst>
              <a:gd name="adj" fmla="val 31810"/>
            </a:avLst>
          </a:prstGeom>
          <a:solidFill>
            <a:srgbClr val="918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3"/>
          <p:cNvSpPr/>
          <p:nvPr/>
        </p:nvSpPr>
        <p:spPr>
          <a:xfrm>
            <a:off x="2509920" y="2824200"/>
            <a:ext cx="4506840" cy="695160"/>
          </a:xfrm>
          <a:prstGeom prst="roundRect">
            <a:avLst>
              <a:gd name="adj" fmla="val 318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4"/>
          <p:cNvSpPr/>
          <p:nvPr/>
        </p:nvSpPr>
        <p:spPr>
          <a:xfrm>
            <a:off x="2435400" y="3938760"/>
            <a:ext cx="4708440" cy="826920"/>
          </a:xfrm>
          <a:prstGeom prst="roundRect">
            <a:avLst>
              <a:gd name="adj" fmla="val 31810"/>
            </a:avLst>
          </a:prstGeom>
          <a:solidFill>
            <a:srgbClr val="918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5"/>
          <p:cNvSpPr/>
          <p:nvPr/>
        </p:nvSpPr>
        <p:spPr>
          <a:xfrm>
            <a:off x="2509920" y="4037040"/>
            <a:ext cx="4506840" cy="695160"/>
          </a:xfrm>
          <a:prstGeom prst="roundRect">
            <a:avLst>
              <a:gd name="adj" fmla="val 318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"/>
          <p:cNvSpPr/>
          <p:nvPr/>
        </p:nvSpPr>
        <p:spPr>
          <a:xfrm>
            <a:off x="5526000" y="3314880"/>
            <a:ext cx="1190880" cy="385560"/>
          </a:xfrm>
          <a:custGeom>
            <a:avLst/>
            <a:gdLst/>
            <a:ahLst/>
            <a:rect l="l" t="t" r="r" b="b"/>
            <a:pathLst>
              <a:path w="2351938" h="759728">
                <a:moveTo>
                  <a:pt x="888713" y="0"/>
                </a:moveTo>
                <a:cubicBezTo>
                  <a:pt x="989142" y="0"/>
                  <a:pt x="1080300" y="39692"/>
                  <a:pt x="1146929" y="104688"/>
                </a:cubicBezTo>
                <a:cubicBezTo>
                  <a:pt x="1213558" y="39692"/>
                  <a:pt x="1304716" y="0"/>
                  <a:pt x="1405145" y="0"/>
                </a:cubicBezTo>
                <a:cubicBezTo>
                  <a:pt x="1521252" y="0"/>
                  <a:pt x="1624968" y="53053"/>
                  <a:pt x="1692052" y="137326"/>
                </a:cubicBezTo>
                <a:cubicBezTo>
                  <a:pt x="1759136" y="53053"/>
                  <a:pt x="1862852" y="0"/>
                  <a:pt x="1978959" y="0"/>
                </a:cubicBezTo>
                <a:cubicBezTo>
                  <a:pt x="2184950" y="0"/>
                  <a:pt x="2351938" y="166988"/>
                  <a:pt x="2351938" y="372979"/>
                </a:cubicBezTo>
                <a:cubicBezTo>
                  <a:pt x="2351938" y="578970"/>
                  <a:pt x="2184950" y="745958"/>
                  <a:pt x="1978959" y="745958"/>
                </a:cubicBezTo>
                <a:cubicBezTo>
                  <a:pt x="1862852" y="745958"/>
                  <a:pt x="1759136" y="692905"/>
                  <a:pt x="1692052" y="608632"/>
                </a:cubicBezTo>
                <a:cubicBezTo>
                  <a:pt x="1624968" y="692905"/>
                  <a:pt x="1521252" y="745958"/>
                  <a:pt x="1405145" y="745958"/>
                </a:cubicBezTo>
                <a:cubicBezTo>
                  <a:pt x="1304716" y="745958"/>
                  <a:pt x="1213558" y="706266"/>
                  <a:pt x="1146929" y="641270"/>
                </a:cubicBezTo>
                <a:cubicBezTo>
                  <a:pt x="1080300" y="706266"/>
                  <a:pt x="989142" y="745958"/>
                  <a:pt x="888713" y="745958"/>
                </a:cubicBezTo>
                <a:cubicBezTo>
                  <a:pt x="792121" y="745958"/>
                  <a:pt x="704104" y="709240"/>
                  <a:pt x="638721" y="648055"/>
                </a:cubicBezTo>
                <a:cubicBezTo>
                  <a:pt x="571263" y="717061"/>
                  <a:pt x="477103" y="759728"/>
                  <a:pt x="372979" y="759728"/>
                </a:cubicBezTo>
                <a:cubicBezTo>
                  <a:pt x="166988" y="759728"/>
                  <a:pt x="0" y="592740"/>
                  <a:pt x="0" y="386749"/>
                </a:cubicBezTo>
                <a:cubicBezTo>
                  <a:pt x="0" y="180758"/>
                  <a:pt x="166988" y="13770"/>
                  <a:pt x="372979" y="13770"/>
                </a:cubicBezTo>
                <a:cubicBezTo>
                  <a:pt x="469571" y="13770"/>
                  <a:pt x="557588" y="50488"/>
                  <a:pt x="622972" y="111673"/>
                </a:cubicBezTo>
                <a:cubicBezTo>
                  <a:pt x="690430" y="42667"/>
                  <a:pt x="784589" y="0"/>
                  <a:pt x="888713" y="0"/>
                </a:cubicBezTo>
                <a:close/>
              </a:path>
            </a:pathLst>
          </a:custGeom>
          <a:solidFill>
            <a:srgbClr val="df9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"/>
          <p:cNvSpPr/>
          <p:nvPr/>
        </p:nvSpPr>
        <p:spPr>
          <a:xfrm>
            <a:off x="5526000" y="4545000"/>
            <a:ext cx="1190880" cy="384120"/>
          </a:xfrm>
          <a:custGeom>
            <a:avLst/>
            <a:gdLst/>
            <a:ahLst/>
            <a:rect l="l" t="t" r="r" b="b"/>
            <a:pathLst>
              <a:path w="2351938" h="759728">
                <a:moveTo>
                  <a:pt x="888713" y="0"/>
                </a:moveTo>
                <a:cubicBezTo>
                  <a:pt x="989142" y="0"/>
                  <a:pt x="1080300" y="39692"/>
                  <a:pt x="1146929" y="104688"/>
                </a:cubicBezTo>
                <a:cubicBezTo>
                  <a:pt x="1213558" y="39692"/>
                  <a:pt x="1304716" y="0"/>
                  <a:pt x="1405145" y="0"/>
                </a:cubicBezTo>
                <a:cubicBezTo>
                  <a:pt x="1521252" y="0"/>
                  <a:pt x="1624968" y="53053"/>
                  <a:pt x="1692052" y="137326"/>
                </a:cubicBezTo>
                <a:cubicBezTo>
                  <a:pt x="1759136" y="53053"/>
                  <a:pt x="1862852" y="0"/>
                  <a:pt x="1978959" y="0"/>
                </a:cubicBezTo>
                <a:cubicBezTo>
                  <a:pt x="2184950" y="0"/>
                  <a:pt x="2351938" y="166988"/>
                  <a:pt x="2351938" y="372979"/>
                </a:cubicBezTo>
                <a:cubicBezTo>
                  <a:pt x="2351938" y="578970"/>
                  <a:pt x="2184950" y="745958"/>
                  <a:pt x="1978959" y="745958"/>
                </a:cubicBezTo>
                <a:cubicBezTo>
                  <a:pt x="1862852" y="745958"/>
                  <a:pt x="1759136" y="692905"/>
                  <a:pt x="1692052" y="608632"/>
                </a:cubicBezTo>
                <a:cubicBezTo>
                  <a:pt x="1624968" y="692905"/>
                  <a:pt x="1521252" y="745958"/>
                  <a:pt x="1405145" y="745958"/>
                </a:cubicBezTo>
                <a:cubicBezTo>
                  <a:pt x="1304716" y="745958"/>
                  <a:pt x="1213558" y="706266"/>
                  <a:pt x="1146929" y="641270"/>
                </a:cubicBezTo>
                <a:cubicBezTo>
                  <a:pt x="1080300" y="706266"/>
                  <a:pt x="989142" y="745958"/>
                  <a:pt x="888713" y="745958"/>
                </a:cubicBezTo>
                <a:cubicBezTo>
                  <a:pt x="792121" y="745958"/>
                  <a:pt x="704104" y="709240"/>
                  <a:pt x="638721" y="648055"/>
                </a:cubicBezTo>
                <a:cubicBezTo>
                  <a:pt x="571263" y="717061"/>
                  <a:pt x="477103" y="759728"/>
                  <a:pt x="372979" y="759728"/>
                </a:cubicBezTo>
                <a:cubicBezTo>
                  <a:pt x="166988" y="759728"/>
                  <a:pt x="0" y="592740"/>
                  <a:pt x="0" y="386749"/>
                </a:cubicBezTo>
                <a:cubicBezTo>
                  <a:pt x="0" y="180758"/>
                  <a:pt x="166988" y="13770"/>
                  <a:pt x="372979" y="13770"/>
                </a:cubicBezTo>
                <a:cubicBezTo>
                  <a:pt x="469571" y="13770"/>
                  <a:pt x="557588" y="50488"/>
                  <a:pt x="622972" y="111673"/>
                </a:cubicBezTo>
                <a:cubicBezTo>
                  <a:pt x="690430" y="42667"/>
                  <a:pt x="784589" y="0"/>
                  <a:pt x="888713" y="0"/>
                </a:cubicBezTo>
                <a:close/>
              </a:path>
            </a:pathLst>
          </a:custGeom>
          <a:solidFill>
            <a:srgbClr val="df9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357084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36406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3569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1285920" y="1663560"/>
            <a:ext cx="2030400" cy="3745080"/>
          </a:xfrm>
          <a:custGeom>
            <a:avLst/>
            <a:gdLst/>
            <a:ahLst/>
            <a:rect l="l" t="t" r="r" b="b"/>
            <a:pathLst>
              <a:path w="2304256" h="4248472">
                <a:moveTo>
                  <a:pt x="1152128" y="0"/>
                </a:moveTo>
                <a:cubicBezTo>
                  <a:pt x="1788431" y="0"/>
                  <a:pt x="2304256" y="515825"/>
                  <a:pt x="2304256" y="1152128"/>
                </a:cubicBezTo>
                <a:cubicBezTo>
                  <a:pt x="2304256" y="1498770"/>
                  <a:pt x="2151170" y="1809656"/>
                  <a:pt x="1908212" y="2020059"/>
                </a:cubicBezTo>
                <a:lnTo>
                  <a:pt x="1908212" y="4248472"/>
                </a:lnTo>
                <a:lnTo>
                  <a:pt x="1167649" y="3876569"/>
                </a:lnTo>
                <a:lnTo>
                  <a:pt x="396044" y="4248472"/>
                </a:lnTo>
                <a:lnTo>
                  <a:pt x="396044" y="2020059"/>
                </a:lnTo>
                <a:cubicBezTo>
                  <a:pt x="153086" y="1809656"/>
                  <a:pt x="0" y="1498770"/>
                  <a:pt x="0" y="1152128"/>
                </a:cubicBezTo>
                <a:cubicBezTo>
                  <a:pt x="0" y="515825"/>
                  <a:pt x="515825" y="0"/>
                  <a:pt x="1152128" y="0"/>
                </a:cubicBezTo>
                <a:close/>
              </a:path>
            </a:pathLst>
          </a:custGeom>
          <a:solidFill>
            <a:srgbClr val="918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3720960" y="1684440"/>
            <a:ext cx="2030400" cy="3744720"/>
          </a:xfrm>
          <a:custGeom>
            <a:avLst/>
            <a:gdLst/>
            <a:ahLst/>
            <a:rect l="l" t="t" r="r" b="b"/>
            <a:pathLst>
              <a:path w="2304256" h="4248472">
                <a:moveTo>
                  <a:pt x="1152128" y="0"/>
                </a:moveTo>
                <a:cubicBezTo>
                  <a:pt x="1788431" y="0"/>
                  <a:pt x="2304256" y="515825"/>
                  <a:pt x="2304256" y="1152128"/>
                </a:cubicBezTo>
                <a:cubicBezTo>
                  <a:pt x="2304256" y="1498770"/>
                  <a:pt x="2151170" y="1809656"/>
                  <a:pt x="1908212" y="2020059"/>
                </a:cubicBezTo>
                <a:lnTo>
                  <a:pt x="1908212" y="4248472"/>
                </a:lnTo>
                <a:lnTo>
                  <a:pt x="1167649" y="3876569"/>
                </a:lnTo>
                <a:lnTo>
                  <a:pt x="396044" y="4248472"/>
                </a:lnTo>
                <a:lnTo>
                  <a:pt x="396044" y="2020059"/>
                </a:lnTo>
                <a:cubicBezTo>
                  <a:pt x="153086" y="1809656"/>
                  <a:pt x="0" y="1498770"/>
                  <a:pt x="0" y="1152128"/>
                </a:cubicBezTo>
                <a:cubicBezTo>
                  <a:pt x="0" y="515825"/>
                  <a:pt x="515825" y="0"/>
                  <a:pt x="1152128" y="0"/>
                </a:cubicBezTo>
                <a:close/>
              </a:path>
            </a:pathLst>
          </a:custGeom>
          <a:solidFill>
            <a:srgbClr val="df9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6156360" y="1684440"/>
            <a:ext cx="2031840" cy="3744720"/>
          </a:xfrm>
          <a:custGeom>
            <a:avLst/>
            <a:gdLst/>
            <a:ahLst/>
            <a:rect l="l" t="t" r="r" b="b"/>
            <a:pathLst>
              <a:path w="2304256" h="4248472">
                <a:moveTo>
                  <a:pt x="1152128" y="0"/>
                </a:moveTo>
                <a:cubicBezTo>
                  <a:pt x="1788431" y="0"/>
                  <a:pt x="2304256" y="515825"/>
                  <a:pt x="2304256" y="1152128"/>
                </a:cubicBezTo>
                <a:cubicBezTo>
                  <a:pt x="2304256" y="1498770"/>
                  <a:pt x="2151170" y="1809656"/>
                  <a:pt x="1908212" y="2020059"/>
                </a:cubicBezTo>
                <a:lnTo>
                  <a:pt x="1908212" y="4248472"/>
                </a:lnTo>
                <a:lnTo>
                  <a:pt x="1167649" y="3876569"/>
                </a:lnTo>
                <a:lnTo>
                  <a:pt x="396044" y="4248472"/>
                </a:lnTo>
                <a:lnTo>
                  <a:pt x="396044" y="2020059"/>
                </a:lnTo>
                <a:cubicBezTo>
                  <a:pt x="153086" y="1809656"/>
                  <a:pt x="0" y="1498770"/>
                  <a:pt x="0" y="1152128"/>
                </a:cubicBezTo>
                <a:cubicBezTo>
                  <a:pt x="0" y="515825"/>
                  <a:pt x="515825" y="0"/>
                  <a:pt x="1152128" y="0"/>
                </a:cubicBezTo>
                <a:close/>
              </a:path>
            </a:pathLst>
          </a:custGeom>
          <a:solidFill>
            <a:srgbClr val="9182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3"/>
          <p:cNvSpPr/>
          <p:nvPr/>
        </p:nvSpPr>
        <p:spPr>
          <a:xfrm>
            <a:off x="1333440" y="1762200"/>
            <a:ext cx="1649520" cy="164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4"/>
          <p:cNvSpPr/>
          <p:nvPr/>
        </p:nvSpPr>
        <p:spPr>
          <a:xfrm>
            <a:off x="3768840" y="1782720"/>
            <a:ext cx="1649160" cy="1650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6203880" y="1782720"/>
            <a:ext cx="1650960" cy="1650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168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65426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4"/>
          <p:cNvSpPr/>
          <p:nvPr/>
        </p:nvSpPr>
        <p:spPr>
          <a:xfrm>
            <a:off x="41850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2044800" y="335772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4545000" y="342900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6973920" y="3389400"/>
            <a:ext cx="35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椭圆 20" descr=""/>
          <p:cNvPicPr/>
          <p:nvPr/>
        </p:nvPicPr>
        <p:blipFill>
          <a:blip r:embed="rId1"/>
          <a:stretch/>
        </p:blipFill>
        <p:spPr>
          <a:xfrm>
            <a:off x="6053040" y="2762280"/>
            <a:ext cx="2468520" cy="2462040"/>
          </a:xfrm>
          <a:prstGeom prst="rect">
            <a:avLst/>
          </a:prstGeom>
          <a:ln w="0">
            <a:noFill/>
          </a:ln>
        </p:spPr>
      </p:pic>
      <p:grpSp>
        <p:nvGrpSpPr>
          <p:cNvPr id="84" name="椭圆 21"/>
          <p:cNvGrpSpPr/>
          <p:nvPr/>
        </p:nvGrpSpPr>
        <p:grpSpPr>
          <a:xfrm>
            <a:off x="6188040" y="2859120"/>
            <a:ext cx="2054160" cy="2054160"/>
            <a:chOff x="6188040" y="2859120"/>
            <a:chExt cx="2054160" cy="2054160"/>
          </a:xfrm>
        </p:grpSpPr>
        <p:pic>
          <p:nvPicPr>
            <p:cNvPr id="85" name="椭圆 21" descr=""/>
            <p:cNvPicPr/>
            <p:nvPr/>
          </p:nvPicPr>
          <p:blipFill>
            <a:blip r:embed="rId2"/>
            <a:stretch/>
          </p:blipFill>
          <p:spPr>
            <a:xfrm>
              <a:off x="6188040" y="2859120"/>
              <a:ext cx="205416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492960" y="3164040"/>
              <a:ext cx="144612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椭圆 5" descr=""/>
          <p:cNvPicPr/>
          <p:nvPr/>
        </p:nvPicPr>
        <p:blipFill>
          <a:blip r:embed="rId3"/>
          <a:stretch/>
        </p:blipFill>
        <p:spPr>
          <a:xfrm>
            <a:off x="3316320" y="3309840"/>
            <a:ext cx="3498840" cy="2500560"/>
          </a:xfrm>
          <a:prstGeom prst="rect">
            <a:avLst/>
          </a:prstGeom>
          <a:ln w="0">
            <a:noFill/>
          </a:ln>
        </p:spPr>
      </p:pic>
      <p:grpSp>
        <p:nvGrpSpPr>
          <p:cNvPr id="88" name="椭圆 23"/>
          <p:cNvGrpSpPr/>
          <p:nvPr/>
        </p:nvGrpSpPr>
        <p:grpSpPr>
          <a:xfrm>
            <a:off x="3444840" y="3475080"/>
            <a:ext cx="2170080" cy="2170080"/>
            <a:chOff x="3444840" y="3475080"/>
            <a:chExt cx="2170080" cy="2170080"/>
          </a:xfrm>
        </p:grpSpPr>
        <p:pic>
          <p:nvPicPr>
            <p:cNvPr id="89" name="椭圆 23" descr=""/>
            <p:cNvPicPr/>
            <p:nvPr/>
          </p:nvPicPr>
          <p:blipFill>
            <a:blip r:embed="rId4"/>
            <a:stretch/>
          </p:blipFill>
          <p:spPr>
            <a:xfrm>
              <a:off x="3444840" y="3475080"/>
              <a:ext cx="217008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19406400">
              <a:off x="3766680" y="3798360"/>
              <a:ext cx="152244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椭圆 5" descr=""/>
          <p:cNvPicPr/>
          <p:nvPr/>
        </p:nvPicPr>
        <p:blipFill>
          <a:blip r:embed="rId5"/>
          <a:stretch/>
        </p:blipFill>
        <p:spPr>
          <a:xfrm>
            <a:off x="725400" y="1749600"/>
            <a:ext cx="29926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92" name="椭圆 25"/>
          <p:cNvGrpSpPr/>
          <p:nvPr/>
        </p:nvGrpSpPr>
        <p:grpSpPr>
          <a:xfrm>
            <a:off x="871560" y="1841400"/>
            <a:ext cx="2163600" cy="2163960"/>
            <a:chOff x="871560" y="1841400"/>
            <a:chExt cx="2163600" cy="2163960"/>
          </a:xfrm>
        </p:grpSpPr>
        <p:pic>
          <p:nvPicPr>
            <p:cNvPr id="93" name="椭圆 25" descr=""/>
            <p:cNvPicPr/>
            <p:nvPr/>
          </p:nvPicPr>
          <p:blipFill>
            <a:blip r:embed="rId6"/>
            <a:stretch/>
          </p:blipFill>
          <p:spPr>
            <a:xfrm>
              <a:off x="871560" y="1841400"/>
              <a:ext cx="216360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190520" y="2162160"/>
              <a:ext cx="15242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椭圆 26" descr=""/>
          <p:cNvPicPr/>
          <p:nvPr/>
        </p:nvPicPr>
        <p:blipFill>
          <a:blip r:embed="rId7"/>
          <a:stretch/>
        </p:blipFill>
        <p:spPr>
          <a:xfrm>
            <a:off x="1755720" y="1279440"/>
            <a:ext cx="1047960" cy="10494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27" descr=""/>
          <p:cNvPicPr/>
          <p:nvPr/>
        </p:nvPicPr>
        <p:blipFill>
          <a:blip r:embed="rId8"/>
          <a:stretch/>
        </p:blipFill>
        <p:spPr>
          <a:xfrm>
            <a:off x="1689120" y="1195560"/>
            <a:ext cx="1084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椭圆 28" descr=""/>
          <p:cNvPicPr/>
          <p:nvPr/>
        </p:nvPicPr>
        <p:blipFill>
          <a:blip r:embed="rId9"/>
          <a:stretch/>
        </p:blipFill>
        <p:spPr>
          <a:xfrm>
            <a:off x="3992400" y="2792520"/>
            <a:ext cx="1049400" cy="1041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29" descr=""/>
          <p:cNvPicPr/>
          <p:nvPr/>
        </p:nvPicPr>
        <p:blipFill>
          <a:blip r:embed="rId10"/>
          <a:stretch/>
        </p:blipFill>
        <p:spPr>
          <a:xfrm>
            <a:off x="3919680" y="2700360"/>
            <a:ext cx="108576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椭圆 30" descr=""/>
          <p:cNvPicPr/>
          <p:nvPr/>
        </p:nvPicPr>
        <p:blipFill>
          <a:blip r:embed="rId11"/>
          <a:stretch/>
        </p:blipFill>
        <p:spPr>
          <a:xfrm>
            <a:off x="6705720" y="21398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31" descr=""/>
          <p:cNvPicPr/>
          <p:nvPr/>
        </p:nvPicPr>
        <p:blipFill>
          <a:blip r:embed="rId12"/>
          <a:stretch/>
        </p:blipFill>
        <p:spPr>
          <a:xfrm>
            <a:off x="6675480" y="2054160"/>
            <a:ext cx="1084320" cy="1085760"/>
          </a:xfrm>
          <a:prstGeom prst="rect">
            <a:avLst/>
          </a:prstGeom>
          <a:ln w="0">
            <a:noFill/>
          </a:ln>
        </p:spPr>
      </p:pic>
      <p:sp>
        <p:nvSpPr>
          <p:cNvPr id="101" name="矩形 12"/>
          <p:cNvSpPr/>
          <p:nvPr/>
        </p:nvSpPr>
        <p:spPr>
          <a:xfrm>
            <a:off x="1497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6712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6"/>
          <p:cNvSpPr/>
          <p:nvPr/>
        </p:nvSpPr>
        <p:spPr>
          <a:xfrm>
            <a:off x="944640" y="1536840"/>
            <a:ext cx="1944720" cy="647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3" y="0"/>
                </a:lnTo>
                <a:lnTo>
                  <a:pt x="21600" y="10800"/>
                </a:lnTo>
                <a:lnTo>
                  <a:pt x="180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18277"/>
          </a:solidFill>
          <a:ln w="2844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7"/>
          <p:cNvSpPr/>
          <p:nvPr/>
        </p:nvSpPr>
        <p:spPr>
          <a:xfrm>
            <a:off x="981000" y="2616120"/>
            <a:ext cx="1871640" cy="338472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3384720"/>
              <a:gd name="textAreaBottom" fmla="*/ 3293640 h 3384720"/>
            </a:gdLst>
            <a:ahLst/>
            <a:rect l="textAreaLeft" t="textAreaTop" r="textAreaRight" b="textAreaBottom"/>
            <a:pathLst>
              <a:path w="21600" h="39059">
                <a:moveTo>
                  <a:pt x="3600" y="0"/>
                </a:moveTo>
                <a:arcTo wR="3600" hR="3600" stAng="16200000" swAng="-5400000"/>
                <a:lnTo>
                  <a:pt x="0" y="35459"/>
                </a:lnTo>
                <a:arcTo wR="3600" hR="3600" stAng="10800000" swAng="-5400000"/>
                <a:lnTo>
                  <a:pt x="18000" y="390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995b"/>
          </a:solidFill>
          <a:ln w="648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1871640" y="2198520"/>
            <a:ext cx="90360" cy="4176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9"/>
          <p:cNvSpPr/>
          <p:nvPr/>
        </p:nvSpPr>
        <p:spPr>
          <a:xfrm>
            <a:off x="1712880" y="2527200"/>
            <a:ext cx="407880" cy="409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0"/>
          <p:cNvSpPr/>
          <p:nvPr/>
        </p:nvSpPr>
        <p:spPr>
          <a:xfrm rot="1267200">
            <a:off x="1766520" y="2579760"/>
            <a:ext cx="299880" cy="299880"/>
          </a:xfrm>
          <a:prstGeom prst="ellipse">
            <a:avLst/>
          </a:prstGeom>
          <a:solidFill>
            <a:srgbClr val="eccb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1"/>
          <p:cNvSpPr/>
          <p:nvPr/>
        </p:nvSpPr>
        <p:spPr>
          <a:xfrm rot="21389400">
            <a:off x="1828440" y="2822400"/>
            <a:ext cx="182520" cy="637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五边形 12"/>
          <p:cNvSpPr/>
          <p:nvPr/>
        </p:nvSpPr>
        <p:spPr>
          <a:xfrm>
            <a:off x="3591000" y="1536840"/>
            <a:ext cx="1944720" cy="647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3" y="0"/>
                </a:lnTo>
                <a:lnTo>
                  <a:pt x="21600" y="10800"/>
                </a:lnTo>
                <a:lnTo>
                  <a:pt x="180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18277"/>
          </a:solidFill>
          <a:ln w="2844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3"/>
          <p:cNvSpPr/>
          <p:nvPr/>
        </p:nvSpPr>
        <p:spPr>
          <a:xfrm>
            <a:off x="3627360" y="2616120"/>
            <a:ext cx="1871640" cy="338472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3384720"/>
              <a:gd name="textAreaBottom" fmla="*/ 3293640 h 3384720"/>
            </a:gdLst>
            <a:ahLst/>
            <a:rect l="textAreaLeft" t="textAreaTop" r="textAreaRight" b="textAreaBottom"/>
            <a:pathLst>
              <a:path w="21600" h="39059">
                <a:moveTo>
                  <a:pt x="3600" y="0"/>
                </a:moveTo>
                <a:arcTo wR="3600" hR="3600" stAng="16200000" swAng="-5400000"/>
                <a:lnTo>
                  <a:pt x="0" y="35459"/>
                </a:lnTo>
                <a:arcTo wR="3600" hR="3600" stAng="10800000" swAng="-5400000"/>
                <a:lnTo>
                  <a:pt x="18000" y="390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995b"/>
          </a:solidFill>
          <a:ln w="648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7"/>
          <p:cNvSpPr/>
          <p:nvPr/>
        </p:nvSpPr>
        <p:spPr>
          <a:xfrm>
            <a:off x="4516560" y="2198520"/>
            <a:ext cx="88920" cy="4176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9"/>
          <p:cNvSpPr/>
          <p:nvPr/>
        </p:nvSpPr>
        <p:spPr>
          <a:xfrm>
            <a:off x="4357800" y="2527200"/>
            <a:ext cx="409320" cy="409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6"/>
          <p:cNvSpPr/>
          <p:nvPr/>
        </p:nvSpPr>
        <p:spPr>
          <a:xfrm rot="1267200">
            <a:off x="4414320" y="2579400"/>
            <a:ext cx="301680" cy="299880"/>
          </a:xfrm>
          <a:prstGeom prst="ellipse">
            <a:avLst/>
          </a:prstGeom>
          <a:solidFill>
            <a:srgbClr val="eccb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7"/>
          <p:cNvSpPr/>
          <p:nvPr/>
        </p:nvSpPr>
        <p:spPr>
          <a:xfrm rot="21389400">
            <a:off x="4478040" y="2822400"/>
            <a:ext cx="182520" cy="637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18"/>
          <p:cNvSpPr/>
          <p:nvPr/>
        </p:nvSpPr>
        <p:spPr>
          <a:xfrm>
            <a:off x="6237360" y="1536840"/>
            <a:ext cx="1944720" cy="6476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3" y="0"/>
                </a:lnTo>
                <a:lnTo>
                  <a:pt x="21600" y="10800"/>
                </a:lnTo>
                <a:lnTo>
                  <a:pt x="180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18277"/>
          </a:solidFill>
          <a:ln w="2844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9"/>
          <p:cNvSpPr/>
          <p:nvPr/>
        </p:nvSpPr>
        <p:spPr>
          <a:xfrm>
            <a:off x="6273720" y="2616120"/>
            <a:ext cx="1871640" cy="338472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3384720"/>
              <a:gd name="textAreaBottom" fmla="*/ 3293640 h 3384720"/>
            </a:gdLst>
            <a:ahLst/>
            <a:rect l="textAreaLeft" t="textAreaTop" r="textAreaRight" b="textAreaBottom"/>
            <a:pathLst>
              <a:path w="21600" h="39059">
                <a:moveTo>
                  <a:pt x="3600" y="0"/>
                </a:moveTo>
                <a:arcTo wR="3600" hR="3600" stAng="16200000" swAng="-5400000"/>
                <a:lnTo>
                  <a:pt x="0" y="35459"/>
                </a:lnTo>
                <a:arcTo wR="3600" hR="3600" stAng="10800000" swAng="-5400000"/>
                <a:lnTo>
                  <a:pt x="18000" y="390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995b"/>
          </a:solidFill>
          <a:ln w="6480">
            <a:solidFill>
              <a:srgbClr val="bfbfb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20"/>
          <p:cNvSpPr/>
          <p:nvPr/>
        </p:nvSpPr>
        <p:spPr>
          <a:xfrm>
            <a:off x="7004160" y="2527200"/>
            <a:ext cx="409320" cy="4096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1"/>
          <p:cNvSpPr/>
          <p:nvPr/>
        </p:nvSpPr>
        <p:spPr>
          <a:xfrm>
            <a:off x="7159680" y="2198520"/>
            <a:ext cx="88920" cy="4176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22"/>
          <p:cNvSpPr/>
          <p:nvPr/>
        </p:nvSpPr>
        <p:spPr>
          <a:xfrm rot="1267200">
            <a:off x="7057800" y="2579400"/>
            <a:ext cx="301320" cy="299880"/>
          </a:xfrm>
          <a:prstGeom prst="ellipse">
            <a:avLst/>
          </a:prstGeom>
          <a:solidFill>
            <a:srgbClr val="eccb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3"/>
          <p:cNvSpPr/>
          <p:nvPr/>
        </p:nvSpPr>
        <p:spPr>
          <a:xfrm rot="21389400">
            <a:off x="7121160" y="2822400"/>
            <a:ext cx="182520" cy="637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529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4069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39978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1354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矩形 2"/>
          <p:cNvGrpSpPr/>
          <p:nvPr/>
        </p:nvGrpSpPr>
        <p:grpSpPr>
          <a:xfrm>
            <a:off x="2620800" y="3767040"/>
            <a:ext cx="2090880" cy="2408400"/>
            <a:chOff x="2620800" y="3767040"/>
            <a:chExt cx="2090880" cy="2408400"/>
          </a:xfrm>
        </p:grpSpPr>
        <p:pic>
          <p:nvPicPr>
            <p:cNvPr id="137" name="矩形 2" descr=""/>
            <p:cNvPicPr/>
            <p:nvPr/>
          </p:nvPicPr>
          <p:blipFill>
            <a:blip r:embed="rId1"/>
            <a:stretch/>
          </p:blipFill>
          <p:spPr>
            <a:xfrm>
              <a:off x="2620800" y="3767040"/>
              <a:ext cx="209088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689200" y="3800520"/>
              <a:ext cx="1963800" cy="22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矩形 3"/>
          <p:cNvGrpSpPr/>
          <p:nvPr/>
        </p:nvGrpSpPr>
        <p:grpSpPr>
          <a:xfrm>
            <a:off x="4711680" y="3767040"/>
            <a:ext cx="2090880" cy="2408400"/>
            <a:chOff x="4711680" y="3767040"/>
            <a:chExt cx="2090880" cy="2408400"/>
          </a:xfrm>
        </p:grpSpPr>
        <p:pic>
          <p:nvPicPr>
            <p:cNvPr id="140" name="矩形 3" descr=""/>
            <p:cNvPicPr/>
            <p:nvPr/>
          </p:nvPicPr>
          <p:blipFill>
            <a:blip r:embed="rId2"/>
            <a:stretch/>
          </p:blipFill>
          <p:spPr>
            <a:xfrm>
              <a:off x="4711680" y="3767040"/>
              <a:ext cx="209088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776840" y="3800520"/>
              <a:ext cx="1965240" cy="22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12"/>
          <p:cNvSpPr/>
          <p:nvPr/>
        </p:nvSpPr>
        <p:spPr>
          <a:xfrm>
            <a:off x="3165840" y="507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5308920" y="5213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椭圆 22"/>
          <p:cNvGrpSpPr/>
          <p:nvPr/>
        </p:nvGrpSpPr>
        <p:grpSpPr>
          <a:xfrm>
            <a:off x="2382840" y="2444760"/>
            <a:ext cx="4786200" cy="1292040"/>
            <a:chOff x="2382840" y="2444760"/>
            <a:chExt cx="4786200" cy="1292040"/>
          </a:xfrm>
        </p:grpSpPr>
        <p:pic>
          <p:nvPicPr>
            <p:cNvPr id="145" name="椭圆 22" descr=""/>
            <p:cNvPicPr/>
            <p:nvPr/>
          </p:nvPicPr>
          <p:blipFill>
            <a:blip r:embed="rId3"/>
            <a:stretch/>
          </p:blipFill>
          <p:spPr>
            <a:xfrm>
              <a:off x="2382840" y="2444760"/>
              <a:ext cx="478620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443320" y="2482920"/>
              <a:ext cx="466884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Oval 65"/>
          <p:cNvSpPr/>
          <p:nvPr/>
        </p:nvSpPr>
        <p:spPr>
          <a:xfrm>
            <a:off x="4081320" y="3976560"/>
            <a:ext cx="1212840" cy="24300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2"/>
          <p:cNvSpPr/>
          <p:nvPr/>
        </p:nvSpPr>
        <p:spPr>
          <a:xfrm rot="1267200">
            <a:off x="4017600" y="2670120"/>
            <a:ext cx="1405080" cy="1405080"/>
          </a:xfrm>
          <a:prstGeom prst="ellipse">
            <a:avLst/>
          </a:prstGeom>
          <a:solidFill>
            <a:srgbClr val="df995b"/>
          </a:solidFill>
          <a:ln w="0">
            <a:noFill/>
          </a:ln>
          <a:effectLst>
            <a:outerShdw dist="38160" dir="5400000" blurRad="0" rotWithShape="0">
              <a:srgbClr val="9cadbd">
                <a:alpha val="6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5"/>
          <p:cNvSpPr/>
          <p:nvPr/>
        </p:nvSpPr>
        <p:spPr>
          <a:xfrm>
            <a:off x="6608880" y="2352600"/>
            <a:ext cx="992160" cy="19836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4"/>
          <p:cNvSpPr/>
          <p:nvPr/>
        </p:nvSpPr>
        <p:spPr>
          <a:xfrm rot="1267200">
            <a:off x="6557760" y="1284120"/>
            <a:ext cx="1147680" cy="1149480"/>
          </a:xfrm>
          <a:prstGeom prst="ellipse">
            <a:avLst/>
          </a:prstGeom>
          <a:solidFill>
            <a:srgbClr val="df995b"/>
          </a:solidFill>
          <a:ln w="0">
            <a:noFill/>
          </a:ln>
          <a:effectLst>
            <a:outerShdw dist="38160" dir="5400000" blurRad="0" rotWithShape="0">
              <a:srgbClr val="9cadbd">
                <a:alpha val="6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5"/>
          <p:cNvSpPr/>
          <p:nvPr/>
        </p:nvSpPr>
        <p:spPr>
          <a:xfrm>
            <a:off x="2006640" y="2422440"/>
            <a:ext cx="992160" cy="198360"/>
          </a:xfrm>
          <a:prstGeom prst="ellipse">
            <a:avLst/>
          </a:prstGeom>
          <a:gradFill rotWithShape="0">
            <a:gsLst>
              <a:gs pos="0">
                <a:srgbClr val="6e6d68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16"/>
          <p:cNvSpPr/>
          <p:nvPr/>
        </p:nvSpPr>
        <p:spPr>
          <a:xfrm rot="1267200">
            <a:off x="1953720" y="1352520"/>
            <a:ext cx="1149480" cy="1149480"/>
          </a:xfrm>
          <a:prstGeom prst="ellipse">
            <a:avLst/>
          </a:prstGeom>
          <a:solidFill>
            <a:srgbClr val="df995b"/>
          </a:solidFill>
          <a:ln w="0">
            <a:noFill/>
          </a:ln>
          <a:effectLst>
            <a:outerShdw dist="38160" dir="5400000" blurRad="0" rotWithShape="0">
              <a:srgbClr val="9cadbd">
                <a:alpha val="6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2075040" y="17496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4257720" y="325584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708600" y="168264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26"/>
          <p:cNvGrpSpPr/>
          <p:nvPr/>
        </p:nvGrpSpPr>
        <p:grpSpPr>
          <a:xfrm>
            <a:off x="571680" y="1857240"/>
            <a:ext cx="8173800" cy="3581640"/>
            <a:chOff x="571680" y="1857240"/>
            <a:chExt cx="8173800" cy="3581640"/>
          </a:xfrm>
        </p:grpSpPr>
        <p:sp>
          <p:nvSpPr>
            <p:cNvPr id="162" name="矩形 8"/>
            <p:cNvSpPr/>
            <p:nvPr/>
          </p:nvSpPr>
          <p:spPr>
            <a:xfrm>
              <a:off x="571680" y="1857240"/>
              <a:ext cx="1979640" cy="3576960"/>
            </a:xfrm>
            <a:custGeom>
              <a:avLst/>
              <a:gdLst/>
              <a:ahLst/>
              <a:rect l="l" t="t" r="r" b="b"/>
              <a:pathLst>
                <a:path w="2232248" h="4032448">
                  <a:moveTo>
                    <a:pt x="0" y="0"/>
                  </a:moveTo>
                  <a:lnTo>
                    <a:pt x="1365862" y="0"/>
                  </a:lnTo>
                  <a:lnTo>
                    <a:pt x="2232248" y="1121503"/>
                  </a:lnTo>
                  <a:lnTo>
                    <a:pt x="2232248" y="4032448"/>
                  </a:lnTo>
                  <a:lnTo>
                    <a:pt x="0" y="4032448"/>
                  </a:lnTo>
                  <a:close/>
                </a:path>
              </a:pathLst>
            </a:custGeom>
            <a:solidFill>
              <a:srgbClr val="918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8"/>
            <p:cNvSpPr/>
            <p:nvPr/>
          </p:nvSpPr>
          <p:spPr>
            <a:xfrm>
              <a:off x="623880" y="1952280"/>
              <a:ext cx="1873080" cy="3385080"/>
            </a:xfrm>
            <a:custGeom>
              <a:avLst/>
              <a:gdLst/>
              <a:ahLst/>
              <a:rect l="l" t="t" r="r" b="b"/>
              <a:pathLst>
                <a:path w="2232248" h="4032448">
                  <a:moveTo>
                    <a:pt x="0" y="0"/>
                  </a:moveTo>
                  <a:lnTo>
                    <a:pt x="1365862" y="0"/>
                  </a:lnTo>
                  <a:lnTo>
                    <a:pt x="2232248" y="1121503"/>
                  </a:lnTo>
                  <a:lnTo>
                    <a:pt x="2232248" y="4032448"/>
                  </a:lnTo>
                  <a:lnTo>
                    <a:pt x="0" y="4032448"/>
                  </a:ln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13500000"/>
            </a:gradFill>
            <a:ln w="381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矩形 8"/>
            <p:cNvGrpSpPr/>
            <p:nvPr/>
          </p:nvGrpSpPr>
          <p:grpSpPr>
            <a:xfrm>
              <a:off x="883800" y="1962720"/>
              <a:ext cx="1596960" cy="1609560"/>
              <a:chOff x="883800" y="1962720"/>
              <a:chExt cx="1596960" cy="1609560"/>
            </a:xfrm>
          </p:grpSpPr>
          <p:pic>
            <p:nvPicPr>
              <p:cNvPr id="165" name="矩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883800" y="1962720"/>
                <a:ext cx="1596960" cy="16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 rot="3129000">
                <a:off x="1109520" y="2222280"/>
                <a:ext cx="115344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14"/>
            <p:cNvSpPr/>
            <p:nvPr/>
          </p:nvSpPr>
          <p:spPr>
            <a:xfrm>
              <a:off x="1189440" y="262296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2"/>
            <p:cNvSpPr/>
            <p:nvPr/>
          </p:nvSpPr>
          <p:spPr>
            <a:xfrm>
              <a:off x="1024560" y="4229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8"/>
            <p:cNvSpPr/>
            <p:nvPr/>
          </p:nvSpPr>
          <p:spPr>
            <a:xfrm>
              <a:off x="2648160" y="1861920"/>
              <a:ext cx="1979640" cy="3576960"/>
            </a:xfrm>
            <a:custGeom>
              <a:avLst/>
              <a:gdLst/>
              <a:ahLst/>
              <a:rect l="l" t="t" r="r" b="b"/>
              <a:pathLst>
                <a:path w="2232248" h="4032448">
                  <a:moveTo>
                    <a:pt x="0" y="0"/>
                  </a:moveTo>
                  <a:lnTo>
                    <a:pt x="1365862" y="0"/>
                  </a:lnTo>
                  <a:lnTo>
                    <a:pt x="2232248" y="1121503"/>
                  </a:lnTo>
                  <a:lnTo>
                    <a:pt x="2232248" y="4032448"/>
                  </a:lnTo>
                  <a:lnTo>
                    <a:pt x="0" y="4032448"/>
                  </a:lnTo>
                  <a:close/>
                </a:path>
              </a:pathLst>
            </a:custGeom>
            <a:solidFill>
              <a:srgbClr val="df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8"/>
            <p:cNvSpPr/>
            <p:nvPr/>
          </p:nvSpPr>
          <p:spPr>
            <a:xfrm>
              <a:off x="2700360" y="1958760"/>
              <a:ext cx="1874520" cy="3385080"/>
            </a:xfrm>
            <a:custGeom>
              <a:avLst/>
              <a:gdLst/>
              <a:ahLst/>
              <a:rect l="l" t="t" r="r" b="b"/>
              <a:pathLst>
                <a:path w="2232248" h="4032448">
                  <a:moveTo>
                    <a:pt x="0" y="0"/>
                  </a:moveTo>
                  <a:lnTo>
                    <a:pt x="1365862" y="0"/>
                  </a:lnTo>
                  <a:lnTo>
                    <a:pt x="2232248" y="1121503"/>
                  </a:lnTo>
                  <a:lnTo>
                    <a:pt x="2232248" y="4032448"/>
                  </a:lnTo>
                  <a:lnTo>
                    <a:pt x="0" y="4032448"/>
                  </a:ln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13500000"/>
            </a:gradFill>
            <a:ln w="381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矩形 13"/>
            <p:cNvGrpSpPr/>
            <p:nvPr/>
          </p:nvGrpSpPr>
          <p:grpSpPr>
            <a:xfrm>
              <a:off x="2962800" y="1962720"/>
              <a:ext cx="1596960" cy="1615680"/>
              <a:chOff x="2962800" y="1962720"/>
              <a:chExt cx="1596960" cy="1615680"/>
            </a:xfrm>
          </p:grpSpPr>
          <p:pic>
            <p:nvPicPr>
              <p:cNvPr id="172" name="矩形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62800" y="1962720"/>
                <a:ext cx="1596960" cy="161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 rot="3129000">
                <a:off x="3187080" y="2228040"/>
                <a:ext cx="115344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Box 14"/>
            <p:cNvSpPr/>
            <p:nvPr/>
          </p:nvSpPr>
          <p:spPr>
            <a:xfrm>
              <a:off x="3266640" y="262872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2"/>
            <p:cNvSpPr/>
            <p:nvPr/>
          </p:nvSpPr>
          <p:spPr>
            <a:xfrm>
              <a:off x="3101760" y="4235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8"/>
            <p:cNvSpPr/>
            <p:nvPr/>
          </p:nvSpPr>
          <p:spPr>
            <a:xfrm>
              <a:off x="4689360" y="1857240"/>
              <a:ext cx="1979640" cy="3576960"/>
            </a:xfrm>
            <a:custGeom>
              <a:avLst/>
              <a:gdLst/>
              <a:ahLst/>
              <a:rect l="l" t="t" r="r" b="b"/>
              <a:pathLst>
                <a:path w="2232248" h="4032448">
                  <a:moveTo>
                    <a:pt x="0" y="0"/>
                  </a:moveTo>
                  <a:lnTo>
                    <a:pt x="1365862" y="0"/>
                  </a:lnTo>
                  <a:lnTo>
                    <a:pt x="2232248" y="1121503"/>
                  </a:lnTo>
                  <a:lnTo>
                    <a:pt x="2232248" y="4032448"/>
                  </a:lnTo>
                  <a:lnTo>
                    <a:pt x="0" y="4032448"/>
                  </a:lnTo>
                  <a:close/>
                </a:path>
              </a:pathLst>
            </a:custGeom>
            <a:solidFill>
              <a:srgbClr val="918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8"/>
            <p:cNvSpPr/>
            <p:nvPr/>
          </p:nvSpPr>
          <p:spPr>
            <a:xfrm>
              <a:off x="4741920" y="1952280"/>
              <a:ext cx="1873080" cy="3385080"/>
            </a:xfrm>
            <a:custGeom>
              <a:avLst/>
              <a:gdLst/>
              <a:ahLst/>
              <a:rect l="l" t="t" r="r" b="b"/>
              <a:pathLst>
                <a:path w="2232248" h="4032448">
                  <a:moveTo>
                    <a:pt x="0" y="0"/>
                  </a:moveTo>
                  <a:lnTo>
                    <a:pt x="1365862" y="0"/>
                  </a:lnTo>
                  <a:lnTo>
                    <a:pt x="2232248" y="1121503"/>
                  </a:lnTo>
                  <a:lnTo>
                    <a:pt x="2232248" y="4032448"/>
                  </a:lnTo>
                  <a:lnTo>
                    <a:pt x="0" y="4032448"/>
                  </a:ln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13500000"/>
            </a:gradFill>
            <a:ln w="381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矩形 18"/>
            <p:cNvGrpSpPr/>
            <p:nvPr/>
          </p:nvGrpSpPr>
          <p:grpSpPr>
            <a:xfrm>
              <a:off x="4998960" y="1962720"/>
              <a:ext cx="1603080" cy="1609560"/>
              <a:chOff x="4998960" y="1962720"/>
              <a:chExt cx="1603080" cy="1609560"/>
            </a:xfrm>
          </p:grpSpPr>
          <p:pic>
            <p:nvPicPr>
              <p:cNvPr id="179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4998960" y="1962720"/>
                <a:ext cx="1603080" cy="16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 rot="3129000">
                <a:off x="5227200" y="2222280"/>
                <a:ext cx="115344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14"/>
            <p:cNvSpPr/>
            <p:nvPr/>
          </p:nvSpPr>
          <p:spPr>
            <a:xfrm>
              <a:off x="5307120" y="262296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12"/>
            <p:cNvSpPr/>
            <p:nvPr/>
          </p:nvSpPr>
          <p:spPr>
            <a:xfrm>
              <a:off x="5142240" y="4229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8"/>
            <p:cNvSpPr/>
            <p:nvPr/>
          </p:nvSpPr>
          <p:spPr>
            <a:xfrm>
              <a:off x="6765840" y="1861920"/>
              <a:ext cx="1979640" cy="3576960"/>
            </a:xfrm>
            <a:custGeom>
              <a:avLst/>
              <a:gdLst/>
              <a:ahLst/>
              <a:rect l="l" t="t" r="r" b="b"/>
              <a:pathLst>
                <a:path w="2232248" h="4032448">
                  <a:moveTo>
                    <a:pt x="0" y="0"/>
                  </a:moveTo>
                  <a:lnTo>
                    <a:pt x="1365862" y="0"/>
                  </a:lnTo>
                  <a:lnTo>
                    <a:pt x="2232248" y="1121503"/>
                  </a:lnTo>
                  <a:lnTo>
                    <a:pt x="2232248" y="4032448"/>
                  </a:lnTo>
                  <a:lnTo>
                    <a:pt x="0" y="4032448"/>
                  </a:lnTo>
                  <a:close/>
                </a:path>
              </a:pathLst>
            </a:custGeom>
            <a:solidFill>
              <a:srgbClr val="df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8"/>
            <p:cNvSpPr/>
            <p:nvPr/>
          </p:nvSpPr>
          <p:spPr>
            <a:xfrm>
              <a:off x="6818400" y="1958760"/>
              <a:ext cx="1873080" cy="3385080"/>
            </a:xfrm>
            <a:custGeom>
              <a:avLst/>
              <a:gdLst/>
              <a:ahLst/>
              <a:rect l="l" t="t" r="r" b="b"/>
              <a:pathLst>
                <a:path w="2232248" h="4032448">
                  <a:moveTo>
                    <a:pt x="0" y="0"/>
                  </a:moveTo>
                  <a:lnTo>
                    <a:pt x="1365862" y="0"/>
                  </a:lnTo>
                  <a:lnTo>
                    <a:pt x="2232248" y="1121503"/>
                  </a:lnTo>
                  <a:lnTo>
                    <a:pt x="2232248" y="4032448"/>
                  </a:lnTo>
                  <a:lnTo>
                    <a:pt x="0" y="4032448"/>
                  </a:ln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13500000"/>
            </a:gradFill>
            <a:ln w="381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矩形 23"/>
            <p:cNvGrpSpPr/>
            <p:nvPr/>
          </p:nvGrpSpPr>
          <p:grpSpPr>
            <a:xfrm>
              <a:off x="7077600" y="1962720"/>
              <a:ext cx="1603080" cy="1615680"/>
              <a:chOff x="7077600" y="1962720"/>
              <a:chExt cx="1603080" cy="1615680"/>
            </a:xfrm>
          </p:grpSpPr>
          <p:pic>
            <p:nvPicPr>
              <p:cNvPr id="186" name="矩形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7077600" y="1962720"/>
                <a:ext cx="1603080" cy="161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3129000">
                <a:off x="7304400" y="2228040"/>
                <a:ext cx="115344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TextBox 24"/>
            <p:cNvSpPr/>
            <p:nvPr/>
          </p:nvSpPr>
          <p:spPr>
            <a:xfrm>
              <a:off x="7384320" y="262872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2"/>
            <p:cNvSpPr/>
            <p:nvPr/>
          </p:nvSpPr>
          <p:spPr>
            <a:xfrm>
              <a:off x="7219440" y="4235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6T08:54:10Z</dcterms:modified>
  <cp:revision>286</cp:revision>
  <dc:subject/>
  <dc:title>幻灯片 1</dc:title>
</cp:coreProperties>
</file>