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3E8-DA63-4D42-855F-45ECF2DC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437-196F-441D-8468-95994898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DFC-9093-4B30-A33B-2D4E8AC7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F2F-858E-4CDA-A33F-7D6887A6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1FE-9D90-42F4-A522-3373316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B69-06A5-450B-9F87-5705349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4AA-A14C-44DD-AB6C-ABC2595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C7A-59D5-471B-A354-4C45575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FA9-7288-4888-BD23-BAD28C5E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09E-025E-405A-895F-3350081E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FA0-2C7F-4606-8816-11863D0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AC5-B8D8-4F96-8528-6BDB185B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8260-E33D-4302-88ED-0E4EC6FD9B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786200" y="1500120"/>
            <a:ext cx="40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23353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05T08:16:53Z</dcterms:modified>
  <cp:revision>80</cp:revision>
  <dc:subject/>
  <dc:title>幻灯片 1</dc:title>
</cp:coreProperties>
</file>