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1E7-C896-40E4-B064-A310C2DD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AD2-0FDA-48FA-A858-5B7AC9BA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72D-8F56-496C-8388-220FAEF4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16C-1E5A-4E1A-9CFE-08061057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9D6-8AB1-4555-88BE-440174AE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C7F-FBB5-484A-8620-2BB7A72D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152-C27F-48BC-B5A1-E0C22EE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D40-172C-482D-96A4-F9F1D974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94C-083D-4B4A-9267-66E11BCA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EFE-D7F6-41F1-B9DA-EF1A5FB1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C9D-84B2-44FE-9D06-DBBF6DE9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5AC-3943-4897-BD76-72454B7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21D-CB7B-42D2-A425-D142C6167F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500720" y="11476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50080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7093080" y="2205000"/>
            <a:ext cx="107928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569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783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0690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1408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283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283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64068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4260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712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406908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357960" y="3857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3997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3140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283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1997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569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640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0T02:54:22Z</dcterms:modified>
  <cp:revision>50</cp:revision>
  <dc:subject/>
  <dc:title>幻灯片 1</dc:title>
</cp:coreProperties>
</file>