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9E6-5E1C-4A20-A56D-B099846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7FD-1B59-4F95-912F-A121FE7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7BE-2616-4539-A1DF-81D470D5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F28-FD30-4DED-B527-120CD154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A84-82F2-45F0-A7E7-0211D68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899-E211-4684-982A-503A7197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794-EB82-4674-8C38-898711AD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705-7166-45ED-B2E0-CD4D3679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5B1-03A4-43F7-AE12-DAFF8FF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471-259D-4FE2-99BB-5BDBDAD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398-5F75-4549-A42C-12C4B8B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500-E513-4D94-BAD6-C738A44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A2FC-4EDB-453E-92B0-A95049F2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920" y="1230120"/>
              <a:ext cx="7058160" cy="431316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8320"/>
              <a:ext cx="15357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1880" y="2146680"/>
              <a:ext cx="20340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2120" cy="685800"/>
            <a:chOff x="7772400" y="533520"/>
            <a:chExt cx="76212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420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6680" y="53352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7003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2640" y="2209680"/>
              <a:ext cx="44748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2120" cy="685800"/>
            <a:chOff x="8001000" y="5486400"/>
            <a:chExt cx="76212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708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5280" y="548640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2120" cy="685800"/>
            <a:chOff x="7924680" y="3809880"/>
            <a:chExt cx="76212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300560"/>
              <a:ext cx="314280" cy="19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960" y="3809880"/>
              <a:ext cx="44784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8-13T08:25:1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