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BE43B-2044-4583-BA43-9444E98F9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01E8B-E4EA-4103-BE95-30EBFC91E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260CB-1737-4BE3-80C1-0799F8559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EC8E9-B7EC-4AFF-B0ED-1A3EE8962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893E5-1F20-464F-980F-1EC80F947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80AC7-D353-43F2-919E-FF1C4ADC9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F7622-7A97-4C7E-BA4D-30CD3DDA7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BD931-E763-464B-9D26-24131E823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D2CF7-86F3-4E71-91A8-352F33FF2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4B9A7-8186-4227-AFE8-0969C7A10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1E6BC-D3DA-4A35-8D8D-9185F8626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5E3B8-8757-4C68-B449-CE7E1A4E9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7AA39-74BB-4A8A-8DB9-6AFB473B0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A8ECC-EAE4-4655-A568-2EC69F20F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01FCB-4CB4-4603-A90C-22DEE2D23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518C6-9760-4358-9C83-79F9CB1E8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12135-EB29-4EB8-8932-D333A104E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280D4-EA03-4A6B-B05D-3E7274DEB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0D6B7-F735-4716-BF1C-F89F4D426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9BD73-4D97-44B0-880F-974743BC9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A0072-E51D-4BC3-A22D-10BA0F647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4D37E-2509-4757-B322-ABD41EBB5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CA4CB-D1BA-48E1-A94C-09F02D942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5FCBD-C489-4B74-B726-7AF4252CB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d0ff44"/>
              </a:buClr>
              <a:buSzPct val="25000"/>
              <a:buFont typeface="Wingdings" charset="2"/>
              <a:buChar char=""/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spcBef>
                <a:spcPts val="499"/>
              </a:spcBef>
              <a:buClr>
                <a:srgbClr val="d0ff44"/>
              </a:buClr>
              <a:buSzPct val="25000"/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lvl="2" marL="1143000" indent="-228600">
              <a:spcBef>
                <a:spcPts val="499"/>
              </a:spcBef>
              <a:buClr>
                <a:srgbClr val="d0ff44"/>
              </a:buClr>
              <a:buSzPct val="25000"/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lvl="3" marL="1600200" indent="-228600">
              <a:spcBef>
                <a:spcPts val="499"/>
              </a:spcBef>
              <a:buClr>
                <a:srgbClr val="d0ff44"/>
              </a:buClr>
              <a:buSzPct val="25000"/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lvl="4" marL="2057400" indent="-228600">
              <a:spcBef>
                <a:spcPts val="499"/>
              </a:spcBef>
              <a:buClr>
                <a:srgbClr val="d0ff44"/>
              </a:buClr>
              <a:buSzPct val="25000"/>
              <a:buFont typeface="Aria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Palatino Linotype"/>
                <a:ea typeface="HGS明朝E"/>
              </a:defRPr>
            </a:lvl1pPr>
          </a:lstStyle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C2830-C53A-4C4A-A807-88773B214FBB}" type="datetime">
              <a:rPr b="0" lang="zh-CN" sz="1200" spc="-1" strike="noStrike">
                <a:solidFill>
                  <a:srgbClr val="898989"/>
                </a:solidFill>
                <a:latin typeface="Palatino Linotype"/>
                <a:ea typeface="HGS明朝E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Palatino Linotype"/>
                <a:ea typeface="HGS明朝E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54092-FBDB-45CC-AB35-1B42E4B8B4BE}" type="slidenum">
              <a:rPr b="0" lang="zh-CN" sz="1200" spc="-1" strike="noStrike">
                <a:solidFill>
                  <a:srgbClr val="898989"/>
                </a:solidFill>
                <a:latin typeface="Palatino Linotype"/>
                <a:ea typeface="HGS明朝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 Linotype"/>
              </a:defRPr>
            </a:lvl1pPr>
          </a:lstStyle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 Linotype"/>
              </a:defRPr>
            </a:lvl1pPr>
          </a:lstStyle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91440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 Linotype"/>
              </a:defRPr>
            </a:lvl1pPr>
          </a:lstStyle>
          <a:p>
            <a:pPr marL="91440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A551E-6976-471E-AE8E-38F1E74E5802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直接连接符 3"/>
          <p:cNvSpPr/>
          <p:nvPr/>
        </p:nvSpPr>
        <p:spPr>
          <a:xfrm>
            <a:off x="0" y="4221000"/>
            <a:ext cx="9144000" cy="1800"/>
          </a:xfrm>
          <a:prstGeom prst="line">
            <a:avLst/>
          </a:prstGeom>
          <a:ln w="63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4652640"/>
            <a:ext cx="7772400" cy="96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5661000"/>
            <a:ext cx="6400800" cy="69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898989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fff43"/>
              </a:buClr>
              <a:buSzPct val="25000"/>
              <a:buFont typeface="Wingdings" charset="2"/>
              <a:buChar char=""/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-30240" y="4076640"/>
            <a:ext cx="9137880" cy="2781360"/>
          </a:xfrm>
          <a:prstGeom prst="rect">
            <a:avLst/>
          </a:prstGeom>
          <a:solidFill>
            <a:srgbClr val="99cc0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88" name=""/>
          <p:cNvSpPr/>
          <p:nvPr/>
        </p:nvSpPr>
        <p:spPr>
          <a:xfrm>
            <a:off x="396720" y="1413000"/>
            <a:ext cx="5762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5f5f5f"/>
                </a:solidFill>
                <a:latin typeface="Palatino Linotype"/>
                <a:ea typeface="微软雅黑"/>
              </a:rPr>
              <a:t>谢谢</a:t>
            </a:r>
            <a:r>
              <a:rPr b="1" i="1" lang="zh-CN" sz="6000" spc="-1" strike="noStrike">
                <a:solidFill>
                  <a:srgbClr val="99cc00"/>
                </a:solidFill>
                <a:latin typeface="Palatino Linotype"/>
                <a:ea typeface="微软雅黑"/>
              </a:rPr>
              <a:t>观赏</a:t>
            </a:r>
            <a:endParaRPr b="0" lang="en-US" sz="6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89" name="TextBox 5"/>
          <p:cNvSpPr/>
          <p:nvPr/>
        </p:nvSpPr>
        <p:spPr>
          <a:xfrm>
            <a:off x="324000" y="4437000"/>
            <a:ext cx="345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5f5f5f"/>
                </a:solidFill>
                <a:latin typeface="Arial Unicode MS"/>
                <a:ea typeface="Arial Unicode MS"/>
              </a:rPr>
              <a:t>WPS</a:t>
            </a: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zh-CN" sz="4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Office</a:t>
            </a: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0" name="TextBox 6"/>
          <p:cNvSpPr/>
          <p:nvPr/>
        </p:nvSpPr>
        <p:spPr>
          <a:xfrm>
            <a:off x="-1134000" y="5302080"/>
            <a:ext cx="575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istral"/>
              </a:rPr>
              <a:t>Make Presentation much more fun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1" name="TextBox 10"/>
          <p:cNvSpPr/>
          <p:nvPr/>
        </p:nvSpPr>
        <p:spPr>
          <a:xfrm>
            <a:off x="7524720" y="5950080"/>
            <a:ext cx="1584360" cy="53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8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@WPS</a:t>
            </a: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官方微博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  <a:p>
            <a:pPr marL="914400" indent="-914400">
              <a:lnSpc>
                <a:spcPct val="8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  <a:p>
            <a:pPr marL="914400" indent="-914400">
              <a:lnSpc>
                <a:spcPct val="8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@kingsoftwps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7236000" y="5950080"/>
            <a:ext cx="234720" cy="2347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7237440" y="6238800"/>
            <a:ext cx="233280" cy="2332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6445080" y="2997360"/>
            <a:ext cx="2524320" cy="80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4T21:55:00Z</dcterms:created>
  <dc:creator>果因PPT工作室</dc:creator>
  <dc:description/>
  <cp:keywords>XS-普屏 4：3;SC-淡绿色;BG-浅色;DH-静态</cp:keywords>
  <dc:language>en-US</dc:language>
  <cp:lastModifiedBy>田士庆</cp:lastModifiedBy>
  <dcterms:modified xsi:type="dcterms:W3CDTF">2012-09-19T06:45:55Z</dcterms:modified>
  <cp:revision>7</cp:revision>
  <dc:subject>TP-人文风俗</dc:subject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405</vt:lpwstr>
  </property>
</Properties>
</file>