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6408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8432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64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64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8432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8432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64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64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64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84320"/>
            <a:ext cx="822960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822960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401580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84320"/>
            <a:ext cx="401580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84320"/>
            <a:ext cx="401580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64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401580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8432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64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8432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6408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0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新模板\竹\01.pn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246240" y="115920"/>
            <a:ext cx="2178000" cy="809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4"/>
          <p:cNvGrpSpPr/>
          <p:nvPr/>
        </p:nvGrpSpPr>
        <p:grpSpPr>
          <a:xfrm>
            <a:off x="414360" y="835200"/>
            <a:ext cx="8315280" cy="5406840"/>
            <a:chOff x="414360" y="835200"/>
            <a:chExt cx="8315280" cy="5406840"/>
          </a:xfrm>
        </p:grpSpPr>
        <p:pic>
          <p:nvPicPr>
            <p:cNvPr id="3" name="圆角矩形 9" descr=""/>
            <p:cNvPicPr/>
            <p:nvPr/>
          </p:nvPicPr>
          <p:blipFill>
            <a:blip r:embed="rId4"/>
            <a:stretch/>
          </p:blipFill>
          <p:spPr>
            <a:xfrm>
              <a:off x="414360" y="835200"/>
              <a:ext cx="831528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6"/>
            <p:cNvSpPr/>
            <p:nvPr/>
          </p:nvSpPr>
          <p:spPr>
            <a:xfrm>
              <a:off x="528840" y="949320"/>
              <a:ext cx="8086680" cy="51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084320"/>
            <a:ext cx="822960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0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0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0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02.png"/>
          <p:cNvPicPr/>
          <p:nvPr/>
        </p:nvPicPr>
        <p:blipFill>
          <a:blip r:embed="rId4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" name="图片 7" descr="02.png"/>
          <p:cNvPicPr/>
          <p:nvPr/>
        </p:nvPicPr>
        <p:blipFill>
          <a:blip r:embed="rId5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w="0">
            <a:noFill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8" name="矩形 8"/>
          <p:cNvSpPr/>
          <p:nvPr/>
        </p:nvSpPr>
        <p:spPr>
          <a:xfrm>
            <a:off x="-1425600" y="1233360"/>
            <a:ext cx="142560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803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 rot="10800000">
            <a:off x="9143640" y="1233360"/>
            <a:ext cx="64764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10"/>
          <p:cNvSpPr/>
          <p:nvPr/>
        </p:nvSpPr>
        <p:spPr>
          <a:xfrm>
            <a:off x="1268280" y="4325760"/>
            <a:ext cx="228600" cy="730440"/>
          </a:xfrm>
          <a:custGeom>
            <a:avLst/>
            <a:gdLst>
              <a:gd name="textAreaLeft" fmla="*/ 0 w 228600"/>
              <a:gd name="textAreaRight" fmla="*/ 228960 w 22860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227320" h="730167">
                <a:moveTo>
                  <a:pt x="51790" y="0"/>
                </a:moveTo>
                <a:cubicBezTo>
                  <a:pt x="56628" y="72571"/>
                  <a:pt x="58690" y="145381"/>
                  <a:pt x="66304" y="217714"/>
                </a:cubicBezTo>
                <a:cubicBezTo>
                  <a:pt x="68392" y="237553"/>
                  <a:pt x="65494" y="263001"/>
                  <a:pt x="80819" y="275772"/>
                </a:cubicBezTo>
                <a:cubicBezTo>
                  <a:pt x="99771" y="291565"/>
                  <a:pt x="129200" y="285448"/>
                  <a:pt x="153390" y="290286"/>
                </a:cubicBezTo>
                <a:cubicBezTo>
                  <a:pt x="227320" y="364216"/>
                  <a:pt x="208437" y="322866"/>
                  <a:pt x="182419" y="478972"/>
                </a:cubicBezTo>
                <a:cubicBezTo>
                  <a:pt x="175860" y="518325"/>
                  <a:pt x="181601" y="566875"/>
                  <a:pt x="153390" y="595086"/>
                </a:cubicBezTo>
                <a:cubicBezTo>
                  <a:pt x="138876" y="609600"/>
                  <a:pt x="125616" y="625488"/>
                  <a:pt x="109847" y="638629"/>
                </a:cubicBezTo>
                <a:cubicBezTo>
                  <a:pt x="0" y="730167"/>
                  <a:pt x="121720" y="612240"/>
                  <a:pt x="37276" y="696686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1"/>
          <p:cNvSpPr/>
          <p:nvPr/>
        </p:nvSpPr>
        <p:spPr>
          <a:xfrm>
            <a:off x="1278000" y="363600"/>
            <a:ext cx="347760" cy="434880"/>
          </a:xfrm>
          <a:custGeom>
            <a:avLst/>
            <a:gdLst>
              <a:gd name="textAreaLeft" fmla="*/ 0 w 347760"/>
              <a:gd name="textAreaRight" fmla="*/ 348120 w 3477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24114" h="580572">
                <a:moveTo>
                  <a:pt x="0" y="0"/>
                </a:moveTo>
                <a:cubicBezTo>
                  <a:pt x="11749" y="14686"/>
                  <a:pt x="111127" y="149862"/>
                  <a:pt x="159657" y="188686"/>
                </a:cubicBezTo>
                <a:cubicBezTo>
                  <a:pt x="192156" y="214685"/>
                  <a:pt x="229486" y="234374"/>
                  <a:pt x="261257" y="261257"/>
                </a:cubicBezTo>
                <a:cubicBezTo>
                  <a:pt x="388562" y="368977"/>
                  <a:pt x="295827" y="335214"/>
                  <a:pt x="406400" y="362857"/>
                </a:cubicBezTo>
                <a:cubicBezTo>
                  <a:pt x="445105" y="387048"/>
                  <a:pt x="483089" y="412431"/>
                  <a:pt x="522514" y="435429"/>
                </a:cubicBezTo>
                <a:cubicBezTo>
                  <a:pt x="541203" y="446331"/>
                  <a:pt x="566491" y="448029"/>
                  <a:pt x="580572" y="464457"/>
                </a:cubicBezTo>
                <a:cubicBezTo>
                  <a:pt x="597528" y="484239"/>
                  <a:pt x="600452" y="512634"/>
                  <a:pt x="609600" y="537029"/>
                </a:cubicBezTo>
                <a:cubicBezTo>
                  <a:pt x="614972" y="551354"/>
                  <a:pt x="624114" y="580572"/>
                  <a:pt x="624114" y="580572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2"/>
          <p:cNvSpPr/>
          <p:nvPr/>
        </p:nvSpPr>
        <p:spPr>
          <a:xfrm>
            <a:off x="3137040" y="2278080"/>
            <a:ext cx="274320" cy="349200"/>
          </a:xfrm>
          <a:custGeom>
            <a:avLst/>
            <a:gdLst>
              <a:gd name="textAreaLeft" fmla="*/ 0 w 274320"/>
              <a:gd name="textAreaRight" fmla="*/ 274680 w 2743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115350" h="2133600">
                <a:moveTo>
                  <a:pt x="56174" y="0"/>
                </a:moveTo>
                <a:cubicBezTo>
                  <a:pt x="41054" y="173872"/>
                  <a:pt x="0" y="476087"/>
                  <a:pt x="41660" y="653143"/>
                </a:cubicBezTo>
                <a:cubicBezTo>
                  <a:pt x="73491" y="788425"/>
                  <a:pt x="150159" y="815892"/>
                  <a:pt x="215831" y="914400"/>
                </a:cubicBezTo>
                <a:cubicBezTo>
                  <a:pt x="490412" y="1326271"/>
                  <a:pt x="171603" y="950722"/>
                  <a:pt x="578688" y="1320800"/>
                </a:cubicBezTo>
                <a:cubicBezTo>
                  <a:pt x="611693" y="1350805"/>
                  <a:pt x="633393" y="1391723"/>
                  <a:pt x="665774" y="1422400"/>
                </a:cubicBezTo>
                <a:cubicBezTo>
                  <a:pt x="725585" y="1479063"/>
                  <a:pt x="793616" y="1526504"/>
                  <a:pt x="854460" y="1582057"/>
                </a:cubicBezTo>
                <a:cubicBezTo>
                  <a:pt x="1033815" y="1745817"/>
                  <a:pt x="929461" y="1703820"/>
                  <a:pt x="1043145" y="1741714"/>
                </a:cubicBezTo>
                <a:cubicBezTo>
                  <a:pt x="909324" y="1830929"/>
                  <a:pt x="1115350" y="1701560"/>
                  <a:pt x="927031" y="1785257"/>
                </a:cubicBezTo>
                <a:cubicBezTo>
                  <a:pt x="904925" y="1795082"/>
                  <a:pt x="888326" y="1814286"/>
                  <a:pt x="868974" y="1828800"/>
                </a:cubicBezTo>
                <a:cubicBezTo>
                  <a:pt x="864136" y="1852990"/>
                  <a:pt x="863122" y="1878272"/>
                  <a:pt x="854460" y="1901371"/>
                </a:cubicBezTo>
                <a:cubicBezTo>
                  <a:pt x="848335" y="1917704"/>
                  <a:pt x="830947" y="1928365"/>
                  <a:pt x="825431" y="1944914"/>
                </a:cubicBezTo>
                <a:cubicBezTo>
                  <a:pt x="785701" y="2064105"/>
                  <a:pt x="848651" y="2006845"/>
                  <a:pt x="767374" y="2061028"/>
                </a:cubicBezTo>
                <a:lnTo>
                  <a:pt x="723831" y="2133600"/>
                </a:ln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4"/>
          <p:cNvSpPr/>
          <p:nvPr/>
        </p:nvSpPr>
        <p:spPr>
          <a:xfrm>
            <a:off x="4941720" y="4441680"/>
            <a:ext cx="181080" cy="463680"/>
          </a:xfrm>
          <a:custGeom>
            <a:avLst/>
            <a:gdLst>
              <a:gd name="textAreaLeft" fmla="*/ 0 w 181080"/>
              <a:gd name="textAreaRight" fmla="*/ 181440 w 181080"/>
              <a:gd name="textAreaTop" fmla="*/ 0 h 463680"/>
              <a:gd name="textAreaBottom" fmla="*/ 463680 h 463680"/>
            </a:gdLst>
            <a:ahLst/>
            <a:rect l="textAreaLeft" t="textAreaTop" r="textAreaRight" b="textAreaBottom"/>
            <a:pathLst>
              <a:path w="255749" h="595086">
                <a:moveTo>
                  <a:pt x="211234" y="0"/>
                </a:moveTo>
                <a:cubicBezTo>
                  <a:pt x="197541" y="41081"/>
                  <a:pt x="180051" y="100395"/>
                  <a:pt x="153177" y="130628"/>
                </a:cubicBezTo>
                <a:cubicBezTo>
                  <a:pt x="134435" y="151713"/>
                  <a:pt x="104796" y="159657"/>
                  <a:pt x="80606" y="174171"/>
                </a:cubicBezTo>
                <a:cubicBezTo>
                  <a:pt x="23902" y="268677"/>
                  <a:pt x="0" y="276497"/>
                  <a:pt x="51577" y="420914"/>
                </a:cubicBezTo>
                <a:cubicBezTo>
                  <a:pt x="58854" y="441290"/>
                  <a:pt x="90282" y="440267"/>
                  <a:pt x="109634" y="449943"/>
                </a:cubicBezTo>
                <a:cubicBezTo>
                  <a:pt x="114472" y="464457"/>
                  <a:pt x="113331" y="482668"/>
                  <a:pt x="124149" y="493486"/>
                </a:cubicBezTo>
                <a:cubicBezTo>
                  <a:pt x="142695" y="512032"/>
                  <a:pt x="230733" y="511077"/>
                  <a:pt x="240263" y="522514"/>
                </a:cubicBezTo>
                <a:cubicBezTo>
                  <a:pt x="255749" y="541098"/>
                  <a:pt x="240263" y="570895"/>
                  <a:pt x="240263" y="595086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5"/>
          <p:cNvSpPr/>
          <p:nvPr/>
        </p:nvSpPr>
        <p:spPr>
          <a:xfrm>
            <a:off x="6615000" y="5037120"/>
            <a:ext cx="265320" cy="1324080"/>
          </a:xfrm>
          <a:custGeom>
            <a:avLst/>
            <a:gdLst>
              <a:gd name="textAreaLeft" fmla="*/ 0 w 265320"/>
              <a:gd name="textAreaRight" fmla="*/ 265680 w 26532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265234" h="1324780">
                <a:moveTo>
                  <a:pt x="265234" y="0"/>
                </a:moveTo>
                <a:cubicBezTo>
                  <a:pt x="236206" y="33867"/>
                  <a:pt x="208153" y="68595"/>
                  <a:pt x="178149" y="101600"/>
                </a:cubicBezTo>
                <a:cubicBezTo>
                  <a:pt x="159739" y="121851"/>
                  <a:pt x="131666" y="134856"/>
                  <a:pt x="120092" y="159657"/>
                </a:cubicBezTo>
                <a:cubicBezTo>
                  <a:pt x="96764" y="209645"/>
                  <a:pt x="94908" y="267296"/>
                  <a:pt x="76549" y="319314"/>
                </a:cubicBezTo>
                <a:cubicBezTo>
                  <a:pt x="65747" y="349919"/>
                  <a:pt x="44657" y="376108"/>
                  <a:pt x="33006" y="406400"/>
                </a:cubicBezTo>
                <a:cubicBezTo>
                  <a:pt x="20362" y="439274"/>
                  <a:pt x="13653" y="474133"/>
                  <a:pt x="3977" y="508000"/>
                </a:cubicBezTo>
                <a:cubicBezTo>
                  <a:pt x="8815" y="604762"/>
                  <a:pt x="0" y="703184"/>
                  <a:pt x="18492" y="798286"/>
                </a:cubicBezTo>
                <a:cubicBezTo>
                  <a:pt x="120866" y="1324780"/>
                  <a:pt x="105577" y="814328"/>
                  <a:pt x="105577" y="1161143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6"/>
          <p:cNvSpPr/>
          <p:nvPr/>
        </p:nvSpPr>
        <p:spPr>
          <a:xfrm>
            <a:off x="7689960" y="774720"/>
            <a:ext cx="110880" cy="314280"/>
          </a:xfrm>
          <a:custGeom>
            <a:avLst/>
            <a:gdLst>
              <a:gd name="textAreaLeft" fmla="*/ 0 w 110880"/>
              <a:gd name="textAreaRight" fmla="*/ 111240 w 11088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10176" h="313955">
                <a:moveTo>
                  <a:pt x="31485" y="81727"/>
                </a:moveTo>
                <a:cubicBezTo>
                  <a:pt x="84416" y="240523"/>
                  <a:pt x="0" y="0"/>
                  <a:pt x="75028" y="168813"/>
                </a:cubicBezTo>
                <a:cubicBezTo>
                  <a:pt x="110176" y="247895"/>
                  <a:pt x="104056" y="241972"/>
                  <a:pt x="104056" y="313955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7"/>
          <p:cNvSpPr/>
          <p:nvPr/>
        </p:nvSpPr>
        <p:spPr>
          <a:xfrm>
            <a:off x="8128080" y="4165560"/>
            <a:ext cx="75960" cy="392040"/>
          </a:xfrm>
          <a:custGeom>
            <a:avLst/>
            <a:gdLst>
              <a:gd name="textAreaLeft" fmla="*/ 0 w 75960"/>
              <a:gd name="textAreaRight" fmla="*/ 76320 w 7596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75941" h="391886">
                <a:moveTo>
                  <a:pt x="0" y="0"/>
                </a:moveTo>
                <a:cubicBezTo>
                  <a:pt x="4838" y="33867"/>
                  <a:pt x="6217" y="68411"/>
                  <a:pt x="14514" y="101600"/>
                </a:cubicBezTo>
                <a:cubicBezTo>
                  <a:pt x="20833" y="126876"/>
                  <a:pt x="36056" y="149216"/>
                  <a:pt x="43543" y="174171"/>
                </a:cubicBezTo>
                <a:cubicBezTo>
                  <a:pt x="50632" y="197800"/>
                  <a:pt x="52074" y="222810"/>
                  <a:pt x="58057" y="246743"/>
                </a:cubicBezTo>
                <a:cubicBezTo>
                  <a:pt x="61768" y="261586"/>
                  <a:pt x="71049" y="275063"/>
                  <a:pt x="72571" y="290286"/>
                </a:cubicBezTo>
                <a:cubicBezTo>
                  <a:pt x="75941" y="323985"/>
                  <a:pt x="72571" y="358019"/>
                  <a:pt x="72571" y="391886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8"/>
          <p:cNvSpPr/>
          <p:nvPr/>
        </p:nvSpPr>
        <p:spPr>
          <a:xfrm>
            <a:off x="6894360" y="4267080"/>
            <a:ext cx="360" cy="160560"/>
          </a:xfrm>
          <a:custGeom>
            <a:avLst/>
            <a:gdLst/>
            <a:ahLst/>
            <a:rect l="l" t="t" r="r" b="b"/>
            <a:pathLst>
              <a:path w="0" h="159657">
                <a:moveTo>
                  <a:pt x="0" y="0"/>
                </a:moveTo>
                <a:lnTo>
                  <a:pt x="0" y="159657"/>
                </a:ln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8359920" y="5559480"/>
            <a:ext cx="522000" cy="623880"/>
          </a:xfrm>
          <a:custGeom>
            <a:avLst/>
            <a:gdLst>
              <a:gd name="textAreaLeft" fmla="*/ 0 w 522000"/>
              <a:gd name="textAreaRight" fmla="*/ 522360 w 5220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522514" h="624115">
                <a:moveTo>
                  <a:pt x="522514" y="0"/>
                </a:moveTo>
                <a:cubicBezTo>
                  <a:pt x="503162" y="9676"/>
                  <a:pt x="482063" y="16453"/>
                  <a:pt x="464457" y="29029"/>
                </a:cubicBezTo>
                <a:cubicBezTo>
                  <a:pt x="447754" y="40960"/>
                  <a:pt x="434551" y="57230"/>
                  <a:pt x="420914" y="72572"/>
                </a:cubicBezTo>
                <a:cubicBezTo>
                  <a:pt x="395810" y="100814"/>
                  <a:pt x="371688" y="129945"/>
                  <a:pt x="348342" y="159658"/>
                </a:cubicBezTo>
                <a:cubicBezTo>
                  <a:pt x="318451" y="197701"/>
                  <a:pt x="294073" y="240222"/>
                  <a:pt x="261257" y="275772"/>
                </a:cubicBezTo>
                <a:cubicBezTo>
                  <a:pt x="235627" y="303538"/>
                  <a:pt x="205611" y="327383"/>
                  <a:pt x="174171" y="348343"/>
                </a:cubicBezTo>
                <a:cubicBezTo>
                  <a:pt x="161441" y="356830"/>
                  <a:pt x="145142" y="358020"/>
                  <a:pt x="130628" y="362858"/>
                </a:cubicBezTo>
                <a:cubicBezTo>
                  <a:pt x="92510" y="400976"/>
                  <a:pt x="0" y="484783"/>
                  <a:pt x="0" y="537029"/>
                </a:cubicBezTo>
                <a:lnTo>
                  <a:pt x="0" y="624115"/>
                </a:ln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20"/>
          <p:cNvSpPr/>
          <p:nvPr/>
        </p:nvSpPr>
        <p:spPr>
          <a:xfrm rot="3730200">
            <a:off x="2529360" y="4536000"/>
            <a:ext cx="674640" cy="599760"/>
          </a:xfrm>
          <a:custGeom>
            <a:avLst/>
            <a:gdLst>
              <a:gd name="textAreaLeft" fmla="*/ 0 w 674640"/>
              <a:gd name="textAreaRight" fmla="*/ 675000 w 67464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624114" h="580572">
                <a:moveTo>
                  <a:pt x="0" y="0"/>
                </a:moveTo>
                <a:cubicBezTo>
                  <a:pt x="11749" y="14686"/>
                  <a:pt x="111127" y="149862"/>
                  <a:pt x="159657" y="188686"/>
                </a:cubicBezTo>
                <a:cubicBezTo>
                  <a:pt x="192156" y="214685"/>
                  <a:pt x="229486" y="234374"/>
                  <a:pt x="261257" y="261257"/>
                </a:cubicBezTo>
                <a:cubicBezTo>
                  <a:pt x="388562" y="368977"/>
                  <a:pt x="295827" y="335214"/>
                  <a:pt x="406400" y="362857"/>
                </a:cubicBezTo>
                <a:cubicBezTo>
                  <a:pt x="445105" y="387048"/>
                  <a:pt x="483089" y="412431"/>
                  <a:pt x="522514" y="435429"/>
                </a:cubicBezTo>
                <a:cubicBezTo>
                  <a:pt x="541203" y="446331"/>
                  <a:pt x="566491" y="448029"/>
                  <a:pt x="580572" y="464457"/>
                </a:cubicBezTo>
                <a:cubicBezTo>
                  <a:pt x="597528" y="484239"/>
                  <a:pt x="600452" y="512634"/>
                  <a:pt x="609600" y="537029"/>
                </a:cubicBezTo>
                <a:cubicBezTo>
                  <a:pt x="614972" y="551354"/>
                  <a:pt x="624114" y="580572"/>
                  <a:pt x="624114" y="580572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21"/>
          <p:cNvSpPr/>
          <p:nvPr/>
        </p:nvSpPr>
        <p:spPr>
          <a:xfrm rot="3817200">
            <a:off x="804600" y="4989240"/>
            <a:ext cx="111240" cy="139680"/>
          </a:xfrm>
          <a:custGeom>
            <a:avLst/>
            <a:gdLst>
              <a:gd name="textAreaLeft" fmla="*/ 0 w 111240"/>
              <a:gd name="textAreaRight" fmla="*/ 111600 w 1112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27320" h="730167">
                <a:moveTo>
                  <a:pt x="51790" y="0"/>
                </a:moveTo>
                <a:cubicBezTo>
                  <a:pt x="56628" y="72571"/>
                  <a:pt x="58690" y="145381"/>
                  <a:pt x="66304" y="217714"/>
                </a:cubicBezTo>
                <a:cubicBezTo>
                  <a:pt x="68392" y="237553"/>
                  <a:pt x="65494" y="263001"/>
                  <a:pt x="80819" y="275772"/>
                </a:cubicBezTo>
                <a:cubicBezTo>
                  <a:pt x="99771" y="291565"/>
                  <a:pt x="129200" y="285448"/>
                  <a:pt x="153390" y="290286"/>
                </a:cubicBezTo>
                <a:cubicBezTo>
                  <a:pt x="227320" y="364216"/>
                  <a:pt x="208437" y="322866"/>
                  <a:pt x="182419" y="478972"/>
                </a:cubicBezTo>
                <a:cubicBezTo>
                  <a:pt x="175860" y="518325"/>
                  <a:pt x="181601" y="566875"/>
                  <a:pt x="153390" y="595086"/>
                </a:cubicBezTo>
                <a:cubicBezTo>
                  <a:pt x="138876" y="609600"/>
                  <a:pt x="125616" y="625488"/>
                  <a:pt x="109847" y="638629"/>
                </a:cubicBezTo>
                <a:cubicBezTo>
                  <a:pt x="0" y="730167"/>
                  <a:pt x="121720" y="612240"/>
                  <a:pt x="37276" y="696686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2"/>
          <p:cNvSpPr/>
          <p:nvPr/>
        </p:nvSpPr>
        <p:spPr>
          <a:xfrm rot="3817200">
            <a:off x="936720" y="826920"/>
            <a:ext cx="169920" cy="84240"/>
          </a:xfrm>
          <a:custGeom>
            <a:avLst/>
            <a:gdLst>
              <a:gd name="textAreaLeft" fmla="*/ 0 w 169920"/>
              <a:gd name="textAreaRight" fmla="*/ 170280 w 1699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624114" h="580572">
                <a:moveTo>
                  <a:pt x="0" y="0"/>
                </a:moveTo>
                <a:cubicBezTo>
                  <a:pt x="11749" y="14686"/>
                  <a:pt x="111127" y="149862"/>
                  <a:pt x="159657" y="188686"/>
                </a:cubicBezTo>
                <a:cubicBezTo>
                  <a:pt x="192156" y="214685"/>
                  <a:pt x="229486" y="234374"/>
                  <a:pt x="261257" y="261257"/>
                </a:cubicBezTo>
                <a:cubicBezTo>
                  <a:pt x="388562" y="368977"/>
                  <a:pt x="295827" y="335214"/>
                  <a:pt x="406400" y="362857"/>
                </a:cubicBezTo>
                <a:cubicBezTo>
                  <a:pt x="445105" y="387048"/>
                  <a:pt x="483089" y="412431"/>
                  <a:pt x="522514" y="435429"/>
                </a:cubicBezTo>
                <a:cubicBezTo>
                  <a:pt x="541203" y="446331"/>
                  <a:pt x="566491" y="448029"/>
                  <a:pt x="580572" y="464457"/>
                </a:cubicBezTo>
                <a:cubicBezTo>
                  <a:pt x="597528" y="484239"/>
                  <a:pt x="600452" y="512634"/>
                  <a:pt x="609600" y="537029"/>
                </a:cubicBezTo>
                <a:cubicBezTo>
                  <a:pt x="614972" y="551354"/>
                  <a:pt x="624114" y="580572"/>
                  <a:pt x="624114" y="580572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3"/>
          <p:cNvSpPr/>
          <p:nvPr/>
        </p:nvSpPr>
        <p:spPr>
          <a:xfrm rot="3817200">
            <a:off x="2291400" y="3558240"/>
            <a:ext cx="544680" cy="409680"/>
          </a:xfrm>
          <a:custGeom>
            <a:avLst/>
            <a:gdLst>
              <a:gd name="textAreaLeft" fmla="*/ 0 w 544680"/>
              <a:gd name="textAreaRight" fmla="*/ 545040 w 5446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115350" h="2133600">
                <a:moveTo>
                  <a:pt x="56174" y="0"/>
                </a:moveTo>
                <a:cubicBezTo>
                  <a:pt x="41054" y="173872"/>
                  <a:pt x="0" y="476087"/>
                  <a:pt x="41660" y="653143"/>
                </a:cubicBezTo>
                <a:cubicBezTo>
                  <a:pt x="73491" y="788425"/>
                  <a:pt x="150159" y="815892"/>
                  <a:pt x="215831" y="914400"/>
                </a:cubicBezTo>
                <a:cubicBezTo>
                  <a:pt x="490412" y="1326271"/>
                  <a:pt x="171603" y="950722"/>
                  <a:pt x="578688" y="1320800"/>
                </a:cubicBezTo>
                <a:cubicBezTo>
                  <a:pt x="611693" y="1350805"/>
                  <a:pt x="633393" y="1391723"/>
                  <a:pt x="665774" y="1422400"/>
                </a:cubicBezTo>
                <a:cubicBezTo>
                  <a:pt x="725585" y="1479063"/>
                  <a:pt x="793616" y="1526504"/>
                  <a:pt x="854460" y="1582057"/>
                </a:cubicBezTo>
                <a:cubicBezTo>
                  <a:pt x="1033815" y="1745817"/>
                  <a:pt x="929461" y="1703820"/>
                  <a:pt x="1043145" y="1741714"/>
                </a:cubicBezTo>
                <a:cubicBezTo>
                  <a:pt x="909324" y="1830929"/>
                  <a:pt x="1115350" y="1701560"/>
                  <a:pt x="927031" y="1785257"/>
                </a:cubicBezTo>
                <a:cubicBezTo>
                  <a:pt x="904925" y="1795082"/>
                  <a:pt x="888326" y="1814286"/>
                  <a:pt x="868974" y="1828800"/>
                </a:cubicBezTo>
                <a:cubicBezTo>
                  <a:pt x="864136" y="1852990"/>
                  <a:pt x="863122" y="1878272"/>
                  <a:pt x="854460" y="1901371"/>
                </a:cubicBezTo>
                <a:cubicBezTo>
                  <a:pt x="848335" y="1917704"/>
                  <a:pt x="830947" y="1928365"/>
                  <a:pt x="825431" y="1944914"/>
                </a:cubicBezTo>
                <a:cubicBezTo>
                  <a:pt x="785701" y="2064105"/>
                  <a:pt x="848651" y="2006845"/>
                  <a:pt x="767374" y="2061028"/>
                </a:cubicBezTo>
                <a:lnTo>
                  <a:pt x="723831" y="2133600"/>
                </a:ln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4"/>
          <p:cNvSpPr/>
          <p:nvPr/>
        </p:nvSpPr>
        <p:spPr>
          <a:xfrm rot="3817200">
            <a:off x="4530240" y="4889880"/>
            <a:ext cx="123840" cy="114120"/>
          </a:xfrm>
          <a:custGeom>
            <a:avLst/>
            <a:gdLst>
              <a:gd name="textAreaLeft" fmla="*/ 0 w 123840"/>
              <a:gd name="textAreaRight" fmla="*/ 124200 w 1238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55749" h="595086">
                <a:moveTo>
                  <a:pt x="211234" y="0"/>
                </a:moveTo>
                <a:cubicBezTo>
                  <a:pt x="197541" y="41081"/>
                  <a:pt x="180051" y="100395"/>
                  <a:pt x="153177" y="130628"/>
                </a:cubicBezTo>
                <a:cubicBezTo>
                  <a:pt x="134435" y="151713"/>
                  <a:pt x="104796" y="159657"/>
                  <a:pt x="80606" y="174171"/>
                </a:cubicBezTo>
                <a:cubicBezTo>
                  <a:pt x="23902" y="268677"/>
                  <a:pt x="0" y="276497"/>
                  <a:pt x="51577" y="420914"/>
                </a:cubicBezTo>
                <a:cubicBezTo>
                  <a:pt x="58854" y="441290"/>
                  <a:pt x="90282" y="440267"/>
                  <a:pt x="109634" y="449943"/>
                </a:cubicBezTo>
                <a:cubicBezTo>
                  <a:pt x="114472" y="464457"/>
                  <a:pt x="113331" y="482668"/>
                  <a:pt x="124149" y="493486"/>
                </a:cubicBezTo>
                <a:cubicBezTo>
                  <a:pt x="142695" y="512032"/>
                  <a:pt x="230733" y="511077"/>
                  <a:pt x="240263" y="522514"/>
                </a:cubicBezTo>
                <a:cubicBezTo>
                  <a:pt x="255749" y="541098"/>
                  <a:pt x="240263" y="570895"/>
                  <a:pt x="240263" y="595086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5"/>
          <p:cNvSpPr/>
          <p:nvPr/>
        </p:nvSpPr>
        <p:spPr>
          <a:xfrm rot="3817200">
            <a:off x="5940360" y="6038640"/>
            <a:ext cx="129960" cy="254160"/>
          </a:xfrm>
          <a:custGeom>
            <a:avLst/>
            <a:gdLst>
              <a:gd name="textAreaLeft" fmla="*/ 0 w 129960"/>
              <a:gd name="textAreaRight" fmla="*/ 130320 w 1299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65234" h="1324780">
                <a:moveTo>
                  <a:pt x="265234" y="0"/>
                </a:moveTo>
                <a:cubicBezTo>
                  <a:pt x="236206" y="33867"/>
                  <a:pt x="208153" y="68595"/>
                  <a:pt x="178149" y="101600"/>
                </a:cubicBezTo>
                <a:cubicBezTo>
                  <a:pt x="159739" y="121851"/>
                  <a:pt x="131666" y="134856"/>
                  <a:pt x="120092" y="159657"/>
                </a:cubicBezTo>
                <a:cubicBezTo>
                  <a:pt x="96764" y="209645"/>
                  <a:pt x="94908" y="267296"/>
                  <a:pt x="76549" y="319314"/>
                </a:cubicBezTo>
                <a:cubicBezTo>
                  <a:pt x="65747" y="349919"/>
                  <a:pt x="44657" y="376108"/>
                  <a:pt x="33006" y="406400"/>
                </a:cubicBezTo>
                <a:cubicBezTo>
                  <a:pt x="20362" y="439274"/>
                  <a:pt x="13653" y="474133"/>
                  <a:pt x="3977" y="508000"/>
                </a:cubicBezTo>
                <a:cubicBezTo>
                  <a:pt x="8815" y="604762"/>
                  <a:pt x="0" y="703184"/>
                  <a:pt x="18492" y="798286"/>
                </a:cubicBezTo>
                <a:cubicBezTo>
                  <a:pt x="120866" y="1324780"/>
                  <a:pt x="105577" y="814328"/>
                  <a:pt x="105577" y="1161143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6"/>
          <p:cNvSpPr/>
          <p:nvPr/>
        </p:nvSpPr>
        <p:spPr>
          <a:xfrm rot="3817200">
            <a:off x="7359120" y="1222200"/>
            <a:ext cx="54000" cy="60120"/>
          </a:xfrm>
          <a:custGeom>
            <a:avLst/>
            <a:gdLst>
              <a:gd name="textAreaLeft" fmla="*/ 0 w 54000"/>
              <a:gd name="textAreaRight" fmla="*/ 54360 w 54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0176" h="313955">
                <a:moveTo>
                  <a:pt x="31485" y="81727"/>
                </a:moveTo>
                <a:cubicBezTo>
                  <a:pt x="84416" y="240523"/>
                  <a:pt x="0" y="0"/>
                  <a:pt x="75028" y="168813"/>
                </a:cubicBezTo>
                <a:cubicBezTo>
                  <a:pt x="110176" y="247895"/>
                  <a:pt x="104056" y="241972"/>
                  <a:pt x="104056" y="313955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7"/>
          <p:cNvSpPr/>
          <p:nvPr/>
        </p:nvSpPr>
        <p:spPr>
          <a:xfrm rot="3817200">
            <a:off x="7762680" y="4670280"/>
            <a:ext cx="44280" cy="76320"/>
          </a:xfrm>
          <a:custGeom>
            <a:avLst/>
            <a:gdLst>
              <a:gd name="textAreaLeft" fmla="*/ 0 w 44280"/>
              <a:gd name="textAreaRight" fmla="*/ 44640 w 442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5941" h="391886">
                <a:moveTo>
                  <a:pt x="0" y="0"/>
                </a:moveTo>
                <a:cubicBezTo>
                  <a:pt x="4838" y="33867"/>
                  <a:pt x="6217" y="68411"/>
                  <a:pt x="14514" y="101600"/>
                </a:cubicBezTo>
                <a:cubicBezTo>
                  <a:pt x="20833" y="126876"/>
                  <a:pt x="36056" y="149216"/>
                  <a:pt x="43543" y="174171"/>
                </a:cubicBezTo>
                <a:cubicBezTo>
                  <a:pt x="50632" y="197800"/>
                  <a:pt x="52074" y="222810"/>
                  <a:pt x="58057" y="246743"/>
                </a:cubicBezTo>
                <a:cubicBezTo>
                  <a:pt x="61768" y="261586"/>
                  <a:pt x="71049" y="275063"/>
                  <a:pt x="72571" y="290286"/>
                </a:cubicBezTo>
                <a:cubicBezTo>
                  <a:pt x="75941" y="323985"/>
                  <a:pt x="72571" y="358019"/>
                  <a:pt x="72571" y="391886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8"/>
          <p:cNvSpPr/>
          <p:nvPr/>
        </p:nvSpPr>
        <p:spPr>
          <a:xfrm rot="3817200">
            <a:off x="6598440" y="465984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44450" h="159657">
                <a:moveTo>
                  <a:pt x="0" y="0"/>
                </a:moveTo>
                <a:lnTo>
                  <a:pt x="0" y="159657"/>
                </a:ln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9"/>
          <p:cNvSpPr/>
          <p:nvPr/>
        </p:nvSpPr>
        <p:spPr>
          <a:xfrm rot="3817200">
            <a:off x="7961400" y="6115680"/>
            <a:ext cx="255600" cy="88920"/>
          </a:xfrm>
          <a:custGeom>
            <a:avLst/>
            <a:gdLst>
              <a:gd name="textAreaLeft" fmla="*/ 0 w 255600"/>
              <a:gd name="textAreaRight" fmla="*/ 255960 w 2556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22514" h="624115">
                <a:moveTo>
                  <a:pt x="522514" y="0"/>
                </a:moveTo>
                <a:cubicBezTo>
                  <a:pt x="503162" y="9676"/>
                  <a:pt x="482063" y="16453"/>
                  <a:pt x="464457" y="29029"/>
                </a:cubicBezTo>
                <a:cubicBezTo>
                  <a:pt x="447754" y="40960"/>
                  <a:pt x="434551" y="57230"/>
                  <a:pt x="420914" y="72572"/>
                </a:cubicBezTo>
                <a:cubicBezTo>
                  <a:pt x="395810" y="100814"/>
                  <a:pt x="371688" y="129945"/>
                  <a:pt x="348342" y="159658"/>
                </a:cubicBezTo>
                <a:cubicBezTo>
                  <a:pt x="318451" y="197701"/>
                  <a:pt x="294073" y="240222"/>
                  <a:pt x="261257" y="275772"/>
                </a:cubicBezTo>
                <a:cubicBezTo>
                  <a:pt x="235627" y="303538"/>
                  <a:pt x="205611" y="327383"/>
                  <a:pt x="174171" y="348343"/>
                </a:cubicBezTo>
                <a:cubicBezTo>
                  <a:pt x="161441" y="356830"/>
                  <a:pt x="145142" y="358020"/>
                  <a:pt x="130628" y="362858"/>
                </a:cubicBezTo>
                <a:cubicBezTo>
                  <a:pt x="92510" y="400976"/>
                  <a:pt x="0" y="484783"/>
                  <a:pt x="0" y="537029"/>
                </a:cubicBezTo>
                <a:lnTo>
                  <a:pt x="0" y="624115"/>
                </a:ln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 rot="7547400">
            <a:off x="2286720" y="5110920"/>
            <a:ext cx="130320" cy="293760"/>
          </a:xfrm>
          <a:custGeom>
            <a:avLst/>
            <a:gdLst>
              <a:gd name="textAreaLeft" fmla="*/ 0 w 130320"/>
              <a:gd name="textAreaRight" fmla="*/ 130680 w 1303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624114" h="580572">
                <a:moveTo>
                  <a:pt x="0" y="0"/>
                </a:moveTo>
                <a:cubicBezTo>
                  <a:pt x="11749" y="14686"/>
                  <a:pt x="111127" y="149862"/>
                  <a:pt x="159657" y="188686"/>
                </a:cubicBezTo>
                <a:cubicBezTo>
                  <a:pt x="192156" y="214685"/>
                  <a:pt x="229486" y="234374"/>
                  <a:pt x="261257" y="261257"/>
                </a:cubicBezTo>
                <a:cubicBezTo>
                  <a:pt x="388562" y="368977"/>
                  <a:pt x="295827" y="335214"/>
                  <a:pt x="406400" y="362857"/>
                </a:cubicBezTo>
                <a:cubicBezTo>
                  <a:pt x="445105" y="387048"/>
                  <a:pt x="483089" y="412431"/>
                  <a:pt x="522514" y="435429"/>
                </a:cubicBezTo>
                <a:cubicBezTo>
                  <a:pt x="541203" y="446331"/>
                  <a:pt x="566491" y="448029"/>
                  <a:pt x="580572" y="464457"/>
                </a:cubicBezTo>
                <a:cubicBezTo>
                  <a:pt x="597528" y="484239"/>
                  <a:pt x="600452" y="512634"/>
                  <a:pt x="609600" y="537029"/>
                </a:cubicBezTo>
                <a:cubicBezTo>
                  <a:pt x="614972" y="551354"/>
                  <a:pt x="624114" y="580572"/>
                  <a:pt x="624114" y="580572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4110120" y="4818240"/>
            <a:ext cx="331560" cy="276120"/>
          </a:xfrm>
          <a:custGeom>
            <a:avLst/>
            <a:gdLst>
              <a:gd name="textAreaLeft" fmla="*/ 0 w 331560"/>
              <a:gd name="textAreaRight" fmla="*/ 331920 w 3315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115350" h="2133600">
                <a:moveTo>
                  <a:pt x="56174" y="0"/>
                </a:moveTo>
                <a:cubicBezTo>
                  <a:pt x="41054" y="173872"/>
                  <a:pt x="0" y="476087"/>
                  <a:pt x="41660" y="653143"/>
                </a:cubicBezTo>
                <a:cubicBezTo>
                  <a:pt x="73491" y="788425"/>
                  <a:pt x="150159" y="815892"/>
                  <a:pt x="215831" y="914400"/>
                </a:cubicBezTo>
                <a:cubicBezTo>
                  <a:pt x="490412" y="1326271"/>
                  <a:pt x="171603" y="950722"/>
                  <a:pt x="578688" y="1320800"/>
                </a:cubicBezTo>
                <a:cubicBezTo>
                  <a:pt x="611693" y="1350805"/>
                  <a:pt x="633393" y="1391723"/>
                  <a:pt x="665774" y="1422400"/>
                </a:cubicBezTo>
                <a:cubicBezTo>
                  <a:pt x="725585" y="1479063"/>
                  <a:pt x="793616" y="1526504"/>
                  <a:pt x="854460" y="1582057"/>
                </a:cubicBezTo>
                <a:cubicBezTo>
                  <a:pt x="1033815" y="1745817"/>
                  <a:pt x="929461" y="1703820"/>
                  <a:pt x="1043145" y="1741714"/>
                </a:cubicBezTo>
                <a:cubicBezTo>
                  <a:pt x="909324" y="1830929"/>
                  <a:pt x="1115350" y="1701560"/>
                  <a:pt x="927031" y="1785257"/>
                </a:cubicBezTo>
                <a:cubicBezTo>
                  <a:pt x="904925" y="1795082"/>
                  <a:pt x="888326" y="1814286"/>
                  <a:pt x="868974" y="1828800"/>
                </a:cubicBezTo>
                <a:cubicBezTo>
                  <a:pt x="864136" y="1852990"/>
                  <a:pt x="863122" y="1878272"/>
                  <a:pt x="854460" y="1901371"/>
                </a:cubicBezTo>
                <a:cubicBezTo>
                  <a:pt x="848335" y="1917704"/>
                  <a:pt x="830947" y="1928365"/>
                  <a:pt x="825431" y="1944914"/>
                </a:cubicBezTo>
                <a:cubicBezTo>
                  <a:pt x="785701" y="2064105"/>
                  <a:pt x="848651" y="2006845"/>
                  <a:pt x="767374" y="2061028"/>
                </a:cubicBezTo>
                <a:lnTo>
                  <a:pt x="723831" y="2133600"/>
                </a:ln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5724360" y="392040"/>
            <a:ext cx="182880" cy="463680"/>
          </a:xfrm>
          <a:custGeom>
            <a:avLst/>
            <a:gdLst>
              <a:gd name="textAreaLeft" fmla="*/ 0 w 182880"/>
              <a:gd name="textAreaRight" fmla="*/ 183240 w 182880"/>
              <a:gd name="textAreaTop" fmla="*/ 0 h 463680"/>
              <a:gd name="textAreaBottom" fmla="*/ 463680 h 463680"/>
            </a:gdLst>
            <a:ahLst/>
            <a:rect l="textAreaLeft" t="textAreaTop" r="textAreaRight" b="textAreaBottom"/>
            <a:pathLst>
              <a:path w="255749" h="595086">
                <a:moveTo>
                  <a:pt x="211234" y="0"/>
                </a:moveTo>
                <a:cubicBezTo>
                  <a:pt x="197541" y="41081"/>
                  <a:pt x="180051" y="100395"/>
                  <a:pt x="153177" y="130628"/>
                </a:cubicBezTo>
                <a:cubicBezTo>
                  <a:pt x="134435" y="151713"/>
                  <a:pt x="104796" y="159657"/>
                  <a:pt x="80606" y="174171"/>
                </a:cubicBezTo>
                <a:cubicBezTo>
                  <a:pt x="23902" y="268677"/>
                  <a:pt x="0" y="276497"/>
                  <a:pt x="51577" y="420914"/>
                </a:cubicBezTo>
                <a:cubicBezTo>
                  <a:pt x="58854" y="441290"/>
                  <a:pt x="90282" y="440267"/>
                  <a:pt x="109634" y="449943"/>
                </a:cubicBezTo>
                <a:cubicBezTo>
                  <a:pt x="114472" y="464457"/>
                  <a:pt x="113331" y="482668"/>
                  <a:pt x="124149" y="493486"/>
                </a:cubicBezTo>
                <a:cubicBezTo>
                  <a:pt x="142695" y="512032"/>
                  <a:pt x="230733" y="511077"/>
                  <a:pt x="240263" y="522514"/>
                </a:cubicBezTo>
                <a:cubicBezTo>
                  <a:pt x="255749" y="541098"/>
                  <a:pt x="240263" y="570895"/>
                  <a:pt x="240263" y="595086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1617840" y="5791320"/>
            <a:ext cx="182520" cy="465120"/>
          </a:xfrm>
          <a:custGeom>
            <a:avLst/>
            <a:gdLst>
              <a:gd name="textAreaLeft" fmla="*/ 0 w 182520"/>
              <a:gd name="textAreaRight" fmla="*/ 182880 w 1825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55749" h="595086">
                <a:moveTo>
                  <a:pt x="211234" y="0"/>
                </a:moveTo>
                <a:cubicBezTo>
                  <a:pt x="197541" y="41081"/>
                  <a:pt x="180051" y="100395"/>
                  <a:pt x="153177" y="130628"/>
                </a:cubicBezTo>
                <a:cubicBezTo>
                  <a:pt x="134435" y="151713"/>
                  <a:pt x="104796" y="159657"/>
                  <a:pt x="80606" y="174171"/>
                </a:cubicBezTo>
                <a:cubicBezTo>
                  <a:pt x="23902" y="268677"/>
                  <a:pt x="0" y="276497"/>
                  <a:pt x="51577" y="420914"/>
                </a:cubicBezTo>
                <a:cubicBezTo>
                  <a:pt x="58854" y="441290"/>
                  <a:pt x="90282" y="440267"/>
                  <a:pt x="109634" y="449943"/>
                </a:cubicBezTo>
                <a:cubicBezTo>
                  <a:pt x="114472" y="464457"/>
                  <a:pt x="113331" y="482668"/>
                  <a:pt x="124149" y="493486"/>
                </a:cubicBezTo>
                <a:cubicBezTo>
                  <a:pt x="142695" y="512032"/>
                  <a:pt x="230733" y="511077"/>
                  <a:pt x="240263" y="522514"/>
                </a:cubicBezTo>
                <a:cubicBezTo>
                  <a:pt x="255749" y="541098"/>
                  <a:pt x="240263" y="570895"/>
                  <a:pt x="240263" y="595086"/>
                </a:cubicBezTo>
              </a:path>
            </a:pathLst>
          </a:custGeom>
          <a:noFill/>
          <a:ln w="9360">
            <a:solidFill>
              <a:srgbClr val="ffffff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5E-006 0 L 1.28542 0 E">
                                      <p:cBhvr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2917 0 L -1.44375 0 E">
                                      <p:cBhvr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9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4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3" descr="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TextBox 12" descr=""/>
          <p:cNvPicPr/>
          <p:nvPr/>
        </p:nvPicPr>
        <p:blipFill>
          <a:blip r:embed="rId2"/>
          <a:stretch/>
        </p:blipFill>
        <p:spPr>
          <a:xfrm>
            <a:off x="328680" y="3913200"/>
            <a:ext cx="2487600" cy="1762200"/>
          </a:xfrm>
          <a:prstGeom prst="rect">
            <a:avLst/>
          </a:prstGeom>
          <a:ln w="0">
            <a:noFill/>
          </a:ln>
        </p:spPr>
      </p:pic>
      <p:pic>
        <p:nvPicPr>
          <p:cNvPr id="262" name="TextBox 13" descr=""/>
          <p:cNvPicPr/>
          <p:nvPr/>
        </p:nvPicPr>
        <p:blipFill>
          <a:blip r:embed="rId3"/>
          <a:stretch/>
        </p:blipFill>
        <p:spPr>
          <a:xfrm>
            <a:off x="1182600" y="4237200"/>
            <a:ext cx="2487600" cy="1761840"/>
          </a:xfrm>
          <a:prstGeom prst="rect">
            <a:avLst/>
          </a:prstGeom>
          <a:ln w="0">
            <a:noFill/>
          </a:ln>
        </p:spPr>
      </p:pic>
      <p:pic>
        <p:nvPicPr>
          <p:cNvPr id="263" name="TextBox 14" descr=""/>
          <p:cNvPicPr/>
          <p:nvPr/>
        </p:nvPicPr>
        <p:blipFill>
          <a:blip r:embed="rId4"/>
          <a:stretch/>
        </p:blipFill>
        <p:spPr>
          <a:xfrm>
            <a:off x="3213000" y="4900680"/>
            <a:ext cx="1913040" cy="68256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5" descr="02.png"/>
          <p:cNvPicPr/>
          <p:nvPr/>
        </p:nvPicPr>
        <p:blipFill>
          <a:blip r:embed="rId5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5" name="图片 16" descr="02.png"/>
          <p:cNvPicPr/>
          <p:nvPr/>
        </p:nvPicPr>
        <p:blipFill>
          <a:blip r:embed="rId6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w="0">
            <a:noFill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6" name="矩形 17"/>
          <p:cNvSpPr/>
          <p:nvPr/>
        </p:nvSpPr>
        <p:spPr>
          <a:xfrm>
            <a:off x="-1425600" y="1233360"/>
            <a:ext cx="142560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803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8"/>
          <p:cNvSpPr/>
          <p:nvPr/>
        </p:nvSpPr>
        <p:spPr>
          <a:xfrm rot="10800000">
            <a:off x="9143640" y="1233360"/>
            <a:ext cx="64764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0 L 1.28542 0 E">
                                      <p:cBhvr>
                                        <p:cTn id="498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12917 0 L -1.44375 0 E">
                                      <p:cBhvr>
                                        <p:cTn id="500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9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1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4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" descr="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0" descr="02.png"/>
          <p:cNvPicPr/>
          <p:nvPr/>
        </p:nvPicPr>
        <p:blipFill>
          <a:blip r:embed="rId2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5" name="图片 11" descr="02.png"/>
          <p:cNvPicPr/>
          <p:nvPr/>
        </p:nvPicPr>
        <p:blipFill>
          <a:blip r:embed="rId3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w="0">
            <a:noFill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图片 5" descr="01.png"/>
          <p:cNvPicPr/>
          <p:nvPr/>
        </p:nvPicPr>
        <p:blipFill>
          <a:blip r:embed="rId4"/>
          <a:stretch/>
        </p:blipFill>
        <p:spPr>
          <a:xfrm>
            <a:off x="7607160" y="4040280"/>
            <a:ext cx="17668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500040" y="2071800"/>
            <a:ext cx="8143920" cy="2955960"/>
            <a:chOff x="500040" y="2071800"/>
            <a:chExt cx="8143920" cy="2955960"/>
          </a:xfrm>
        </p:grpSpPr>
        <p:sp>
          <p:nvSpPr>
            <p:cNvPr id="78" name="AutoShape 3"/>
            <p:cNvSpPr/>
            <p:nvPr/>
          </p:nvSpPr>
          <p:spPr>
            <a:xfrm>
              <a:off x="500040" y="207180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"/>
            <p:cNvSpPr/>
            <p:nvPr/>
          </p:nvSpPr>
          <p:spPr>
            <a:xfrm>
              <a:off x="502920" y="217008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3"/>
          <p:cNvSpPr/>
          <p:nvPr/>
        </p:nvSpPr>
        <p:spPr>
          <a:xfrm>
            <a:off x="7992360" y="33480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7992360" y="33480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1457280" y="1785960"/>
            <a:ext cx="6229440" cy="719280"/>
            <a:chOff x="1457280" y="1785960"/>
            <a:chExt cx="6229440" cy="719280"/>
          </a:xfrm>
        </p:grpSpPr>
        <p:sp>
          <p:nvSpPr>
            <p:cNvPr id="83" name="AutoShape 3"/>
            <p:cNvSpPr/>
            <p:nvPr/>
          </p:nvSpPr>
          <p:spPr>
            <a:xfrm>
              <a:off x="1458720" y="1785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3"/>
            <p:cNvSpPr/>
            <p:nvPr/>
          </p:nvSpPr>
          <p:spPr>
            <a:xfrm>
              <a:off x="1457280" y="1874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3"/>
          <p:cNvSpPr/>
          <p:nvPr/>
        </p:nvSpPr>
        <p:spPr>
          <a:xfrm>
            <a:off x="3198960" y="1960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1457280" y="2720880"/>
            <a:ext cx="6229440" cy="719280"/>
            <a:chOff x="1457280" y="2720880"/>
            <a:chExt cx="6229440" cy="719280"/>
          </a:xfrm>
        </p:grpSpPr>
        <p:sp>
          <p:nvSpPr>
            <p:cNvPr id="87" name="AutoShape 3"/>
            <p:cNvSpPr/>
            <p:nvPr/>
          </p:nvSpPr>
          <p:spPr>
            <a:xfrm>
              <a:off x="1457280" y="272088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"/>
            <p:cNvSpPr/>
            <p:nvPr/>
          </p:nvSpPr>
          <p:spPr>
            <a:xfrm>
              <a:off x="1457280" y="281016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6"/>
          <p:cNvSpPr/>
          <p:nvPr/>
        </p:nvSpPr>
        <p:spPr>
          <a:xfrm>
            <a:off x="3198960" y="289548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1459080" y="3701880"/>
            <a:ext cx="6225840" cy="719280"/>
            <a:chOff x="1459080" y="3701880"/>
            <a:chExt cx="6225840" cy="719280"/>
          </a:xfrm>
        </p:grpSpPr>
        <p:sp>
          <p:nvSpPr>
            <p:cNvPr id="91" name="AutoShape 3"/>
            <p:cNvSpPr/>
            <p:nvPr/>
          </p:nvSpPr>
          <p:spPr>
            <a:xfrm>
              <a:off x="1459080" y="37018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"/>
            <p:cNvSpPr/>
            <p:nvPr/>
          </p:nvSpPr>
          <p:spPr>
            <a:xfrm>
              <a:off x="1459080" y="37908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9"/>
          <p:cNvSpPr/>
          <p:nvPr/>
        </p:nvSpPr>
        <p:spPr>
          <a:xfrm>
            <a:off x="3198960" y="3876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457280" y="4707000"/>
            <a:ext cx="6229440" cy="718920"/>
            <a:chOff x="1457280" y="4707000"/>
            <a:chExt cx="6229440" cy="718920"/>
          </a:xfrm>
        </p:grpSpPr>
        <p:sp>
          <p:nvSpPr>
            <p:cNvPr id="95" name="AutoShape 3"/>
            <p:cNvSpPr/>
            <p:nvPr/>
          </p:nvSpPr>
          <p:spPr>
            <a:xfrm>
              <a:off x="1457280" y="4707000"/>
              <a:ext cx="62280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"/>
            <p:cNvSpPr/>
            <p:nvPr/>
          </p:nvSpPr>
          <p:spPr>
            <a:xfrm>
              <a:off x="1457280" y="4796280"/>
              <a:ext cx="622944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22"/>
          <p:cNvSpPr/>
          <p:nvPr/>
        </p:nvSpPr>
        <p:spPr>
          <a:xfrm>
            <a:off x="3198960" y="48816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3"/>
          <p:cNvSpPr/>
          <p:nvPr/>
        </p:nvSpPr>
        <p:spPr>
          <a:xfrm>
            <a:off x="8043480" y="33480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457280" y="2967120"/>
            <a:ext cx="6229440" cy="718920"/>
            <a:chOff x="1457280" y="2967120"/>
            <a:chExt cx="6229440" cy="718920"/>
          </a:xfrm>
        </p:grpSpPr>
        <p:sp>
          <p:nvSpPr>
            <p:cNvPr id="100" name="AutoShape 3"/>
            <p:cNvSpPr/>
            <p:nvPr/>
          </p:nvSpPr>
          <p:spPr>
            <a:xfrm>
              <a:off x="1458720" y="2967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"/>
            <p:cNvSpPr/>
            <p:nvPr/>
          </p:nvSpPr>
          <p:spPr>
            <a:xfrm>
              <a:off x="1457280" y="3055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3"/>
          <p:cNvSpPr/>
          <p:nvPr/>
        </p:nvSpPr>
        <p:spPr>
          <a:xfrm>
            <a:off x="3198960" y="3141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7"/>
          <p:cNvSpPr/>
          <p:nvPr/>
        </p:nvSpPr>
        <p:spPr>
          <a:xfrm>
            <a:off x="714240" y="1933560"/>
            <a:ext cx="7702560" cy="3792600"/>
          </a:xfrm>
          <a:prstGeom prst="roundRect">
            <a:avLst>
              <a:gd name="adj" fmla="val 4019"/>
            </a:avLst>
          </a:prstGeom>
          <a:solidFill>
            <a:srgbClr val="ffffff"/>
          </a:solidFill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6"/>
          <p:cNvSpPr/>
          <p:nvPr/>
        </p:nvSpPr>
        <p:spPr>
          <a:xfrm>
            <a:off x="1009800" y="3317760"/>
            <a:ext cx="2119320" cy="219564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78">
                <a:moveTo>
                  <a:pt x="805" y="0"/>
                </a:moveTo>
                <a:arcTo wR="805" hR="805" stAng="16200000" swAng="-5400000"/>
                <a:lnTo>
                  <a:pt x="0" y="21573"/>
                </a:lnTo>
                <a:arcTo wR="805" hR="805" stAng="10800000" swAng="-5400000"/>
                <a:lnTo>
                  <a:pt x="20795" y="2237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8"/>
          <p:cNvSpPr/>
          <p:nvPr/>
        </p:nvSpPr>
        <p:spPr>
          <a:xfrm>
            <a:off x="1284120" y="39117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9"/>
          <p:cNvSpPr/>
          <p:nvPr/>
        </p:nvSpPr>
        <p:spPr>
          <a:xfrm>
            <a:off x="1284120" y="43718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2208240" y="1571760"/>
            <a:ext cx="4751280" cy="718920"/>
            <a:chOff x="2208240" y="1571760"/>
            <a:chExt cx="4751280" cy="718920"/>
          </a:xfrm>
        </p:grpSpPr>
        <p:grpSp>
          <p:nvGrpSpPr>
            <p:cNvPr id="109" name="Group 8"/>
            <p:cNvGrpSpPr/>
            <p:nvPr/>
          </p:nvGrpSpPr>
          <p:grpSpPr>
            <a:xfrm>
              <a:off x="2208240" y="1571760"/>
              <a:ext cx="4751280" cy="718920"/>
              <a:chOff x="2208240" y="1571760"/>
              <a:chExt cx="4751280" cy="718920"/>
            </a:xfrm>
          </p:grpSpPr>
          <p:sp>
            <p:nvSpPr>
              <p:cNvPr id="110" name="AutoShape 3"/>
              <p:cNvSpPr/>
              <p:nvPr/>
            </p:nvSpPr>
            <p:spPr>
              <a:xfrm>
                <a:off x="2208240" y="1571760"/>
                <a:ext cx="4751280" cy="71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3"/>
              <p:cNvSpPr/>
              <p:nvPr/>
            </p:nvSpPr>
            <p:spPr>
              <a:xfrm>
                <a:off x="2208240" y="16603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Rectangle 13"/>
            <p:cNvSpPr/>
            <p:nvPr/>
          </p:nvSpPr>
          <p:spPr>
            <a:xfrm>
              <a:off x="4041360" y="17312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2"/>
          <p:cNvGrpSpPr/>
          <p:nvPr/>
        </p:nvGrpSpPr>
        <p:grpSpPr>
          <a:xfrm>
            <a:off x="917640" y="2550960"/>
            <a:ext cx="2303280" cy="776520"/>
            <a:chOff x="917640" y="2550960"/>
            <a:chExt cx="2303280" cy="776520"/>
          </a:xfrm>
        </p:grpSpPr>
        <p:grpSp>
          <p:nvGrpSpPr>
            <p:cNvPr id="114" name="Group 13"/>
            <p:cNvGrpSpPr/>
            <p:nvPr/>
          </p:nvGrpSpPr>
          <p:grpSpPr>
            <a:xfrm>
              <a:off x="917640" y="2550960"/>
              <a:ext cx="2303280" cy="721080"/>
              <a:chOff x="917640" y="2550960"/>
              <a:chExt cx="2303280" cy="721080"/>
            </a:xfrm>
          </p:grpSpPr>
          <p:grpSp>
            <p:nvGrpSpPr>
              <p:cNvPr id="115" name="Group 14"/>
              <p:cNvGrpSpPr/>
              <p:nvPr/>
            </p:nvGrpSpPr>
            <p:grpSpPr>
              <a:xfrm>
                <a:off x="917640" y="2550960"/>
                <a:ext cx="2303280" cy="721080"/>
                <a:chOff x="917640" y="2550960"/>
                <a:chExt cx="2303280" cy="721080"/>
              </a:xfrm>
            </p:grpSpPr>
            <p:sp>
              <p:nvSpPr>
                <p:cNvPr id="116" name="AutoShape 3"/>
                <p:cNvSpPr/>
                <p:nvPr/>
              </p:nvSpPr>
              <p:spPr>
                <a:xfrm>
                  <a:off x="917640" y="2550960"/>
                  <a:ext cx="230328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3"/>
                <p:cNvSpPr/>
                <p:nvPr/>
              </p:nvSpPr>
              <p:spPr>
                <a:xfrm>
                  <a:off x="917640" y="26409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229"/>
              <p:cNvSpPr/>
              <p:nvPr/>
            </p:nvSpPr>
            <p:spPr>
              <a:xfrm>
                <a:off x="1657440" y="277272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222"/>
            <p:cNvSpPr/>
            <p:nvPr/>
          </p:nvSpPr>
          <p:spPr>
            <a:xfrm>
              <a:off x="988920" y="3252960"/>
              <a:ext cx="2160720" cy="74520"/>
            </a:xfrm>
            <a:custGeom>
              <a:avLst/>
              <a:gdLst>
                <a:gd name="textAreaLeft" fmla="*/ 220320 w 2160720"/>
                <a:gd name="textAreaRight" fmla="*/ 1940400 w 216072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AutoShape 196"/>
          <p:cNvSpPr/>
          <p:nvPr/>
        </p:nvSpPr>
        <p:spPr>
          <a:xfrm>
            <a:off x="3494160" y="3317760"/>
            <a:ext cx="2117520" cy="2195640"/>
          </a:xfrm>
          <a:custGeom>
            <a:avLst/>
            <a:gdLst>
              <a:gd name="textAreaLeft" fmla="*/ 23040 w 2117520"/>
              <a:gd name="textAreaRight" fmla="*/ 2094480 w 211752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97">
                <a:moveTo>
                  <a:pt x="805" y="0"/>
                </a:moveTo>
                <a:arcTo wR="805" hR="805" stAng="16200000" swAng="-5400000"/>
                <a:lnTo>
                  <a:pt x="0" y="21592"/>
                </a:lnTo>
                <a:arcTo wR="805" hR="805" stAng="10800000" swAng="-5400000"/>
                <a:lnTo>
                  <a:pt x="20795" y="2239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8"/>
          <p:cNvSpPr/>
          <p:nvPr/>
        </p:nvSpPr>
        <p:spPr>
          <a:xfrm>
            <a:off x="3767040" y="39117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9"/>
          <p:cNvSpPr/>
          <p:nvPr/>
        </p:nvSpPr>
        <p:spPr>
          <a:xfrm>
            <a:off x="3767040" y="43718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2"/>
          <p:cNvGrpSpPr/>
          <p:nvPr/>
        </p:nvGrpSpPr>
        <p:grpSpPr>
          <a:xfrm>
            <a:off x="3400560" y="2550960"/>
            <a:ext cx="2305080" cy="776520"/>
            <a:chOff x="3400560" y="2550960"/>
            <a:chExt cx="2305080" cy="776520"/>
          </a:xfrm>
        </p:grpSpPr>
        <p:grpSp>
          <p:nvGrpSpPr>
            <p:cNvPr id="124" name="Group 23"/>
            <p:cNvGrpSpPr/>
            <p:nvPr/>
          </p:nvGrpSpPr>
          <p:grpSpPr>
            <a:xfrm>
              <a:off x="3400560" y="2550960"/>
              <a:ext cx="2305080" cy="721080"/>
              <a:chOff x="3400560" y="2550960"/>
              <a:chExt cx="2305080" cy="721080"/>
            </a:xfrm>
          </p:grpSpPr>
          <p:grpSp>
            <p:nvGrpSpPr>
              <p:cNvPr id="125" name="Group 24"/>
              <p:cNvGrpSpPr/>
              <p:nvPr/>
            </p:nvGrpSpPr>
            <p:grpSpPr>
              <a:xfrm>
                <a:off x="3400560" y="2550960"/>
                <a:ext cx="2305080" cy="721080"/>
                <a:chOff x="3400560" y="2550960"/>
                <a:chExt cx="2305080" cy="721080"/>
              </a:xfrm>
            </p:grpSpPr>
            <p:sp>
              <p:nvSpPr>
                <p:cNvPr id="126" name="AutoShape 3"/>
                <p:cNvSpPr/>
                <p:nvPr/>
              </p:nvSpPr>
              <p:spPr>
                <a:xfrm>
                  <a:off x="3400560" y="2550960"/>
                  <a:ext cx="230508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3"/>
                <p:cNvSpPr/>
                <p:nvPr/>
              </p:nvSpPr>
              <p:spPr>
                <a:xfrm>
                  <a:off x="3400560" y="2640960"/>
                  <a:ext cx="23050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Text Box 229"/>
              <p:cNvSpPr/>
              <p:nvPr/>
            </p:nvSpPr>
            <p:spPr>
              <a:xfrm>
                <a:off x="4141080" y="277272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AutoShape 222"/>
            <p:cNvSpPr/>
            <p:nvPr/>
          </p:nvSpPr>
          <p:spPr>
            <a:xfrm>
              <a:off x="3471840" y="3252960"/>
              <a:ext cx="2162520" cy="74520"/>
            </a:xfrm>
            <a:custGeom>
              <a:avLst/>
              <a:gdLst>
                <a:gd name="textAreaLeft" fmla="*/ 220680 w 2162520"/>
                <a:gd name="textAreaRight" fmla="*/ 1941840 w 216252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196"/>
          <p:cNvSpPr/>
          <p:nvPr/>
        </p:nvSpPr>
        <p:spPr>
          <a:xfrm>
            <a:off x="6002280" y="3317760"/>
            <a:ext cx="2117880" cy="219564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93">
                <a:moveTo>
                  <a:pt x="805" y="0"/>
                </a:moveTo>
                <a:arcTo wR="805" hR="805" stAng="16200000" swAng="-5400000"/>
                <a:lnTo>
                  <a:pt x="0" y="21588"/>
                </a:lnTo>
                <a:arcTo wR="805" hR="805" stAng="10800000" swAng="-5400000"/>
                <a:lnTo>
                  <a:pt x="20795" y="2239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8"/>
          <p:cNvSpPr/>
          <p:nvPr/>
        </p:nvSpPr>
        <p:spPr>
          <a:xfrm>
            <a:off x="6275520" y="391176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9"/>
          <p:cNvSpPr/>
          <p:nvPr/>
        </p:nvSpPr>
        <p:spPr>
          <a:xfrm>
            <a:off x="6275520" y="43718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5910120" y="2550960"/>
            <a:ext cx="2303640" cy="776520"/>
            <a:chOff x="5910120" y="2550960"/>
            <a:chExt cx="2303640" cy="776520"/>
          </a:xfrm>
        </p:grpSpPr>
        <p:grpSp>
          <p:nvGrpSpPr>
            <p:cNvPr id="134" name="Group 33"/>
            <p:cNvGrpSpPr/>
            <p:nvPr/>
          </p:nvGrpSpPr>
          <p:grpSpPr>
            <a:xfrm>
              <a:off x="5910120" y="2550960"/>
              <a:ext cx="2303640" cy="721080"/>
              <a:chOff x="5910120" y="2550960"/>
              <a:chExt cx="2303640" cy="721080"/>
            </a:xfrm>
          </p:grpSpPr>
          <p:grpSp>
            <p:nvGrpSpPr>
              <p:cNvPr id="135" name="Group 34"/>
              <p:cNvGrpSpPr/>
              <p:nvPr/>
            </p:nvGrpSpPr>
            <p:grpSpPr>
              <a:xfrm>
                <a:off x="5910120" y="2550960"/>
                <a:ext cx="2303640" cy="721080"/>
                <a:chOff x="5910120" y="2550960"/>
                <a:chExt cx="2303640" cy="721080"/>
              </a:xfrm>
            </p:grpSpPr>
            <p:sp>
              <p:nvSpPr>
                <p:cNvPr id="136" name="AutoShape 3"/>
                <p:cNvSpPr/>
                <p:nvPr/>
              </p:nvSpPr>
              <p:spPr>
                <a:xfrm>
                  <a:off x="5910120" y="2550960"/>
                  <a:ext cx="230364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AutoShape 3"/>
                <p:cNvSpPr/>
                <p:nvPr/>
              </p:nvSpPr>
              <p:spPr>
                <a:xfrm>
                  <a:off x="5910120" y="26409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Text Box 229"/>
              <p:cNvSpPr/>
              <p:nvPr/>
            </p:nvSpPr>
            <p:spPr>
              <a:xfrm>
                <a:off x="6649920" y="277272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AutoShape 222"/>
            <p:cNvSpPr/>
            <p:nvPr/>
          </p:nvSpPr>
          <p:spPr>
            <a:xfrm>
              <a:off x="5981400" y="3252960"/>
              <a:ext cx="2161080" cy="74520"/>
            </a:xfrm>
            <a:custGeom>
              <a:avLst/>
              <a:gdLst>
                <a:gd name="textAreaLeft" fmla="*/ 220320 w 2161080"/>
                <a:gd name="textAreaRight" fmla="*/ 1940760 w 216108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670040" y="1928880"/>
            <a:ext cx="2999880" cy="1376280"/>
            <a:chOff x="1670040" y="1928880"/>
            <a:chExt cx="2999880" cy="1376280"/>
          </a:xfrm>
        </p:grpSpPr>
        <p:grpSp>
          <p:nvGrpSpPr>
            <p:cNvPr id="142" name="Group 4"/>
            <p:cNvGrpSpPr/>
            <p:nvPr/>
          </p:nvGrpSpPr>
          <p:grpSpPr>
            <a:xfrm>
              <a:off x="1670040" y="1928880"/>
              <a:ext cx="2999880" cy="1376280"/>
              <a:chOff x="1670040" y="1928880"/>
              <a:chExt cx="2999880" cy="1376280"/>
            </a:xfrm>
          </p:grpSpPr>
          <p:sp>
            <p:nvSpPr>
              <p:cNvPr id="143" name="AutoShape 73"/>
              <p:cNvSpPr/>
              <p:nvPr/>
            </p:nvSpPr>
            <p:spPr>
              <a:xfrm rot="2700000">
                <a:off x="3587040" y="210348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圆角矩形 8"/>
              <p:cNvSpPr/>
              <p:nvPr/>
            </p:nvSpPr>
            <p:spPr>
              <a:xfrm>
                <a:off x="1670040" y="1928880"/>
                <a:ext cx="1979640" cy="755640"/>
              </a:xfrm>
              <a:prstGeom prst="roundRect">
                <a:avLst>
                  <a:gd name="adj" fmla="val 3278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7"/>
            <p:cNvGrpSpPr/>
            <p:nvPr/>
          </p:nvGrpSpPr>
          <p:grpSpPr>
            <a:xfrm>
              <a:off x="3294000" y="1928880"/>
              <a:ext cx="757080" cy="755640"/>
              <a:chOff x="3294000" y="1928880"/>
              <a:chExt cx="757080" cy="755640"/>
            </a:xfrm>
          </p:grpSpPr>
          <p:sp>
            <p:nvSpPr>
              <p:cNvPr id="146" name="椭圆 5"/>
              <p:cNvSpPr/>
              <p:nvPr/>
            </p:nvSpPr>
            <p:spPr>
              <a:xfrm>
                <a:off x="3294000" y="19288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117"/>
              <p:cNvSpPr/>
              <p:nvPr/>
            </p:nvSpPr>
            <p:spPr>
              <a:xfrm>
                <a:off x="3317760" y="195084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0"/>
          <p:cNvGrpSpPr/>
          <p:nvPr/>
        </p:nvGrpSpPr>
        <p:grpSpPr>
          <a:xfrm>
            <a:off x="928800" y="3173400"/>
            <a:ext cx="2854080" cy="1065240"/>
            <a:chOff x="928800" y="3173400"/>
            <a:chExt cx="2854080" cy="1065240"/>
          </a:xfrm>
        </p:grpSpPr>
        <p:grpSp>
          <p:nvGrpSpPr>
            <p:cNvPr id="149" name="Group 11"/>
            <p:cNvGrpSpPr/>
            <p:nvPr/>
          </p:nvGrpSpPr>
          <p:grpSpPr>
            <a:xfrm>
              <a:off x="928800" y="3173400"/>
              <a:ext cx="2854080" cy="1065240"/>
              <a:chOff x="928800" y="3173400"/>
              <a:chExt cx="2854080" cy="1065240"/>
            </a:xfrm>
          </p:grpSpPr>
          <p:sp>
            <p:nvSpPr>
              <p:cNvPr id="150" name="AutoShape 71"/>
              <p:cNvSpPr/>
              <p:nvPr/>
            </p:nvSpPr>
            <p:spPr>
              <a:xfrm>
                <a:off x="2954520" y="3173400"/>
                <a:ext cx="82836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圆角矩形 15"/>
              <p:cNvSpPr/>
              <p:nvPr/>
            </p:nvSpPr>
            <p:spPr>
              <a:xfrm>
                <a:off x="928800" y="332712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4"/>
            <p:cNvGrpSpPr/>
            <p:nvPr/>
          </p:nvGrpSpPr>
          <p:grpSpPr>
            <a:xfrm>
              <a:off x="2554200" y="3327120"/>
              <a:ext cx="755640" cy="757440"/>
              <a:chOff x="2554200" y="3327120"/>
              <a:chExt cx="755640" cy="757440"/>
            </a:xfrm>
          </p:grpSpPr>
          <p:sp>
            <p:nvSpPr>
              <p:cNvPr id="153" name="椭圆 12"/>
              <p:cNvSpPr/>
              <p:nvPr/>
            </p:nvSpPr>
            <p:spPr>
              <a:xfrm>
                <a:off x="2554200" y="332712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117"/>
              <p:cNvSpPr/>
              <p:nvPr/>
            </p:nvSpPr>
            <p:spPr>
              <a:xfrm>
                <a:off x="2576160" y="3349080"/>
                <a:ext cx="647640" cy="64800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Group 17"/>
          <p:cNvGrpSpPr/>
          <p:nvPr/>
        </p:nvGrpSpPr>
        <p:grpSpPr>
          <a:xfrm>
            <a:off x="1670040" y="4102920"/>
            <a:ext cx="3001320" cy="1359720"/>
            <a:chOff x="1670040" y="4102920"/>
            <a:chExt cx="3001320" cy="1359720"/>
          </a:xfrm>
        </p:grpSpPr>
        <p:grpSp>
          <p:nvGrpSpPr>
            <p:cNvPr id="156" name="Group 18"/>
            <p:cNvGrpSpPr/>
            <p:nvPr/>
          </p:nvGrpSpPr>
          <p:grpSpPr>
            <a:xfrm>
              <a:off x="1670040" y="4102920"/>
              <a:ext cx="3001320" cy="1359720"/>
              <a:chOff x="1670040" y="4102920"/>
              <a:chExt cx="3001320" cy="1359720"/>
            </a:xfrm>
          </p:grpSpPr>
          <p:sp>
            <p:nvSpPr>
              <p:cNvPr id="157" name="AutoShape 75"/>
              <p:cNvSpPr/>
              <p:nvPr/>
            </p:nvSpPr>
            <p:spPr>
              <a:xfrm rot="18900000">
                <a:off x="3583080" y="4236840"/>
                <a:ext cx="826920" cy="1081080"/>
              </a:xfrm>
              <a:prstGeom prst="rightArrow">
                <a:avLst>
                  <a:gd name="adj1" fmla="val 70389"/>
                  <a:gd name="adj2" fmla="val 65694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圆角矩形 22"/>
              <p:cNvSpPr/>
              <p:nvPr/>
            </p:nvSpPr>
            <p:spPr>
              <a:xfrm>
                <a:off x="1670040" y="4707000"/>
                <a:ext cx="1979640" cy="755640"/>
              </a:xfrm>
              <a:prstGeom prst="roundRect">
                <a:avLst>
                  <a:gd name="adj" fmla="val 3278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1"/>
            <p:cNvGrpSpPr/>
            <p:nvPr/>
          </p:nvGrpSpPr>
          <p:grpSpPr>
            <a:xfrm>
              <a:off x="3294000" y="4707000"/>
              <a:ext cx="757080" cy="755640"/>
              <a:chOff x="3294000" y="4707000"/>
              <a:chExt cx="757080" cy="755640"/>
            </a:xfrm>
          </p:grpSpPr>
          <p:sp>
            <p:nvSpPr>
              <p:cNvPr id="160" name="椭圆 19"/>
              <p:cNvSpPr/>
              <p:nvPr/>
            </p:nvSpPr>
            <p:spPr>
              <a:xfrm>
                <a:off x="3294000" y="470700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椭圆 117"/>
              <p:cNvSpPr/>
              <p:nvPr/>
            </p:nvSpPr>
            <p:spPr>
              <a:xfrm>
                <a:off x="3317760" y="4727520"/>
                <a:ext cx="647640" cy="64944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24"/>
          <p:cNvGrpSpPr/>
          <p:nvPr/>
        </p:nvGrpSpPr>
        <p:grpSpPr>
          <a:xfrm>
            <a:off x="4543560" y="4196520"/>
            <a:ext cx="3052800" cy="1291320"/>
            <a:chOff x="4543560" y="4196520"/>
            <a:chExt cx="3052800" cy="1291320"/>
          </a:xfrm>
        </p:grpSpPr>
        <p:grpSp>
          <p:nvGrpSpPr>
            <p:cNvPr id="163" name="Group 25"/>
            <p:cNvGrpSpPr/>
            <p:nvPr/>
          </p:nvGrpSpPr>
          <p:grpSpPr>
            <a:xfrm>
              <a:off x="4543560" y="4196520"/>
              <a:ext cx="3052800" cy="1291320"/>
              <a:chOff x="4543560" y="4196520"/>
              <a:chExt cx="3052800" cy="1291320"/>
            </a:xfrm>
          </p:grpSpPr>
          <p:sp>
            <p:nvSpPr>
              <p:cNvPr id="164" name="AutoShape 69"/>
              <p:cNvSpPr/>
              <p:nvPr/>
            </p:nvSpPr>
            <p:spPr>
              <a:xfrm flipH="1" rot="2700000">
                <a:off x="4757040" y="4360680"/>
                <a:ext cx="863640" cy="962640"/>
              </a:xfrm>
              <a:prstGeom prst="rightArrow">
                <a:avLst>
                  <a:gd name="adj1" fmla="val 70389"/>
                  <a:gd name="adj2" fmla="val 64583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圆角矩形 29"/>
              <p:cNvSpPr/>
              <p:nvPr/>
            </p:nvSpPr>
            <p:spPr>
              <a:xfrm>
                <a:off x="5529960" y="4779360"/>
                <a:ext cx="2066400" cy="683280"/>
              </a:xfrm>
              <a:prstGeom prst="roundRect">
                <a:avLst>
                  <a:gd name="adj" fmla="val 3278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28"/>
            <p:cNvGrpSpPr/>
            <p:nvPr/>
          </p:nvGrpSpPr>
          <p:grpSpPr>
            <a:xfrm>
              <a:off x="5216760" y="4705200"/>
              <a:ext cx="755640" cy="757440"/>
              <a:chOff x="5216760" y="4705200"/>
              <a:chExt cx="755640" cy="757440"/>
            </a:xfrm>
          </p:grpSpPr>
          <p:sp>
            <p:nvSpPr>
              <p:cNvPr id="167" name="椭圆 26"/>
              <p:cNvSpPr/>
              <p:nvPr/>
            </p:nvSpPr>
            <p:spPr>
              <a:xfrm>
                <a:off x="5216760" y="470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椭圆 117"/>
              <p:cNvSpPr/>
              <p:nvPr/>
            </p:nvSpPr>
            <p:spPr>
              <a:xfrm>
                <a:off x="5238720" y="4727160"/>
                <a:ext cx="649440" cy="64944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1"/>
          <p:cNvGrpSpPr/>
          <p:nvPr/>
        </p:nvGrpSpPr>
        <p:grpSpPr>
          <a:xfrm>
            <a:off x="5505480" y="3173400"/>
            <a:ext cx="2843280" cy="1065240"/>
            <a:chOff x="5505480" y="3173400"/>
            <a:chExt cx="2843280" cy="1065240"/>
          </a:xfrm>
        </p:grpSpPr>
        <p:grpSp>
          <p:nvGrpSpPr>
            <p:cNvPr id="170" name="Group 32"/>
            <p:cNvGrpSpPr/>
            <p:nvPr/>
          </p:nvGrpSpPr>
          <p:grpSpPr>
            <a:xfrm>
              <a:off x="5505480" y="3173400"/>
              <a:ext cx="2843280" cy="1065240"/>
              <a:chOff x="5505480" y="3173400"/>
              <a:chExt cx="2843280" cy="1065240"/>
            </a:xfrm>
          </p:grpSpPr>
          <p:sp>
            <p:nvSpPr>
              <p:cNvPr id="171" name="AutoShape 49"/>
              <p:cNvSpPr/>
              <p:nvPr/>
            </p:nvSpPr>
            <p:spPr>
              <a:xfrm flipH="1">
                <a:off x="5505480" y="317340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圆角矩形 36"/>
              <p:cNvSpPr/>
              <p:nvPr/>
            </p:nvSpPr>
            <p:spPr>
              <a:xfrm>
                <a:off x="6369120" y="332712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35"/>
            <p:cNvGrpSpPr/>
            <p:nvPr/>
          </p:nvGrpSpPr>
          <p:grpSpPr>
            <a:xfrm>
              <a:off x="5979960" y="3327120"/>
              <a:ext cx="755640" cy="757440"/>
              <a:chOff x="5979960" y="3327120"/>
              <a:chExt cx="755640" cy="757440"/>
            </a:xfrm>
          </p:grpSpPr>
          <p:sp>
            <p:nvSpPr>
              <p:cNvPr id="174" name="椭圆 33"/>
              <p:cNvSpPr/>
              <p:nvPr/>
            </p:nvSpPr>
            <p:spPr>
              <a:xfrm>
                <a:off x="5979960" y="332712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椭圆 117"/>
              <p:cNvSpPr/>
              <p:nvPr/>
            </p:nvSpPr>
            <p:spPr>
              <a:xfrm>
                <a:off x="6001920" y="3349080"/>
                <a:ext cx="647640" cy="64800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38"/>
          <p:cNvGrpSpPr/>
          <p:nvPr/>
        </p:nvGrpSpPr>
        <p:grpSpPr>
          <a:xfrm>
            <a:off x="4702320" y="1928880"/>
            <a:ext cx="2894040" cy="1466640"/>
            <a:chOff x="4702320" y="1928880"/>
            <a:chExt cx="2894040" cy="1466640"/>
          </a:xfrm>
        </p:grpSpPr>
        <p:grpSp>
          <p:nvGrpSpPr>
            <p:cNvPr id="177" name="Group 39"/>
            <p:cNvGrpSpPr/>
            <p:nvPr/>
          </p:nvGrpSpPr>
          <p:grpSpPr>
            <a:xfrm>
              <a:off x="4702320" y="1928880"/>
              <a:ext cx="2894040" cy="1466640"/>
              <a:chOff x="4702320" y="1928880"/>
              <a:chExt cx="2894040" cy="1466640"/>
            </a:xfrm>
          </p:grpSpPr>
          <p:sp>
            <p:nvSpPr>
              <p:cNvPr id="178" name="AutoShape 67"/>
              <p:cNvSpPr/>
              <p:nvPr/>
            </p:nvSpPr>
            <p:spPr>
              <a:xfrm flipH="1" rot="18900000">
                <a:off x="4928400" y="220068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圆角矩形 43"/>
              <p:cNvSpPr/>
              <p:nvPr/>
            </p:nvSpPr>
            <p:spPr>
              <a:xfrm>
                <a:off x="5699520" y="1928880"/>
                <a:ext cx="1896840" cy="835920"/>
              </a:xfrm>
              <a:prstGeom prst="roundRect">
                <a:avLst>
                  <a:gd name="adj" fmla="val 3278"/>
                </a:avLst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42"/>
            <p:cNvGrpSpPr/>
            <p:nvPr/>
          </p:nvGrpSpPr>
          <p:grpSpPr>
            <a:xfrm>
              <a:off x="5216400" y="1928880"/>
              <a:ext cx="757080" cy="755640"/>
              <a:chOff x="5216400" y="1928880"/>
              <a:chExt cx="757080" cy="755640"/>
            </a:xfrm>
          </p:grpSpPr>
          <p:sp>
            <p:nvSpPr>
              <p:cNvPr id="181" name="椭圆 40"/>
              <p:cNvSpPr/>
              <p:nvPr/>
            </p:nvSpPr>
            <p:spPr>
              <a:xfrm>
                <a:off x="5216400" y="19288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117"/>
              <p:cNvSpPr/>
              <p:nvPr/>
            </p:nvSpPr>
            <p:spPr>
              <a:xfrm>
                <a:off x="5240160" y="1950840"/>
                <a:ext cx="647640" cy="64800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18"/>
          <p:cNvSpPr/>
          <p:nvPr/>
        </p:nvSpPr>
        <p:spPr>
          <a:xfrm>
            <a:off x="1050840" y="353700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745320" y="353700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6022800" y="213660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1755720" y="213660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703520" y="491508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5919840" y="491508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1"/>
          <p:cNvGrpSpPr/>
          <p:nvPr/>
        </p:nvGrpSpPr>
        <p:grpSpPr>
          <a:xfrm>
            <a:off x="3836880" y="2897280"/>
            <a:ext cx="1619280" cy="1619280"/>
            <a:chOff x="3836880" y="2897280"/>
            <a:chExt cx="1619280" cy="1619280"/>
          </a:xfrm>
        </p:grpSpPr>
        <p:sp>
          <p:nvSpPr>
            <p:cNvPr id="190" name="Oval 93"/>
            <p:cNvSpPr/>
            <p:nvPr/>
          </p:nvSpPr>
          <p:spPr>
            <a:xfrm>
              <a:off x="3836880" y="2897280"/>
              <a:ext cx="1619280" cy="161928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4"/>
            <p:cNvSpPr/>
            <p:nvPr/>
          </p:nvSpPr>
          <p:spPr>
            <a:xfrm>
              <a:off x="3901680" y="2949480"/>
              <a:ext cx="1395720" cy="1395720"/>
            </a:xfrm>
            <a:prstGeom prst="ellipse">
              <a:avLst/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8"/>
          <p:cNvSpPr/>
          <p:nvPr/>
        </p:nvSpPr>
        <p:spPr>
          <a:xfrm>
            <a:off x="3967200" y="33480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3435840" y="2128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5368680" y="2128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6121080" y="3517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2695320" y="3517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3435840" y="489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5357520" y="489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658800" y="1687680"/>
            <a:ext cx="7826400" cy="424152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787320" y="1824120"/>
            <a:ext cx="7569360" cy="398628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1427040" y="2392200"/>
            <a:ext cx="0" cy="288000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419120" y="527220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7"/>
          <p:cNvGrpSpPr/>
          <p:nvPr/>
        </p:nvGrpSpPr>
        <p:grpSpPr>
          <a:xfrm>
            <a:off x="1474920" y="1305000"/>
            <a:ext cx="6194160" cy="647640"/>
            <a:chOff x="1474920" y="1305000"/>
            <a:chExt cx="6194160" cy="647640"/>
          </a:xfrm>
        </p:grpSpPr>
        <p:sp>
          <p:nvSpPr>
            <p:cNvPr id="205" name="AutoShape 3"/>
            <p:cNvSpPr/>
            <p:nvPr/>
          </p:nvSpPr>
          <p:spPr>
            <a:xfrm>
              <a:off x="1474920" y="1305000"/>
              <a:ext cx="61941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3"/>
            <p:cNvSpPr/>
            <p:nvPr/>
          </p:nvSpPr>
          <p:spPr>
            <a:xfrm>
              <a:off x="1474920" y="139536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5"/>
          <p:cNvSpPr/>
          <p:nvPr/>
        </p:nvSpPr>
        <p:spPr>
          <a:xfrm>
            <a:off x="3905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513864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6380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266400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890720" y="30700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2"/>
          <p:cNvSpPr/>
          <p:nvPr/>
        </p:nvSpPr>
        <p:spPr>
          <a:xfrm>
            <a:off x="1430280" y="34750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4"/>
          <p:cNvSpPr/>
          <p:nvPr/>
        </p:nvSpPr>
        <p:spPr>
          <a:xfrm>
            <a:off x="1398600" y="367668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9"/>
          <p:cNvSpPr/>
          <p:nvPr/>
        </p:nvSpPr>
        <p:spPr>
          <a:xfrm>
            <a:off x="2638440" y="45687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4"/>
          <p:cNvSpPr/>
          <p:nvPr/>
        </p:nvSpPr>
        <p:spPr>
          <a:xfrm>
            <a:off x="5110200" y="41799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6356520" y="3697200"/>
            <a:ext cx="5364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9"/>
          <p:cNvSpPr/>
          <p:nvPr/>
        </p:nvSpPr>
        <p:spPr>
          <a:xfrm>
            <a:off x="1436760" y="3067200"/>
            <a:ext cx="4951440" cy="119988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1"/>
          <p:cNvSpPr/>
          <p:nvPr/>
        </p:nvSpPr>
        <p:spPr>
          <a:xfrm>
            <a:off x="1389240" y="4229280"/>
            <a:ext cx="7272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6"/>
          <p:cNvSpPr/>
          <p:nvPr/>
        </p:nvSpPr>
        <p:spPr>
          <a:xfrm>
            <a:off x="2629080" y="3930480"/>
            <a:ext cx="7272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1"/>
          <p:cNvSpPr/>
          <p:nvPr/>
        </p:nvSpPr>
        <p:spPr>
          <a:xfrm>
            <a:off x="5100480" y="3110040"/>
            <a:ext cx="730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6"/>
          <p:cNvSpPr/>
          <p:nvPr/>
        </p:nvSpPr>
        <p:spPr>
          <a:xfrm>
            <a:off x="6346800" y="4064040"/>
            <a:ext cx="7164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80"/>
          <p:cNvSpPr/>
          <p:nvPr/>
        </p:nvSpPr>
        <p:spPr>
          <a:xfrm>
            <a:off x="1455840" y="2577960"/>
            <a:ext cx="4935600" cy="206244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440"/>
              <a:gd name="textAreaBottom" fmla="*/ 2062800 h 206244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2"/>
          <p:cNvSpPr/>
          <p:nvPr/>
        </p:nvSpPr>
        <p:spPr>
          <a:xfrm>
            <a:off x="1380960" y="459252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7"/>
          <p:cNvSpPr/>
          <p:nvPr/>
        </p:nvSpPr>
        <p:spPr>
          <a:xfrm>
            <a:off x="2620800" y="43401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2"/>
          <p:cNvSpPr/>
          <p:nvPr/>
        </p:nvSpPr>
        <p:spPr>
          <a:xfrm>
            <a:off x="5092560" y="27543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7"/>
          <p:cNvSpPr/>
          <p:nvPr/>
        </p:nvSpPr>
        <p:spPr>
          <a:xfrm>
            <a:off x="6337440" y="3851280"/>
            <a:ext cx="9036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3794040" y="3435480"/>
            <a:ext cx="223920" cy="2235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1"/>
          <p:cNvSpPr/>
          <p:nvPr/>
        </p:nvSpPr>
        <p:spPr>
          <a:xfrm>
            <a:off x="3860640" y="3502080"/>
            <a:ext cx="9072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3"/>
          <p:cNvSpPr/>
          <p:nvPr/>
        </p:nvSpPr>
        <p:spPr>
          <a:xfrm>
            <a:off x="2304000" y="3079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3"/>
          <p:cNvGrpSpPr/>
          <p:nvPr/>
        </p:nvGrpSpPr>
        <p:grpSpPr>
          <a:xfrm>
            <a:off x="6826320" y="3411360"/>
            <a:ext cx="1359000" cy="973440"/>
            <a:chOff x="6826320" y="3411360"/>
            <a:chExt cx="1359000" cy="973440"/>
          </a:xfrm>
        </p:grpSpPr>
        <p:sp>
          <p:nvSpPr>
            <p:cNvPr id="231" name="AutoShape 26"/>
            <p:cNvSpPr/>
            <p:nvPr/>
          </p:nvSpPr>
          <p:spPr>
            <a:xfrm>
              <a:off x="6826320" y="3411360"/>
              <a:ext cx="1346400" cy="97344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35"/>
            <p:cNvGrpSpPr/>
            <p:nvPr/>
          </p:nvGrpSpPr>
          <p:grpSpPr>
            <a:xfrm>
              <a:off x="6890400" y="4165200"/>
              <a:ext cx="259200" cy="54000"/>
              <a:chOff x="6890400" y="4165200"/>
              <a:chExt cx="259200" cy="54000"/>
            </a:xfrm>
          </p:grpSpPr>
          <p:sp>
            <p:nvSpPr>
              <p:cNvPr id="233" name="Line 53"/>
              <p:cNvSpPr/>
              <p:nvPr/>
            </p:nvSpPr>
            <p:spPr>
              <a:xfrm>
                <a:off x="6890400" y="419076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55"/>
              <p:cNvSpPr/>
              <p:nvPr/>
            </p:nvSpPr>
            <p:spPr>
              <a:xfrm>
                <a:off x="6992640" y="416520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8"/>
            <p:cNvGrpSpPr/>
            <p:nvPr/>
          </p:nvGrpSpPr>
          <p:grpSpPr>
            <a:xfrm>
              <a:off x="6890400" y="3845880"/>
              <a:ext cx="777960" cy="111240"/>
              <a:chOff x="6890400" y="3845880"/>
              <a:chExt cx="777960" cy="111240"/>
            </a:xfrm>
          </p:grpSpPr>
          <p:sp>
            <p:nvSpPr>
              <p:cNvPr id="236" name="Line 29"/>
              <p:cNvSpPr/>
              <p:nvPr/>
            </p:nvSpPr>
            <p:spPr>
              <a:xfrm>
                <a:off x="6890400" y="388872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6994440" y="3845880"/>
                <a:ext cx="673920" cy="111240"/>
                <a:chOff x="6994440" y="3845880"/>
                <a:chExt cx="673920" cy="111240"/>
              </a:xfrm>
            </p:grpSpPr>
            <p:sp>
              <p:nvSpPr>
                <p:cNvPr id="238" name="Rectangle 102"/>
                <p:cNvSpPr/>
                <p:nvPr/>
              </p:nvSpPr>
              <p:spPr>
                <a:xfrm>
                  <a:off x="6994440" y="384588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42"/>
                <p:cNvGrpSpPr/>
                <p:nvPr/>
              </p:nvGrpSpPr>
              <p:grpSpPr>
                <a:xfrm>
                  <a:off x="7583760" y="3895200"/>
                  <a:ext cx="84600" cy="61920"/>
                  <a:chOff x="7583760" y="3895200"/>
                  <a:chExt cx="84600" cy="61920"/>
                </a:xfrm>
              </p:grpSpPr>
              <p:sp>
                <p:nvSpPr>
                  <p:cNvPr id="240" name="Line 104"/>
                  <p:cNvSpPr/>
                  <p:nvPr/>
                </p:nvSpPr>
                <p:spPr>
                  <a:xfrm>
                    <a:off x="7626240" y="389520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05"/>
                  <p:cNvSpPr/>
                  <p:nvPr/>
                </p:nvSpPr>
                <p:spPr>
                  <a:xfrm flipH="1">
                    <a:off x="7583760" y="392616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2" name="Group 45"/>
            <p:cNvGrpSpPr/>
            <p:nvPr/>
          </p:nvGrpSpPr>
          <p:grpSpPr>
            <a:xfrm>
              <a:off x="6890400" y="3535920"/>
              <a:ext cx="259200" cy="90720"/>
              <a:chOff x="6890400" y="3535920"/>
              <a:chExt cx="259200" cy="90720"/>
            </a:xfrm>
          </p:grpSpPr>
          <p:sp>
            <p:nvSpPr>
              <p:cNvPr id="243" name="Line 27"/>
              <p:cNvSpPr/>
              <p:nvPr/>
            </p:nvSpPr>
            <p:spPr>
              <a:xfrm>
                <a:off x="6890400" y="358020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07"/>
              <p:cNvSpPr/>
              <p:nvPr/>
            </p:nvSpPr>
            <p:spPr>
              <a:xfrm>
                <a:off x="6975360" y="3535920"/>
                <a:ext cx="89640" cy="9072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9"/>
            <p:cNvSpPr/>
            <p:nvPr/>
          </p:nvSpPr>
          <p:spPr>
            <a:xfrm>
              <a:off x="7074720" y="34430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9"/>
            <p:cNvSpPr/>
            <p:nvPr/>
          </p:nvSpPr>
          <p:spPr>
            <a:xfrm>
              <a:off x="7074720" y="37508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7074720" y="40532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9"/>
          <p:cNvSpPr/>
          <p:nvPr/>
        </p:nvSpPr>
        <p:spPr>
          <a:xfrm>
            <a:off x="9604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203560" y="53164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441600" y="53164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46846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91336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3443400" y="142884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7"/>
          <p:cNvGrpSpPr/>
          <p:nvPr/>
        </p:nvGrpSpPr>
        <p:grpSpPr>
          <a:xfrm>
            <a:off x="3537000" y="3076560"/>
            <a:ext cx="311040" cy="374760"/>
            <a:chOff x="3537000" y="3076560"/>
            <a:chExt cx="311040" cy="374760"/>
          </a:xfrm>
        </p:grpSpPr>
        <p:sp>
          <p:nvSpPr>
            <p:cNvPr id="255" name="任意多边形 143"/>
            <p:cNvSpPr/>
            <p:nvPr/>
          </p:nvSpPr>
          <p:spPr>
            <a:xfrm>
              <a:off x="3544920" y="30765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144"/>
            <p:cNvSpPr/>
            <p:nvPr/>
          </p:nvSpPr>
          <p:spPr>
            <a:xfrm>
              <a:off x="3537000" y="3228840"/>
              <a:ext cx="311040" cy="2224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834160" y="2583000"/>
            <a:ext cx="23079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禾本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Poaceae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竹亚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ambusoideae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大乔木状禾草类植物的通称。植物学文献中记载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属以上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,2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种，但其中许多是同物异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917640" y="1338120"/>
            <a:ext cx="4317840" cy="4297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6:22:23Z</dcterms:created>
  <dc:creator/>
  <dc:description/>
  <cp:keywords/>
  <dc:language>en-US</dc:language>
  <cp:lastModifiedBy>Sky123.Org</cp:lastModifiedBy>
  <cp:lastPrinted>1899-12-30T00:00:00Z</cp:lastPrinted>
  <dcterms:modified xsi:type="dcterms:W3CDTF">2015-07-21T09:54:07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