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2.png" ContentType="image/png"/>
  <Override PartName="/ppt/media/image15.gif" ContentType="image/gif"/>
  <Override PartName="/ppt/media/image3.jpeg" ContentType="image/jpeg"/>
  <Override PartName="/ppt/media/clap.wav" ContentType="audio/x-wav"/>
  <Override PartName="/ppt/media/image13.gif" ContentType="image/gif"/>
  <Override PartName="/ppt/media/applause.wav" ContentType="audio/x-wav"/>
  <Override PartName="/ppt/media/image4.jpeg" ContentType="image/jpeg"/>
  <Override PartName="/ppt/media/image2.png" ContentType="image/png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283-F5A6-4095-9DB8-35F77E2F12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D08-0C3E-4D00-88BC-EF5C6A6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E8C-A6A6-43EF-8370-CF114FBE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70A-1CA2-4558-B55D-7166BBA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2E1-375A-4A47-B81B-7EA7CA8E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A9AE-303A-44E1-A5D6-51AD15CA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F072-42B3-4025-99F2-73A1C8DC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C1A2-4196-434F-A146-4D52894C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2001-F195-49B5-92A6-D8DF03B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BD4-5812-4471-AC35-AA125B3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057D-B87A-4850-ABC5-53707352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430-F6D9-4246-BA16-30B450F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B13-A2AA-40A8-849D-79CC6F5F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553-5207-4902-A971-FCF3C51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E15C-2857-48D2-BAD6-C782F45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A12-E954-4AEA-851C-5733DC6E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64C-4FBC-49E0-B3CC-CA6B6128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16D-686D-4073-B679-C26FC838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352-2A2F-4B88-8C92-3D0F8399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C9C-CF01-4315-9975-DA414D6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FCF-4AE9-4521-BB28-BD662DDE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1B9-D917-4AC8-AF71-0212305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FD5-748E-491D-A7EB-2C29826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7AB-913C-45A1-AA55-8A056F7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48C-0376-4EC7-A585-63A62A1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8B02-6E3A-421A-B20B-5DB974136D8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E1E0-F494-4D44-875A-054E2D44AA4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2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71640" y="2205000"/>
            <a:ext cx="684036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华文行楷"/>
              </a:rPr>
              <a:t>XX</a:t>
            </a: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华文行楷"/>
              </a:rPr>
              <a:t>中学家长会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3657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七（</a:t>
            </a: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77</a:t>
            </a: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）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68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3213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成绩、问题与反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5000" y="304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生成绩给我的启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143000"/>
            <a:ext cx="8153280" cy="2531160"/>
          </a:xfrm>
          <a:prstGeom prst="rect">
            <a:avLst/>
          </a:prstGeom>
          <a:solidFill>
            <a:srgbClr val="99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纪律性不强，玩心太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上课不认真听讲，说话、开小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个别学生课后不做作业，贪玩，早晨回校抄作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缺乏阅读课外书的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希望：家长在家督促孩子安静学习，常与科任老师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5000" y="304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生成绩给我的启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066680"/>
            <a:ext cx="7772400" cy="2043720"/>
          </a:xfrm>
          <a:prstGeom prst="rect">
            <a:avLst/>
          </a:prstGeom>
          <a:solidFill>
            <a:srgbClr val="99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轻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卷看似简单，但要拿高分甚至满分是很困难的，细节决定成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希望：多与孩子谈心，了解其心理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5000" y="304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学生成绩给我的启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066680"/>
            <a:ext cx="7772400" cy="2531160"/>
          </a:xfrm>
          <a:prstGeom prst="rect">
            <a:avLst/>
          </a:prstGeom>
          <a:solidFill>
            <a:srgbClr val="99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班级管理的任务艰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生人数多，学生参差不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生年龄小，不懂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要养成良好的行为习惯、学习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要提高成绩，要从各个细节抓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测试后显露出的问题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在这次测试后，我们发现很多同学的总分高不了，究其原因，偏科太厉害！尤其要引起重视的是英语、数学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尤其是数学这科拉的分数最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但也不能忽视语文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基础掌握不扎实。基础题失分太多或答不完全，不审题，做题马虎导致失分过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老师反复强调的知识点没落实到位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、个别同学上课自以为是，不够专心，甚至出现开小差、想心思，自己做自己的事情，完全不顾老师所讲的内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竞争意识不强，时间观念较差，迟到现象严重。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自习学习的效率不高，无法迅速进入学习的状态。放松学习，临考试才匆忙复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行为懒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考试心理状态调整不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学习不扎实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能落实到实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但一点我们是欣慰的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在四个班级中，我们各个分数段都有同学把持着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1---1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11--2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21--3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31--4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41--5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321300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学习英语的方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54dd2f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做学习的主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6324840" cy="4419720"/>
          </a:xfrm>
          <a:prstGeom prst="rect">
            <a:avLst/>
          </a:prstGeom>
          <a:noFill/>
          <a:ln w="47520">
            <a:solidFill>
              <a:srgbClr val="99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omic Sans MS"/>
                <a:ea typeface="PMingLiU"/>
              </a:rPr>
              <a:t>班风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做人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做事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共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处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学习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6836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热烈欢迎各位家长</a:t>
            </a:r>
            <a:endParaRPr b="0" lang="en-US" sz="6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1447920" cy="18288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班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54dd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做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77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班的主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1989000"/>
            <a:ext cx="1447920" cy="1557000"/>
          </a:xfrm>
          <a:prstGeom prst="rect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1989000"/>
            <a:ext cx="1371600" cy="1557000"/>
          </a:xfrm>
          <a:prstGeom prst="rect">
            <a:avLst/>
          </a:prstGeom>
          <a:solidFill>
            <a:srgbClr val="ff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3933720"/>
            <a:ext cx="1371600" cy="155700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3933720"/>
            <a:ext cx="1371600" cy="1557000"/>
          </a:xfrm>
          <a:prstGeom prst="rect">
            <a:avLst/>
          </a:prstGeom>
          <a:solidFill>
            <a:srgbClr val="ff66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敬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933720"/>
            <a:ext cx="1447920" cy="1511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20480" y="1218600"/>
            <a:ext cx="52981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一、班级管理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目     标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个核心、两个重点、四个要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一个核心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以学习为核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两个重点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纪律和卫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四个要求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会做人、会处事、会共处、会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5562720"/>
            <a:ext cx="3352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黑体"/>
                <a:hlinkClick r:id="rId1" action="ppaction://hlinksldjump"/>
              </a:rPr>
              <a:t>班级规章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38600" y="11592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英语技能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听，说，读，写方面下功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2673720"/>
            <a:ext cx="7546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一）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光靠上课听一点点的磁带，学生的听力根本就不能有什么发展。不会听就不能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学了英语就是要说，听录音机跟读，目的应该是两种，一种同学是上课没有完全消化，听录音是补充学习的过程，另外一种是提高自己的听力和口语表达能力，要学生尽力地去模仿录音机里的发音，从而使自己的听力和口语都提高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616572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280" y="2023560"/>
            <a:ext cx="8229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英语是一门语言，学了就是要说，要和别人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学校，我鼓励学生把所学的英语对话运用到生活中去，这样有更真实的情景，更能让学生有发挥的余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在家里，希望家长也能鼓励学生说英语，也许你会说你自己也听不懂，请不要这样想，其实学生需要是你的鼓励，你听了他们说的只要简单表扬一句，他们就会很满足了。有时候你们也可以不懂装懂，或者还可以让学生反过来教你，他们会觉得很自豪，因为自己所学派上了用场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280" y="159192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三）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读书破万卷，下笔如有神。”学英语也是这样，很多家长也明白，学英语要培养语感，也就是语言的感觉，如果有很好的语感，那么不管是说话，做题目，还是写文章，都很轻松，很简单了。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让学生养成每天读英语的习惯，这是学英语的最基本的学习习惯了。每天早上一定要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左右的英语，哪怕有时候时间来不及了，即使是迟到也要读，并且每天都坚持，绝不因任何原因间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果你的子女还没有养成这样的学习习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请你一定要督促他，刚开始也许会比较难，时间久了，就会习惯成自然。就像早上起来要刷牙洗脸一样，要让他们把读英语当作每天必做的一件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2012040"/>
            <a:ext cx="8229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四）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主要就是单词短语的默写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听写，这是学英语的必经之路。单词往往背过就容易会忘记，所以要不断的背默写，不断的翻新。背单词的时候要边拼边写，嘴巴和手都要动起来，嘴上十遍不如手上一遍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家长在这里要作好检查督促的工作，不要用不懂英语来帮助你的孩子学会偷懒，你可以报出中文，让你的孩子默写，然后对照书本批改订正，每天坚持的话，你一定会有意想不到的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写句子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学生应该在课上领会句型的意思和运用方法。课后还需要通过多读课文，多练习才能巩固所学的句型。所以请各位家长不光要注重孩子背单词短语的情况，还要让他重视句子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3213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学习状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981000"/>
            <a:ext cx="130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初一阶段的教学主要是要培养学生学习英语的兴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养成良好的学习英语的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644640"/>
            <a:ext cx="75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我的课堂也是围绕听、说、读、写几个方面对所学知识进行操练和运用。通过这一个月教学，我发现我们班大部分学生都自尊心强，上进心强，都能很用心认真的学习英语，这使我对他们充满信心。但是也发现了以下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616572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2021760"/>
            <a:ext cx="8229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一）学生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学习态度不够端正。上课听讲不专心，爱开小差；讲了的作业交上来还是错误的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能按时完成最基本的学习任务。单词，词组和课文不会背不会写不会默，达不到要求也不努力去完成。还有拖欠作业的情况。很多男生自律性较差，很懒惰，今天拖明天明天拖后天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学习习惯差。没有做到每天记单词，或者记单词不动笔，上课记笔记要点名提醒，听力不做预测，写完作文从来不检查，英语课文和笔记课后从来不读不看不记。从来不做阅读，导致考试速度慢，效果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1137240"/>
            <a:ext cx="82296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方法和策略，需要各位家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配合和支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督促学生在家听英语磁带，最好能每天坚持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——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，这将对孩子的学习有很大帮助。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争取消化当天所学的单词，不要积压任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天坚持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单词，一本书的单词也只要一个月就记完了。我每天都会组织一次听写，错误比较多的同学会及时让他们改正。请家长要检查听写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292720" cy="540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2695680" cy="1352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609480" y="304812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关爱与监督</a:t>
            </a:r>
            <a:endParaRPr b="1" lang="en-US" sz="2400" spc="1" strike="noStrike">
              <a:ln w="9360">
                <a:solidFill>
                  <a:srgbClr val="33cc33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5105520"/>
            <a:ext cx="5689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--</a:t>
            </a: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七年</a:t>
            </a:r>
            <a:r>
              <a:rPr b="1" lang="en-US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(77)</a:t>
            </a: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班家长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95280"/>
            <a:ext cx="5638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爱孩子的一切，不止是成绩！ 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2280" y="1347480"/>
            <a:ext cx="82296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方法和策略，需要各位家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配合和支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请家长督促孩子在家里完成家庭作业，以免他们来学校在匆忙之中互相抄袭。每天回家要求记本单元的单词，有时会默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课文。这也是为了给学生一点点压力，让他们知道父母会经常检查他们的作业本，一定要认真写才行。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每天要学会预习、复习。如果你的孩子英语基础不是很好，可以督促他们先在家查单词、查词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1558440"/>
            <a:ext cx="822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方法和策略，需要各位家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配合和支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和各位家长有着共同的心愿，都想尽自己最大的努力去培养这些孩子，他们个个都聪明、可爱，只是有些孩子的潜能还没有得到充分的掘。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七年级我的目标是不让一个学生掉队。今后，我也希望和各位家长保持联系，如果孩子遇到学习问题我们及时沟通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213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家庭教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85680" y="115920"/>
            <a:ext cx="25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问卷调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35120" y="16970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与孩子沟通谈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43000" y="22766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与孩子的班主任沟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35120" y="28526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督促孩子的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47120" y="342900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了解孩子平时在学校的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73480" y="838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对你的子女了解有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53880" y="4005360"/>
            <a:ext cx="9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知道孩子的梦想、兴趣爱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46483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了解孩子最喜欢的和最不喜欢的科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7080" y="5715000"/>
            <a:ext cx="802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知道孩子与哪些朋友交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704400" y="228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中学生喜欢的父母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09800" y="1295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理解尊重子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41880" y="20383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不摆家长架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3240" y="2757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家庭和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3240" y="3549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赏识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1880" y="42894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真正关心子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8520" y="50292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对子女的期望值要合乎实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415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7621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教育孩子要有责任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的同学虽然成绩不是很突出，但只要有强烈的责任感，今后照样能做出一番事业。责任感教育应该是本着从孩子自己到他人，从家庭到学校，从小事到大事，从少到多的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日常生活的具体事情当中，让孩子为自己去尝试承担一定的责任；要求孩子为自己的学习负责，认真完成作业，自己检查作业；要求孩子做一些力所能及的家务；洗自己的衣物，洗碗筷，倒垃圾等等，孩子在学校，父母别忘了教导他做值日生、班干部应尽职尽责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7840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对各位家长的几点建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与孩子沟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保证每天与孩子的及时沟通，多了解子女在校的各方面表现，不要只关心学习成绩，而要关心子女的进步、成长。家长也要注重言传身教，给孩子树立良好的榜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1240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表扬鼓励学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生做对了、做好了要及时表扬，遇到挫折要多鼓励。学生做错的事情要让他（她）自己承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不能太宠爱孩子。要养成良好的行为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0880" y="53352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努力帮助孩子尽快适应初中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安排好作息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督促孩子按时完成老师布置的任务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有选择地看课外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引导孩子掌握良好的学习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2852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尊重、理解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3429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一个人面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生，不可能兼顾每一位学生，父母是两个人面对一个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4508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理智爱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187280" y="1601640"/>
            <a:ext cx="5545440" cy="5256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49400" y="2192400"/>
            <a:ext cx="355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请在座的父母记住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你可以不是天才， 但你可以成为天才的父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333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首先感谢您们在百忙之中抽空来参加今天的家长会，协助并参与我们的教育教学工作。教育是双向的，必须家庭和学校积极配合才可能取得成效。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在此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我代表初一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77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）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所有的学生和任课老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对在座的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家长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感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感谢您们对我们工作的支持与关心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五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048120"/>
            <a:ext cx="50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家长个别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3766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8953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5280" y="3007440"/>
            <a:ext cx="5410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38160" y="762120"/>
            <a:ext cx="23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祝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愿我们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孩子进步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家长开心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472428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各位家长的支持与配合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再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科任老师自由交流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550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前苏联教育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苏霍姆林斯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个教育者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校和家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不仅要一致行动，要向孩子提出同样的要求，而且要志同道合，抱着一致的信念，始终从同一原则出发，无论在教育的目的上、过程上，还是手段上，都不要发生分歧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527364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4417920"/>
            <a:ext cx="83818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04640" y="228600"/>
            <a:ext cx="33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初一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班基本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班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男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女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438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大部分学生思维比较活跃，但不能够完全安静下来学习，学习不积极不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3962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我的教育理念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尊重学生、平等对待学生、严格要求学生，教学生学会做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32004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学习英语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840" y="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何要学好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37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作为一名家长我们应该知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英语关系每一个学生的未来的成绩与继续学习的发展。因为初中考高中，高中考大学，大学后考研读博，其中必考的科目便是英语，如果要出国留学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，考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TOEFL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、考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GRE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、考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IELTS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，这一切都是英语。因此，英语几乎伴随每一个学生的一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5160" y="76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告家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32130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告学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92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对于孩子来讲，七年级是一个很好的重新建立信心，学好英语的机会，我们是从最基本的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开始学的，即使以前没有任何基础，从现在开始认真学也是可以把英语学好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6278400"/>
            <a:ext cx="7848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56840" y="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何要学好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371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很多孩子在小学都没有重视英语，家长也没有过多关注，我希望我们家长在了解了英语的重要性后能和孩子一起重视英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17560" y="762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重视英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6278400"/>
            <a:ext cx="7848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21300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0%+60%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要学好英语，课上占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40%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，其余的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60%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还需要学生在课后不断的巩固，加深记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在课上老师更多的是教授新知识，当然课上也会有少量的时间巩固新学的知识。但是这些时间是公共的时间，而不是每个学生私有的时间，所以不可能照顾到每个学生，不可能让所有学生都达到相同的程度。况且每个学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对新知识得接受能力都是不同的，有的可能当堂就已经有很深的印象，很难忘记，但这肯定是很少的。大部分学生都只能是初步接触了新知识，要真正接受新知识还要学生在课后多下功夫，不然肯定会和别的同学拉下差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1960" y="2492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学好英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微软用户</cp:lastModifiedBy>
  <dcterms:modified xsi:type="dcterms:W3CDTF">2013-11-08T01:36:54Z</dcterms:modified>
  <cp:revision>172</cp:revision>
  <dc:subject/>
  <dc:title>热烈欢迎各位家长</dc:title>
</cp:coreProperties>
</file>