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757-38C7-457B-AFEA-1AA2CD8E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157-5198-4477-B1A2-512B4108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2A4-ABBF-4CE4-83ED-A69F91DF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913-C6C1-40AB-A445-0DC0EA72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1F0-7F6D-4504-882E-2410739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AB1-6C93-4918-9A85-0680AEA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4B2-6119-413A-9C4C-EFD8CB18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D0B-A311-421C-8ED3-4D3FF29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49D-A2B5-4981-81C3-A095C72C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3B9-AD1F-44E5-BFDA-DECF4BF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A09-69D1-4B0E-A63A-6E81D27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203-FFDE-4BF2-B8C7-0E32C70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2AC89-171A-4781-B83D-CDFC0EF70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edu.cnxianzai.com/uploads/100818/7aea760aImage002.jpg"/>
          <p:cNvPicPr/>
          <p:nvPr/>
        </p:nvPicPr>
        <p:blipFill>
          <a:blip r:embed="rId2"/>
          <a:stretch/>
        </p:blipFill>
        <p:spPr>
          <a:xfrm>
            <a:off x="609480" y="209520"/>
            <a:ext cx="2905200" cy="38098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未标题-2.png"/>
          <p:cNvPicPr/>
          <p:nvPr/>
        </p:nvPicPr>
        <p:blipFill>
          <a:blip r:embed="rId3"/>
          <a:stretch/>
        </p:blipFill>
        <p:spPr>
          <a:xfrm>
            <a:off x="3236760" y="895320"/>
            <a:ext cx="5699160" cy="2992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9"/>
          <p:cNvSpPr/>
          <p:nvPr/>
        </p:nvSpPr>
        <p:spPr>
          <a:xfrm>
            <a:off x="3962520" y="895320"/>
            <a:ext cx="4275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夏商西周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社会与国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7412040" cy="417204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0" y="4172040"/>
            <a:ext cx="922032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周初有哪些分封国？ 这些分封国集中在什么地方？说明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76320" y="36100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黑体"/>
                <a:ea typeface="黑体"/>
              </a:rPr>
              <a:t>主要集中在大河附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391520" y="1414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7391520" y="196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水源充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7364520" y="2505240"/>
            <a:ext cx="20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交通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206280" y="193680"/>
            <a:ext cx="4670640" cy="625320"/>
            <a:chOff x="206280" y="193680"/>
            <a:chExt cx="4670640" cy="625320"/>
          </a:xfrm>
        </p:grpSpPr>
        <p:pic>
          <p:nvPicPr>
            <p:cNvPr id="108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206280" y="193680"/>
              <a:ext cx="46706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1"/>
            <p:cNvSpPr/>
            <p:nvPr/>
          </p:nvSpPr>
          <p:spPr>
            <a:xfrm>
              <a:off x="777600" y="193680"/>
              <a:ext cx="37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一、西周的分封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4"/>
          <p:cNvSpPr/>
          <p:nvPr/>
        </p:nvSpPr>
        <p:spPr>
          <a:xfrm>
            <a:off x="2050920" y="895320"/>
            <a:ext cx="54388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分封制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加强了周王室与各诸侯国的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经济、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联系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密切了同周边各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少数民族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的关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推动了边远地区的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经济开发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文化发展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09520" y="471600"/>
            <a:ext cx="8858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材料一：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武王分封了三类人：一是神农、黄帝、尧、舜、禹的后代；二是姜太公等功臣谋士；三是自己的弟弟及其他的亲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材料二：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诸侯要定期朝见天子，汇报自己的政务。一次不朝见，贬低他的爵位；两次不朝见，削减他的封地；三次不朝见，出兵进行讨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材料三：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周公教成王说：“你得用心考查众诸侯谁纳不纳贡。纳贡的如果礼貌不好，既是侮慢王于不贡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4680"/>
            <a:ext cx="8591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"/>
                <a:ea typeface="楷体"/>
              </a:rPr>
              <a:t>阅读材料，依据史料内容，完成下列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25960"/>
          <a:ext cx="8591400" cy="1860480"/>
        </p:xfrm>
        <a:graphic>
          <a:graphicData uri="http://schemas.openxmlformats.org/drawingml/2006/table">
            <a:tbl>
              <a:tblPr/>
              <a:tblGrid>
                <a:gridCol w="1738440"/>
                <a:gridCol w="685296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分封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诸侯义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黑体"/>
                          <a:ea typeface="黑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20"/>
          <p:cNvSpPr/>
          <p:nvPr/>
        </p:nvSpPr>
        <p:spPr>
          <a:xfrm>
            <a:off x="2057400" y="3571920"/>
            <a:ext cx="6762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先圣王的后代，周天子的亲属、功臣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057400" y="4132440"/>
            <a:ext cx="62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保护周王室；镇守疆土；定期朝见天子，向天子述职；服从周天子的命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宗法制分封制结构图"/>
          <p:cNvPicPr/>
          <p:nvPr/>
        </p:nvPicPr>
        <p:blipFill>
          <a:blip r:embed="rId2"/>
          <a:srcRect l="1220" t="669" r="3261" b="4164"/>
          <a:stretch/>
        </p:blipFill>
        <p:spPr>
          <a:xfrm>
            <a:off x="378000" y="361800"/>
            <a:ext cx="5489280" cy="3608640"/>
          </a:xfrm>
          <a:prstGeom prst="rect">
            <a:avLst/>
          </a:prstGeom>
          <a:ln w="0">
            <a:noFill/>
          </a:ln>
        </p:spPr>
      </p:pic>
      <p:sp>
        <p:nvSpPr>
          <p:cNvPr id="117" name="矩形 2"/>
          <p:cNvSpPr/>
          <p:nvPr/>
        </p:nvSpPr>
        <p:spPr>
          <a:xfrm>
            <a:off x="6019920" y="514440"/>
            <a:ext cx="2819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夏商西周社会是依据什么来确定不同的等级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ct 2" descr=""/>
          <p:cNvPicPr/>
          <p:nvPr/>
        </p:nvPicPr>
        <p:blipFill>
          <a:blip r:embed="rId2"/>
          <a:stretch/>
        </p:blipFill>
        <p:spPr>
          <a:xfrm>
            <a:off x="1600200" y="701640"/>
            <a:ext cx="6756480" cy="44420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6019920" y="2286000"/>
            <a:ext cx="114120" cy="1428840"/>
          </a:xfrm>
          <a:custGeom>
            <a:avLst/>
            <a:gdLst>
              <a:gd name="textAreaLeft" fmla="*/ 0 w 114120"/>
              <a:gd name="textAreaRight" fmla="*/ 41040 w 114120"/>
              <a:gd name="textAreaTop" fmla="*/ 28800 h 1428840"/>
              <a:gd name="textAreaBottom" fmla="*/ 14000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6"/>
                  <a:pt x="10800" y="1392"/>
                </a:cubicBezTo>
                <a:lnTo>
                  <a:pt x="10800" y="9408"/>
                </a:lnTo>
                <a:cubicBezTo>
                  <a:pt x="10800" y="10104"/>
                  <a:pt x="16200" y="10800"/>
                  <a:pt x="21600" y="10800"/>
                </a:cubicBezTo>
                <a:cubicBezTo>
                  <a:pt x="16200" y="10800"/>
                  <a:pt x="10800" y="11496"/>
                  <a:pt x="10800" y="12192"/>
                </a:cubicBezTo>
                <a:lnTo>
                  <a:pt x="10800" y="20208"/>
                </a:lnTo>
                <a:cubicBezTo>
                  <a:pt x="10800" y="20904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248520" y="2647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553080" y="3790800"/>
            <a:ext cx="190800" cy="960480"/>
          </a:xfrm>
          <a:custGeom>
            <a:avLst/>
            <a:gdLst>
              <a:gd name="textAreaLeft" fmla="*/ 0 w 190800"/>
              <a:gd name="textAreaRight" fmla="*/ 68760 w 190800"/>
              <a:gd name="textAreaTop" fmla="*/ 16560 h 960480"/>
              <a:gd name="textAreaBottom" fmla="*/ 94392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7"/>
                  <a:pt x="10800" y="1213"/>
                </a:cubicBezTo>
                <a:lnTo>
                  <a:pt x="10800" y="9587"/>
                </a:lnTo>
                <a:cubicBezTo>
                  <a:pt x="10800" y="10194"/>
                  <a:pt x="16200" y="10800"/>
                  <a:pt x="21600" y="10800"/>
                </a:cubicBezTo>
                <a:cubicBezTo>
                  <a:pt x="16200" y="10800"/>
                  <a:pt x="10800" y="11407"/>
                  <a:pt x="10800" y="12013"/>
                </a:cubicBezTo>
                <a:lnTo>
                  <a:pt x="10800" y="20387"/>
                </a:lnTo>
                <a:cubicBezTo>
                  <a:pt x="10800" y="20994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>
            <a:hlinkClick r:id="" action="ppaction://hlinkshowjump?jump=nextslide"/>
          </p:cNvPr>
          <p:cNvSpPr/>
          <p:nvPr/>
        </p:nvSpPr>
        <p:spPr>
          <a:xfrm>
            <a:off x="6553080" y="36669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被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93680" y="860400"/>
            <a:ext cx="1254240" cy="2043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按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血缘关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进行区分尊卑等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0" y="117360"/>
            <a:ext cx="5791320" cy="625680"/>
            <a:chOff x="0" y="117360"/>
            <a:chExt cx="5791320" cy="625680"/>
          </a:xfrm>
        </p:grpSpPr>
        <p:pic>
          <p:nvPicPr>
            <p:cNvPr id="125" name="图片 13" descr="未标题-2.png"/>
            <p:cNvPicPr/>
            <p:nvPr/>
          </p:nvPicPr>
          <p:blipFill>
            <a:blip r:embed="rId3"/>
            <a:stretch/>
          </p:blipFill>
          <p:spPr>
            <a:xfrm>
              <a:off x="0" y="117360"/>
              <a:ext cx="554652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"/>
            <p:cNvSpPr/>
            <p:nvPr/>
          </p:nvSpPr>
          <p:spPr>
            <a:xfrm>
              <a:off x="678600" y="117360"/>
              <a:ext cx="51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二、贵族、平民与奴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0"/>
          <p:cNvSpPr/>
          <p:nvPr/>
        </p:nvSpPr>
        <p:spPr>
          <a:xfrm>
            <a:off x="1600200" y="666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依据血缘关系区分尊卑等级的是什么制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2895480" y="112392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宗法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1600200" y="160668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诸侯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卿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大夫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2" descr=""/>
          <p:cNvPicPr/>
          <p:nvPr/>
        </p:nvPicPr>
        <p:blipFill>
          <a:blip r:embed="rId2"/>
          <a:stretch/>
        </p:blipFill>
        <p:spPr>
          <a:xfrm>
            <a:off x="152280" y="882720"/>
            <a:ext cx="5034240" cy="3132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3429000" y="1886040"/>
            <a:ext cx="114480" cy="1133280"/>
          </a:xfrm>
          <a:custGeom>
            <a:avLst/>
            <a:gdLst>
              <a:gd name="textAreaLeft" fmla="*/ 0 w 114480"/>
              <a:gd name="textAreaRight" fmla="*/ 41400 w 114480"/>
              <a:gd name="textAreaTop" fmla="*/ 28800 h 1133280"/>
              <a:gd name="textAreaBottom" fmla="*/ 110448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78"/>
                  <a:pt x="10800" y="1755"/>
                </a:cubicBezTo>
                <a:lnTo>
                  <a:pt x="10800" y="9045"/>
                </a:lnTo>
                <a:cubicBezTo>
                  <a:pt x="10800" y="9923"/>
                  <a:pt x="16200" y="10800"/>
                  <a:pt x="21600" y="10800"/>
                </a:cubicBezTo>
                <a:cubicBezTo>
                  <a:pt x="16200" y="10800"/>
                  <a:pt x="10800" y="11678"/>
                  <a:pt x="10800" y="12555"/>
                </a:cubicBezTo>
                <a:lnTo>
                  <a:pt x="10800" y="19845"/>
                </a:lnTo>
                <a:cubicBezTo>
                  <a:pt x="10800" y="20723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27360" y="1819440"/>
            <a:ext cx="13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阶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886200" y="3092400"/>
            <a:ext cx="190440" cy="546120"/>
          </a:xfrm>
          <a:custGeom>
            <a:avLst/>
            <a:gdLst>
              <a:gd name="textAreaLeft" fmla="*/ 0 w 190440"/>
              <a:gd name="textAreaRight" fmla="*/ 68760 w 190440"/>
              <a:gd name="textAreaTop" fmla="*/ 16560 h 546120"/>
              <a:gd name="textAreaBottom" fmla="*/ 52956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6"/>
                  <a:pt x="10800" y="2131"/>
                </a:cubicBezTo>
                <a:lnTo>
                  <a:pt x="10800" y="8669"/>
                </a:lnTo>
                <a:cubicBezTo>
                  <a:pt x="10800" y="9735"/>
                  <a:pt x="16200" y="10800"/>
                  <a:pt x="21600" y="10800"/>
                </a:cubicBezTo>
                <a:cubicBezTo>
                  <a:pt x="16200" y="10800"/>
                  <a:pt x="10800" y="11866"/>
                  <a:pt x="10800" y="12931"/>
                </a:cubicBezTo>
                <a:lnTo>
                  <a:pt x="10800" y="19469"/>
                </a:lnTo>
                <a:cubicBezTo>
                  <a:pt x="10800" y="20535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>
            <a:hlinkClick r:id="" action="ppaction://hlinkshowjump?jump=nextslide"/>
          </p:cNvPr>
          <p:cNvSpPr/>
          <p:nvPr/>
        </p:nvSpPr>
        <p:spPr>
          <a:xfrm>
            <a:off x="3733920" y="2876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被统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阶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0" y="117360"/>
            <a:ext cx="5791320" cy="625680"/>
            <a:chOff x="0" y="117360"/>
            <a:chExt cx="5791320" cy="625680"/>
          </a:xfrm>
        </p:grpSpPr>
        <p:pic>
          <p:nvPicPr>
            <p:cNvPr id="136" name="图片 13" descr="未标题-2.png"/>
            <p:cNvPicPr/>
            <p:nvPr/>
          </p:nvPicPr>
          <p:blipFill>
            <a:blip r:embed="rId3"/>
            <a:stretch/>
          </p:blipFill>
          <p:spPr>
            <a:xfrm>
              <a:off x="0" y="117360"/>
              <a:ext cx="554652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"/>
            <p:cNvSpPr/>
            <p:nvPr/>
          </p:nvSpPr>
          <p:spPr>
            <a:xfrm>
              <a:off x="678600" y="117360"/>
              <a:ext cx="51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二、贵族、平民与奴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20"/>
          <p:cNvSpPr/>
          <p:nvPr/>
        </p:nvSpPr>
        <p:spPr>
          <a:xfrm>
            <a:off x="228600" y="892080"/>
            <a:ext cx="41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各阶层由什么人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地位、分工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5562720" y="57240"/>
            <a:ext cx="22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贵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2"/>
          <p:cNvSpPr/>
          <p:nvPr/>
        </p:nvSpPr>
        <p:spPr>
          <a:xfrm>
            <a:off x="5791320" y="614520"/>
            <a:ext cx="3233520" cy="550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周王以下的</a:t>
            </a:r>
            <a:r>
              <a:rPr b="1" lang="zh-CN" sz="30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诸侯、卿大夫、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左箭头 2"/>
          <p:cNvSpPr/>
          <p:nvPr/>
        </p:nvSpPr>
        <p:spPr>
          <a:xfrm rot="18837600">
            <a:off x="4364640" y="1667880"/>
            <a:ext cx="1524240" cy="16668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000066"/>
          </a:soli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5553000" y="158112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平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2"/>
          <p:cNvSpPr/>
          <p:nvPr/>
        </p:nvSpPr>
        <p:spPr>
          <a:xfrm>
            <a:off x="5791320" y="2114640"/>
            <a:ext cx="3233520" cy="100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隶属于贵族，是农业和手工业生产部门的</a:t>
            </a:r>
            <a:r>
              <a:rPr b="1" lang="zh-CN" sz="30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主要劳动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左箭头 18"/>
          <p:cNvSpPr/>
          <p:nvPr/>
        </p:nvSpPr>
        <p:spPr>
          <a:xfrm>
            <a:off x="5181480" y="3152880"/>
            <a:ext cx="534960" cy="18072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000066"/>
          </a:soli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5562720" y="3648240"/>
            <a:ext cx="22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奴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0" y="4208400"/>
            <a:ext cx="9220320" cy="946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来源：</a:t>
            </a:r>
            <a:r>
              <a:rPr b="1" lang="zh-CN" sz="30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战俘</a:t>
            </a: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和触犯刑法的</a:t>
            </a:r>
            <a:r>
              <a:rPr b="1" lang="zh-CN" sz="30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罪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华文新魏"/>
                <a:ea typeface="华文新魏"/>
              </a:rPr>
              <a:t>地位：毫无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人身自由</a:t>
            </a:r>
            <a:r>
              <a:rPr b="1" lang="zh-CN" sz="2600" spc="-1" strike="noStrike">
                <a:solidFill>
                  <a:srgbClr val="c00000"/>
                </a:solidFill>
                <a:latin typeface="华文新魏"/>
                <a:ea typeface="华文新魏"/>
              </a:rPr>
              <a:t>，常被用于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赏赐、买卖</a:t>
            </a:r>
            <a:r>
              <a:rPr b="1" lang="zh-CN" sz="26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供品、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殉葬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箭头 22"/>
          <p:cNvSpPr/>
          <p:nvPr/>
        </p:nvSpPr>
        <p:spPr>
          <a:xfrm rot="5400000">
            <a:off x="2224800" y="3871080"/>
            <a:ext cx="346320" cy="18576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000066"/>
          </a:soli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123"/>
          <p:cNvPicPr/>
          <p:nvPr/>
        </p:nvPicPr>
        <p:blipFill>
          <a:blip r:embed="rId2"/>
          <a:srcRect l="0" t="0" r="0" b="30383"/>
          <a:stretch/>
        </p:blipFill>
        <p:spPr>
          <a:xfrm>
            <a:off x="5021280" y="417600"/>
            <a:ext cx="3444840" cy="215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奴隶俑"/>
          <p:cNvPicPr/>
          <p:nvPr/>
        </p:nvPicPr>
        <p:blipFill>
          <a:blip r:embed="rId3"/>
          <a:stretch/>
        </p:blipFill>
        <p:spPr>
          <a:xfrm>
            <a:off x="2568600" y="3036960"/>
            <a:ext cx="1905120" cy="210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http://gangyao.scnu.edu.cn/gangyao/zxzy/tupianziyuan/pic/1-2-2-9.jpg"/>
          <p:cNvPicPr/>
          <p:nvPr/>
        </p:nvPicPr>
        <p:blipFill>
          <a:blip r:embed="rId4"/>
          <a:stretch/>
        </p:blipFill>
        <p:spPr>
          <a:xfrm>
            <a:off x="316080" y="971640"/>
            <a:ext cx="4157640" cy="2038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77840" y="0"/>
            <a:ext cx="8591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"/>
                <a:ea typeface="楷体"/>
              </a:rPr>
              <a:t>阅读材料，回答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177840" y="487440"/>
            <a:ext cx="61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材料一：商朝墓葬中的无头骨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62080" y="3105000"/>
            <a:ext cx="25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材料三：商朝戴枷的奴隶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4952880" y="-19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材料二：奴隶与马的换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5240" y="2647800"/>
            <a:ext cx="456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材料四：天子杀殉，众者数百，寡者数十；将军、大夫杀殉，众者数十，寡者数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楷体"/>
                <a:ea typeface="楷体"/>
              </a:rPr>
              <a:t>                 ——</a:t>
            </a:r>
            <a:r>
              <a:rPr b="1" lang="en-US" sz="2400" spc="-1" strike="noStrike">
                <a:solidFill>
                  <a:srgbClr val="c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墨子</a:t>
            </a:r>
            <a:r>
              <a:rPr b="1" lang="en-US" sz="2400" spc="-1" strike="noStrike">
                <a:solidFill>
                  <a:srgbClr val="c00000"/>
                </a:solidFill>
                <a:latin typeface="楷体"/>
                <a:ea typeface="楷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572000" y="4324320"/>
            <a:ext cx="4518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"/>
                <a:ea typeface="楷体"/>
              </a:rPr>
              <a:t>以上材料反映了什么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152280" y="77760"/>
            <a:ext cx="8915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阅读材料，回答问题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楷体"/>
                <a:ea typeface="楷体"/>
              </a:rPr>
              <a:t>材料一：</a:t>
            </a: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国之大事，在祀与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楷体"/>
                <a:ea typeface="楷体"/>
              </a:rPr>
              <a:t>材料二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楷体"/>
                <a:ea typeface="楷体"/>
              </a:rPr>
              <a:t>材料三：</a:t>
            </a: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礼的原意是祭祀祖先、天神的仪典、西周初期，规定了一整套在衣食住行方面必须合乎尊卑等级身份的礼仪规范，并发展成为指导人们行为的基本准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244600" y="971640"/>
            <a:ext cx="3776760" cy="114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  <p:sp>
        <p:nvSpPr>
          <p:cNvPr id="159" name="TextBox 7"/>
          <p:cNvSpPr/>
          <p:nvPr/>
        </p:nvSpPr>
        <p:spPr>
          <a:xfrm>
            <a:off x="122400" y="3451320"/>
            <a:ext cx="886932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楷体"/>
                <a:ea typeface="楷体"/>
              </a:rPr>
              <a:t>1.</a:t>
            </a: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材料一的“祀”与“戎”分别代表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楷体"/>
                <a:ea typeface="楷体"/>
              </a:rPr>
              <a:t>2.</a:t>
            </a: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从材料二的商朝文字中可以看出当时实施过什么刑罚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楷体"/>
                <a:ea typeface="楷体"/>
              </a:rPr>
              <a:t>3.</a:t>
            </a:r>
            <a:r>
              <a:rPr b="1" lang="zh-CN" sz="2600" spc="-1" strike="noStrike">
                <a:solidFill>
                  <a:srgbClr val="000066"/>
                </a:solidFill>
                <a:latin typeface="楷体"/>
                <a:ea typeface="楷体"/>
              </a:rPr>
              <a:t>以上材料反映了夏商西周统治人民的哪两种手段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2"/>
          <p:cNvGrpSpPr/>
          <p:nvPr/>
        </p:nvGrpSpPr>
        <p:grpSpPr>
          <a:xfrm>
            <a:off x="0" y="352440"/>
            <a:ext cx="7086600" cy="625320"/>
            <a:chOff x="0" y="352440"/>
            <a:chExt cx="7086600" cy="625320"/>
          </a:xfrm>
        </p:grpSpPr>
        <p:pic>
          <p:nvPicPr>
            <p:cNvPr id="161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0" y="352440"/>
              <a:ext cx="678672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1"/>
            <p:cNvSpPr/>
            <p:nvPr/>
          </p:nvSpPr>
          <p:spPr>
            <a:xfrm>
              <a:off x="830160" y="352440"/>
              <a:ext cx="625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三、军队、刑法与礼仪教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4"/>
          <p:cNvSpPr/>
          <p:nvPr/>
        </p:nvSpPr>
        <p:spPr>
          <a:xfrm>
            <a:off x="2638440" y="17636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礼仪教化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配合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暴力镇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638440" y="1206360"/>
            <a:ext cx="55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对外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征战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、对内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镇压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反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705040" y="2297160"/>
            <a:ext cx="46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调节社会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稳定社会秩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维护等级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809640" y="1206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733320" y="17636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手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33320" y="2297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65280" y="1009800"/>
            <a:ext cx="1295640" cy="51408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2236680" y="1523880"/>
            <a:ext cx="1690920" cy="514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诸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2035080" y="2046240"/>
            <a:ext cx="2183040" cy="514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卿大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1620720" y="2568600"/>
            <a:ext cx="2978280" cy="51444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093680" y="3089160"/>
            <a:ext cx="4038840" cy="51444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平   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1093680" y="3581280"/>
            <a:ext cx="4038840" cy="514440"/>
          </a:xfrm>
          <a:prstGeom prst="rect">
            <a:avLst/>
          </a:prstGeom>
          <a:solidFill>
            <a:srgbClr val="8eb4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奴   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04920" y="0"/>
            <a:ext cx="22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康布丁体W12(P)"/>
                <a:ea typeface="华康布丁体W12(P)"/>
              </a:rPr>
              <a:t>本课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1204920" y="4410000"/>
            <a:ext cx="6705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西周社会网络示意图，总结本课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789120" y="539640"/>
            <a:ext cx="1447560" cy="581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封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3"/>
          <p:cNvGrpSpPr/>
          <p:nvPr/>
        </p:nvGrpSpPr>
        <p:grpSpPr>
          <a:xfrm>
            <a:off x="788760" y="1227240"/>
            <a:ext cx="1524240" cy="1192320"/>
            <a:chOff x="788760" y="1227240"/>
            <a:chExt cx="1524240" cy="1192320"/>
          </a:xfrm>
        </p:grpSpPr>
        <p:sp>
          <p:nvSpPr>
            <p:cNvPr id="179" name="直接连接符 15"/>
            <p:cNvSpPr/>
            <p:nvPr/>
          </p:nvSpPr>
          <p:spPr>
            <a:xfrm>
              <a:off x="789120" y="1227240"/>
              <a:ext cx="152388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7"/>
            <p:cNvSpPr/>
            <p:nvPr/>
          </p:nvSpPr>
          <p:spPr>
            <a:xfrm>
              <a:off x="789120" y="1227240"/>
              <a:ext cx="0" cy="11919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直接箭头连接符 19"/>
            <p:cNvCxnSpPr/>
            <p:nvPr/>
          </p:nvCxnSpPr>
          <p:spPr>
            <a:xfrm>
              <a:off x="788760" y="2418840"/>
              <a:ext cx="60372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182" name="TextBox 16"/>
          <p:cNvSpPr/>
          <p:nvPr/>
        </p:nvSpPr>
        <p:spPr>
          <a:xfrm>
            <a:off x="76320" y="1406520"/>
            <a:ext cx="94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土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臣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969840" y="1482840"/>
            <a:ext cx="5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42"/>
          <p:cNvGrpSpPr/>
          <p:nvPr/>
        </p:nvGrpSpPr>
        <p:grpSpPr>
          <a:xfrm>
            <a:off x="1017720" y="1406520"/>
            <a:ext cx="1295640" cy="784080"/>
            <a:chOff x="1017720" y="1406520"/>
            <a:chExt cx="1295640" cy="784080"/>
          </a:xfrm>
        </p:grpSpPr>
        <p:cxnSp>
          <p:nvCxnSpPr>
            <p:cNvPr id="185" name="直接箭头连接符 36"/>
            <p:cNvCxnSpPr/>
            <p:nvPr/>
          </p:nvCxnSpPr>
          <p:spPr>
            <a:xfrm>
              <a:off x="1017720" y="1428120"/>
              <a:ext cx="1296000" cy="10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arrow" w="med"/>
            </a:ln>
          </p:spPr>
        </p:cxnSp>
        <p:sp>
          <p:nvSpPr>
            <p:cNvPr id="186" name="直接连接符 38"/>
            <p:cNvSpPr/>
            <p:nvPr/>
          </p:nvSpPr>
          <p:spPr>
            <a:xfrm>
              <a:off x="1017720" y="1406520"/>
              <a:ext cx="0" cy="784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40"/>
            <p:cNvSpPr/>
            <p:nvPr/>
          </p:nvSpPr>
          <p:spPr>
            <a:xfrm>
              <a:off x="1017720" y="2190600"/>
              <a:ext cx="3744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9"/>
          <p:cNvSpPr/>
          <p:nvPr/>
        </p:nvSpPr>
        <p:spPr>
          <a:xfrm>
            <a:off x="3529080" y="361800"/>
            <a:ext cx="4395600" cy="5205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  <a:ea typeface="华文新魏"/>
              </a:rPr>
              <a:t>血缘关系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区分尊卑等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大括号 45"/>
          <p:cNvSpPr/>
          <p:nvPr/>
        </p:nvSpPr>
        <p:spPr>
          <a:xfrm>
            <a:off x="4856040" y="1038240"/>
            <a:ext cx="276480" cy="1914480"/>
          </a:xfrm>
          <a:custGeom>
            <a:avLst/>
            <a:gdLst>
              <a:gd name="textAreaLeft" fmla="*/ 0 w 276480"/>
              <a:gd name="textAreaRight" fmla="*/ 99720 w 276480"/>
              <a:gd name="textAreaTop" fmla="*/ 7200 h 1914480"/>
              <a:gd name="textAreaBottom" fmla="*/ 1907280 h 19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6070"/>
                </a:lnTo>
                <a:cubicBezTo>
                  <a:pt x="10800" y="6200"/>
                  <a:pt x="16200" y="6330"/>
                  <a:pt x="21600" y="6330"/>
                </a:cubicBezTo>
                <a:cubicBezTo>
                  <a:pt x="16200" y="6330"/>
                  <a:pt x="10800" y="6460"/>
                  <a:pt x="10800" y="659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大括号 46"/>
          <p:cNvSpPr/>
          <p:nvPr/>
        </p:nvSpPr>
        <p:spPr>
          <a:xfrm>
            <a:off x="5313240" y="3089160"/>
            <a:ext cx="228600" cy="1006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06560"/>
              <a:gd name="textAreaBottom" fmla="*/ 100080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618160" y="1244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541840" y="32259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被统治阶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9"/>
          <p:cNvSpPr/>
          <p:nvPr/>
        </p:nvSpPr>
        <p:spPr>
          <a:xfrm>
            <a:off x="5465880" y="2079720"/>
            <a:ext cx="2438280" cy="892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礼仪教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暴力镇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箭头连接符 53"/>
          <p:cNvCxnSpPr/>
          <p:nvPr/>
        </p:nvCxnSpPr>
        <p:spPr>
          <a:xfrm>
            <a:off x="6608520" y="1760400"/>
            <a:ext cx="1080" cy="278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5" name="直接箭头连接符 55"/>
          <p:cNvCxnSpPr>
            <a:stCxn id="193" idx="2"/>
          </p:cNvCxnSpPr>
          <p:nvPr/>
        </p:nvCxnSpPr>
        <p:spPr>
          <a:xfrm>
            <a:off x="6684480" y="2971440"/>
            <a:ext cx="1080" cy="438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6" name="Text Box 23"/>
          <p:cNvSpPr/>
          <p:nvPr/>
        </p:nvSpPr>
        <p:spPr>
          <a:xfrm>
            <a:off x="8176680" y="209520"/>
            <a:ext cx="91188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巩固奴隶制国家统治政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右大括号 59"/>
          <p:cNvSpPr/>
          <p:nvPr/>
        </p:nvSpPr>
        <p:spPr>
          <a:xfrm>
            <a:off x="8153280" y="539640"/>
            <a:ext cx="360360" cy="34038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3403800"/>
              <a:gd name="textAreaBottom" fmla="*/ 3394440 h 340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未标题-5.png"/>
          <p:cNvPicPr/>
          <p:nvPr/>
        </p:nvPicPr>
        <p:blipFill>
          <a:blip r:embed="rId2"/>
          <a:stretch/>
        </p:blipFill>
        <p:spPr>
          <a:xfrm>
            <a:off x="6477120" y="229860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28600" y="309600"/>
            <a:ext cx="6659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说出西周分封制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理解分封制的内容及作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认识礼仪教化的重要意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设计西周的社会网络示意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57200" y="133200"/>
            <a:ext cx="370188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495680" y="361800"/>
            <a:ext cx="42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假如你是周王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打下了江山，建立了自己的国家后，紧接着要做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495680" y="2500200"/>
            <a:ext cx="42674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考虑如何管理广大地区，统治人民，巩固政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738360" y="288756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假如你是周王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面对如此广阔的土地，你怎样来治理国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Xia"/>
          <p:cNvPicPr/>
          <p:nvPr/>
        </p:nvPicPr>
        <p:blipFill>
          <a:blip r:embed="rId2"/>
          <a:srcRect l="17528" t="0" r="15179" b="11164"/>
          <a:stretch/>
        </p:blipFill>
        <p:spPr>
          <a:xfrm>
            <a:off x="561960" y="846000"/>
            <a:ext cx="22734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"/>
          <p:cNvGrpSpPr/>
          <p:nvPr/>
        </p:nvGrpSpPr>
        <p:grpSpPr>
          <a:xfrm>
            <a:off x="3282840" y="870120"/>
            <a:ext cx="1843200" cy="1978200"/>
            <a:chOff x="3282840" y="870120"/>
            <a:chExt cx="1843200" cy="1978200"/>
          </a:xfrm>
        </p:grpSpPr>
        <p:pic>
          <p:nvPicPr>
            <p:cNvPr id="52" name="Picture 8" descr="shang"/>
            <p:cNvPicPr/>
            <p:nvPr/>
          </p:nvPicPr>
          <p:blipFill>
            <a:blip r:embed="rId3"/>
            <a:stretch/>
          </p:blipFill>
          <p:spPr>
            <a:xfrm>
              <a:off x="3282840" y="870120"/>
              <a:ext cx="184320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9"/>
            <p:cNvSpPr/>
            <p:nvPr/>
          </p:nvSpPr>
          <p:spPr>
            <a:xfrm>
              <a:off x="4554000" y="2327760"/>
              <a:ext cx="49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6000840" y="896760"/>
            <a:ext cx="2450880" cy="1931040"/>
            <a:chOff x="6000840" y="896760"/>
            <a:chExt cx="2450880" cy="1931040"/>
          </a:xfrm>
        </p:grpSpPr>
        <p:pic>
          <p:nvPicPr>
            <p:cNvPr id="55" name="Picture 11" descr="xizhou"/>
            <p:cNvPicPr/>
            <p:nvPr/>
          </p:nvPicPr>
          <p:blipFill>
            <a:blip r:embed="rId4"/>
            <a:stretch/>
          </p:blipFill>
          <p:spPr>
            <a:xfrm>
              <a:off x="6000840" y="896760"/>
              <a:ext cx="245088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2"/>
            <p:cNvSpPr/>
            <p:nvPr/>
          </p:nvSpPr>
          <p:spPr>
            <a:xfrm>
              <a:off x="7192440" y="2307240"/>
              <a:ext cx="119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华文楷体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西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AutoShape 13"/>
          <p:cNvSpPr/>
          <p:nvPr/>
        </p:nvSpPr>
        <p:spPr>
          <a:xfrm>
            <a:off x="2492280" y="1724040"/>
            <a:ext cx="592200" cy="203040"/>
          </a:xfrm>
          <a:prstGeom prst="rightArrow">
            <a:avLst>
              <a:gd name="adj1" fmla="val 50000"/>
              <a:gd name="adj2" fmla="val 54579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5280120" y="1668600"/>
            <a:ext cx="592200" cy="203040"/>
          </a:xfrm>
          <a:prstGeom prst="rightArrow">
            <a:avLst>
              <a:gd name="adj1" fmla="val 50000"/>
              <a:gd name="adj2" fmla="val 54579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4"/>
          <p:cNvSpPr/>
          <p:nvPr/>
        </p:nvSpPr>
        <p:spPr>
          <a:xfrm>
            <a:off x="131760" y="264960"/>
            <a:ext cx="56386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西周建立后，为了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，统治者实行了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。周天子把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分封给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，建立了许多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。西周统治者还建立了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，规定天子等职位只传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继承，形成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分封制.wmv" descr=""/>
          <p:cNvPicPr/>
          <p:nvPr/>
        </p:nvPicPr>
        <p:blipFill>
          <a:blip r:embed="rId2"/>
          <a:stretch/>
        </p:blipFill>
        <p:spPr>
          <a:xfrm>
            <a:off x="5867280" y="469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4"/>
          <p:cNvSpPr/>
          <p:nvPr/>
        </p:nvSpPr>
        <p:spPr>
          <a:xfrm>
            <a:off x="76320" y="3465360"/>
            <a:ext cx="899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西周的分封制和宗法制相结合，巩固了</a:t>
            </a: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___________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962520" y="26496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巩固政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819520" y="70164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分封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990720" y="113184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土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362320" y="113184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人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4419720" y="112536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亲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609480" y="16160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功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962520" y="16160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诸侯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3733920" y="20732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宗法制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733920" y="25304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嫡长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1828800" y="2987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诸侯</a:t>
            </a:r>
            <a:r>
              <a:rPr b="1" lang="en-US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-</a:t>
            </a: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卿</a:t>
            </a:r>
            <a:r>
              <a:rPr b="1" lang="en-US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-</a:t>
            </a: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大夫</a:t>
            </a:r>
            <a:r>
              <a:rPr b="1" lang="en-US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-</a:t>
            </a: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4800600" y="300816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一级级的等级阶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6477120" y="346536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华文新魏"/>
                <a:ea typeface="华文新魏"/>
              </a:rPr>
              <a:t>奴隶主的统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"/>
          <p:cNvGrpSpPr/>
          <p:nvPr/>
        </p:nvGrpSpPr>
        <p:grpSpPr>
          <a:xfrm>
            <a:off x="206280" y="193680"/>
            <a:ext cx="4670640" cy="625320"/>
            <a:chOff x="206280" y="193680"/>
            <a:chExt cx="4670640" cy="625320"/>
          </a:xfrm>
        </p:grpSpPr>
        <p:pic>
          <p:nvPicPr>
            <p:cNvPr id="75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206280" y="193680"/>
              <a:ext cx="46706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"/>
            <p:cNvSpPr/>
            <p:nvPr/>
          </p:nvSpPr>
          <p:spPr>
            <a:xfrm>
              <a:off x="777600" y="193680"/>
              <a:ext cx="37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一、西周的分封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2"/>
          <p:cNvSpPr/>
          <p:nvPr/>
        </p:nvSpPr>
        <p:spPr>
          <a:xfrm>
            <a:off x="677880" y="915840"/>
            <a:ext cx="7856640" cy="294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 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西周为什么要实行分封制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分封制的主要内容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周王对哪些人进行了分封？为什么要分封前代贵族后裔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周初有哪些分封国？ 这些分封国集中在什么地方？说明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</a:t>
            </a:r>
            <a:r>
              <a:rPr b="1" lang="zh-CN" sz="3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分封制有何意义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2"/>
          <p:cNvGrpSpPr/>
          <p:nvPr/>
        </p:nvGrpSpPr>
        <p:grpSpPr>
          <a:xfrm>
            <a:off x="206280" y="193680"/>
            <a:ext cx="4670640" cy="625320"/>
            <a:chOff x="206280" y="193680"/>
            <a:chExt cx="4670640" cy="625320"/>
          </a:xfrm>
        </p:grpSpPr>
        <p:pic>
          <p:nvPicPr>
            <p:cNvPr id="79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206280" y="193680"/>
              <a:ext cx="46706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1"/>
            <p:cNvSpPr/>
            <p:nvPr/>
          </p:nvSpPr>
          <p:spPr>
            <a:xfrm>
              <a:off x="777600" y="193680"/>
              <a:ext cx="37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一、西周的分封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矩形 4"/>
          <p:cNvSpPr/>
          <p:nvPr/>
        </p:nvSpPr>
        <p:spPr>
          <a:xfrm>
            <a:off x="1518840" y="1019160"/>
            <a:ext cx="378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25000"/>
              </a:lnSpc>
              <a:buClr>
                <a:srgbClr val="000066"/>
              </a:buClr>
              <a:buFont typeface="华文新魏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西周实行分封制的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5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巩固对周边的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"/>
          <p:cNvGrpSpPr/>
          <p:nvPr/>
        </p:nvGrpSpPr>
        <p:grpSpPr>
          <a:xfrm>
            <a:off x="206280" y="193680"/>
            <a:ext cx="4670640" cy="625320"/>
            <a:chOff x="206280" y="193680"/>
            <a:chExt cx="4670640" cy="625320"/>
          </a:xfrm>
        </p:grpSpPr>
        <p:pic>
          <p:nvPicPr>
            <p:cNvPr id="83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206280" y="193680"/>
              <a:ext cx="46706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1"/>
            <p:cNvSpPr/>
            <p:nvPr/>
          </p:nvSpPr>
          <p:spPr>
            <a:xfrm>
              <a:off x="777600" y="193680"/>
              <a:ext cx="37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一、西周的分封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6"/>
          <p:cNvSpPr/>
          <p:nvPr/>
        </p:nvSpPr>
        <p:spPr>
          <a:xfrm>
            <a:off x="777960" y="760320"/>
            <a:ext cx="586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分封制的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380880" y="1417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周王把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土地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臣民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授予某个诸侯，称为“授民授疆土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80880" y="2408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诸侯必须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服从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周王的命令，镇守疆土，定期到周室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朝觐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纳贡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服役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横卷形 5"/>
          <p:cNvSpPr/>
          <p:nvPr/>
        </p:nvSpPr>
        <p:spPr>
          <a:xfrm>
            <a:off x="206280" y="3333600"/>
            <a:ext cx="8632800" cy="16574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30200" y="3867120"/>
            <a:ext cx="14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周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434280" y="3684600"/>
            <a:ext cx="23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诸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亲属、功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箭头连接符 15"/>
          <p:cNvCxnSpPr/>
          <p:nvPr/>
        </p:nvCxnSpPr>
        <p:spPr>
          <a:xfrm>
            <a:off x="1904760" y="4095360"/>
            <a:ext cx="464868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TextBox 16"/>
          <p:cNvSpPr/>
          <p:nvPr/>
        </p:nvSpPr>
        <p:spPr>
          <a:xfrm>
            <a:off x="3276720" y="36338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土地、臣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1752480" y="43196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从命令、朝觐、纳贡、服役、镇守疆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18"/>
          <p:cNvCxnSpPr/>
          <p:nvPr/>
        </p:nvCxnSpPr>
        <p:spPr>
          <a:xfrm flipH="1">
            <a:off x="1828440" y="4247640"/>
            <a:ext cx="4649040" cy="1080"/>
          </a:xfrm>
          <a:prstGeom prst="straightConnector1">
            <a:avLst/>
          </a:prstGeom>
          <a:ln w="38160">
            <a:solidFill>
              <a:srgbClr val="77933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2"/>
          <p:cNvGrpSpPr/>
          <p:nvPr/>
        </p:nvGrpSpPr>
        <p:grpSpPr>
          <a:xfrm>
            <a:off x="206280" y="193680"/>
            <a:ext cx="4670640" cy="625320"/>
            <a:chOff x="206280" y="193680"/>
            <a:chExt cx="4670640" cy="625320"/>
          </a:xfrm>
        </p:grpSpPr>
        <p:pic>
          <p:nvPicPr>
            <p:cNvPr id="96" name="图片 13" descr="未标题-2.png"/>
            <p:cNvPicPr/>
            <p:nvPr/>
          </p:nvPicPr>
          <p:blipFill>
            <a:blip r:embed="rId2"/>
            <a:stretch/>
          </p:blipFill>
          <p:spPr>
            <a:xfrm>
              <a:off x="206280" y="193680"/>
              <a:ext cx="46706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"/>
            <p:cNvSpPr/>
            <p:nvPr/>
          </p:nvSpPr>
          <p:spPr>
            <a:xfrm>
              <a:off x="777600" y="193680"/>
              <a:ext cx="37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一、西周的分封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4"/>
          <p:cNvSpPr/>
          <p:nvPr/>
        </p:nvSpPr>
        <p:spPr>
          <a:xfrm>
            <a:off x="1487160" y="895320"/>
            <a:ext cx="3763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周王对哪些人进行了分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为什么要分封前代贵族后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85800" y="211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分封的对象大多是同姓子弟、姻亲和功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85800" y="25718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团结大多数部族，巩固对全国的统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淑婷</cp:lastModifiedBy>
  <dcterms:modified xsi:type="dcterms:W3CDTF">2015-09-02T03:52:11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