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4F7-97E9-4FAD-943F-900B0300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A65-B128-4A90-BD9E-D457BB6D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E58-9BCA-4BD3-B8A5-84F25FFF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374-BB47-48EE-A512-0EB83E0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4F7-2A4A-4C49-89F7-127FA6DB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9D4-5266-4B67-ADAB-6E06652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70B-57DE-4785-AA4C-E89949F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06F-7B05-4F06-9940-70DB2919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5CC-07D9-4CE1-B0E9-A3FDC77D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7B3-8DD9-4A6E-8D34-CE521B1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AA7-FCF8-4DE6-BDAF-8337189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A86-5D66-4DF0-A01E-5BE89EA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78E9-7863-48CA-A4C7-9986798F0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秦始皇陵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308720" y="544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俑"/>
          <p:cNvPicPr/>
          <p:nvPr/>
        </p:nvPicPr>
        <p:blipFill>
          <a:blip r:embed="rId1"/>
          <a:stretch/>
        </p:blipFill>
        <p:spPr>
          <a:xfrm>
            <a:off x="468360" y="260280"/>
            <a:ext cx="4176720" cy="626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俑1"/>
          <p:cNvPicPr/>
          <p:nvPr/>
        </p:nvPicPr>
        <p:blipFill>
          <a:blip r:embed="rId2"/>
          <a:stretch/>
        </p:blipFill>
        <p:spPr>
          <a:xfrm>
            <a:off x="5003640" y="189000"/>
            <a:ext cx="3935520" cy="6350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秦始皇陵园的总体布局与其它国君陵园相比有以下显著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314172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一、在布局上体现了一冢独尊的特点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二、封冢位置也有别于其它国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去发现的魏国国君陵园，其中并列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座大墓，中山国王陵园内也排列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座大墓，秦始皇陵园内只有一座高大的坟墓，充分显示了一冢独尊的特点。而其它国君陵园的布局则显示了以国君、王后、夫人多中心的特点。这一区别正是秦国尊君卑臣的传统思想在陵寝布局上的反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826920" y="378936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它国君陵园大多是将封冢安置在回字形陵园的中部，而秦始皇陵封冢位于内城南半部。有的先生以为这是按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西为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礼制安排的。从陵园总体布局来看，始皇陵封冢并不在西半部。封家围起于陵园南半部的原因正是封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草木以象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设计思想决定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7740720" y="6381720"/>
            <a:ext cx="718920" cy="216000"/>
          </a:xfrm>
          <a:custGeom>
            <a:avLst/>
            <a:gdLst>
              <a:gd name="textAreaLeft" fmla="*/ 296280 w 718920"/>
              <a:gd name="textAreaRight" fmla="*/ 422640 w 71892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出土"/>
          <p:cNvPicPr/>
          <p:nvPr/>
        </p:nvPicPr>
        <p:blipFill>
          <a:blip r:embed="rId1"/>
          <a:stretch/>
        </p:blipFill>
        <p:spPr>
          <a:xfrm>
            <a:off x="4572000" y="260280"/>
            <a:ext cx="3887640" cy="5905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碗"/>
          <p:cNvPicPr/>
          <p:nvPr/>
        </p:nvPicPr>
        <p:blipFill>
          <a:blip r:embed="rId2"/>
          <a:stretch/>
        </p:blipFill>
        <p:spPr>
          <a:xfrm>
            <a:off x="539640" y="260280"/>
            <a:ext cx="3457800" cy="585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2124000" y="1125360"/>
            <a:ext cx="499284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概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秦始皇陵是中国历史上第一个皇帝嬴政（公元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～公元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的陵墓，位于中国北部陕西省临潼县城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里处的骊山北麓。秦始皇陵建于公元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至公元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历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，是中国历史上第一个规模庞大，设计完善的帝王陵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秦始皇陵原名“丽山”或“郦山”。据三国时人说：“坟高五十余丈，周回五里余”。经折算，高合一百二十多米，底边周长两千一百六十七米有余。上面种草植树，确实很象是一座山。北魏时伟大的地理学家郦道元（公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说，因为始皇陵所在地区的地质多砂石，缺乏纯净的黄土，就从陵冢东北五里的吴家寨子附近的低洼地带把土运来。这座完全依靠人工堆起来的“丽山”，表现了古代劳动人民的智慧和力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秦始皇陵的特别之处是它筑有内外两重夯土城垣，象征着都城的皇城和宫城。陵冢位于内城南部，呈覆斗形，现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底边周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余米。据史料记载，秦陵中还建有各式宫殿，陈列着许多奇异珍宝。秦陵四周分布着大量形制不同、内涵各异的陪葬坑和墓葬，现已探明的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个。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全貌"/>
          <p:cNvPicPr/>
          <p:nvPr/>
        </p:nvPicPr>
        <p:blipFill>
          <a:blip r:embed="rId1"/>
          <a:stretch/>
        </p:blipFill>
        <p:spPr>
          <a:xfrm>
            <a:off x="7524720" y="692280"/>
            <a:ext cx="4105440" cy="59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全貌2"/>
          <p:cNvPicPr/>
          <p:nvPr/>
        </p:nvPicPr>
        <p:blipFill>
          <a:blip r:embed="rId2"/>
          <a:stretch/>
        </p:blipFill>
        <p:spPr>
          <a:xfrm>
            <a:off x="4859280" y="404640"/>
            <a:ext cx="3853080" cy="612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文化遗产价值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震惊中外的考古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最大帝陵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第八个奇迹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古代泥塑艺术的宝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513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6836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中国考古工作者把沉睡千年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件陶捅发掘出土，被认为是古代的奇迹，是本世纪最壮观的考古发现。秦兵马俑，无论在数量上、质量上，还是在考古发现上，都是世界上所罕见，它对于深入研究公元前二世纪秦代的军事、政治、经济、文化、科学和艺术等提供了极为珍贵的实物材料。它既是中国人民的艺术珍品，又是世界人民的共同文化遗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9640" y="4076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秦始皇陵是世界上规模最大、结构最奇特、内涵最丰富的帝王陵墓之一，实际上它是一座豪华的地下宫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7812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539640" y="98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外国元首、学者参观秦俑博物馆后认为，秦俑坑的发现，不仅在我国，而且也是世界考古史上的一次重大发现，可以说是世界第八个奇迹，它可以同埃及金字塔和古希腊雕塑相媲美，公认它是世界人类文化的宝贵财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4076640"/>
            <a:ext cx="8245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秦始皇兵马俑是以现实生活为题材而塑造的，艺术手法细腻、明快，手势、脸部表情神态各异，具有鲜明的个性和强烈的时代特征，显示出泥塑艺术的顶峰，为中华民族灿烂的古老文化增添光彩，给世界艺术史补充了光辉的一页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4"/>
          <p:cNvSpPr/>
          <p:nvPr/>
        </p:nvSpPr>
        <p:spPr>
          <a:xfrm>
            <a:off x="7885080" y="587700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兵马俑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兵马俑坑是秦始皇陵的陪葬坑，位于秦陵陵园东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处。目前已发现三座，坐西向东呈品字形排列，并出土仿真人真马大小的陶制兵马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件。陶俑神情生动，形象准确，轩昂；陶马造型逼真，刻划精致自然。兵马俑是秦国强大军队的缩影，布局排列如家军阵，气势凛然。兵马俑陪葬坑均为土木混合结构的地穴式坑道建筑，像是一组模拟军事队列、旨在拱卫地下皇城的“御林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兵马俑3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马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62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兵马俑1"/>
          <p:cNvPicPr/>
          <p:nvPr/>
        </p:nvPicPr>
        <p:blipFill>
          <a:blip r:embed="rId1"/>
          <a:stretch/>
        </p:blipFill>
        <p:spPr>
          <a:xfrm>
            <a:off x="468360" y="260280"/>
            <a:ext cx="4010040" cy="604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俑3"/>
          <p:cNvPicPr/>
          <p:nvPr/>
        </p:nvPicPr>
        <p:blipFill>
          <a:blip r:embed="rId2"/>
          <a:stretch/>
        </p:blipFill>
        <p:spPr>
          <a:xfrm>
            <a:off x="4859280" y="260280"/>
            <a:ext cx="392436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4:19:22Z</dcterms:created>
  <dc:creator>yujiansheng</dc:creator>
  <dc:description/>
  <dc:language>en-US</dc:language>
  <cp:lastModifiedBy>Sky123.Org</cp:lastModifiedBy>
  <dcterms:modified xsi:type="dcterms:W3CDTF">2015-07-16T10:27:28Z</dcterms:modified>
  <cp:revision>7</cp:revision>
  <dc:subject/>
  <dc:title>秦始皇陵墓</dc:title>
</cp:coreProperties>
</file>