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3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35.png" ContentType="image/png"/>
  <Override PartName="/ppt/media/image42.gif" ContentType="image/gif"/>
  <Override PartName="/ppt/media/image27.jpeg" ContentType="image/jpeg"/>
  <Override PartName="/ppt/media/image10.png" ContentType="image/png"/>
  <Override PartName="/ppt/media/image1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9.png" ContentType="image/png"/>
  <Override PartName="/ppt/media/image38.jpeg" ContentType="image/jpeg"/>
  <Override PartName="/ppt/media/image33.jpeg" ContentType="image/jpeg"/>
  <Override PartName="/ppt/media/image45.png" ContentType="image/png"/>
  <Override PartName="/ppt/media/type.wav" ContentType="audio/x-wav"/>
  <Override PartName="/ppt/media/camera.wav" ContentType="audio/x-wav"/>
  <Override PartName="/ppt/media/image46.png" ContentType="image/png"/>
  <Override PartName="/ppt/media/image11.png" ContentType="image/png"/>
  <Override PartName="/ppt/media/image19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43.gif" ContentType="image/gif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8E3-726A-4380-A4D5-F9EA4E2F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5BC-EDFE-4B05-906A-2B7EE867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55F7D-BD29-454E-997D-DCFB351F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B26CB-D22E-4530-87C7-7FD38DD6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53C69-9B3B-4FF2-9C0F-DA66BA4E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78B2C-A2A2-4CA0-9FF9-B3E5A6CF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4B560-A3F6-451A-88AB-A4B92ADD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E2BEC-CE80-429E-B060-569DF544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95B6D-5E3C-4E22-91A4-AD7D4A4A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8F0A7-A342-4561-A024-B1FA0DC9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102EF-9DEF-492B-8673-D3CA7154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8BD97-518C-4428-8A37-6EC778C0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C05-2AF9-43ED-A5BF-C93A9C72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CE4A3-BAC6-4260-9AE0-E71FB73F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29D74-5B1A-45B1-B17B-83126E4D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4948D-4924-4621-8ABA-EDC101D0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3172A-CF20-4A80-8A24-473DFE49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D090F-A772-4B19-BB05-21BFE14F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6054D-0C25-4EFC-854E-FDA05A19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DFA49-31FD-4086-9229-F462D84F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4AE4D-AE9A-47ED-AAAB-72385F65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5D1E1-1BB7-4876-988A-76DDCE4B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89EDA-B91B-4CC0-B414-EB4AAAC6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2F2-51B6-41E8-BD69-AF5F017D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CC116-0126-4C90-BE16-12917812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464E1-0B97-4CCC-98DE-5DC7D069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B7DF1-4324-4903-AB7D-5FFFF346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31B62-AD9E-4EB5-8D61-74D8D30B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A22FF-7C33-4E6E-A4AD-8F0399A2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3D667-06B8-476D-8524-90344ED4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C9EDA-2C31-47DF-8CB4-B8A356DE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32FD8-E259-4787-ACA1-750A53CD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ADDF7-B37B-4AC9-8603-0AD20964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8B051-CCFF-46DE-9900-C04B2CE9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9C51-C4D8-4897-8AAD-334B53E2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8398D-144D-4BB0-A1EC-01955F34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FB4EC-2CFC-4CB4-B29E-891D2346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3E603-DA9F-4C38-B3A5-19570BDA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75E0-E92B-4A21-BD51-42921D93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F850-ED43-4A9A-950B-6CC3C9E7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1726-4963-4818-BC9D-7E557D45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646F-13FD-48B7-9F7D-AB69D1EB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A867-74DA-450D-8F5C-7F8CD2D6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3E71-48F5-48CC-B903-EE558E09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99A-4B5C-4D3B-9346-AFC831D0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4AB0-8FF4-44CB-9D53-E4FFDB5D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299F-88CA-4CED-B1A1-F6AA9DE3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3201-7FDC-4224-AF96-CB61E0CA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05AD-8411-4E0C-8B3B-FC6D6D24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3BA9-F6F1-499E-B6A8-48EEBBE3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5AC9-FC5D-46D3-9469-E6EDF2A7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CF540-B0E1-46B2-9524-29E60598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F7F25-BBC2-4DE2-9631-9F3A28C2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94A99-B0F4-42BC-803A-D4930F87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355D1-52DB-4259-ABAA-6BD24748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657-DF04-4F04-9556-6032B597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9BC58-4F4D-4288-8C40-64345F5E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55466-738D-45E1-A0D5-02A7D45C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B1205-6A0F-4A9B-968B-F16F52E1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661B3-9652-4AB3-B996-CCF818EB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D7731-AED5-4A48-861A-71A84864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85079-CF74-42F6-883B-C891900E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50DFF-0DC4-4FC9-83D0-8B03B252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869-393E-49FB-BDD6-D0690EDB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567-99DE-491C-BAE0-50AA2AB0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F6D1-5349-4518-B0C3-1B9A6858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14973-7A87-46DA-B85D-A0900BA8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0443A-73CD-4F0D-92B3-9348EF7A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33B27-8000-482D-8B14-5E948B01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31635-CECC-41AD-8318-B8495696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777AB-C893-49A8-AD8D-923CB5D4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F2970-02A6-413C-A603-10448A86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40DF6-0C2D-4E5D-B9AE-7B791CC0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9252F-FCA3-430E-8824-6628C9DC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BDE57-7AE7-49C6-BCA9-ABA4ADEE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49DA-DFDD-4CD8-8B3D-72879FC7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93CD6-9444-4B59-B735-048E90D1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FD7AC-F068-459D-B167-786E314A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8C011-1A07-443F-84D7-7282E1E3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DFBE9-D445-4C87-9B54-A00E113C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8542F-6474-462C-93EB-0CCED63F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CD32C-FD2C-468A-B13E-1DA2EED2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784AF-A065-465E-984C-70144D77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0A2DE-89BD-4144-9979-43D14037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9897E-E098-4C01-90F1-9B5E4D06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B5B77-7D42-4FBA-87B3-9F50E43B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83D-D4A6-43C8-B2BB-CF21AB2A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0C305-C609-41D9-8EF6-27D516C0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C8F24-A0AC-43B0-85F9-D65DAC06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C7631-974C-4F94-9516-A30442C1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580BD-E9F8-4DCB-BC71-64B80D71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4A800-7B51-490D-8DF1-E813D2F0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7F30C-CEE0-40C3-B5CE-952E3ABC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18237-97DB-4EBD-9F6C-62B27363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66188-A4A5-4882-8A5A-7E24EC53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D0961-D785-44BE-ADFB-C9A15109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890BF-3744-4EAA-8F59-473C59BC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F0C9-E663-4E7A-B63E-0F0406FE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83E3F-7C09-49C6-A3AB-7DCF72A0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DECB4-BA98-458C-8417-BDEC42F4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54B16-198A-4C99-AFF2-1745A796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CED58-929A-4F8E-9BB9-ACB6BD00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BE019-C7E7-4F0B-A617-47BA52DB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ACF82-B798-46EB-912E-F45A0CBD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861DD-4057-45C5-945C-B313EBCE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C1CC1-E8CC-48D2-B9BB-B30F2E7C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E5C9A-7751-4278-A9CA-BAB0DA7A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91C52-FA8B-47E7-AE1D-EF4AE129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9.png"/><Relationship Id="rId16" Type="http://schemas.openxmlformats.org/officeDocument/2006/relationships/image" Target="../media/image14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5.jpeg"/><Relationship Id="rId3" Type="http://schemas.openxmlformats.org/officeDocument/2006/relationships/slide" Target="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442E-556E-4E66-AD5D-0565A585E1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757E-A337-41EE-BCA1-F9FECE9276DA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598C-C1C7-4630-9BC2-E36B8CBBC70E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9774-A7BD-4D9F-81DA-B1F81B1718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image4"/>
          <p:cNvPicPr/>
          <p:nvPr/>
        </p:nvPicPr>
        <p:blipFill>
          <a:blip r:embed="rId3"/>
          <a:stretch/>
        </p:blipFill>
        <p:spPr>
          <a:xfrm>
            <a:off x="0" y="0"/>
            <a:ext cx="990720" cy="69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image5"/>
          <p:cNvPicPr/>
          <p:nvPr/>
        </p:nvPicPr>
        <p:blipFill>
          <a:blip r:embed="rId4"/>
          <a:stretch/>
        </p:blipFill>
        <p:spPr>
          <a:xfrm>
            <a:off x="8161200" y="0"/>
            <a:ext cx="1019160" cy="743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image3"/>
          <p:cNvPicPr/>
          <p:nvPr/>
        </p:nvPicPr>
        <p:blipFill>
          <a:blip r:embed="rId5"/>
          <a:stretch/>
        </p:blipFill>
        <p:spPr>
          <a:xfrm>
            <a:off x="0" y="6427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image6"/>
          <p:cNvPicPr/>
          <p:nvPr/>
        </p:nvPicPr>
        <p:blipFill>
          <a:blip r:embed="rId6"/>
          <a:stretch/>
        </p:blipFill>
        <p:spPr>
          <a:xfrm>
            <a:off x="4627440" y="5284800"/>
            <a:ext cx="4552920" cy="16002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2"/>
          <p:cNvGrpSpPr/>
          <p:nvPr/>
        </p:nvGrpSpPr>
        <p:grpSpPr>
          <a:xfrm>
            <a:off x="-81000" y="5958000"/>
            <a:ext cx="1123920" cy="1143000"/>
            <a:chOff x="-81000" y="5958000"/>
            <a:chExt cx="1123920" cy="1143000"/>
          </a:xfrm>
        </p:grpSpPr>
        <p:pic>
          <p:nvPicPr>
            <p:cNvPr id="51" name="Picture 13" descr="image7"/>
            <p:cNvPicPr/>
            <p:nvPr/>
          </p:nvPicPr>
          <p:blipFill>
            <a:blip r:embed="rId7"/>
            <a:stretch/>
          </p:blipFill>
          <p:spPr>
            <a:xfrm>
              <a:off x="-81000" y="5958000"/>
              <a:ext cx="11239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4" descr="image8"/>
            <p:cNvPicPr/>
            <p:nvPr/>
          </p:nvPicPr>
          <p:blipFill>
            <a:blip r:embed="rId8"/>
            <a:stretch/>
          </p:blipFill>
          <p:spPr>
            <a:xfrm>
              <a:off x="242640" y="6218280"/>
              <a:ext cx="50508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15" descr="image9"/>
          <p:cNvPicPr/>
          <p:nvPr/>
        </p:nvPicPr>
        <p:blipFill>
          <a:blip r:embed="rId9"/>
          <a:stretch/>
        </p:blipFill>
        <p:spPr>
          <a:xfrm>
            <a:off x="900000" y="6170760"/>
            <a:ext cx="2505240" cy="66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image10"/>
          <p:cNvPicPr/>
          <p:nvPr/>
        </p:nvPicPr>
        <p:blipFill>
          <a:blip r:embed="rId10"/>
          <a:stretch/>
        </p:blipFill>
        <p:spPr>
          <a:xfrm>
            <a:off x="6012000" y="6375240"/>
            <a:ext cx="447480" cy="438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image11"/>
          <p:cNvPicPr/>
          <p:nvPr/>
        </p:nvPicPr>
        <p:blipFill>
          <a:blip r:embed="rId11"/>
          <a:stretch/>
        </p:blipFill>
        <p:spPr>
          <a:xfrm>
            <a:off x="5364000" y="6308640"/>
            <a:ext cx="66708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image12"/>
          <p:cNvPicPr/>
          <p:nvPr/>
        </p:nvPicPr>
        <p:blipFill>
          <a:blip r:embed="rId12"/>
          <a:stretch/>
        </p:blipFill>
        <p:spPr>
          <a:xfrm>
            <a:off x="6443640" y="6165720"/>
            <a:ext cx="733320" cy="609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image13"/>
          <p:cNvPicPr/>
          <p:nvPr/>
        </p:nvPicPr>
        <p:blipFill>
          <a:blip r:embed="rId13"/>
          <a:stretch/>
        </p:blipFill>
        <p:spPr>
          <a:xfrm>
            <a:off x="7812000" y="587700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image14"/>
          <p:cNvPicPr/>
          <p:nvPr/>
        </p:nvPicPr>
        <p:blipFill>
          <a:blip r:embed="rId14"/>
          <a:stretch/>
        </p:blipFill>
        <p:spPr>
          <a:xfrm>
            <a:off x="3132000" y="5357880"/>
            <a:ext cx="1076400" cy="109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image10"/>
          <p:cNvPicPr/>
          <p:nvPr/>
        </p:nvPicPr>
        <p:blipFill>
          <a:blip r:embed="rId15"/>
          <a:stretch/>
        </p:blipFill>
        <p:spPr>
          <a:xfrm>
            <a:off x="7093080" y="6308640"/>
            <a:ext cx="447480" cy="43812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24"/>
          <p:cNvGrpSpPr/>
          <p:nvPr/>
        </p:nvGrpSpPr>
        <p:grpSpPr>
          <a:xfrm>
            <a:off x="7605720" y="6157800"/>
            <a:ext cx="1085760" cy="511200"/>
            <a:chOff x="7605720" y="6157800"/>
            <a:chExt cx="1085760" cy="511200"/>
          </a:xfrm>
        </p:grpSpPr>
        <p:pic>
          <p:nvPicPr>
            <p:cNvPr id="61" name="Picture 22" descr="image2"/>
            <p:cNvPicPr/>
            <p:nvPr/>
          </p:nvPicPr>
          <p:blipFill>
            <a:blip r:embed="rId16"/>
            <a:stretch/>
          </p:blipFill>
          <p:spPr>
            <a:xfrm>
              <a:off x="7605720" y="6157800"/>
              <a:ext cx="63828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3" descr="image1"/>
            <p:cNvPicPr/>
            <p:nvPr/>
          </p:nvPicPr>
          <p:blipFill>
            <a:blip r:embed="rId17"/>
            <a:stretch/>
          </p:blipFill>
          <p:spPr>
            <a:xfrm>
              <a:off x="8244000" y="6230880"/>
              <a:ext cx="44748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1128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32000" y="616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7ECD-8998-4258-9659-9B841A1A43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幻灯梅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d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96080" y="5791320"/>
            <a:ext cx="777960" cy="77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3" descr="bg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18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0D72-6FDA-4377-80A6-84D61279443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69EC-009C-4243-BCBF-749FDE0A28D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303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PlaceHolder 1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524E-EBF0-4F61-AAB8-CD806C5640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348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F1AD-68B9-4673-B0B0-6A2CBCF5FD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42.gif"/><Relationship Id="rId6" Type="http://schemas.openxmlformats.org/officeDocument/2006/relationships/image" Target="../media/image42.gif"/><Relationship Id="rId7" Type="http://schemas.openxmlformats.org/officeDocument/2006/relationships/image" Target="../media/image42.gif"/><Relationship Id="rId8" Type="http://schemas.openxmlformats.org/officeDocument/2006/relationships/image" Target="../media/image42.gif"/><Relationship Id="rId9" Type="http://schemas.openxmlformats.org/officeDocument/2006/relationships/image" Target="../media/image42.gif"/><Relationship Id="rId10" Type="http://schemas.openxmlformats.org/officeDocument/2006/relationships/image" Target="../media/image42.gif"/><Relationship Id="rId11" Type="http://schemas.openxmlformats.org/officeDocument/2006/relationships/image" Target="../media/image42.gif"/><Relationship Id="rId12" Type="http://schemas.openxmlformats.org/officeDocument/2006/relationships/image" Target="../media/image42.gif"/><Relationship Id="rId13" Type="http://schemas.openxmlformats.org/officeDocument/2006/relationships/image" Target="../media/image42.gif"/><Relationship Id="rId14" Type="http://schemas.openxmlformats.org/officeDocument/2006/relationships/image" Target="../media/image42.gif"/><Relationship Id="rId15" Type="http://schemas.openxmlformats.org/officeDocument/2006/relationships/image" Target="../media/image42.gif"/><Relationship Id="rId16" Type="http://schemas.openxmlformats.org/officeDocument/2006/relationships/image" Target="../media/image42.gif"/><Relationship Id="rId17" Type="http://schemas.openxmlformats.org/officeDocument/2006/relationships/image" Target="../media/image42.gif"/><Relationship Id="rId18" Type="http://schemas.openxmlformats.org/officeDocument/2006/relationships/image" Target="../media/image42.gif"/><Relationship Id="rId19" Type="http://schemas.openxmlformats.org/officeDocument/2006/relationships/image" Target="../media/image42.gif"/><Relationship Id="rId20" Type="http://schemas.openxmlformats.org/officeDocument/2006/relationships/image" Target="../media/image42.gif"/><Relationship Id="rId21" Type="http://schemas.openxmlformats.org/officeDocument/2006/relationships/image" Target="../media/image42.gif"/><Relationship Id="rId22" Type="http://schemas.openxmlformats.org/officeDocument/2006/relationships/image" Target="../media/image42.gif"/><Relationship Id="rId23" Type="http://schemas.openxmlformats.org/officeDocument/2006/relationships/image" Target="../media/image42.gif"/><Relationship Id="rId24" Type="http://schemas.openxmlformats.org/officeDocument/2006/relationships/image" Target="../media/image42.gif"/><Relationship Id="rId25" Type="http://schemas.openxmlformats.org/officeDocument/2006/relationships/image" Target="../media/image42.gif"/><Relationship Id="rId26" Type="http://schemas.openxmlformats.org/officeDocument/2006/relationships/image" Target="../media/image42.gif"/><Relationship Id="rId27" Type="http://schemas.openxmlformats.org/officeDocument/2006/relationships/image" Target="../media/image42.gif"/><Relationship Id="rId28" Type="http://schemas.openxmlformats.org/officeDocument/2006/relationships/image" Target="../media/image42.gif"/><Relationship Id="rId29" Type="http://schemas.openxmlformats.org/officeDocument/2006/relationships/image" Target="../media/image42.gif"/><Relationship Id="rId30" Type="http://schemas.openxmlformats.org/officeDocument/2006/relationships/image" Target="../media/image42.gif"/><Relationship Id="rId31" Type="http://schemas.openxmlformats.org/officeDocument/2006/relationships/slide" Target="slide8.xml"/><Relationship Id="rId32" Type="http://schemas.openxmlformats.org/officeDocument/2006/relationships/audio" Target="../media/type.wav"/><Relationship Id="rId33" Type="http://schemas.openxmlformats.org/officeDocument/2006/relationships/audio" Target="../media/type.wav"/><Relationship Id="rId3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hyperlink" Target="file:///../83669.MPG" TargetMode="External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5148360" y="6021360"/>
            <a:ext cx="2232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南达南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042920" y="2492280"/>
            <a:ext cx="576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西到陇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028000" y="2637000"/>
            <a:ext cx="576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东到大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51280" y="76500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北至长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3068640"/>
            <a:ext cx="3031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秦朝疆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19280" y="465300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面对空前辽阔的疆域，秦始皇应该采取怎样的措施来统治这个国家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692360" y="11592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</a:rPr>
              <a:t>秦始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75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 rot="5400000">
            <a:off x="3126600" y="2822040"/>
            <a:ext cx="3456000" cy="1110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焚书坑儒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5373720"/>
            <a:ext cx="93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秦始皇焚书坑儒的目的是什么？他主要下令焚毁哪些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说明了秦始皇的哪一面？你如何看待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“焚书坑儒”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11280" y="53737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虽然加强了思想统治，有利于统一，但却箝制了思想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摧残了文化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3"/>
          <a:stretch/>
        </p:blipFill>
        <p:spPr>
          <a:xfrm>
            <a:off x="5791320" y="13716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4"/>
          <a:stretch/>
        </p:blipFill>
        <p:spPr>
          <a:xfrm>
            <a:off x="8458200" y="7621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5"/>
          <a:stretch/>
        </p:blipFill>
        <p:spPr>
          <a:xfrm>
            <a:off x="2971800" y="18288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6"/>
          <a:stretch/>
        </p:blipFill>
        <p:spPr>
          <a:xfrm>
            <a:off x="388620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7"/>
          <a:stretch/>
        </p:blipFill>
        <p:spPr>
          <a:xfrm>
            <a:off x="3124080" y="304812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8"/>
          <a:stretch/>
        </p:blipFill>
        <p:spPr>
          <a:xfrm>
            <a:off x="8610480" y="380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9"/>
          <a:stretch/>
        </p:blipFill>
        <p:spPr>
          <a:xfrm>
            <a:off x="7391520" y="9144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10"/>
          <a:stretch/>
        </p:blipFill>
        <p:spPr>
          <a:xfrm>
            <a:off x="6858000" y="685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11"/>
          <a:stretch/>
        </p:blipFill>
        <p:spPr>
          <a:xfrm>
            <a:off x="6248520" y="11430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12"/>
          <a:stretch/>
        </p:blipFill>
        <p:spPr>
          <a:xfrm>
            <a:off x="5105520" y="1600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13"/>
          <a:stretch/>
        </p:blipFill>
        <p:spPr>
          <a:xfrm>
            <a:off x="4572000" y="18288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14"/>
          <a:stretch/>
        </p:blipFill>
        <p:spPr>
          <a:xfrm>
            <a:off x="1828800" y="16002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15"/>
          <a:stretch/>
        </p:blipFill>
        <p:spPr>
          <a:xfrm>
            <a:off x="914400" y="44956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16"/>
          <a:stretch/>
        </p:blipFill>
        <p:spPr>
          <a:xfrm>
            <a:off x="1600200" y="4343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7"/>
          <a:stretch/>
        </p:blipFill>
        <p:spPr>
          <a:xfrm>
            <a:off x="22096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8"/>
          <a:stretch/>
        </p:blipFill>
        <p:spPr>
          <a:xfrm>
            <a:off x="2819520" y="3124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19"/>
          <a:stretch/>
        </p:blipFill>
        <p:spPr>
          <a:xfrm>
            <a:off x="3581280" y="24382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0"/>
          <a:stretch/>
        </p:blipFill>
        <p:spPr>
          <a:xfrm>
            <a:off x="2057400" y="1219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1"/>
          <a:stretch/>
        </p:blipFill>
        <p:spPr>
          <a:xfrm>
            <a:off x="0" y="42670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2"/>
          <a:stretch/>
        </p:blipFill>
        <p:spPr>
          <a:xfrm>
            <a:off x="685800" y="419112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23"/>
          <a:stretch/>
        </p:blipFill>
        <p:spPr>
          <a:xfrm>
            <a:off x="380880" y="48006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4"/>
          <a:stretch/>
        </p:blipFill>
        <p:spPr>
          <a:xfrm>
            <a:off x="8904240" y="8380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25"/>
          <a:stretch/>
        </p:blipFill>
        <p:spPr>
          <a:xfrm>
            <a:off x="380880" y="51814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26"/>
          <a:stretch/>
        </p:blipFill>
        <p:spPr>
          <a:xfrm>
            <a:off x="609480" y="419112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27"/>
          <a:stretch/>
        </p:blipFill>
        <p:spPr>
          <a:xfrm>
            <a:off x="8904240" y="11430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8"/>
          <a:stretch/>
        </p:blipFill>
        <p:spPr>
          <a:xfrm>
            <a:off x="3352680" y="1447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9"/>
          <a:stretch/>
        </p:blipFill>
        <p:spPr>
          <a:xfrm>
            <a:off x="8904240" y="15238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30"/>
          <a:stretch/>
        </p:blipFill>
        <p:spPr>
          <a:xfrm>
            <a:off x="304920" y="5486400"/>
            <a:ext cx="239760" cy="2397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7272720" y="1371600"/>
            <a:ext cx="1642680" cy="1447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辽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-194760" y="4419720"/>
            <a:ext cx="1642680" cy="1447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临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67080" y="304920"/>
            <a:ext cx="16002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Garamond"/>
              </a:rPr>
              <a:t>匈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>
            <a:hlinkClick r:id="rId31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286000" y="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007a77"/>
                </a:solidFill>
                <a:uFillTx/>
                <a:latin typeface="Times New Roman"/>
                <a:ea typeface="华文行楷"/>
              </a:rPr>
              <a:t>亮出你的观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84360" y="68580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在中国历代皇帝中，秦始皇是非常富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争议性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的皇帝。有人称他为千古一帝，有人认为他是一个暴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835280" y="2286000"/>
            <a:ext cx="730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李白：秦王扫六合，虎视何雄哉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　　　挥剑击浮云，诸侯尽西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司马迁：刻薄寡恩，心如虎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971800" y="4800600"/>
            <a:ext cx="4390200" cy="916920"/>
            <a:chOff x="2971800" y="4800600"/>
            <a:chExt cx="4390200" cy="916920"/>
          </a:xfrm>
        </p:grpSpPr>
        <p:sp>
          <p:nvSpPr>
            <p:cNvPr id="615" name=""/>
            <p:cNvSpPr/>
            <p:nvPr/>
          </p:nvSpPr>
          <p:spPr>
            <a:xfrm>
              <a:off x="2971800" y="4800600"/>
              <a:ext cx="3201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你认为呢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" descr=""/>
            <p:cNvPicPr/>
            <p:nvPr/>
          </p:nvPicPr>
          <p:blipFill>
            <a:blip r:embed="rId1"/>
            <a:stretch/>
          </p:blipFill>
          <p:spPr>
            <a:xfrm>
              <a:off x="6539040" y="4876920"/>
              <a:ext cx="82296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7" name=""/>
          <p:cNvSpPr/>
          <p:nvPr/>
        </p:nvSpPr>
        <p:spPr>
          <a:xfrm>
            <a:off x="669960" y="47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2133720" cy="126036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-457200" y="1066680"/>
            <a:ext cx="2514600" cy="50292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676520" y="2057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千古一帝（功绩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52480" y="2438280"/>
            <a:ext cx="73915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Garamond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、</a:t>
            </a:r>
            <a:r>
              <a:rPr b="1" lang="zh-CN" sz="2400" spc="-1" strike="noStrike">
                <a:solidFill>
                  <a:srgbClr val="006600"/>
                </a:solidFill>
                <a:latin typeface="Garamond"/>
              </a:rPr>
              <a:t>秦始皇统一全国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，有利于人民生活的安定和社会生产，符合各族人民的共同愿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、</a:t>
            </a:r>
            <a:r>
              <a:rPr b="1" lang="zh-CN" sz="2400" spc="-1" strike="noStrike">
                <a:solidFill>
                  <a:srgbClr val="006600"/>
                </a:solidFill>
                <a:latin typeface="Garamond"/>
              </a:rPr>
              <a:t>他废分封，立郡县，建立中央集权制度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，对我国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2000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多年的封建社会产生了深远的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、</a:t>
            </a:r>
            <a:r>
              <a:rPr b="1" lang="zh-CN" sz="2400" spc="-1" strike="noStrike">
                <a:solidFill>
                  <a:srgbClr val="006600"/>
                </a:solidFill>
                <a:latin typeface="Garamond"/>
              </a:rPr>
              <a:t>车同轨，书同文，统一了文字、货币、度量衡，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促进了各地的经济文化的交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、</a:t>
            </a:r>
            <a:r>
              <a:rPr b="1" lang="zh-CN" sz="2400" spc="-1" strike="noStrike">
                <a:solidFill>
                  <a:srgbClr val="006600"/>
                </a:solidFill>
                <a:latin typeface="Garamond"/>
              </a:rPr>
              <a:t>修筑长城，防御匈奴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，有效地巩固了国家统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21932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暴君（过错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267080" y="4808520"/>
            <a:ext cx="4648320" cy="94716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Garamond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秦始皇的焚书坑儒，钳制了思想，摧残了文化</a:t>
            </a:r>
            <a:r>
              <a:rPr b="0" lang="zh-CN" sz="2400" spc="-1" strike="noStrike">
                <a:solidFill>
                  <a:srgbClr val="ff0000"/>
                </a:solidFill>
                <a:latin typeface="Garamond"/>
              </a:rPr>
              <a:t> ；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秦始皇的统治也很残暴，大兴土木，沉重的赋税、繁重的徭役是百姓痛苦不堪。其残暴统治最终导致了秦的灭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" y="5781600"/>
            <a:ext cx="3581280" cy="1068840"/>
          </a:xfrm>
          <a:prstGeom prst="rect">
            <a:avLst/>
          </a:prstGeom>
          <a:solidFill>
            <a:srgbClr val="faf51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Garamond"/>
              </a:rPr>
              <a:t>总之：秦始皇有功也有过，功大于过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24480" y="152280"/>
            <a:ext cx="2438640" cy="642600"/>
          </a:xfrm>
          <a:prstGeom prst="rect">
            <a:avLst/>
          </a:prstGeom>
          <a:solidFill>
            <a:srgbClr val="faf51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Garamond"/>
                <a:ea typeface="黑体"/>
              </a:rPr>
              <a:t>一分为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9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2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541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秦国”与“秦朝”，“秦王嬴政”和“秦始皇”的区别与联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24000" y="1628640"/>
            <a:ext cx="853416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Garamond"/>
              </a:rPr>
              <a:t>     </a:t>
            </a:r>
            <a:r>
              <a:rPr b="1" lang="zh-CN" sz="4400" spc="-1" strike="noStrike">
                <a:solidFill>
                  <a:srgbClr val="2a5682"/>
                </a:solidFill>
                <a:latin typeface="Garamond"/>
              </a:rPr>
              <a:t>秦国是战国七雄之一，秦国兼并六国、完成统一之后，称秦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24000" y="3284640"/>
            <a:ext cx="882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5682"/>
                </a:solidFill>
                <a:latin typeface="Garamond"/>
              </a:rPr>
              <a:t>秦王嬴政是秦国国君，他完成国家统一、建立秦朝之后被称为秦始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c0039"/>
                </a:solidFill>
                <a:latin typeface="Arial"/>
              </a:rPr>
              <a:t>巩固练习：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438280" y="129528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秦统一后规定在全国范围内统一使用的货币是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刀形币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蚁鼻钱　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铲形币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形方孔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秦长城的起止点是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西起临洮，东到辽东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起辽东，东到临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西起长平，东到临挑　　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西起临洮，东到长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019920" y="38088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>
            <a:hlinkClick r:id="rId1"/>
          </p:cNvPr>
          <p:cNvSpPr/>
          <p:nvPr/>
        </p:nvSpPr>
        <p:spPr>
          <a:xfrm>
            <a:off x="6019920" y="1828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>
            <a:hlinkClick r:id="rId2"/>
          </p:cNvPr>
          <p:cNvSpPr/>
          <p:nvPr/>
        </p:nvSpPr>
        <p:spPr>
          <a:xfrm>
            <a:off x="7010280" y="39625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2195280" y="188640"/>
            <a:ext cx="69483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帝国的终结》这本书中说“秦，虽死犹存，它亡得悲壮”。从政治上看，“秦，虽死犹存”主要是指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统一度量衡、货币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焚书坑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央建立三公九卿制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建立统一国家和中央集权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秦始皇建立专制主义中央集权，是采纳战国时期各大思想家中哪家的治国之道（以法治国）  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儒家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道家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家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墨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019920" y="38088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rId1"/>
          </p:cNvPr>
          <p:cNvSpPr/>
          <p:nvPr/>
        </p:nvSpPr>
        <p:spPr>
          <a:xfrm>
            <a:off x="4643280" y="1484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>
            <a:hlinkClick r:id="rId2"/>
          </p:cNvPr>
          <p:cNvSpPr/>
          <p:nvPr/>
        </p:nvSpPr>
        <p:spPr>
          <a:xfrm>
            <a:off x="7236000" y="4941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1981080" y="-360"/>
            <a:ext cx="73152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秦始皇“焚书坑儒”的主要目的是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树立秦的形象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加强思想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限制人们的言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禁止儒学传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战国时期，各国“车途异轨，……文字异形。”秦兼并六国，实行巩固统一的措施后，下列不存在的情况是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)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车同轨”，车辆通行无阻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商人交易使用圆形方孔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地官员均用小篆体写告示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农民缴税用的“斗”容量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>
            <a:hlinkClick r:id="rId1"/>
          </p:cNvPr>
          <p:cNvSpPr/>
          <p:nvPr/>
        </p:nvSpPr>
        <p:spPr>
          <a:xfrm>
            <a:off x="2843280" y="4762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rId2"/>
          </p:cNvPr>
          <p:cNvSpPr/>
          <p:nvPr/>
        </p:nvSpPr>
        <p:spPr>
          <a:xfrm>
            <a:off x="8317080" y="35002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2124000" y="-360"/>
            <a:ext cx="74772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毛泽东曾说过：“百代都行秦政制”这里的“秦政制”主要指的是什么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郡县制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中央集权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分封制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封建等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秦始皇为了政令推行文化交流，规定以哪种文字作为标准，颁行天下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Ａ 隶书          Ｂ楷书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Ｃ小篆           Ｄ大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>
            <a:hlinkClick r:id="rId1"/>
          </p:cNvPr>
          <p:cNvSpPr/>
          <p:nvPr/>
        </p:nvSpPr>
        <p:spPr>
          <a:xfrm>
            <a:off x="8153280" y="4762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rId2"/>
          </p:cNvPr>
          <p:cNvSpPr/>
          <p:nvPr/>
        </p:nvSpPr>
        <p:spPr>
          <a:xfrm>
            <a:off x="8153280" y="3357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1981080" y="-360"/>
            <a:ext cx="73152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秦朝在中央设置的负责监察百官的官吏是（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丞相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御史大夫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太尉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大学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秦始皇说：“天下共苦，战斗不休，以有侯王。”秦始皇为解决此问题而采取的措施是（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焚书坑儒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推行郡县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修筑长城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统一货币、度量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>
            <a:hlinkClick r:id="rId1"/>
          </p:cNvPr>
          <p:cNvSpPr/>
          <p:nvPr/>
        </p:nvSpPr>
        <p:spPr>
          <a:xfrm>
            <a:off x="4067280" y="4762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>
            <a:hlinkClick r:id="rId2"/>
          </p:cNvPr>
          <p:cNvSpPr/>
          <p:nvPr/>
        </p:nvSpPr>
        <p:spPr>
          <a:xfrm>
            <a:off x="493236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708360" y="0"/>
            <a:ext cx="5435640" cy="6669000"/>
          </a:xfrm>
          <a:prstGeom prst="cloudCallout">
            <a:avLst>
              <a:gd name="adj1" fmla="val -74328"/>
              <a:gd name="adj2" fmla="val 4140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看图，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648320" y="1600200"/>
            <a:ext cx="3733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他是谁？他在中国历史上主要的功绩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2590920" cy="609588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 txBox="1"/>
          <p:nvPr/>
        </p:nvSpPr>
        <p:spPr>
          <a:xfrm>
            <a:off x="304920" y="152280"/>
            <a:ext cx="213336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为秦皇献策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2514600" y="0"/>
            <a:ext cx="6629400" cy="62485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653" name=""/>
          <p:cNvSpPr/>
          <p:nvPr/>
        </p:nvSpPr>
        <p:spPr>
          <a:xfrm>
            <a:off x="411120" y="6269040"/>
            <a:ext cx="8123400" cy="581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思考：秦始皇是如何解决以上七个问题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458200" y="152388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162920" y="213372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410080" y="2666880"/>
            <a:ext cx="4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05320" y="327672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019920" y="380988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048120" y="487692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638680" y="5638680"/>
            <a:ext cx="4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1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4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7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5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29988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3784680" y="588960"/>
            <a:ext cx="222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80880" y="2666880"/>
            <a:ext cx="852336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秦始皇建立中央集权的措施</a:t>
            </a:r>
            <a:endParaRPr b="1" lang="en-US" sz="4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23960" y="-18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170080" y="-1825560"/>
            <a:ext cx="6251400" cy="4394160"/>
            <a:chOff x="2170080" y="-1825560"/>
            <a:chExt cx="6251400" cy="4394160"/>
          </a:xfrm>
        </p:grpSpPr>
        <p:sp>
          <p:nvSpPr>
            <p:cNvPr id="663" name=""/>
            <p:cNvSpPr/>
            <p:nvPr/>
          </p:nvSpPr>
          <p:spPr>
            <a:xfrm>
              <a:off x="2170080" y="-1825560"/>
              <a:ext cx="6251400" cy="43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170080" y="-1825560"/>
              <a:ext cx="6251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723960" y="25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0"/>
            <a:ext cx="914400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二、材料分析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9</a:t>
            </a: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．材料：“秦始皇接受李斯的建议，发布焚书令，规定除政府外，民间只可收藏医药、占卜和种植等书，其余书籍一律集中焚毁。他又把暗中诽谤他的方士、儒生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400</a:t>
            </a: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多人，全部活埋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请回答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     ①</a:t>
            </a: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材料中反映的内容在历史上称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     ②</a:t>
            </a: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秦始皇这样做的目的是什么？有何危害性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、材料：“田畴异亩，车涂异轨，律令异法，衣冠异制，言语异声，文字异形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                                                                                                   ———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《说文解字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请回答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）上述材料反映了秦朝统一前怎样的社会情况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）针对上述情况，秦始皇统一全国后，采取了什么措施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219640" y="1628640"/>
            <a:ext cx="172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</a:rPr>
              <a:t>焚书坑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4360" y="2349360"/>
            <a:ext cx="25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</a:rPr>
              <a:t>目的：加强思想统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924360" y="2349360"/>
            <a:ext cx="288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</a:rPr>
              <a:t>危害：摧残了思想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95280" y="450864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ff00"/>
                </a:solidFill>
                <a:latin typeface="Arial"/>
              </a:rPr>
              <a:t>（秦统一前，各国）丈量田地的单位不同，车辆的轮距和道路的宽度不一样，法律制度各不相同，穿戴也都不一样，语言不同，字形也不一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39640" y="566100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ff00"/>
                </a:solidFill>
                <a:latin typeface="Arial"/>
              </a:rPr>
              <a:t>统一了度量衡；车同轨，书同文；修驰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600200" y="0"/>
            <a:ext cx="5867280" cy="764280"/>
          </a:xfrm>
          <a:prstGeom prst="rect">
            <a:avLst/>
          </a:prstGeom>
          <a:solidFill>
            <a:srgbClr val="00ff00"/>
          </a:solidFill>
          <a:ln w="63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秦行政机构示意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08360" y="907920"/>
            <a:ext cx="1295280" cy="520560"/>
          </a:xfrm>
          <a:prstGeom prst="rect">
            <a:avLst/>
          </a:prstGeom>
          <a:solidFill>
            <a:srgbClr val="ccffcc"/>
          </a:solidFill>
          <a:ln w="63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皇 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132000" y="1557360"/>
            <a:ext cx="2666880" cy="533160"/>
            <a:chOff x="3132000" y="1557360"/>
            <a:chExt cx="2666880" cy="533160"/>
          </a:xfrm>
        </p:grpSpPr>
        <p:sp>
          <p:nvSpPr>
            <p:cNvPr id="486" name=""/>
            <p:cNvSpPr/>
            <p:nvPr/>
          </p:nvSpPr>
          <p:spPr>
            <a:xfrm>
              <a:off x="3132000" y="1734840"/>
              <a:ext cx="266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32000" y="1734840"/>
              <a:ext cx="0" cy="3556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27280" y="1557360"/>
              <a:ext cx="0" cy="444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98880" y="1734840"/>
              <a:ext cx="0" cy="3556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2771640" y="2133720"/>
            <a:ext cx="685800" cy="1595880"/>
          </a:xfrm>
          <a:prstGeom prst="rect">
            <a:avLst/>
          </a:prstGeom>
          <a:solidFill>
            <a:srgbClr val="ccffcc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067280" y="2133720"/>
            <a:ext cx="761760" cy="1595880"/>
          </a:xfrm>
          <a:prstGeom prst="rect">
            <a:avLst/>
          </a:prstGeom>
          <a:solidFill>
            <a:srgbClr val="ccffcc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08720" y="2060640"/>
            <a:ext cx="609480" cy="947160"/>
          </a:xfrm>
          <a:prstGeom prst="rect">
            <a:avLst/>
          </a:prstGeom>
          <a:solidFill>
            <a:srgbClr val="ccffcc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御史大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627280" y="3933720"/>
            <a:ext cx="83808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军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95640" y="4005360"/>
            <a:ext cx="83844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政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148360" y="4005360"/>
            <a:ext cx="122688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监察百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987640" y="4437000"/>
            <a:ext cx="2590920" cy="228600"/>
            <a:chOff x="2987640" y="4437000"/>
            <a:chExt cx="2590920" cy="228600"/>
          </a:xfrm>
        </p:grpSpPr>
        <p:sp>
          <p:nvSpPr>
            <p:cNvPr id="497" name=""/>
            <p:cNvSpPr/>
            <p:nvPr/>
          </p:nvSpPr>
          <p:spPr>
            <a:xfrm>
              <a:off x="2987640" y="4665600"/>
              <a:ext cx="2590920" cy="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78560" y="4437000"/>
              <a:ext cx="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87640" y="4437000"/>
              <a:ext cx="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82920" y="4437000"/>
              <a:ext cx="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3708360" y="4869000"/>
            <a:ext cx="1295280" cy="520560"/>
          </a:xfrm>
          <a:prstGeom prst="rect">
            <a:avLst/>
          </a:prstGeom>
          <a:solidFill>
            <a:srgbClr val="00ff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郡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守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708360" y="5589720"/>
            <a:ext cx="1295280" cy="947160"/>
          </a:xfrm>
          <a:prstGeom prst="rect">
            <a:avLst/>
          </a:prstGeom>
          <a:solidFill>
            <a:srgbClr val="00ff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县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令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284560" y="5638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6362640" cy="44179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 txBox="1"/>
          <p:nvPr/>
        </p:nvSpPr>
        <p:spPr>
          <a:xfrm>
            <a:off x="0" y="0"/>
            <a:ext cx="2268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比一比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06" name=""/>
          <p:cNvSpPr/>
          <p:nvPr/>
        </p:nvSpPr>
        <p:spPr>
          <a:xfrm>
            <a:off x="228600" y="1523880"/>
            <a:ext cx="152388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6600" y="1447920"/>
            <a:ext cx="47340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封建亲戚，以藩屏周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5715000"/>
            <a:ext cx="3657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西周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分封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477120" y="1600200"/>
            <a:ext cx="1555560" cy="2196720"/>
            <a:chOff x="6477120" y="1600200"/>
            <a:chExt cx="1555560" cy="2196720"/>
          </a:xfrm>
        </p:grpSpPr>
        <p:sp>
          <p:nvSpPr>
            <p:cNvPr id="510" name=""/>
            <p:cNvSpPr/>
            <p:nvPr/>
          </p:nvSpPr>
          <p:spPr>
            <a:xfrm>
              <a:off x="6477120" y="1600200"/>
              <a:ext cx="1479600" cy="825120"/>
            </a:xfrm>
            <a:prstGeom prst="rect">
              <a:avLst/>
            </a:pr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郡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53080" y="2971800"/>
              <a:ext cx="1479600" cy="825120"/>
            </a:xfrm>
            <a:prstGeom prst="rect">
              <a:avLst/>
            </a:pr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县令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162920" y="2514600"/>
              <a:ext cx="360" cy="304920"/>
            </a:xfrm>
            <a:prstGeom prst="line">
              <a:avLst/>
            </a:pr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6324480" y="4038480"/>
            <a:ext cx="2819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秦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郡县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5715000"/>
            <a:ext cx="2819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（血缘亲疏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324480" y="4952880"/>
            <a:ext cx="2819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（朝廷任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295280" y="1066680"/>
            <a:ext cx="701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说一说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郡县制与西周的分封制有什么不同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03280" y="292428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分封制是以血缘关系为纽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官职是世袭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406960" y="4149720"/>
            <a:ext cx="475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郡县制不是以血缘关系为纽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其官吏由皇帝直接任免的</a:t>
            </a:r>
            <a:r>
              <a:rPr b="1" lang="zh-CN" sz="2400" spc="-1" strike="noStrike">
                <a:solidFill>
                  <a:srgbClr val="cc3300"/>
                </a:solidFill>
                <a:latin typeface="隶书"/>
                <a:ea typeface="隶书"/>
              </a:rPr>
              <a:t>。</a:t>
            </a:r>
            <a:r>
              <a:rPr b="0" lang="zh-CN" sz="2400" spc="-1" strike="noStrike">
                <a:solidFill>
                  <a:srgbClr val="cc33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2000" y="5602320"/>
            <a:ext cx="493920" cy="493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600200" y="0"/>
            <a:ext cx="5867280" cy="764280"/>
          </a:xfrm>
          <a:prstGeom prst="rect">
            <a:avLst/>
          </a:prstGeom>
          <a:solidFill>
            <a:srgbClr val="00ff00"/>
          </a:solidFill>
          <a:ln w="63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秦行政机构示意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600200" y="990720"/>
            <a:ext cx="1295280" cy="520560"/>
          </a:xfrm>
          <a:prstGeom prst="rect">
            <a:avLst/>
          </a:prstGeom>
          <a:solidFill>
            <a:srgbClr val="ccffcc"/>
          </a:solidFill>
          <a:ln w="63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皇 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914400" y="1600200"/>
            <a:ext cx="2666880" cy="533160"/>
            <a:chOff x="914400" y="1600200"/>
            <a:chExt cx="2666880" cy="533160"/>
          </a:xfrm>
        </p:grpSpPr>
        <p:sp>
          <p:nvSpPr>
            <p:cNvPr id="523" name=""/>
            <p:cNvSpPr/>
            <p:nvPr/>
          </p:nvSpPr>
          <p:spPr>
            <a:xfrm>
              <a:off x="914400" y="1777680"/>
              <a:ext cx="266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1777680"/>
              <a:ext cx="0" cy="3556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09680" y="1600200"/>
              <a:ext cx="0" cy="444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81280" y="1777680"/>
              <a:ext cx="0" cy="3556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33520" y="2362320"/>
            <a:ext cx="685800" cy="1595880"/>
          </a:xfrm>
          <a:prstGeom prst="rect">
            <a:avLst/>
          </a:prstGeom>
          <a:solidFill>
            <a:srgbClr val="ccffcc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828800" y="2362320"/>
            <a:ext cx="762120" cy="1595880"/>
          </a:xfrm>
          <a:prstGeom prst="rect">
            <a:avLst/>
          </a:prstGeom>
          <a:solidFill>
            <a:srgbClr val="ccffcc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276720" y="2133720"/>
            <a:ext cx="609480" cy="947160"/>
          </a:xfrm>
          <a:prstGeom prst="rect">
            <a:avLst/>
          </a:prstGeom>
          <a:solidFill>
            <a:srgbClr val="ccffcc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御史大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33520" y="4191120"/>
            <a:ext cx="83808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军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28800" y="4191120"/>
            <a:ext cx="83808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政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059280" y="4221000"/>
            <a:ext cx="122688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监察百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914400" y="4724280"/>
            <a:ext cx="2590920" cy="228600"/>
            <a:chOff x="914400" y="4724280"/>
            <a:chExt cx="2590920" cy="228600"/>
          </a:xfrm>
        </p:grpSpPr>
        <p:sp>
          <p:nvSpPr>
            <p:cNvPr id="534" name=""/>
            <p:cNvSpPr/>
            <p:nvPr/>
          </p:nvSpPr>
          <p:spPr>
            <a:xfrm>
              <a:off x="914400" y="4952880"/>
              <a:ext cx="2590920" cy="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05320" y="4724280"/>
              <a:ext cx="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14400" y="4724280"/>
              <a:ext cx="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09680" y="4724280"/>
              <a:ext cx="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600200" y="5029200"/>
            <a:ext cx="1295280" cy="520560"/>
          </a:xfrm>
          <a:prstGeom prst="rect">
            <a:avLst/>
          </a:prstGeom>
          <a:solidFill>
            <a:srgbClr val="00ff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郡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守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600200" y="5943600"/>
            <a:ext cx="1295280" cy="947160"/>
          </a:xfrm>
          <a:prstGeom prst="rect">
            <a:avLst/>
          </a:prstGeom>
          <a:solidFill>
            <a:srgbClr val="00ff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县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令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284560" y="5638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648320" y="914400"/>
            <a:ext cx="2133360" cy="520560"/>
          </a:xfrm>
          <a:prstGeom prst="rect">
            <a:avLst/>
          </a:prstGeom>
          <a:solidFill>
            <a:srgbClr val="ffff99"/>
          </a:solidFill>
          <a:ln cap="sq"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Times New Roman"/>
                <a:ea typeface="隶书"/>
              </a:rPr>
              <a:t>最高统治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876920" y="3200400"/>
            <a:ext cx="1904760" cy="520560"/>
          </a:xfrm>
          <a:prstGeom prst="rect">
            <a:avLst/>
          </a:prstGeom>
          <a:solidFill>
            <a:srgbClr val="ffff99"/>
          </a:solidFill>
          <a:ln cap="sq"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Times New Roman"/>
                <a:ea typeface="隶书"/>
              </a:rPr>
              <a:t>中央政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932360" y="5229360"/>
            <a:ext cx="1905120" cy="520560"/>
          </a:xfrm>
          <a:prstGeom prst="rect">
            <a:avLst/>
          </a:prstGeom>
          <a:solidFill>
            <a:srgbClr val="ffff99"/>
          </a:solidFill>
          <a:ln cap="sq"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Times New Roman"/>
                <a:ea typeface="隶书"/>
              </a:rPr>
              <a:t>地方政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796000" y="393336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791320" y="16002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199640" y="1066680"/>
            <a:ext cx="1155240" cy="4953240"/>
          </a:xfrm>
          <a:prstGeom prst="rect">
            <a:avLst/>
          </a:prstGeom>
          <a:solidFill>
            <a:srgbClr val="ff99cc"/>
          </a:solidFill>
          <a:ln cap="sq"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君 主 专 制    中 央 集 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996880" y="5661000"/>
            <a:ext cx="12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郡县制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996880" y="3789360"/>
            <a:ext cx="12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公制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068160" y="1413000"/>
            <a:ext cx="12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皇帝制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618000" cy="63244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250920" y="1052640"/>
            <a:ext cx="3809880" cy="1323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统一货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（圆形方孔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28600" y="2819520"/>
            <a:ext cx="2362320" cy="1523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3"/>
          <a:srcRect l="0" t="0" r="49298" b="0"/>
          <a:stretch/>
        </p:blipFill>
        <p:spPr>
          <a:xfrm flipH="1">
            <a:off x="0" y="4124160"/>
            <a:ext cx="2743200" cy="273384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5813280" y="1523880"/>
            <a:ext cx="3330720" cy="53341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5"/>
          <a:stretch/>
        </p:blipFill>
        <p:spPr>
          <a:xfrm>
            <a:off x="6248520" y="304920"/>
            <a:ext cx="2485800" cy="9334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8153280" y="3049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隶书"/>
              </a:rPr>
              <a:t>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153280" y="23623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隶书"/>
              </a:rPr>
              <a:t>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4864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隶书"/>
              </a:rPr>
              <a:t>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952880" y="1600200"/>
            <a:ext cx="76212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黑体"/>
              </a:rPr>
              <a:t>统一度量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0"/>
            <a:ext cx="43434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华文楷体"/>
                <a:ea typeface="华文楷体"/>
              </a:rPr>
              <a:t>二、车同轨，书同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4572000" y="299736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563" name="">
            <a:hlinkClick r:id="rId3"/>
          </p:cNvPr>
          <p:cNvSpPr/>
          <p:nvPr/>
        </p:nvSpPr>
        <p:spPr>
          <a:xfrm>
            <a:off x="1187280" y="501336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[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秦驰道遗址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]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4"/>
          <a:stretch/>
        </p:blipFill>
        <p:spPr>
          <a:xfrm>
            <a:off x="250920" y="692280"/>
            <a:ext cx="4572000" cy="29718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2124000" y="2781360"/>
            <a:ext cx="489744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  <a:ea typeface="黑体"/>
              </a:rPr>
              <a:t>统一车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788000" y="1197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车轮距离改为六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43434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华文楷体"/>
                <a:ea typeface="华文楷体"/>
              </a:rPr>
              <a:t>二、车同轨，书同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5719680" cy="403884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0" y="0"/>
            <a:ext cx="43434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华文楷体"/>
                <a:ea typeface="华文楷体"/>
              </a:rPr>
              <a:t>二、车同轨，书同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042920" y="1557360"/>
            <a:ext cx="3810240" cy="1323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统一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（小篆—隶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3"/>
          <a:srcRect l="39166" t="49993" r="52507" b="0"/>
          <a:stretch/>
        </p:blipFill>
        <p:spPr>
          <a:xfrm>
            <a:off x="5364000" y="4114800"/>
            <a:ext cx="1295640" cy="27432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7162920" y="4343400"/>
            <a:ext cx="16761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Garamond"/>
              </a:rPr>
              <a:t>（小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238880" y="5715000"/>
            <a:ext cx="1676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Garamond"/>
              </a:rPr>
              <a:t>（隶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08:43:52Z</dcterms:created>
  <dc:creator>微软用户</dc:creator>
  <dc:description/>
  <dc:language>en-US</dc:language>
  <cp:lastModifiedBy>微软用户</cp:lastModifiedBy>
  <dcterms:modified xsi:type="dcterms:W3CDTF">2012-10-31T01:52:12Z</dcterms:modified>
  <cp:revision>27</cp:revision>
  <dc:subject/>
  <dc:title>幻灯片 1</dc:title>
</cp:coreProperties>
</file>